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4A2F3-25F8-45ED-8244-2BF9A76492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DD883-2BAA-49D4-B8A9-8748B3778D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788E7-F479-49D2-A0F8-7E58E8C477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DEDCB-8461-492C-899B-1219F7963D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1A2C1-95FB-46BC-AD49-F8DC0EB2FD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5DD54-EE07-452A-AC93-5E5E355838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D7777-1CB6-44DA-942C-8F5CE9B9D6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9C7FA-6082-406D-B513-A0455F5203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C6C4A-0939-466C-8346-C24BE4374B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08"/>
          <p:cNvSpPr/>
          <p:nvPr/>
        </p:nvSpPr>
        <p:spPr>
          <a:xfrm>
            <a:off x="3224160" y="2058840"/>
            <a:ext cx="5194440" cy="401652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7"/>
          <a:stretch/>
        </p:blipFill>
        <p:spPr>
          <a:xfrm>
            <a:off x="3678120" y="1712880"/>
            <a:ext cx="4267440" cy="66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3360600" y="3906720"/>
            <a:ext cx="527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咬定青山不放松，立根原在破岩中。千磨万击还坚劲，任尔东西南北风。”这首诗赞美了竹的坚韧顽强的品格。竹是高尚品行和顽强意志的象征，有顽强不息的生命力和坚忍不拔的意志力。坚贞不屈、挺拔青翠的井岗翠竹，是井冈山的象征，是井冈山人民革命英雄主义精神的体现。下面，让我们走进课文，去感受井岗翠竹的非凡意义吧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9" name="组合 8"/>
          <p:cNvGrpSpPr/>
          <p:nvPr/>
        </p:nvGrpSpPr>
        <p:grpSpPr>
          <a:xfrm>
            <a:off x="1179360" y="3975120"/>
            <a:ext cx="2840040" cy="1571760"/>
            <a:chOff x="1179360" y="3975120"/>
            <a:chExt cx="2840040" cy="1571760"/>
          </a:xfrm>
        </p:grpSpPr>
        <p:pic>
          <p:nvPicPr>
            <p:cNvPr id="180" name="图示 4" descr=""/>
            <p:cNvPicPr/>
            <p:nvPr/>
          </p:nvPicPr>
          <p:blipFill>
            <a:blip r:embed="rId1"/>
            <a:stretch/>
          </p:blipFill>
          <p:spPr>
            <a:xfrm>
              <a:off x="117936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矩形 2"/>
            <p:cNvSpPr/>
            <p:nvPr/>
          </p:nvSpPr>
          <p:spPr>
            <a:xfrm>
              <a:off x="1228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边三个平撇为短撇，末笔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矩形 3"/>
          <p:cNvSpPr/>
          <p:nvPr/>
        </p:nvSpPr>
        <p:spPr>
          <a:xfrm>
            <a:off x="2108160" y="1868400"/>
            <a:ext cx="13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ài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29"/>
          <p:cNvSpPr/>
          <p:nvPr/>
        </p:nvSpPr>
        <p:spPr>
          <a:xfrm>
            <a:off x="5835600" y="3193920"/>
            <a:ext cx="603360" cy="1562400"/>
          </a:xfrm>
          <a:custGeom>
            <a:avLst/>
            <a:gdLst/>
            <a:ahLst/>
            <a:rect l="l" t="t" r="r" b="b"/>
            <a:pathLst>
              <a:path w="760" h="1969">
                <a:moveTo>
                  <a:pt x="179" y="1869"/>
                </a:moveTo>
                <a:lnTo>
                  <a:pt x="159" y="1885"/>
                </a:lnTo>
                <a:lnTo>
                  <a:pt x="142" y="1898"/>
                </a:lnTo>
                <a:lnTo>
                  <a:pt x="125" y="1912"/>
                </a:lnTo>
                <a:lnTo>
                  <a:pt x="107" y="1923"/>
                </a:lnTo>
                <a:lnTo>
                  <a:pt x="92" y="1933"/>
                </a:lnTo>
                <a:lnTo>
                  <a:pt x="79" y="1940"/>
                </a:lnTo>
                <a:lnTo>
                  <a:pt x="65" y="1948"/>
                </a:lnTo>
                <a:lnTo>
                  <a:pt x="54" y="1956"/>
                </a:lnTo>
                <a:lnTo>
                  <a:pt x="44" y="1960"/>
                </a:lnTo>
                <a:lnTo>
                  <a:pt x="35" y="1964"/>
                </a:lnTo>
                <a:lnTo>
                  <a:pt x="27" y="1967"/>
                </a:lnTo>
                <a:lnTo>
                  <a:pt x="19" y="1969"/>
                </a:lnTo>
                <a:lnTo>
                  <a:pt x="13" y="1969"/>
                </a:lnTo>
                <a:lnTo>
                  <a:pt x="8" y="1969"/>
                </a:lnTo>
                <a:lnTo>
                  <a:pt x="4" y="1969"/>
                </a:lnTo>
                <a:lnTo>
                  <a:pt x="2" y="1967"/>
                </a:lnTo>
                <a:lnTo>
                  <a:pt x="0" y="1964"/>
                </a:lnTo>
                <a:lnTo>
                  <a:pt x="0" y="1958"/>
                </a:lnTo>
                <a:lnTo>
                  <a:pt x="2" y="1952"/>
                </a:lnTo>
                <a:lnTo>
                  <a:pt x="6" y="1944"/>
                </a:lnTo>
                <a:lnTo>
                  <a:pt x="10" y="1935"/>
                </a:lnTo>
                <a:lnTo>
                  <a:pt x="17" y="1923"/>
                </a:lnTo>
                <a:lnTo>
                  <a:pt x="27" y="1912"/>
                </a:lnTo>
                <a:lnTo>
                  <a:pt x="36" y="1896"/>
                </a:lnTo>
                <a:lnTo>
                  <a:pt x="48" y="1881"/>
                </a:lnTo>
                <a:lnTo>
                  <a:pt x="61" y="1866"/>
                </a:lnTo>
                <a:lnTo>
                  <a:pt x="77" y="1846"/>
                </a:lnTo>
                <a:lnTo>
                  <a:pt x="94" y="1827"/>
                </a:lnTo>
                <a:lnTo>
                  <a:pt x="113" y="1806"/>
                </a:lnTo>
                <a:lnTo>
                  <a:pt x="132" y="1785"/>
                </a:lnTo>
                <a:lnTo>
                  <a:pt x="155" y="1760"/>
                </a:lnTo>
                <a:lnTo>
                  <a:pt x="179" y="1737"/>
                </a:lnTo>
                <a:lnTo>
                  <a:pt x="202" y="1710"/>
                </a:lnTo>
                <a:lnTo>
                  <a:pt x="227" y="1683"/>
                </a:lnTo>
                <a:lnTo>
                  <a:pt x="248" y="1656"/>
                </a:lnTo>
                <a:lnTo>
                  <a:pt x="271" y="1628"/>
                </a:lnTo>
                <a:lnTo>
                  <a:pt x="290" y="1597"/>
                </a:lnTo>
                <a:lnTo>
                  <a:pt x="311" y="1566"/>
                </a:lnTo>
                <a:lnTo>
                  <a:pt x="330" y="1536"/>
                </a:lnTo>
                <a:lnTo>
                  <a:pt x="349" y="1503"/>
                </a:lnTo>
                <a:lnTo>
                  <a:pt x="367" y="1468"/>
                </a:lnTo>
                <a:lnTo>
                  <a:pt x="384" y="1436"/>
                </a:lnTo>
                <a:lnTo>
                  <a:pt x="401" y="1401"/>
                </a:lnTo>
                <a:lnTo>
                  <a:pt x="417" y="1365"/>
                </a:lnTo>
                <a:lnTo>
                  <a:pt x="432" y="1328"/>
                </a:lnTo>
                <a:lnTo>
                  <a:pt x="447" y="1292"/>
                </a:lnTo>
                <a:lnTo>
                  <a:pt x="463" y="1253"/>
                </a:lnTo>
                <a:lnTo>
                  <a:pt x="476" y="1215"/>
                </a:lnTo>
                <a:lnTo>
                  <a:pt x="488" y="1177"/>
                </a:lnTo>
                <a:lnTo>
                  <a:pt x="499" y="1138"/>
                </a:lnTo>
                <a:lnTo>
                  <a:pt x="511" y="1100"/>
                </a:lnTo>
                <a:lnTo>
                  <a:pt x="520" y="1062"/>
                </a:lnTo>
                <a:lnTo>
                  <a:pt x="532" y="1023"/>
                </a:lnTo>
                <a:lnTo>
                  <a:pt x="539" y="985"/>
                </a:lnTo>
                <a:lnTo>
                  <a:pt x="549" y="946"/>
                </a:lnTo>
                <a:lnTo>
                  <a:pt x="557" y="910"/>
                </a:lnTo>
                <a:lnTo>
                  <a:pt x="562" y="872"/>
                </a:lnTo>
                <a:lnTo>
                  <a:pt x="568" y="835"/>
                </a:lnTo>
                <a:lnTo>
                  <a:pt x="574" y="799"/>
                </a:lnTo>
                <a:lnTo>
                  <a:pt x="580" y="762"/>
                </a:lnTo>
                <a:lnTo>
                  <a:pt x="584" y="726"/>
                </a:lnTo>
                <a:lnTo>
                  <a:pt x="587" y="691"/>
                </a:lnTo>
                <a:lnTo>
                  <a:pt x="591" y="655"/>
                </a:lnTo>
                <a:lnTo>
                  <a:pt x="593" y="622"/>
                </a:lnTo>
                <a:lnTo>
                  <a:pt x="595" y="588"/>
                </a:lnTo>
                <a:lnTo>
                  <a:pt x="597" y="555"/>
                </a:lnTo>
                <a:lnTo>
                  <a:pt x="597" y="522"/>
                </a:lnTo>
                <a:lnTo>
                  <a:pt x="597" y="492"/>
                </a:lnTo>
                <a:lnTo>
                  <a:pt x="597" y="461"/>
                </a:lnTo>
                <a:lnTo>
                  <a:pt x="597" y="432"/>
                </a:lnTo>
                <a:lnTo>
                  <a:pt x="597" y="403"/>
                </a:lnTo>
                <a:lnTo>
                  <a:pt x="597" y="376"/>
                </a:lnTo>
                <a:lnTo>
                  <a:pt x="595" y="350"/>
                </a:lnTo>
                <a:lnTo>
                  <a:pt x="593" y="323"/>
                </a:lnTo>
                <a:lnTo>
                  <a:pt x="591" y="298"/>
                </a:lnTo>
                <a:lnTo>
                  <a:pt x="589" y="273"/>
                </a:lnTo>
                <a:lnTo>
                  <a:pt x="587" y="250"/>
                </a:lnTo>
                <a:lnTo>
                  <a:pt x="586" y="227"/>
                </a:lnTo>
                <a:lnTo>
                  <a:pt x="584" y="206"/>
                </a:lnTo>
                <a:lnTo>
                  <a:pt x="582" y="185"/>
                </a:lnTo>
                <a:lnTo>
                  <a:pt x="580" y="165"/>
                </a:lnTo>
                <a:lnTo>
                  <a:pt x="578" y="146"/>
                </a:lnTo>
                <a:lnTo>
                  <a:pt x="576" y="129"/>
                </a:lnTo>
                <a:lnTo>
                  <a:pt x="576" y="112"/>
                </a:lnTo>
                <a:lnTo>
                  <a:pt x="574" y="96"/>
                </a:lnTo>
                <a:lnTo>
                  <a:pt x="574" y="83"/>
                </a:lnTo>
                <a:lnTo>
                  <a:pt x="574" y="69"/>
                </a:lnTo>
                <a:lnTo>
                  <a:pt x="574" y="58"/>
                </a:lnTo>
                <a:lnTo>
                  <a:pt x="576" y="46"/>
                </a:lnTo>
                <a:lnTo>
                  <a:pt x="576" y="37"/>
                </a:lnTo>
                <a:lnTo>
                  <a:pt x="578" y="29"/>
                </a:lnTo>
                <a:lnTo>
                  <a:pt x="580" y="21"/>
                </a:lnTo>
                <a:lnTo>
                  <a:pt x="582" y="16"/>
                </a:lnTo>
                <a:lnTo>
                  <a:pt x="586" y="10"/>
                </a:lnTo>
                <a:lnTo>
                  <a:pt x="589" y="6"/>
                </a:lnTo>
                <a:lnTo>
                  <a:pt x="593" y="4"/>
                </a:lnTo>
                <a:lnTo>
                  <a:pt x="599" y="2"/>
                </a:lnTo>
                <a:lnTo>
                  <a:pt x="605" y="0"/>
                </a:lnTo>
                <a:lnTo>
                  <a:pt x="610" y="0"/>
                </a:lnTo>
                <a:lnTo>
                  <a:pt x="618" y="0"/>
                </a:lnTo>
                <a:lnTo>
                  <a:pt x="626" y="2"/>
                </a:lnTo>
                <a:lnTo>
                  <a:pt x="635" y="4"/>
                </a:lnTo>
                <a:lnTo>
                  <a:pt x="645" y="6"/>
                </a:lnTo>
                <a:lnTo>
                  <a:pt x="655" y="10"/>
                </a:lnTo>
                <a:lnTo>
                  <a:pt x="666" y="14"/>
                </a:lnTo>
                <a:lnTo>
                  <a:pt x="678" y="19"/>
                </a:lnTo>
                <a:lnTo>
                  <a:pt x="689" y="25"/>
                </a:lnTo>
                <a:lnTo>
                  <a:pt x="703" y="31"/>
                </a:lnTo>
                <a:lnTo>
                  <a:pt x="716" y="39"/>
                </a:lnTo>
                <a:lnTo>
                  <a:pt x="729" y="46"/>
                </a:lnTo>
                <a:lnTo>
                  <a:pt x="745" y="54"/>
                </a:lnTo>
                <a:lnTo>
                  <a:pt x="760" y="64"/>
                </a:lnTo>
                <a:lnTo>
                  <a:pt x="760" y="127"/>
                </a:lnTo>
                <a:lnTo>
                  <a:pt x="758" y="192"/>
                </a:lnTo>
                <a:lnTo>
                  <a:pt x="758" y="259"/>
                </a:lnTo>
                <a:lnTo>
                  <a:pt x="758" y="327"/>
                </a:lnTo>
                <a:lnTo>
                  <a:pt x="756" y="396"/>
                </a:lnTo>
                <a:lnTo>
                  <a:pt x="754" y="465"/>
                </a:lnTo>
                <a:lnTo>
                  <a:pt x="753" y="536"/>
                </a:lnTo>
                <a:lnTo>
                  <a:pt x="749" y="609"/>
                </a:lnTo>
                <a:lnTo>
                  <a:pt x="745" y="645"/>
                </a:lnTo>
                <a:lnTo>
                  <a:pt x="743" y="682"/>
                </a:lnTo>
                <a:lnTo>
                  <a:pt x="739" y="716"/>
                </a:lnTo>
                <a:lnTo>
                  <a:pt x="735" y="753"/>
                </a:lnTo>
                <a:lnTo>
                  <a:pt x="729" y="787"/>
                </a:lnTo>
                <a:lnTo>
                  <a:pt x="726" y="822"/>
                </a:lnTo>
                <a:lnTo>
                  <a:pt x="714" y="889"/>
                </a:lnTo>
                <a:lnTo>
                  <a:pt x="701" y="956"/>
                </a:lnTo>
                <a:lnTo>
                  <a:pt x="693" y="989"/>
                </a:lnTo>
                <a:lnTo>
                  <a:pt x="685" y="1019"/>
                </a:lnTo>
                <a:lnTo>
                  <a:pt x="678" y="1052"/>
                </a:lnTo>
                <a:lnTo>
                  <a:pt x="670" y="1083"/>
                </a:lnTo>
                <a:lnTo>
                  <a:pt x="662" y="1113"/>
                </a:lnTo>
                <a:lnTo>
                  <a:pt x="653" y="1142"/>
                </a:lnTo>
                <a:lnTo>
                  <a:pt x="635" y="1202"/>
                </a:lnTo>
                <a:lnTo>
                  <a:pt x="614" y="1257"/>
                </a:lnTo>
                <a:lnTo>
                  <a:pt x="593" y="1313"/>
                </a:lnTo>
                <a:lnTo>
                  <a:pt x="572" y="1369"/>
                </a:lnTo>
                <a:lnTo>
                  <a:pt x="547" y="1420"/>
                </a:lnTo>
                <a:lnTo>
                  <a:pt x="520" y="1470"/>
                </a:lnTo>
                <a:lnTo>
                  <a:pt x="507" y="1495"/>
                </a:lnTo>
                <a:lnTo>
                  <a:pt x="493" y="1520"/>
                </a:lnTo>
                <a:lnTo>
                  <a:pt x="478" y="1543"/>
                </a:lnTo>
                <a:lnTo>
                  <a:pt x="463" y="1566"/>
                </a:lnTo>
                <a:lnTo>
                  <a:pt x="447" y="1589"/>
                </a:lnTo>
                <a:lnTo>
                  <a:pt x="432" y="1610"/>
                </a:lnTo>
                <a:lnTo>
                  <a:pt x="415" y="1633"/>
                </a:lnTo>
                <a:lnTo>
                  <a:pt x="399" y="1653"/>
                </a:lnTo>
                <a:lnTo>
                  <a:pt x="382" y="1674"/>
                </a:lnTo>
                <a:lnTo>
                  <a:pt x="365" y="1693"/>
                </a:lnTo>
                <a:lnTo>
                  <a:pt x="347" y="1712"/>
                </a:lnTo>
                <a:lnTo>
                  <a:pt x="330" y="1731"/>
                </a:lnTo>
                <a:lnTo>
                  <a:pt x="294" y="1768"/>
                </a:lnTo>
                <a:lnTo>
                  <a:pt x="255" y="1804"/>
                </a:lnTo>
                <a:lnTo>
                  <a:pt x="217" y="1837"/>
                </a:lnTo>
                <a:lnTo>
                  <a:pt x="179" y="186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0"/>
          <p:cNvSpPr/>
          <p:nvPr/>
        </p:nvSpPr>
        <p:spPr>
          <a:xfrm>
            <a:off x="6383160" y="2808360"/>
            <a:ext cx="704880" cy="503280"/>
          </a:xfrm>
          <a:custGeom>
            <a:avLst/>
            <a:gdLst/>
            <a:ahLst/>
            <a:rect l="l" t="t" r="r" b="b"/>
            <a:pathLst>
              <a:path w="889" h="633">
                <a:moveTo>
                  <a:pt x="12" y="633"/>
                </a:moveTo>
                <a:lnTo>
                  <a:pt x="0" y="574"/>
                </a:lnTo>
                <a:lnTo>
                  <a:pt x="29" y="556"/>
                </a:lnTo>
                <a:lnTo>
                  <a:pt x="58" y="539"/>
                </a:lnTo>
                <a:lnTo>
                  <a:pt x="87" y="522"/>
                </a:lnTo>
                <a:lnTo>
                  <a:pt x="113" y="506"/>
                </a:lnTo>
                <a:lnTo>
                  <a:pt x="140" y="491"/>
                </a:lnTo>
                <a:lnTo>
                  <a:pt x="167" y="476"/>
                </a:lnTo>
                <a:lnTo>
                  <a:pt x="192" y="460"/>
                </a:lnTo>
                <a:lnTo>
                  <a:pt x="217" y="445"/>
                </a:lnTo>
                <a:lnTo>
                  <a:pt x="240" y="430"/>
                </a:lnTo>
                <a:lnTo>
                  <a:pt x="263" y="416"/>
                </a:lnTo>
                <a:lnTo>
                  <a:pt x="286" y="403"/>
                </a:lnTo>
                <a:lnTo>
                  <a:pt x="307" y="389"/>
                </a:lnTo>
                <a:lnTo>
                  <a:pt x="328" y="376"/>
                </a:lnTo>
                <a:lnTo>
                  <a:pt x="350" y="362"/>
                </a:lnTo>
                <a:lnTo>
                  <a:pt x="369" y="351"/>
                </a:lnTo>
                <a:lnTo>
                  <a:pt x="388" y="339"/>
                </a:lnTo>
                <a:lnTo>
                  <a:pt x="405" y="326"/>
                </a:lnTo>
                <a:lnTo>
                  <a:pt x="423" y="316"/>
                </a:lnTo>
                <a:lnTo>
                  <a:pt x="440" y="305"/>
                </a:lnTo>
                <a:lnTo>
                  <a:pt x="455" y="293"/>
                </a:lnTo>
                <a:lnTo>
                  <a:pt x="471" y="284"/>
                </a:lnTo>
                <a:lnTo>
                  <a:pt x="484" y="274"/>
                </a:lnTo>
                <a:lnTo>
                  <a:pt x="497" y="265"/>
                </a:lnTo>
                <a:lnTo>
                  <a:pt x="511" y="255"/>
                </a:lnTo>
                <a:lnTo>
                  <a:pt x="522" y="247"/>
                </a:lnTo>
                <a:lnTo>
                  <a:pt x="532" y="238"/>
                </a:lnTo>
                <a:lnTo>
                  <a:pt x="543" y="230"/>
                </a:lnTo>
                <a:lnTo>
                  <a:pt x="553" y="222"/>
                </a:lnTo>
                <a:lnTo>
                  <a:pt x="561" y="215"/>
                </a:lnTo>
                <a:lnTo>
                  <a:pt x="568" y="209"/>
                </a:lnTo>
                <a:lnTo>
                  <a:pt x="574" y="203"/>
                </a:lnTo>
                <a:lnTo>
                  <a:pt x="582" y="197"/>
                </a:lnTo>
                <a:lnTo>
                  <a:pt x="591" y="186"/>
                </a:lnTo>
                <a:lnTo>
                  <a:pt x="601" y="174"/>
                </a:lnTo>
                <a:lnTo>
                  <a:pt x="609" y="165"/>
                </a:lnTo>
                <a:lnTo>
                  <a:pt x="616" y="153"/>
                </a:lnTo>
                <a:lnTo>
                  <a:pt x="622" y="144"/>
                </a:lnTo>
                <a:lnTo>
                  <a:pt x="628" y="134"/>
                </a:lnTo>
                <a:lnTo>
                  <a:pt x="634" y="124"/>
                </a:lnTo>
                <a:lnTo>
                  <a:pt x="638" y="117"/>
                </a:lnTo>
                <a:lnTo>
                  <a:pt x="639" y="109"/>
                </a:lnTo>
                <a:lnTo>
                  <a:pt x="641" y="100"/>
                </a:lnTo>
                <a:lnTo>
                  <a:pt x="643" y="94"/>
                </a:lnTo>
                <a:lnTo>
                  <a:pt x="643" y="86"/>
                </a:lnTo>
                <a:lnTo>
                  <a:pt x="645" y="80"/>
                </a:lnTo>
                <a:lnTo>
                  <a:pt x="643" y="73"/>
                </a:lnTo>
                <a:lnTo>
                  <a:pt x="641" y="69"/>
                </a:lnTo>
                <a:lnTo>
                  <a:pt x="641" y="63"/>
                </a:lnTo>
                <a:lnTo>
                  <a:pt x="636" y="59"/>
                </a:lnTo>
                <a:lnTo>
                  <a:pt x="632" y="53"/>
                </a:lnTo>
                <a:lnTo>
                  <a:pt x="630" y="50"/>
                </a:lnTo>
                <a:lnTo>
                  <a:pt x="628" y="46"/>
                </a:lnTo>
                <a:lnTo>
                  <a:pt x="626" y="40"/>
                </a:lnTo>
                <a:lnTo>
                  <a:pt x="624" y="36"/>
                </a:lnTo>
                <a:lnTo>
                  <a:pt x="624" y="32"/>
                </a:lnTo>
                <a:lnTo>
                  <a:pt x="624" y="29"/>
                </a:lnTo>
                <a:lnTo>
                  <a:pt x="624" y="25"/>
                </a:lnTo>
                <a:lnTo>
                  <a:pt x="626" y="21"/>
                </a:lnTo>
                <a:lnTo>
                  <a:pt x="628" y="17"/>
                </a:lnTo>
                <a:lnTo>
                  <a:pt x="632" y="13"/>
                </a:lnTo>
                <a:lnTo>
                  <a:pt x="636" y="11"/>
                </a:lnTo>
                <a:lnTo>
                  <a:pt x="639" y="7"/>
                </a:lnTo>
                <a:lnTo>
                  <a:pt x="645" y="6"/>
                </a:lnTo>
                <a:lnTo>
                  <a:pt x="653" y="4"/>
                </a:lnTo>
                <a:lnTo>
                  <a:pt x="657" y="2"/>
                </a:lnTo>
                <a:lnTo>
                  <a:pt x="663" y="0"/>
                </a:lnTo>
                <a:lnTo>
                  <a:pt x="668" y="0"/>
                </a:lnTo>
                <a:lnTo>
                  <a:pt x="674" y="0"/>
                </a:lnTo>
                <a:lnTo>
                  <a:pt x="682" y="2"/>
                </a:lnTo>
                <a:lnTo>
                  <a:pt x="689" y="4"/>
                </a:lnTo>
                <a:lnTo>
                  <a:pt x="697" y="6"/>
                </a:lnTo>
                <a:lnTo>
                  <a:pt x="705" y="9"/>
                </a:lnTo>
                <a:lnTo>
                  <a:pt x="714" y="11"/>
                </a:lnTo>
                <a:lnTo>
                  <a:pt x="724" y="17"/>
                </a:lnTo>
                <a:lnTo>
                  <a:pt x="734" y="21"/>
                </a:lnTo>
                <a:lnTo>
                  <a:pt x="745" y="27"/>
                </a:lnTo>
                <a:lnTo>
                  <a:pt x="757" y="32"/>
                </a:lnTo>
                <a:lnTo>
                  <a:pt x="768" y="38"/>
                </a:lnTo>
                <a:lnTo>
                  <a:pt x="782" y="44"/>
                </a:lnTo>
                <a:lnTo>
                  <a:pt x="795" y="52"/>
                </a:lnTo>
                <a:lnTo>
                  <a:pt x="805" y="61"/>
                </a:lnTo>
                <a:lnTo>
                  <a:pt x="814" y="69"/>
                </a:lnTo>
                <a:lnTo>
                  <a:pt x="824" y="78"/>
                </a:lnTo>
                <a:lnTo>
                  <a:pt x="833" y="86"/>
                </a:lnTo>
                <a:lnTo>
                  <a:pt x="843" y="94"/>
                </a:lnTo>
                <a:lnTo>
                  <a:pt x="851" y="101"/>
                </a:lnTo>
                <a:lnTo>
                  <a:pt x="856" y="109"/>
                </a:lnTo>
                <a:lnTo>
                  <a:pt x="864" y="117"/>
                </a:lnTo>
                <a:lnTo>
                  <a:pt x="870" y="124"/>
                </a:lnTo>
                <a:lnTo>
                  <a:pt x="874" y="130"/>
                </a:lnTo>
                <a:lnTo>
                  <a:pt x="879" y="138"/>
                </a:lnTo>
                <a:lnTo>
                  <a:pt x="883" y="146"/>
                </a:lnTo>
                <a:lnTo>
                  <a:pt x="885" y="151"/>
                </a:lnTo>
                <a:lnTo>
                  <a:pt x="887" y="159"/>
                </a:lnTo>
                <a:lnTo>
                  <a:pt x="889" y="165"/>
                </a:lnTo>
                <a:lnTo>
                  <a:pt x="889" y="172"/>
                </a:lnTo>
                <a:lnTo>
                  <a:pt x="889" y="180"/>
                </a:lnTo>
                <a:lnTo>
                  <a:pt x="887" y="186"/>
                </a:lnTo>
                <a:lnTo>
                  <a:pt x="883" y="194"/>
                </a:lnTo>
                <a:lnTo>
                  <a:pt x="878" y="201"/>
                </a:lnTo>
                <a:lnTo>
                  <a:pt x="872" y="211"/>
                </a:lnTo>
                <a:lnTo>
                  <a:pt x="864" y="219"/>
                </a:lnTo>
                <a:lnTo>
                  <a:pt x="854" y="228"/>
                </a:lnTo>
                <a:lnTo>
                  <a:pt x="843" y="238"/>
                </a:lnTo>
                <a:lnTo>
                  <a:pt x="831" y="247"/>
                </a:lnTo>
                <a:lnTo>
                  <a:pt x="816" y="257"/>
                </a:lnTo>
                <a:lnTo>
                  <a:pt x="801" y="268"/>
                </a:lnTo>
                <a:lnTo>
                  <a:pt x="783" y="280"/>
                </a:lnTo>
                <a:lnTo>
                  <a:pt x="764" y="291"/>
                </a:lnTo>
                <a:lnTo>
                  <a:pt x="745" y="303"/>
                </a:lnTo>
                <a:lnTo>
                  <a:pt x="722" y="316"/>
                </a:lnTo>
                <a:lnTo>
                  <a:pt x="699" y="330"/>
                </a:lnTo>
                <a:lnTo>
                  <a:pt x="687" y="338"/>
                </a:lnTo>
                <a:lnTo>
                  <a:pt x="674" y="347"/>
                </a:lnTo>
                <a:lnTo>
                  <a:pt x="661" y="355"/>
                </a:lnTo>
                <a:lnTo>
                  <a:pt x="645" y="362"/>
                </a:lnTo>
                <a:lnTo>
                  <a:pt x="630" y="370"/>
                </a:lnTo>
                <a:lnTo>
                  <a:pt x="615" y="380"/>
                </a:lnTo>
                <a:lnTo>
                  <a:pt x="599" y="387"/>
                </a:lnTo>
                <a:lnTo>
                  <a:pt x="582" y="397"/>
                </a:lnTo>
                <a:lnTo>
                  <a:pt x="565" y="405"/>
                </a:lnTo>
                <a:lnTo>
                  <a:pt x="545" y="414"/>
                </a:lnTo>
                <a:lnTo>
                  <a:pt x="528" y="422"/>
                </a:lnTo>
                <a:lnTo>
                  <a:pt x="509" y="432"/>
                </a:lnTo>
                <a:lnTo>
                  <a:pt x="490" y="441"/>
                </a:lnTo>
                <a:lnTo>
                  <a:pt x="469" y="449"/>
                </a:lnTo>
                <a:lnTo>
                  <a:pt x="447" y="458"/>
                </a:lnTo>
                <a:lnTo>
                  <a:pt x="426" y="468"/>
                </a:lnTo>
                <a:lnTo>
                  <a:pt x="403" y="478"/>
                </a:lnTo>
                <a:lnTo>
                  <a:pt x="382" y="487"/>
                </a:lnTo>
                <a:lnTo>
                  <a:pt x="359" y="497"/>
                </a:lnTo>
                <a:lnTo>
                  <a:pt x="334" y="506"/>
                </a:lnTo>
                <a:lnTo>
                  <a:pt x="311" y="516"/>
                </a:lnTo>
                <a:lnTo>
                  <a:pt x="286" y="526"/>
                </a:lnTo>
                <a:lnTo>
                  <a:pt x="261" y="535"/>
                </a:lnTo>
                <a:lnTo>
                  <a:pt x="234" y="547"/>
                </a:lnTo>
                <a:lnTo>
                  <a:pt x="209" y="556"/>
                </a:lnTo>
                <a:lnTo>
                  <a:pt x="183" y="568"/>
                </a:lnTo>
                <a:lnTo>
                  <a:pt x="154" y="577"/>
                </a:lnTo>
                <a:lnTo>
                  <a:pt x="127" y="589"/>
                </a:lnTo>
                <a:lnTo>
                  <a:pt x="98" y="599"/>
                </a:lnTo>
                <a:lnTo>
                  <a:pt x="69" y="610"/>
                </a:lnTo>
                <a:lnTo>
                  <a:pt x="40" y="622"/>
                </a:lnTo>
                <a:lnTo>
                  <a:pt x="12" y="63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1"/>
          <p:cNvSpPr/>
          <p:nvPr/>
        </p:nvSpPr>
        <p:spPr>
          <a:xfrm>
            <a:off x="6664320" y="3270240"/>
            <a:ext cx="574560" cy="358920"/>
          </a:xfrm>
          <a:custGeom>
            <a:avLst/>
            <a:gdLst/>
            <a:ahLst/>
            <a:rect l="l" t="t" r="r" b="b"/>
            <a:pathLst>
              <a:path w="724" h="453">
                <a:moveTo>
                  <a:pt x="23" y="453"/>
                </a:moveTo>
                <a:lnTo>
                  <a:pt x="0" y="392"/>
                </a:lnTo>
                <a:lnTo>
                  <a:pt x="43" y="371"/>
                </a:lnTo>
                <a:lnTo>
                  <a:pt x="81" y="351"/>
                </a:lnTo>
                <a:lnTo>
                  <a:pt x="119" y="334"/>
                </a:lnTo>
                <a:lnTo>
                  <a:pt x="156" y="315"/>
                </a:lnTo>
                <a:lnTo>
                  <a:pt x="190" y="300"/>
                </a:lnTo>
                <a:lnTo>
                  <a:pt x="223" y="282"/>
                </a:lnTo>
                <a:lnTo>
                  <a:pt x="254" y="267"/>
                </a:lnTo>
                <a:lnTo>
                  <a:pt x="267" y="261"/>
                </a:lnTo>
                <a:lnTo>
                  <a:pt x="283" y="254"/>
                </a:lnTo>
                <a:lnTo>
                  <a:pt x="296" y="246"/>
                </a:lnTo>
                <a:lnTo>
                  <a:pt x="309" y="240"/>
                </a:lnTo>
                <a:lnTo>
                  <a:pt x="321" y="232"/>
                </a:lnTo>
                <a:lnTo>
                  <a:pt x="334" y="227"/>
                </a:lnTo>
                <a:lnTo>
                  <a:pt x="346" y="221"/>
                </a:lnTo>
                <a:lnTo>
                  <a:pt x="357" y="213"/>
                </a:lnTo>
                <a:lnTo>
                  <a:pt x="367" y="207"/>
                </a:lnTo>
                <a:lnTo>
                  <a:pt x="377" y="202"/>
                </a:lnTo>
                <a:lnTo>
                  <a:pt x="386" y="196"/>
                </a:lnTo>
                <a:lnTo>
                  <a:pt x="396" y="192"/>
                </a:lnTo>
                <a:lnTo>
                  <a:pt x="405" y="186"/>
                </a:lnTo>
                <a:lnTo>
                  <a:pt x="413" y="181"/>
                </a:lnTo>
                <a:lnTo>
                  <a:pt x="421" y="175"/>
                </a:lnTo>
                <a:lnTo>
                  <a:pt x="427" y="171"/>
                </a:lnTo>
                <a:lnTo>
                  <a:pt x="434" y="165"/>
                </a:lnTo>
                <a:lnTo>
                  <a:pt x="440" y="161"/>
                </a:lnTo>
                <a:lnTo>
                  <a:pt x="450" y="152"/>
                </a:lnTo>
                <a:lnTo>
                  <a:pt x="459" y="144"/>
                </a:lnTo>
                <a:lnTo>
                  <a:pt x="467" y="135"/>
                </a:lnTo>
                <a:lnTo>
                  <a:pt x="475" y="127"/>
                </a:lnTo>
                <a:lnTo>
                  <a:pt x="480" y="119"/>
                </a:lnTo>
                <a:lnTo>
                  <a:pt x="486" y="112"/>
                </a:lnTo>
                <a:lnTo>
                  <a:pt x="492" y="104"/>
                </a:lnTo>
                <a:lnTo>
                  <a:pt x="496" y="98"/>
                </a:lnTo>
                <a:lnTo>
                  <a:pt x="498" y="90"/>
                </a:lnTo>
                <a:lnTo>
                  <a:pt x="499" y="85"/>
                </a:lnTo>
                <a:lnTo>
                  <a:pt x="501" y="79"/>
                </a:lnTo>
                <a:lnTo>
                  <a:pt x="501" y="73"/>
                </a:lnTo>
                <a:lnTo>
                  <a:pt x="503" y="67"/>
                </a:lnTo>
                <a:lnTo>
                  <a:pt x="501" y="62"/>
                </a:lnTo>
                <a:lnTo>
                  <a:pt x="499" y="58"/>
                </a:lnTo>
                <a:lnTo>
                  <a:pt x="499" y="52"/>
                </a:lnTo>
                <a:lnTo>
                  <a:pt x="494" y="48"/>
                </a:lnTo>
                <a:lnTo>
                  <a:pt x="492" y="44"/>
                </a:lnTo>
                <a:lnTo>
                  <a:pt x="488" y="41"/>
                </a:lnTo>
                <a:lnTo>
                  <a:pt x="486" y="37"/>
                </a:lnTo>
                <a:lnTo>
                  <a:pt x="484" y="33"/>
                </a:lnTo>
                <a:lnTo>
                  <a:pt x="482" y="29"/>
                </a:lnTo>
                <a:lnTo>
                  <a:pt x="482" y="27"/>
                </a:lnTo>
                <a:lnTo>
                  <a:pt x="482" y="23"/>
                </a:lnTo>
                <a:lnTo>
                  <a:pt x="484" y="21"/>
                </a:lnTo>
                <a:lnTo>
                  <a:pt x="484" y="18"/>
                </a:lnTo>
                <a:lnTo>
                  <a:pt x="488" y="16"/>
                </a:lnTo>
                <a:lnTo>
                  <a:pt x="490" y="14"/>
                </a:lnTo>
                <a:lnTo>
                  <a:pt x="494" y="10"/>
                </a:lnTo>
                <a:lnTo>
                  <a:pt x="498" y="8"/>
                </a:lnTo>
                <a:lnTo>
                  <a:pt x="503" y="6"/>
                </a:lnTo>
                <a:lnTo>
                  <a:pt x="511" y="4"/>
                </a:lnTo>
                <a:lnTo>
                  <a:pt x="515" y="2"/>
                </a:lnTo>
                <a:lnTo>
                  <a:pt x="521" y="0"/>
                </a:lnTo>
                <a:lnTo>
                  <a:pt x="526" y="0"/>
                </a:lnTo>
                <a:lnTo>
                  <a:pt x="532" y="2"/>
                </a:lnTo>
                <a:lnTo>
                  <a:pt x="540" y="2"/>
                </a:lnTo>
                <a:lnTo>
                  <a:pt x="546" y="4"/>
                </a:lnTo>
                <a:lnTo>
                  <a:pt x="555" y="6"/>
                </a:lnTo>
                <a:lnTo>
                  <a:pt x="563" y="10"/>
                </a:lnTo>
                <a:lnTo>
                  <a:pt x="571" y="14"/>
                </a:lnTo>
                <a:lnTo>
                  <a:pt x="580" y="18"/>
                </a:lnTo>
                <a:lnTo>
                  <a:pt x="590" y="21"/>
                </a:lnTo>
                <a:lnTo>
                  <a:pt x="599" y="27"/>
                </a:lnTo>
                <a:lnTo>
                  <a:pt x="619" y="39"/>
                </a:lnTo>
                <a:lnTo>
                  <a:pt x="642" y="52"/>
                </a:lnTo>
                <a:lnTo>
                  <a:pt x="651" y="62"/>
                </a:lnTo>
                <a:lnTo>
                  <a:pt x="661" y="69"/>
                </a:lnTo>
                <a:lnTo>
                  <a:pt x="670" y="79"/>
                </a:lnTo>
                <a:lnTo>
                  <a:pt x="678" y="87"/>
                </a:lnTo>
                <a:lnTo>
                  <a:pt x="686" y="94"/>
                </a:lnTo>
                <a:lnTo>
                  <a:pt x="693" y="100"/>
                </a:lnTo>
                <a:lnTo>
                  <a:pt x="699" y="108"/>
                </a:lnTo>
                <a:lnTo>
                  <a:pt x="705" y="113"/>
                </a:lnTo>
                <a:lnTo>
                  <a:pt x="709" y="121"/>
                </a:lnTo>
                <a:lnTo>
                  <a:pt x="713" y="125"/>
                </a:lnTo>
                <a:lnTo>
                  <a:pt x="716" y="131"/>
                </a:lnTo>
                <a:lnTo>
                  <a:pt x="720" y="135"/>
                </a:lnTo>
                <a:lnTo>
                  <a:pt x="722" y="140"/>
                </a:lnTo>
                <a:lnTo>
                  <a:pt x="722" y="144"/>
                </a:lnTo>
                <a:lnTo>
                  <a:pt x="724" y="146"/>
                </a:lnTo>
                <a:lnTo>
                  <a:pt x="724" y="150"/>
                </a:lnTo>
                <a:lnTo>
                  <a:pt x="724" y="154"/>
                </a:lnTo>
                <a:lnTo>
                  <a:pt x="722" y="160"/>
                </a:lnTo>
                <a:lnTo>
                  <a:pt x="718" y="163"/>
                </a:lnTo>
                <a:lnTo>
                  <a:pt x="713" y="169"/>
                </a:lnTo>
                <a:lnTo>
                  <a:pt x="707" y="175"/>
                </a:lnTo>
                <a:lnTo>
                  <a:pt x="699" y="183"/>
                </a:lnTo>
                <a:lnTo>
                  <a:pt x="690" y="188"/>
                </a:lnTo>
                <a:lnTo>
                  <a:pt x="680" y="196"/>
                </a:lnTo>
                <a:lnTo>
                  <a:pt x="667" y="204"/>
                </a:lnTo>
                <a:lnTo>
                  <a:pt x="653" y="211"/>
                </a:lnTo>
                <a:lnTo>
                  <a:pt x="640" y="219"/>
                </a:lnTo>
                <a:lnTo>
                  <a:pt x="622" y="229"/>
                </a:lnTo>
                <a:lnTo>
                  <a:pt x="605" y="238"/>
                </a:lnTo>
                <a:lnTo>
                  <a:pt x="588" y="248"/>
                </a:lnTo>
                <a:lnTo>
                  <a:pt x="567" y="259"/>
                </a:lnTo>
                <a:lnTo>
                  <a:pt x="546" y="271"/>
                </a:lnTo>
                <a:lnTo>
                  <a:pt x="521" y="282"/>
                </a:lnTo>
                <a:lnTo>
                  <a:pt x="496" y="294"/>
                </a:lnTo>
                <a:lnTo>
                  <a:pt x="469" y="305"/>
                </a:lnTo>
                <a:lnTo>
                  <a:pt x="442" y="317"/>
                </a:lnTo>
                <a:lnTo>
                  <a:pt x="413" y="328"/>
                </a:lnTo>
                <a:lnTo>
                  <a:pt x="382" y="340"/>
                </a:lnTo>
                <a:lnTo>
                  <a:pt x="352" y="350"/>
                </a:lnTo>
                <a:lnTo>
                  <a:pt x="321" y="361"/>
                </a:lnTo>
                <a:lnTo>
                  <a:pt x="288" y="373"/>
                </a:lnTo>
                <a:lnTo>
                  <a:pt x="254" y="384"/>
                </a:lnTo>
                <a:lnTo>
                  <a:pt x="219" y="396"/>
                </a:lnTo>
                <a:lnTo>
                  <a:pt x="183" y="407"/>
                </a:lnTo>
                <a:lnTo>
                  <a:pt x="144" y="419"/>
                </a:lnTo>
                <a:lnTo>
                  <a:pt x="106" y="430"/>
                </a:lnTo>
                <a:lnTo>
                  <a:pt x="66" y="442"/>
                </a:lnTo>
                <a:lnTo>
                  <a:pt x="23" y="45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2"/>
          <p:cNvSpPr/>
          <p:nvPr/>
        </p:nvSpPr>
        <p:spPr>
          <a:xfrm>
            <a:off x="6458040" y="3490920"/>
            <a:ext cx="519120" cy="1360440"/>
          </a:xfrm>
          <a:custGeom>
            <a:avLst/>
            <a:gdLst/>
            <a:ahLst/>
            <a:rect l="l" t="t" r="r" b="b"/>
            <a:pathLst>
              <a:path w="655" h="1714">
                <a:moveTo>
                  <a:pt x="440" y="1352"/>
                </a:moveTo>
                <a:lnTo>
                  <a:pt x="411" y="1375"/>
                </a:lnTo>
                <a:lnTo>
                  <a:pt x="384" y="1400"/>
                </a:lnTo>
                <a:lnTo>
                  <a:pt x="359" y="1421"/>
                </a:lnTo>
                <a:lnTo>
                  <a:pt x="336" y="1442"/>
                </a:lnTo>
                <a:lnTo>
                  <a:pt x="315" y="1463"/>
                </a:lnTo>
                <a:lnTo>
                  <a:pt x="294" y="1482"/>
                </a:lnTo>
                <a:lnTo>
                  <a:pt x="277" y="1499"/>
                </a:lnTo>
                <a:lnTo>
                  <a:pt x="258" y="1517"/>
                </a:lnTo>
                <a:lnTo>
                  <a:pt x="242" y="1534"/>
                </a:lnTo>
                <a:lnTo>
                  <a:pt x="227" y="1549"/>
                </a:lnTo>
                <a:lnTo>
                  <a:pt x="213" y="1565"/>
                </a:lnTo>
                <a:lnTo>
                  <a:pt x="202" y="1578"/>
                </a:lnTo>
                <a:lnTo>
                  <a:pt x="190" y="1591"/>
                </a:lnTo>
                <a:lnTo>
                  <a:pt x="183" y="1605"/>
                </a:lnTo>
                <a:lnTo>
                  <a:pt x="173" y="1616"/>
                </a:lnTo>
                <a:lnTo>
                  <a:pt x="167" y="1630"/>
                </a:lnTo>
                <a:lnTo>
                  <a:pt x="160" y="1639"/>
                </a:lnTo>
                <a:lnTo>
                  <a:pt x="154" y="1651"/>
                </a:lnTo>
                <a:lnTo>
                  <a:pt x="148" y="1661"/>
                </a:lnTo>
                <a:lnTo>
                  <a:pt x="142" y="1668"/>
                </a:lnTo>
                <a:lnTo>
                  <a:pt x="137" y="1676"/>
                </a:lnTo>
                <a:lnTo>
                  <a:pt x="131" y="1684"/>
                </a:lnTo>
                <a:lnTo>
                  <a:pt x="127" y="1689"/>
                </a:lnTo>
                <a:lnTo>
                  <a:pt x="123" y="1695"/>
                </a:lnTo>
                <a:lnTo>
                  <a:pt x="117" y="1699"/>
                </a:lnTo>
                <a:lnTo>
                  <a:pt x="114" y="1703"/>
                </a:lnTo>
                <a:lnTo>
                  <a:pt x="110" y="1707"/>
                </a:lnTo>
                <a:lnTo>
                  <a:pt x="106" y="1710"/>
                </a:lnTo>
                <a:lnTo>
                  <a:pt x="104" y="1712"/>
                </a:lnTo>
                <a:lnTo>
                  <a:pt x="100" y="1712"/>
                </a:lnTo>
                <a:lnTo>
                  <a:pt x="98" y="1714"/>
                </a:lnTo>
                <a:lnTo>
                  <a:pt x="96" y="1714"/>
                </a:lnTo>
                <a:lnTo>
                  <a:pt x="92" y="1714"/>
                </a:lnTo>
                <a:lnTo>
                  <a:pt x="90" y="1712"/>
                </a:lnTo>
                <a:lnTo>
                  <a:pt x="87" y="1712"/>
                </a:lnTo>
                <a:lnTo>
                  <a:pt x="85" y="1708"/>
                </a:lnTo>
                <a:lnTo>
                  <a:pt x="81" y="1707"/>
                </a:lnTo>
                <a:lnTo>
                  <a:pt x="77" y="1703"/>
                </a:lnTo>
                <a:lnTo>
                  <a:pt x="73" y="1699"/>
                </a:lnTo>
                <a:lnTo>
                  <a:pt x="69" y="1695"/>
                </a:lnTo>
                <a:lnTo>
                  <a:pt x="66" y="1689"/>
                </a:lnTo>
                <a:lnTo>
                  <a:pt x="62" y="1682"/>
                </a:lnTo>
                <a:lnTo>
                  <a:pt x="58" y="1676"/>
                </a:lnTo>
                <a:lnTo>
                  <a:pt x="54" y="1668"/>
                </a:lnTo>
                <a:lnTo>
                  <a:pt x="48" y="1659"/>
                </a:lnTo>
                <a:lnTo>
                  <a:pt x="44" y="1649"/>
                </a:lnTo>
                <a:lnTo>
                  <a:pt x="41" y="1639"/>
                </a:lnTo>
                <a:lnTo>
                  <a:pt x="37" y="1630"/>
                </a:lnTo>
                <a:lnTo>
                  <a:pt x="31" y="1616"/>
                </a:lnTo>
                <a:lnTo>
                  <a:pt x="27" y="1603"/>
                </a:lnTo>
                <a:lnTo>
                  <a:pt x="23" y="1591"/>
                </a:lnTo>
                <a:lnTo>
                  <a:pt x="21" y="1580"/>
                </a:lnTo>
                <a:lnTo>
                  <a:pt x="18" y="1570"/>
                </a:lnTo>
                <a:lnTo>
                  <a:pt x="14" y="1561"/>
                </a:lnTo>
                <a:lnTo>
                  <a:pt x="12" y="1551"/>
                </a:lnTo>
                <a:lnTo>
                  <a:pt x="10" y="1543"/>
                </a:lnTo>
                <a:lnTo>
                  <a:pt x="6" y="1526"/>
                </a:lnTo>
                <a:lnTo>
                  <a:pt x="2" y="1511"/>
                </a:lnTo>
                <a:lnTo>
                  <a:pt x="0" y="1497"/>
                </a:lnTo>
                <a:lnTo>
                  <a:pt x="0" y="1484"/>
                </a:lnTo>
                <a:lnTo>
                  <a:pt x="0" y="1471"/>
                </a:lnTo>
                <a:lnTo>
                  <a:pt x="2" y="1459"/>
                </a:lnTo>
                <a:lnTo>
                  <a:pt x="6" y="1447"/>
                </a:lnTo>
                <a:lnTo>
                  <a:pt x="12" y="1436"/>
                </a:lnTo>
                <a:lnTo>
                  <a:pt x="18" y="1424"/>
                </a:lnTo>
                <a:lnTo>
                  <a:pt x="25" y="1413"/>
                </a:lnTo>
                <a:lnTo>
                  <a:pt x="31" y="1407"/>
                </a:lnTo>
                <a:lnTo>
                  <a:pt x="37" y="1400"/>
                </a:lnTo>
                <a:lnTo>
                  <a:pt x="42" y="1394"/>
                </a:lnTo>
                <a:lnTo>
                  <a:pt x="48" y="1388"/>
                </a:lnTo>
                <a:lnTo>
                  <a:pt x="52" y="1384"/>
                </a:lnTo>
                <a:lnTo>
                  <a:pt x="54" y="1378"/>
                </a:lnTo>
                <a:lnTo>
                  <a:pt x="58" y="1375"/>
                </a:lnTo>
                <a:lnTo>
                  <a:pt x="62" y="1369"/>
                </a:lnTo>
                <a:lnTo>
                  <a:pt x="64" y="1363"/>
                </a:lnTo>
                <a:lnTo>
                  <a:pt x="67" y="1355"/>
                </a:lnTo>
                <a:lnTo>
                  <a:pt x="69" y="1350"/>
                </a:lnTo>
                <a:lnTo>
                  <a:pt x="73" y="1340"/>
                </a:lnTo>
                <a:lnTo>
                  <a:pt x="75" y="1332"/>
                </a:lnTo>
                <a:lnTo>
                  <a:pt x="79" y="1323"/>
                </a:lnTo>
                <a:lnTo>
                  <a:pt x="81" y="1315"/>
                </a:lnTo>
                <a:lnTo>
                  <a:pt x="85" y="1304"/>
                </a:lnTo>
                <a:lnTo>
                  <a:pt x="87" y="1294"/>
                </a:lnTo>
                <a:lnTo>
                  <a:pt x="90" y="1282"/>
                </a:lnTo>
                <a:lnTo>
                  <a:pt x="92" y="1271"/>
                </a:lnTo>
                <a:lnTo>
                  <a:pt x="96" y="1258"/>
                </a:lnTo>
                <a:lnTo>
                  <a:pt x="98" y="1244"/>
                </a:lnTo>
                <a:lnTo>
                  <a:pt x="100" y="1231"/>
                </a:lnTo>
                <a:lnTo>
                  <a:pt x="104" y="1217"/>
                </a:lnTo>
                <a:lnTo>
                  <a:pt x="106" y="1202"/>
                </a:lnTo>
                <a:lnTo>
                  <a:pt x="110" y="1186"/>
                </a:lnTo>
                <a:lnTo>
                  <a:pt x="112" y="1171"/>
                </a:lnTo>
                <a:lnTo>
                  <a:pt x="115" y="1154"/>
                </a:lnTo>
                <a:lnTo>
                  <a:pt x="117" y="1137"/>
                </a:lnTo>
                <a:lnTo>
                  <a:pt x="121" y="1117"/>
                </a:lnTo>
                <a:lnTo>
                  <a:pt x="123" y="1100"/>
                </a:lnTo>
                <a:lnTo>
                  <a:pt x="127" y="1081"/>
                </a:lnTo>
                <a:lnTo>
                  <a:pt x="129" y="1060"/>
                </a:lnTo>
                <a:lnTo>
                  <a:pt x="133" y="1041"/>
                </a:lnTo>
                <a:lnTo>
                  <a:pt x="137" y="1020"/>
                </a:lnTo>
                <a:lnTo>
                  <a:pt x="138" y="997"/>
                </a:lnTo>
                <a:lnTo>
                  <a:pt x="142" y="975"/>
                </a:lnTo>
                <a:lnTo>
                  <a:pt x="148" y="931"/>
                </a:lnTo>
                <a:lnTo>
                  <a:pt x="154" y="889"/>
                </a:lnTo>
                <a:lnTo>
                  <a:pt x="160" y="849"/>
                </a:lnTo>
                <a:lnTo>
                  <a:pt x="165" y="808"/>
                </a:lnTo>
                <a:lnTo>
                  <a:pt x="169" y="770"/>
                </a:lnTo>
                <a:lnTo>
                  <a:pt x="173" y="732"/>
                </a:lnTo>
                <a:lnTo>
                  <a:pt x="175" y="693"/>
                </a:lnTo>
                <a:lnTo>
                  <a:pt x="177" y="657"/>
                </a:lnTo>
                <a:lnTo>
                  <a:pt x="179" y="620"/>
                </a:lnTo>
                <a:lnTo>
                  <a:pt x="181" y="586"/>
                </a:lnTo>
                <a:lnTo>
                  <a:pt x="183" y="551"/>
                </a:lnTo>
                <a:lnTo>
                  <a:pt x="183" y="519"/>
                </a:lnTo>
                <a:lnTo>
                  <a:pt x="183" y="486"/>
                </a:lnTo>
                <a:lnTo>
                  <a:pt x="181" y="453"/>
                </a:lnTo>
                <a:lnTo>
                  <a:pt x="181" y="423"/>
                </a:lnTo>
                <a:lnTo>
                  <a:pt x="179" y="394"/>
                </a:lnTo>
                <a:lnTo>
                  <a:pt x="175" y="363"/>
                </a:lnTo>
                <a:lnTo>
                  <a:pt x="173" y="336"/>
                </a:lnTo>
                <a:lnTo>
                  <a:pt x="171" y="309"/>
                </a:lnTo>
                <a:lnTo>
                  <a:pt x="169" y="286"/>
                </a:lnTo>
                <a:lnTo>
                  <a:pt x="167" y="261"/>
                </a:lnTo>
                <a:lnTo>
                  <a:pt x="165" y="240"/>
                </a:lnTo>
                <a:lnTo>
                  <a:pt x="162" y="219"/>
                </a:lnTo>
                <a:lnTo>
                  <a:pt x="160" y="200"/>
                </a:lnTo>
                <a:lnTo>
                  <a:pt x="158" y="183"/>
                </a:lnTo>
                <a:lnTo>
                  <a:pt x="156" y="166"/>
                </a:lnTo>
                <a:lnTo>
                  <a:pt x="154" y="150"/>
                </a:lnTo>
                <a:lnTo>
                  <a:pt x="152" y="135"/>
                </a:lnTo>
                <a:lnTo>
                  <a:pt x="148" y="121"/>
                </a:lnTo>
                <a:lnTo>
                  <a:pt x="146" y="110"/>
                </a:lnTo>
                <a:lnTo>
                  <a:pt x="144" y="100"/>
                </a:lnTo>
                <a:lnTo>
                  <a:pt x="142" y="91"/>
                </a:lnTo>
                <a:lnTo>
                  <a:pt x="138" y="83"/>
                </a:lnTo>
                <a:lnTo>
                  <a:pt x="135" y="75"/>
                </a:lnTo>
                <a:lnTo>
                  <a:pt x="133" y="70"/>
                </a:lnTo>
                <a:lnTo>
                  <a:pt x="129" y="62"/>
                </a:lnTo>
                <a:lnTo>
                  <a:pt x="127" y="56"/>
                </a:lnTo>
                <a:lnTo>
                  <a:pt x="127" y="50"/>
                </a:lnTo>
                <a:lnTo>
                  <a:pt x="127" y="43"/>
                </a:lnTo>
                <a:lnTo>
                  <a:pt x="127" y="37"/>
                </a:lnTo>
                <a:lnTo>
                  <a:pt x="127" y="33"/>
                </a:lnTo>
                <a:lnTo>
                  <a:pt x="129" y="27"/>
                </a:lnTo>
                <a:lnTo>
                  <a:pt x="131" y="22"/>
                </a:lnTo>
                <a:lnTo>
                  <a:pt x="135" y="18"/>
                </a:lnTo>
                <a:lnTo>
                  <a:pt x="138" y="14"/>
                </a:lnTo>
                <a:lnTo>
                  <a:pt x="142" y="10"/>
                </a:lnTo>
                <a:lnTo>
                  <a:pt x="148" y="6"/>
                </a:lnTo>
                <a:lnTo>
                  <a:pt x="156" y="4"/>
                </a:lnTo>
                <a:lnTo>
                  <a:pt x="160" y="2"/>
                </a:lnTo>
                <a:lnTo>
                  <a:pt x="165" y="0"/>
                </a:lnTo>
                <a:lnTo>
                  <a:pt x="171" y="0"/>
                </a:lnTo>
                <a:lnTo>
                  <a:pt x="179" y="2"/>
                </a:lnTo>
                <a:lnTo>
                  <a:pt x="186" y="4"/>
                </a:lnTo>
                <a:lnTo>
                  <a:pt x="196" y="6"/>
                </a:lnTo>
                <a:lnTo>
                  <a:pt x="206" y="8"/>
                </a:lnTo>
                <a:lnTo>
                  <a:pt x="215" y="14"/>
                </a:lnTo>
                <a:lnTo>
                  <a:pt x="227" y="18"/>
                </a:lnTo>
                <a:lnTo>
                  <a:pt x="238" y="24"/>
                </a:lnTo>
                <a:lnTo>
                  <a:pt x="250" y="31"/>
                </a:lnTo>
                <a:lnTo>
                  <a:pt x="263" y="39"/>
                </a:lnTo>
                <a:lnTo>
                  <a:pt x="277" y="47"/>
                </a:lnTo>
                <a:lnTo>
                  <a:pt x="290" y="56"/>
                </a:lnTo>
                <a:lnTo>
                  <a:pt x="306" y="66"/>
                </a:lnTo>
                <a:lnTo>
                  <a:pt x="321" y="77"/>
                </a:lnTo>
                <a:lnTo>
                  <a:pt x="319" y="127"/>
                </a:lnTo>
                <a:lnTo>
                  <a:pt x="317" y="173"/>
                </a:lnTo>
                <a:lnTo>
                  <a:pt x="315" y="219"/>
                </a:lnTo>
                <a:lnTo>
                  <a:pt x="313" y="263"/>
                </a:lnTo>
                <a:lnTo>
                  <a:pt x="313" y="306"/>
                </a:lnTo>
                <a:lnTo>
                  <a:pt x="311" y="348"/>
                </a:lnTo>
                <a:lnTo>
                  <a:pt x="311" y="386"/>
                </a:lnTo>
                <a:lnTo>
                  <a:pt x="311" y="425"/>
                </a:lnTo>
                <a:lnTo>
                  <a:pt x="309" y="461"/>
                </a:lnTo>
                <a:lnTo>
                  <a:pt x="309" y="496"/>
                </a:lnTo>
                <a:lnTo>
                  <a:pt x="309" y="528"/>
                </a:lnTo>
                <a:lnTo>
                  <a:pt x="309" y="559"/>
                </a:lnTo>
                <a:lnTo>
                  <a:pt x="309" y="590"/>
                </a:lnTo>
                <a:lnTo>
                  <a:pt x="309" y="618"/>
                </a:lnTo>
                <a:lnTo>
                  <a:pt x="309" y="645"/>
                </a:lnTo>
                <a:lnTo>
                  <a:pt x="309" y="672"/>
                </a:lnTo>
                <a:lnTo>
                  <a:pt x="300" y="772"/>
                </a:lnTo>
                <a:lnTo>
                  <a:pt x="294" y="822"/>
                </a:lnTo>
                <a:lnTo>
                  <a:pt x="290" y="872"/>
                </a:lnTo>
                <a:lnTo>
                  <a:pt x="282" y="922"/>
                </a:lnTo>
                <a:lnTo>
                  <a:pt x="277" y="972"/>
                </a:lnTo>
                <a:lnTo>
                  <a:pt x="269" y="1021"/>
                </a:lnTo>
                <a:lnTo>
                  <a:pt x="261" y="1071"/>
                </a:lnTo>
                <a:lnTo>
                  <a:pt x="258" y="1096"/>
                </a:lnTo>
                <a:lnTo>
                  <a:pt x="254" y="1119"/>
                </a:lnTo>
                <a:lnTo>
                  <a:pt x="250" y="1140"/>
                </a:lnTo>
                <a:lnTo>
                  <a:pt x="246" y="1160"/>
                </a:lnTo>
                <a:lnTo>
                  <a:pt x="244" y="1179"/>
                </a:lnTo>
                <a:lnTo>
                  <a:pt x="240" y="1196"/>
                </a:lnTo>
                <a:lnTo>
                  <a:pt x="238" y="1211"/>
                </a:lnTo>
                <a:lnTo>
                  <a:pt x="236" y="1227"/>
                </a:lnTo>
                <a:lnTo>
                  <a:pt x="234" y="1238"/>
                </a:lnTo>
                <a:lnTo>
                  <a:pt x="234" y="1250"/>
                </a:lnTo>
                <a:lnTo>
                  <a:pt x="233" y="1261"/>
                </a:lnTo>
                <a:lnTo>
                  <a:pt x="233" y="1269"/>
                </a:lnTo>
                <a:lnTo>
                  <a:pt x="233" y="1277"/>
                </a:lnTo>
                <a:lnTo>
                  <a:pt x="234" y="1282"/>
                </a:lnTo>
                <a:lnTo>
                  <a:pt x="236" y="1286"/>
                </a:lnTo>
                <a:lnTo>
                  <a:pt x="238" y="1290"/>
                </a:lnTo>
                <a:lnTo>
                  <a:pt x="240" y="1290"/>
                </a:lnTo>
                <a:lnTo>
                  <a:pt x="244" y="1292"/>
                </a:lnTo>
                <a:lnTo>
                  <a:pt x="250" y="1292"/>
                </a:lnTo>
                <a:lnTo>
                  <a:pt x="256" y="1290"/>
                </a:lnTo>
                <a:lnTo>
                  <a:pt x="263" y="1288"/>
                </a:lnTo>
                <a:lnTo>
                  <a:pt x="273" y="1284"/>
                </a:lnTo>
                <a:lnTo>
                  <a:pt x="282" y="1281"/>
                </a:lnTo>
                <a:lnTo>
                  <a:pt x="294" y="1275"/>
                </a:lnTo>
                <a:lnTo>
                  <a:pt x="307" y="1269"/>
                </a:lnTo>
                <a:lnTo>
                  <a:pt x="321" y="1261"/>
                </a:lnTo>
                <a:lnTo>
                  <a:pt x="338" y="1254"/>
                </a:lnTo>
                <a:lnTo>
                  <a:pt x="355" y="1246"/>
                </a:lnTo>
                <a:lnTo>
                  <a:pt x="373" y="1236"/>
                </a:lnTo>
                <a:lnTo>
                  <a:pt x="394" y="1227"/>
                </a:lnTo>
                <a:lnTo>
                  <a:pt x="415" y="1215"/>
                </a:lnTo>
                <a:lnTo>
                  <a:pt x="440" y="1206"/>
                </a:lnTo>
                <a:lnTo>
                  <a:pt x="463" y="1194"/>
                </a:lnTo>
                <a:lnTo>
                  <a:pt x="486" y="1183"/>
                </a:lnTo>
                <a:lnTo>
                  <a:pt x="507" y="1175"/>
                </a:lnTo>
                <a:lnTo>
                  <a:pt x="526" y="1165"/>
                </a:lnTo>
                <a:lnTo>
                  <a:pt x="544" y="1158"/>
                </a:lnTo>
                <a:lnTo>
                  <a:pt x="561" y="1152"/>
                </a:lnTo>
                <a:lnTo>
                  <a:pt x="576" y="1146"/>
                </a:lnTo>
                <a:lnTo>
                  <a:pt x="590" y="1140"/>
                </a:lnTo>
                <a:lnTo>
                  <a:pt x="603" y="1137"/>
                </a:lnTo>
                <a:lnTo>
                  <a:pt x="615" y="1133"/>
                </a:lnTo>
                <a:lnTo>
                  <a:pt x="624" y="1131"/>
                </a:lnTo>
                <a:lnTo>
                  <a:pt x="632" y="1129"/>
                </a:lnTo>
                <a:lnTo>
                  <a:pt x="640" y="1129"/>
                </a:lnTo>
                <a:lnTo>
                  <a:pt x="645" y="1129"/>
                </a:lnTo>
                <a:lnTo>
                  <a:pt x="649" y="1131"/>
                </a:lnTo>
                <a:lnTo>
                  <a:pt x="653" y="1133"/>
                </a:lnTo>
                <a:lnTo>
                  <a:pt x="655" y="1135"/>
                </a:lnTo>
                <a:lnTo>
                  <a:pt x="655" y="1137"/>
                </a:lnTo>
                <a:lnTo>
                  <a:pt x="653" y="1139"/>
                </a:lnTo>
                <a:lnTo>
                  <a:pt x="653" y="1142"/>
                </a:lnTo>
                <a:lnTo>
                  <a:pt x="651" y="1144"/>
                </a:lnTo>
                <a:lnTo>
                  <a:pt x="649" y="1148"/>
                </a:lnTo>
                <a:lnTo>
                  <a:pt x="645" y="1152"/>
                </a:lnTo>
                <a:lnTo>
                  <a:pt x="643" y="1156"/>
                </a:lnTo>
                <a:lnTo>
                  <a:pt x="640" y="1162"/>
                </a:lnTo>
                <a:lnTo>
                  <a:pt x="636" y="1165"/>
                </a:lnTo>
                <a:lnTo>
                  <a:pt x="630" y="1171"/>
                </a:lnTo>
                <a:lnTo>
                  <a:pt x="626" y="1177"/>
                </a:lnTo>
                <a:lnTo>
                  <a:pt x="620" y="1183"/>
                </a:lnTo>
                <a:lnTo>
                  <a:pt x="615" y="1188"/>
                </a:lnTo>
                <a:lnTo>
                  <a:pt x="607" y="1196"/>
                </a:lnTo>
                <a:lnTo>
                  <a:pt x="601" y="1202"/>
                </a:lnTo>
                <a:lnTo>
                  <a:pt x="593" y="1210"/>
                </a:lnTo>
                <a:lnTo>
                  <a:pt x="576" y="1225"/>
                </a:lnTo>
                <a:lnTo>
                  <a:pt x="559" y="1242"/>
                </a:lnTo>
                <a:lnTo>
                  <a:pt x="538" y="1261"/>
                </a:lnTo>
                <a:lnTo>
                  <a:pt x="517" y="1281"/>
                </a:lnTo>
                <a:lnTo>
                  <a:pt x="492" y="1304"/>
                </a:lnTo>
                <a:lnTo>
                  <a:pt x="467" y="1327"/>
                </a:lnTo>
                <a:lnTo>
                  <a:pt x="440" y="135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33"/>
          <p:cNvSpPr/>
          <p:nvPr/>
        </p:nvSpPr>
        <p:spPr>
          <a:xfrm>
            <a:off x="6872400" y="3600360"/>
            <a:ext cx="417240" cy="412920"/>
          </a:xfrm>
          <a:custGeom>
            <a:avLst/>
            <a:gdLst/>
            <a:ahLst/>
            <a:rect l="l" t="t" r="r" b="b"/>
            <a:pathLst>
              <a:path w="526" h="520">
                <a:moveTo>
                  <a:pt x="523" y="182"/>
                </a:moveTo>
                <a:lnTo>
                  <a:pt x="519" y="184"/>
                </a:lnTo>
                <a:lnTo>
                  <a:pt x="517" y="188"/>
                </a:lnTo>
                <a:lnTo>
                  <a:pt x="513" y="192"/>
                </a:lnTo>
                <a:lnTo>
                  <a:pt x="507" y="195"/>
                </a:lnTo>
                <a:lnTo>
                  <a:pt x="503" y="201"/>
                </a:lnTo>
                <a:lnTo>
                  <a:pt x="498" y="209"/>
                </a:lnTo>
                <a:lnTo>
                  <a:pt x="490" y="215"/>
                </a:lnTo>
                <a:lnTo>
                  <a:pt x="482" y="222"/>
                </a:lnTo>
                <a:lnTo>
                  <a:pt x="475" y="232"/>
                </a:lnTo>
                <a:lnTo>
                  <a:pt x="465" y="240"/>
                </a:lnTo>
                <a:lnTo>
                  <a:pt x="455" y="249"/>
                </a:lnTo>
                <a:lnTo>
                  <a:pt x="446" y="259"/>
                </a:lnTo>
                <a:lnTo>
                  <a:pt x="434" y="268"/>
                </a:lnTo>
                <a:lnTo>
                  <a:pt x="421" y="280"/>
                </a:lnTo>
                <a:lnTo>
                  <a:pt x="407" y="291"/>
                </a:lnTo>
                <a:lnTo>
                  <a:pt x="392" y="303"/>
                </a:lnTo>
                <a:lnTo>
                  <a:pt x="377" y="316"/>
                </a:lnTo>
                <a:lnTo>
                  <a:pt x="359" y="330"/>
                </a:lnTo>
                <a:lnTo>
                  <a:pt x="342" y="343"/>
                </a:lnTo>
                <a:lnTo>
                  <a:pt x="325" y="357"/>
                </a:lnTo>
                <a:lnTo>
                  <a:pt x="306" y="370"/>
                </a:lnTo>
                <a:lnTo>
                  <a:pt x="286" y="383"/>
                </a:lnTo>
                <a:lnTo>
                  <a:pt x="267" y="397"/>
                </a:lnTo>
                <a:lnTo>
                  <a:pt x="246" y="410"/>
                </a:lnTo>
                <a:lnTo>
                  <a:pt x="225" y="426"/>
                </a:lnTo>
                <a:lnTo>
                  <a:pt x="202" y="439"/>
                </a:lnTo>
                <a:lnTo>
                  <a:pt x="179" y="453"/>
                </a:lnTo>
                <a:lnTo>
                  <a:pt x="154" y="466"/>
                </a:lnTo>
                <a:lnTo>
                  <a:pt x="129" y="479"/>
                </a:lnTo>
                <a:lnTo>
                  <a:pt x="102" y="493"/>
                </a:lnTo>
                <a:lnTo>
                  <a:pt x="75" y="506"/>
                </a:lnTo>
                <a:lnTo>
                  <a:pt x="48" y="520"/>
                </a:lnTo>
                <a:lnTo>
                  <a:pt x="23" y="502"/>
                </a:lnTo>
                <a:lnTo>
                  <a:pt x="0" y="483"/>
                </a:lnTo>
                <a:lnTo>
                  <a:pt x="29" y="458"/>
                </a:lnTo>
                <a:lnTo>
                  <a:pt x="54" y="433"/>
                </a:lnTo>
                <a:lnTo>
                  <a:pt x="81" y="410"/>
                </a:lnTo>
                <a:lnTo>
                  <a:pt x="104" y="387"/>
                </a:lnTo>
                <a:lnTo>
                  <a:pt x="127" y="366"/>
                </a:lnTo>
                <a:lnTo>
                  <a:pt x="148" y="345"/>
                </a:lnTo>
                <a:lnTo>
                  <a:pt x="169" y="324"/>
                </a:lnTo>
                <a:lnTo>
                  <a:pt x="189" y="305"/>
                </a:lnTo>
                <a:lnTo>
                  <a:pt x="206" y="286"/>
                </a:lnTo>
                <a:lnTo>
                  <a:pt x="223" y="268"/>
                </a:lnTo>
                <a:lnTo>
                  <a:pt x="238" y="251"/>
                </a:lnTo>
                <a:lnTo>
                  <a:pt x="252" y="236"/>
                </a:lnTo>
                <a:lnTo>
                  <a:pt x="265" y="220"/>
                </a:lnTo>
                <a:lnTo>
                  <a:pt x="277" y="205"/>
                </a:lnTo>
                <a:lnTo>
                  <a:pt x="288" y="194"/>
                </a:lnTo>
                <a:lnTo>
                  <a:pt x="298" y="182"/>
                </a:lnTo>
                <a:lnTo>
                  <a:pt x="304" y="170"/>
                </a:lnTo>
                <a:lnTo>
                  <a:pt x="310" y="159"/>
                </a:lnTo>
                <a:lnTo>
                  <a:pt x="313" y="149"/>
                </a:lnTo>
                <a:lnTo>
                  <a:pt x="319" y="140"/>
                </a:lnTo>
                <a:lnTo>
                  <a:pt x="323" y="130"/>
                </a:lnTo>
                <a:lnTo>
                  <a:pt x="327" y="121"/>
                </a:lnTo>
                <a:lnTo>
                  <a:pt x="329" y="113"/>
                </a:lnTo>
                <a:lnTo>
                  <a:pt x="333" y="105"/>
                </a:lnTo>
                <a:lnTo>
                  <a:pt x="334" y="98"/>
                </a:lnTo>
                <a:lnTo>
                  <a:pt x="336" y="90"/>
                </a:lnTo>
                <a:lnTo>
                  <a:pt x="336" y="82"/>
                </a:lnTo>
                <a:lnTo>
                  <a:pt x="336" y="75"/>
                </a:lnTo>
                <a:lnTo>
                  <a:pt x="336" y="69"/>
                </a:lnTo>
                <a:lnTo>
                  <a:pt x="336" y="61"/>
                </a:lnTo>
                <a:lnTo>
                  <a:pt x="334" y="55"/>
                </a:lnTo>
                <a:lnTo>
                  <a:pt x="333" y="48"/>
                </a:lnTo>
                <a:lnTo>
                  <a:pt x="329" y="44"/>
                </a:lnTo>
                <a:lnTo>
                  <a:pt x="325" y="38"/>
                </a:lnTo>
                <a:lnTo>
                  <a:pt x="321" y="34"/>
                </a:lnTo>
                <a:lnTo>
                  <a:pt x="319" y="30"/>
                </a:lnTo>
                <a:lnTo>
                  <a:pt x="317" y="28"/>
                </a:lnTo>
                <a:lnTo>
                  <a:pt x="315" y="25"/>
                </a:lnTo>
                <a:lnTo>
                  <a:pt x="315" y="21"/>
                </a:lnTo>
                <a:lnTo>
                  <a:pt x="315" y="19"/>
                </a:lnTo>
                <a:lnTo>
                  <a:pt x="315" y="15"/>
                </a:lnTo>
                <a:lnTo>
                  <a:pt x="315" y="13"/>
                </a:lnTo>
                <a:lnTo>
                  <a:pt x="317" y="11"/>
                </a:lnTo>
                <a:lnTo>
                  <a:pt x="319" y="7"/>
                </a:lnTo>
                <a:lnTo>
                  <a:pt x="321" y="5"/>
                </a:lnTo>
                <a:lnTo>
                  <a:pt x="325" y="4"/>
                </a:lnTo>
                <a:lnTo>
                  <a:pt x="329" y="2"/>
                </a:lnTo>
                <a:lnTo>
                  <a:pt x="333" y="0"/>
                </a:lnTo>
                <a:lnTo>
                  <a:pt x="342" y="0"/>
                </a:lnTo>
                <a:lnTo>
                  <a:pt x="352" y="2"/>
                </a:lnTo>
                <a:lnTo>
                  <a:pt x="363" y="4"/>
                </a:lnTo>
                <a:lnTo>
                  <a:pt x="375" y="7"/>
                </a:lnTo>
                <a:lnTo>
                  <a:pt x="388" y="9"/>
                </a:lnTo>
                <a:lnTo>
                  <a:pt x="402" y="15"/>
                </a:lnTo>
                <a:lnTo>
                  <a:pt x="429" y="23"/>
                </a:lnTo>
                <a:lnTo>
                  <a:pt x="440" y="32"/>
                </a:lnTo>
                <a:lnTo>
                  <a:pt x="454" y="42"/>
                </a:lnTo>
                <a:lnTo>
                  <a:pt x="467" y="50"/>
                </a:lnTo>
                <a:lnTo>
                  <a:pt x="478" y="59"/>
                </a:lnTo>
                <a:lnTo>
                  <a:pt x="488" y="69"/>
                </a:lnTo>
                <a:lnTo>
                  <a:pt x="498" y="78"/>
                </a:lnTo>
                <a:lnTo>
                  <a:pt x="502" y="82"/>
                </a:lnTo>
                <a:lnTo>
                  <a:pt x="505" y="86"/>
                </a:lnTo>
                <a:lnTo>
                  <a:pt x="507" y="92"/>
                </a:lnTo>
                <a:lnTo>
                  <a:pt x="511" y="96"/>
                </a:lnTo>
                <a:lnTo>
                  <a:pt x="515" y="109"/>
                </a:lnTo>
                <a:lnTo>
                  <a:pt x="519" y="121"/>
                </a:lnTo>
                <a:lnTo>
                  <a:pt x="523" y="132"/>
                </a:lnTo>
                <a:lnTo>
                  <a:pt x="525" y="144"/>
                </a:lnTo>
                <a:lnTo>
                  <a:pt x="526" y="153"/>
                </a:lnTo>
                <a:lnTo>
                  <a:pt x="526" y="163"/>
                </a:lnTo>
                <a:lnTo>
                  <a:pt x="526" y="167"/>
                </a:lnTo>
                <a:lnTo>
                  <a:pt x="525" y="172"/>
                </a:lnTo>
                <a:lnTo>
                  <a:pt x="525" y="176"/>
                </a:lnTo>
                <a:lnTo>
                  <a:pt x="523" y="18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34"/>
          <p:cNvSpPr/>
          <p:nvPr/>
        </p:nvSpPr>
        <p:spPr>
          <a:xfrm>
            <a:off x="6673680" y="3782880"/>
            <a:ext cx="1121040" cy="722520"/>
          </a:xfrm>
          <a:custGeom>
            <a:avLst/>
            <a:gdLst/>
            <a:ahLst/>
            <a:rect l="l" t="t" r="r" b="b"/>
            <a:pathLst>
              <a:path w="1413" h="910">
                <a:moveTo>
                  <a:pt x="1069" y="702"/>
                </a:moveTo>
                <a:lnTo>
                  <a:pt x="1088" y="710"/>
                </a:lnTo>
                <a:lnTo>
                  <a:pt x="1110" y="718"/>
                </a:lnTo>
                <a:lnTo>
                  <a:pt x="1129" y="725"/>
                </a:lnTo>
                <a:lnTo>
                  <a:pt x="1148" y="733"/>
                </a:lnTo>
                <a:lnTo>
                  <a:pt x="1165" y="741"/>
                </a:lnTo>
                <a:lnTo>
                  <a:pt x="1182" y="746"/>
                </a:lnTo>
                <a:lnTo>
                  <a:pt x="1200" y="754"/>
                </a:lnTo>
                <a:lnTo>
                  <a:pt x="1217" y="760"/>
                </a:lnTo>
                <a:lnTo>
                  <a:pt x="1232" y="766"/>
                </a:lnTo>
                <a:lnTo>
                  <a:pt x="1248" y="771"/>
                </a:lnTo>
                <a:lnTo>
                  <a:pt x="1261" y="777"/>
                </a:lnTo>
                <a:lnTo>
                  <a:pt x="1277" y="783"/>
                </a:lnTo>
                <a:lnTo>
                  <a:pt x="1288" y="789"/>
                </a:lnTo>
                <a:lnTo>
                  <a:pt x="1301" y="794"/>
                </a:lnTo>
                <a:lnTo>
                  <a:pt x="1313" y="798"/>
                </a:lnTo>
                <a:lnTo>
                  <a:pt x="1325" y="802"/>
                </a:lnTo>
                <a:lnTo>
                  <a:pt x="1334" y="808"/>
                </a:lnTo>
                <a:lnTo>
                  <a:pt x="1346" y="812"/>
                </a:lnTo>
                <a:lnTo>
                  <a:pt x="1353" y="816"/>
                </a:lnTo>
                <a:lnTo>
                  <a:pt x="1363" y="819"/>
                </a:lnTo>
                <a:lnTo>
                  <a:pt x="1371" y="823"/>
                </a:lnTo>
                <a:lnTo>
                  <a:pt x="1378" y="827"/>
                </a:lnTo>
                <a:lnTo>
                  <a:pt x="1384" y="829"/>
                </a:lnTo>
                <a:lnTo>
                  <a:pt x="1390" y="833"/>
                </a:lnTo>
                <a:lnTo>
                  <a:pt x="1396" y="835"/>
                </a:lnTo>
                <a:lnTo>
                  <a:pt x="1399" y="837"/>
                </a:lnTo>
                <a:lnTo>
                  <a:pt x="1403" y="841"/>
                </a:lnTo>
                <a:lnTo>
                  <a:pt x="1407" y="842"/>
                </a:lnTo>
                <a:lnTo>
                  <a:pt x="1409" y="844"/>
                </a:lnTo>
                <a:lnTo>
                  <a:pt x="1411" y="846"/>
                </a:lnTo>
                <a:lnTo>
                  <a:pt x="1413" y="848"/>
                </a:lnTo>
                <a:lnTo>
                  <a:pt x="1411" y="850"/>
                </a:lnTo>
                <a:lnTo>
                  <a:pt x="1409" y="852"/>
                </a:lnTo>
                <a:lnTo>
                  <a:pt x="1407" y="854"/>
                </a:lnTo>
                <a:lnTo>
                  <a:pt x="1403" y="858"/>
                </a:lnTo>
                <a:lnTo>
                  <a:pt x="1397" y="860"/>
                </a:lnTo>
                <a:lnTo>
                  <a:pt x="1392" y="862"/>
                </a:lnTo>
                <a:lnTo>
                  <a:pt x="1384" y="864"/>
                </a:lnTo>
                <a:lnTo>
                  <a:pt x="1376" y="865"/>
                </a:lnTo>
                <a:lnTo>
                  <a:pt x="1367" y="867"/>
                </a:lnTo>
                <a:lnTo>
                  <a:pt x="1355" y="871"/>
                </a:lnTo>
                <a:lnTo>
                  <a:pt x="1344" y="873"/>
                </a:lnTo>
                <a:lnTo>
                  <a:pt x="1332" y="875"/>
                </a:lnTo>
                <a:lnTo>
                  <a:pt x="1319" y="877"/>
                </a:lnTo>
                <a:lnTo>
                  <a:pt x="1303" y="879"/>
                </a:lnTo>
                <a:lnTo>
                  <a:pt x="1286" y="881"/>
                </a:lnTo>
                <a:lnTo>
                  <a:pt x="1271" y="885"/>
                </a:lnTo>
                <a:lnTo>
                  <a:pt x="1230" y="889"/>
                </a:lnTo>
                <a:lnTo>
                  <a:pt x="1192" y="894"/>
                </a:lnTo>
                <a:lnTo>
                  <a:pt x="1154" y="898"/>
                </a:lnTo>
                <a:lnTo>
                  <a:pt x="1119" y="902"/>
                </a:lnTo>
                <a:lnTo>
                  <a:pt x="1083" y="904"/>
                </a:lnTo>
                <a:lnTo>
                  <a:pt x="1050" y="906"/>
                </a:lnTo>
                <a:lnTo>
                  <a:pt x="1017" y="908"/>
                </a:lnTo>
                <a:lnTo>
                  <a:pt x="985" y="910"/>
                </a:lnTo>
                <a:lnTo>
                  <a:pt x="967" y="908"/>
                </a:lnTo>
                <a:lnTo>
                  <a:pt x="950" y="908"/>
                </a:lnTo>
                <a:lnTo>
                  <a:pt x="933" y="908"/>
                </a:lnTo>
                <a:lnTo>
                  <a:pt x="918" y="906"/>
                </a:lnTo>
                <a:lnTo>
                  <a:pt x="902" y="906"/>
                </a:lnTo>
                <a:lnTo>
                  <a:pt x="889" y="904"/>
                </a:lnTo>
                <a:lnTo>
                  <a:pt x="873" y="900"/>
                </a:lnTo>
                <a:lnTo>
                  <a:pt x="860" y="898"/>
                </a:lnTo>
                <a:lnTo>
                  <a:pt x="846" y="894"/>
                </a:lnTo>
                <a:lnTo>
                  <a:pt x="835" y="892"/>
                </a:lnTo>
                <a:lnTo>
                  <a:pt x="822" y="889"/>
                </a:lnTo>
                <a:lnTo>
                  <a:pt x="812" y="883"/>
                </a:lnTo>
                <a:lnTo>
                  <a:pt x="800" y="879"/>
                </a:lnTo>
                <a:lnTo>
                  <a:pt x="789" y="873"/>
                </a:lnTo>
                <a:lnTo>
                  <a:pt x="779" y="867"/>
                </a:lnTo>
                <a:lnTo>
                  <a:pt x="772" y="860"/>
                </a:lnTo>
                <a:lnTo>
                  <a:pt x="764" y="856"/>
                </a:lnTo>
                <a:lnTo>
                  <a:pt x="758" y="850"/>
                </a:lnTo>
                <a:lnTo>
                  <a:pt x="749" y="842"/>
                </a:lnTo>
                <a:lnTo>
                  <a:pt x="739" y="835"/>
                </a:lnTo>
                <a:lnTo>
                  <a:pt x="729" y="825"/>
                </a:lnTo>
                <a:lnTo>
                  <a:pt x="718" y="814"/>
                </a:lnTo>
                <a:lnTo>
                  <a:pt x="704" y="802"/>
                </a:lnTo>
                <a:lnTo>
                  <a:pt x="689" y="787"/>
                </a:lnTo>
                <a:lnTo>
                  <a:pt x="674" y="771"/>
                </a:lnTo>
                <a:lnTo>
                  <a:pt x="658" y="754"/>
                </a:lnTo>
                <a:lnTo>
                  <a:pt x="641" y="737"/>
                </a:lnTo>
                <a:lnTo>
                  <a:pt x="622" y="716"/>
                </a:lnTo>
                <a:lnTo>
                  <a:pt x="603" y="695"/>
                </a:lnTo>
                <a:lnTo>
                  <a:pt x="582" y="672"/>
                </a:lnTo>
                <a:lnTo>
                  <a:pt x="559" y="649"/>
                </a:lnTo>
                <a:lnTo>
                  <a:pt x="535" y="622"/>
                </a:lnTo>
                <a:lnTo>
                  <a:pt x="511" y="595"/>
                </a:lnTo>
                <a:lnTo>
                  <a:pt x="486" y="566"/>
                </a:lnTo>
                <a:lnTo>
                  <a:pt x="457" y="535"/>
                </a:lnTo>
                <a:lnTo>
                  <a:pt x="430" y="505"/>
                </a:lnTo>
                <a:lnTo>
                  <a:pt x="401" y="470"/>
                </a:lnTo>
                <a:lnTo>
                  <a:pt x="370" y="436"/>
                </a:lnTo>
                <a:lnTo>
                  <a:pt x="338" y="399"/>
                </a:lnTo>
                <a:lnTo>
                  <a:pt x="305" y="361"/>
                </a:lnTo>
                <a:lnTo>
                  <a:pt x="271" y="320"/>
                </a:lnTo>
                <a:lnTo>
                  <a:pt x="236" y="280"/>
                </a:lnTo>
                <a:lnTo>
                  <a:pt x="200" y="238"/>
                </a:lnTo>
                <a:lnTo>
                  <a:pt x="161" y="192"/>
                </a:lnTo>
                <a:lnTo>
                  <a:pt x="123" y="146"/>
                </a:lnTo>
                <a:lnTo>
                  <a:pt x="82" y="100"/>
                </a:lnTo>
                <a:lnTo>
                  <a:pt x="42" y="50"/>
                </a:lnTo>
                <a:lnTo>
                  <a:pt x="0" y="0"/>
                </a:lnTo>
                <a:lnTo>
                  <a:pt x="11" y="0"/>
                </a:lnTo>
                <a:lnTo>
                  <a:pt x="23" y="0"/>
                </a:lnTo>
                <a:lnTo>
                  <a:pt x="34" y="2"/>
                </a:lnTo>
                <a:lnTo>
                  <a:pt x="46" y="6"/>
                </a:lnTo>
                <a:lnTo>
                  <a:pt x="57" y="10"/>
                </a:lnTo>
                <a:lnTo>
                  <a:pt x="69" y="13"/>
                </a:lnTo>
                <a:lnTo>
                  <a:pt x="80" y="19"/>
                </a:lnTo>
                <a:lnTo>
                  <a:pt x="92" y="27"/>
                </a:lnTo>
                <a:lnTo>
                  <a:pt x="105" y="33"/>
                </a:lnTo>
                <a:lnTo>
                  <a:pt x="117" y="42"/>
                </a:lnTo>
                <a:lnTo>
                  <a:pt x="130" y="50"/>
                </a:lnTo>
                <a:lnTo>
                  <a:pt x="144" y="59"/>
                </a:lnTo>
                <a:lnTo>
                  <a:pt x="157" y="71"/>
                </a:lnTo>
                <a:lnTo>
                  <a:pt x="173" y="82"/>
                </a:lnTo>
                <a:lnTo>
                  <a:pt x="186" y="96"/>
                </a:lnTo>
                <a:lnTo>
                  <a:pt x="201" y="109"/>
                </a:lnTo>
                <a:lnTo>
                  <a:pt x="215" y="125"/>
                </a:lnTo>
                <a:lnTo>
                  <a:pt x="230" y="140"/>
                </a:lnTo>
                <a:lnTo>
                  <a:pt x="246" y="157"/>
                </a:lnTo>
                <a:lnTo>
                  <a:pt x="261" y="175"/>
                </a:lnTo>
                <a:lnTo>
                  <a:pt x="278" y="192"/>
                </a:lnTo>
                <a:lnTo>
                  <a:pt x="297" y="209"/>
                </a:lnTo>
                <a:lnTo>
                  <a:pt x="317" y="226"/>
                </a:lnTo>
                <a:lnTo>
                  <a:pt x="336" y="244"/>
                </a:lnTo>
                <a:lnTo>
                  <a:pt x="357" y="263"/>
                </a:lnTo>
                <a:lnTo>
                  <a:pt x="378" y="282"/>
                </a:lnTo>
                <a:lnTo>
                  <a:pt x="399" y="299"/>
                </a:lnTo>
                <a:lnTo>
                  <a:pt x="422" y="319"/>
                </a:lnTo>
                <a:lnTo>
                  <a:pt x="445" y="340"/>
                </a:lnTo>
                <a:lnTo>
                  <a:pt x="470" y="359"/>
                </a:lnTo>
                <a:lnTo>
                  <a:pt x="495" y="378"/>
                </a:lnTo>
                <a:lnTo>
                  <a:pt x="522" y="399"/>
                </a:lnTo>
                <a:lnTo>
                  <a:pt x="547" y="420"/>
                </a:lnTo>
                <a:lnTo>
                  <a:pt x="574" y="439"/>
                </a:lnTo>
                <a:lnTo>
                  <a:pt x="601" y="461"/>
                </a:lnTo>
                <a:lnTo>
                  <a:pt x="630" y="482"/>
                </a:lnTo>
                <a:lnTo>
                  <a:pt x="660" y="501"/>
                </a:lnTo>
                <a:lnTo>
                  <a:pt x="693" y="520"/>
                </a:lnTo>
                <a:lnTo>
                  <a:pt x="726" y="541"/>
                </a:lnTo>
                <a:lnTo>
                  <a:pt x="760" y="560"/>
                </a:lnTo>
                <a:lnTo>
                  <a:pt x="795" y="580"/>
                </a:lnTo>
                <a:lnTo>
                  <a:pt x="831" y="597"/>
                </a:lnTo>
                <a:lnTo>
                  <a:pt x="868" y="616"/>
                </a:lnTo>
                <a:lnTo>
                  <a:pt x="906" y="633"/>
                </a:lnTo>
                <a:lnTo>
                  <a:pt x="944" y="652"/>
                </a:lnTo>
                <a:lnTo>
                  <a:pt x="985" y="670"/>
                </a:lnTo>
                <a:lnTo>
                  <a:pt x="1027" y="685"/>
                </a:lnTo>
                <a:lnTo>
                  <a:pt x="1069" y="70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5654520" y="3452760"/>
            <a:ext cx="252720" cy="295200"/>
          </a:xfrm>
          <a:custGeom>
            <a:avLst/>
            <a:gdLst/>
            <a:ahLst/>
            <a:rect l="l" t="t" r="r" b="b"/>
            <a:pathLst>
              <a:path w="318" h="372">
                <a:moveTo>
                  <a:pt x="287" y="332"/>
                </a:moveTo>
                <a:lnTo>
                  <a:pt x="284" y="337"/>
                </a:lnTo>
                <a:lnTo>
                  <a:pt x="280" y="343"/>
                </a:lnTo>
                <a:lnTo>
                  <a:pt x="274" y="349"/>
                </a:lnTo>
                <a:lnTo>
                  <a:pt x="270" y="353"/>
                </a:lnTo>
                <a:lnTo>
                  <a:pt x="266" y="358"/>
                </a:lnTo>
                <a:lnTo>
                  <a:pt x="263" y="360"/>
                </a:lnTo>
                <a:lnTo>
                  <a:pt x="259" y="364"/>
                </a:lnTo>
                <a:lnTo>
                  <a:pt x="255" y="366"/>
                </a:lnTo>
                <a:lnTo>
                  <a:pt x="251" y="368"/>
                </a:lnTo>
                <a:lnTo>
                  <a:pt x="247" y="370"/>
                </a:lnTo>
                <a:lnTo>
                  <a:pt x="243" y="372"/>
                </a:lnTo>
                <a:lnTo>
                  <a:pt x="239" y="372"/>
                </a:lnTo>
                <a:lnTo>
                  <a:pt x="238" y="372"/>
                </a:lnTo>
                <a:lnTo>
                  <a:pt x="234" y="370"/>
                </a:lnTo>
                <a:lnTo>
                  <a:pt x="232" y="370"/>
                </a:lnTo>
                <a:lnTo>
                  <a:pt x="230" y="368"/>
                </a:lnTo>
                <a:lnTo>
                  <a:pt x="224" y="366"/>
                </a:lnTo>
                <a:lnTo>
                  <a:pt x="218" y="364"/>
                </a:lnTo>
                <a:lnTo>
                  <a:pt x="213" y="360"/>
                </a:lnTo>
                <a:lnTo>
                  <a:pt x="207" y="356"/>
                </a:lnTo>
                <a:lnTo>
                  <a:pt x="199" y="349"/>
                </a:lnTo>
                <a:lnTo>
                  <a:pt x="192" y="343"/>
                </a:lnTo>
                <a:lnTo>
                  <a:pt x="184" y="333"/>
                </a:lnTo>
                <a:lnTo>
                  <a:pt x="174" y="324"/>
                </a:lnTo>
                <a:lnTo>
                  <a:pt x="165" y="312"/>
                </a:lnTo>
                <a:lnTo>
                  <a:pt x="155" y="299"/>
                </a:lnTo>
                <a:lnTo>
                  <a:pt x="145" y="285"/>
                </a:lnTo>
                <a:lnTo>
                  <a:pt x="134" y="270"/>
                </a:lnTo>
                <a:lnTo>
                  <a:pt x="122" y="253"/>
                </a:lnTo>
                <a:lnTo>
                  <a:pt x="111" y="236"/>
                </a:lnTo>
                <a:lnTo>
                  <a:pt x="99" y="216"/>
                </a:lnTo>
                <a:lnTo>
                  <a:pt x="86" y="197"/>
                </a:lnTo>
                <a:lnTo>
                  <a:pt x="72" y="176"/>
                </a:lnTo>
                <a:lnTo>
                  <a:pt x="61" y="157"/>
                </a:lnTo>
                <a:lnTo>
                  <a:pt x="51" y="140"/>
                </a:lnTo>
                <a:lnTo>
                  <a:pt x="42" y="122"/>
                </a:lnTo>
                <a:lnTo>
                  <a:pt x="34" y="105"/>
                </a:lnTo>
                <a:lnTo>
                  <a:pt x="26" y="90"/>
                </a:lnTo>
                <a:lnTo>
                  <a:pt x="19" y="76"/>
                </a:lnTo>
                <a:lnTo>
                  <a:pt x="13" y="63"/>
                </a:lnTo>
                <a:lnTo>
                  <a:pt x="9" y="51"/>
                </a:lnTo>
                <a:lnTo>
                  <a:pt x="5" y="40"/>
                </a:lnTo>
                <a:lnTo>
                  <a:pt x="3" y="32"/>
                </a:lnTo>
                <a:lnTo>
                  <a:pt x="1" y="23"/>
                </a:lnTo>
                <a:lnTo>
                  <a:pt x="0" y="17"/>
                </a:lnTo>
                <a:lnTo>
                  <a:pt x="1" y="11"/>
                </a:lnTo>
                <a:lnTo>
                  <a:pt x="1" y="7"/>
                </a:lnTo>
                <a:lnTo>
                  <a:pt x="3" y="3"/>
                </a:lnTo>
                <a:lnTo>
                  <a:pt x="5" y="1"/>
                </a:lnTo>
                <a:lnTo>
                  <a:pt x="9" y="0"/>
                </a:lnTo>
                <a:lnTo>
                  <a:pt x="15" y="0"/>
                </a:lnTo>
                <a:lnTo>
                  <a:pt x="21" y="0"/>
                </a:lnTo>
                <a:lnTo>
                  <a:pt x="28" y="0"/>
                </a:lnTo>
                <a:lnTo>
                  <a:pt x="36" y="0"/>
                </a:lnTo>
                <a:lnTo>
                  <a:pt x="44" y="1"/>
                </a:lnTo>
                <a:lnTo>
                  <a:pt x="53" y="3"/>
                </a:lnTo>
                <a:lnTo>
                  <a:pt x="65" y="5"/>
                </a:lnTo>
                <a:lnTo>
                  <a:pt x="74" y="9"/>
                </a:lnTo>
                <a:lnTo>
                  <a:pt x="88" y="13"/>
                </a:lnTo>
                <a:lnTo>
                  <a:pt x="99" y="17"/>
                </a:lnTo>
                <a:lnTo>
                  <a:pt x="113" y="21"/>
                </a:lnTo>
                <a:lnTo>
                  <a:pt x="126" y="26"/>
                </a:lnTo>
                <a:lnTo>
                  <a:pt x="142" y="34"/>
                </a:lnTo>
                <a:lnTo>
                  <a:pt x="157" y="40"/>
                </a:lnTo>
                <a:lnTo>
                  <a:pt x="172" y="47"/>
                </a:lnTo>
                <a:lnTo>
                  <a:pt x="188" y="53"/>
                </a:lnTo>
                <a:lnTo>
                  <a:pt x="201" y="61"/>
                </a:lnTo>
                <a:lnTo>
                  <a:pt x="215" y="67"/>
                </a:lnTo>
                <a:lnTo>
                  <a:pt x="228" y="74"/>
                </a:lnTo>
                <a:lnTo>
                  <a:pt x="239" y="82"/>
                </a:lnTo>
                <a:lnTo>
                  <a:pt x="251" y="90"/>
                </a:lnTo>
                <a:lnTo>
                  <a:pt x="261" y="97"/>
                </a:lnTo>
                <a:lnTo>
                  <a:pt x="270" y="105"/>
                </a:lnTo>
                <a:lnTo>
                  <a:pt x="280" y="115"/>
                </a:lnTo>
                <a:lnTo>
                  <a:pt x="287" y="122"/>
                </a:lnTo>
                <a:lnTo>
                  <a:pt x="293" y="132"/>
                </a:lnTo>
                <a:lnTo>
                  <a:pt x="301" y="142"/>
                </a:lnTo>
                <a:lnTo>
                  <a:pt x="305" y="151"/>
                </a:lnTo>
                <a:lnTo>
                  <a:pt x="309" y="163"/>
                </a:lnTo>
                <a:lnTo>
                  <a:pt x="312" y="174"/>
                </a:lnTo>
                <a:lnTo>
                  <a:pt x="314" y="195"/>
                </a:lnTo>
                <a:lnTo>
                  <a:pt x="318" y="218"/>
                </a:lnTo>
                <a:lnTo>
                  <a:pt x="318" y="230"/>
                </a:lnTo>
                <a:lnTo>
                  <a:pt x="318" y="239"/>
                </a:lnTo>
                <a:lnTo>
                  <a:pt x="318" y="251"/>
                </a:lnTo>
                <a:lnTo>
                  <a:pt x="316" y="261"/>
                </a:lnTo>
                <a:lnTo>
                  <a:pt x="316" y="270"/>
                </a:lnTo>
                <a:lnTo>
                  <a:pt x="314" y="282"/>
                </a:lnTo>
                <a:lnTo>
                  <a:pt x="311" y="289"/>
                </a:lnTo>
                <a:lnTo>
                  <a:pt x="309" y="299"/>
                </a:lnTo>
                <a:lnTo>
                  <a:pt x="305" y="308"/>
                </a:lnTo>
                <a:lnTo>
                  <a:pt x="299" y="316"/>
                </a:lnTo>
                <a:lnTo>
                  <a:pt x="293" y="324"/>
                </a:lnTo>
                <a:lnTo>
                  <a:pt x="287" y="33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36"/>
          <p:cNvSpPr/>
          <p:nvPr/>
        </p:nvSpPr>
        <p:spPr>
          <a:xfrm>
            <a:off x="5583240" y="3714840"/>
            <a:ext cx="530280" cy="801720"/>
          </a:xfrm>
          <a:custGeom>
            <a:avLst/>
            <a:gdLst/>
            <a:ahLst/>
            <a:rect l="l" t="t" r="r" b="b"/>
            <a:pathLst>
              <a:path w="668" h="1009">
                <a:moveTo>
                  <a:pt x="106" y="729"/>
                </a:moveTo>
                <a:lnTo>
                  <a:pt x="108" y="725"/>
                </a:lnTo>
                <a:lnTo>
                  <a:pt x="112" y="723"/>
                </a:lnTo>
                <a:lnTo>
                  <a:pt x="115" y="719"/>
                </a:lnTo>
                <a:lnTo>
                  <a:pt x="119" y="715"/>
                </a:lnTo>
                <a:lnTo>
                  <a:pt x="129" y="708"/>
                </a:lnTo>
                <a:lnTo>
                  <a:pt x="139" y="698"/>
                </a:lnTo>
                <a:lnTo>
                  <a:pt x="150" y="689"/>
                </a:lnTo>
                <a:lnTo>
                  <a:pt x="156" y="681"/>
                </a:lnTo>
                <a:lnTo>
                  <a:pt x="163" y="675"/>
                </a:lnTo>
                <a:lnTo>
                  <a:pt x="169" y="667"/>
                </a:lnTo>
                <a:lnTo>
                  <a:pt x="177" y="660"/>
                </a:lnTo>
                <a:lnTo>
                  <a:pt x="183" y="652"/>
                </a:lnTo>
                <a:lnTo>
                  <a:pt x="190" y="643"/>
                </a:lnTo>
                <a:lnTo>
                  <a:pt x="192" y="639"/>
                </a:lnTo>
                <a:lnTo>
                  <a:pt x="196" y="635"/>
                </a:lnTo>
                <a:lnTo>
                  <a:pt x="200" y="631"/>
                </a:lnTo>
                <a:lnTo>
                  <a:pt x="206" y="625"/>
                </a:lnTo>
                <a:lnTo>
                  <a:pt x="210" y="619"/>
                </a:lnTo>
                <a:lnTo>
                  <a:pt x="213" y="614"/>
                </a:lnTo>
                <a:lnTo>
                  <a:pt x="219" y="606"/>
                </a:lnTo>
                <a:lnTo>
                  <a:pt x="225" y="600"/>
                </a:lnTo>
                <a:lnTo>
                  <a:pt x="231" y="593"/>
                </a:lnTo>
                <a:lnTo>
                  <a:pt x="236" y="583"/>
                </a:lnTo>
                <a:lnTo>
                  <a:pt x="242" y="575"/>
                </a:lnTo>
                <a:lnTo>
                  <a:pt x="250" y="566"/>
                </a:lnTo>
                <a:lnTo>
                  <a:pt x="256" y="556"/>
                </a:lnTo>
                <a:lnTo>
                  <a:pt x="263" y="547"/>
                </a:lnTo>
                <a:lnTo>
                  <a:pt x="271" y="535"/>
                </a:lnTo>
                <a:lnTo>
                  <a:pt x="279" y="525"/>
                </a:lnTo>
                <a:lnTo>
                  <a:pt x="286" y="514"/>
                </a:lnTo>
                <a:lnTo>
                  <a:pt x="294" y="500"/>
                </a:lnTo>
                <a:lnTo>
                  <a:pt x="304" y="489"/>
                </a:lnTo>
                <a:lnTo>
                  <a:pt x="311" y="476"/>
                </a:lnTo>
                <a:lnTo>
                  <a:pt x="321" y="462"/>
                </a:lnTo>
                <a:lnTo>
                  <a:pt x="330" y="449"/>
                </a:lnTo>
                <a:lnTo>
                  <a:pt x="340" y="433"/>
                </a:lnTo>
                <a:lnTo>
                  <a:pt x="350" y="418"/>
                </a:lnTo>
                <a:lnTo>
                  <a:pt x="359" y="403"/>
                </a:lnTo>
                <a:lnTo>
                  <a:pt x="371" y="385"/>
                </a:lnTo>
                <a:lnTo>
                  <a:pt x="380" y="370"/>
                </a:lnTo>
                <a:lnTo>
                  <a:pt x="392" y="353"/>
                </a:lnTo>
                <a:lnTo>
                  <a:pt x="403" y="335"/>
                </a:lnTo>
                <a:lnTo>
                  <a:pt x="415" y="316"/>
                </a:lnTo>
                <a:lnTo>
                  <a:pt x="426" y="299"/>
                </a:lnTo>
                <a:lnTo>
                  <a:pt x="438" y="280"/>
                </a:lnTo>
                <a:lnTo>
                  <a:pt x="450" y="261"/>
                </a:lnTo>
                <a:lnTo>
                  <a:pt x="461" y="243"/>
                </a:lnTo>
                <a:lnTo>
                  <a:pt x="473" y="226"/>
                </a:lnTo>
                <a:lnTo>
                  <a:pt x="484" y="211"/>
                </a:lnTo>
                <a:lnTo>
                  <a:pt x="494" y="195"/>
                </a:lnTo>
                <a:lnTo>
                  <a:pt x="505" y="180"/>
                </a:lnTo>
                <a:lnTo>
                  <a:pt x="515" y="165"/>
                </a:lnTo>
                <a:lnTo>
                  <a:pt x="524" y="151"/>
                </a:lnTo>
                <a:lnTo>
                  <a:pt x="534" y="138"/>
                </a:lnTo>
                <a:lnTo>
                  <a:pt x="542" y="126"/>
                </a:lnTo>
                <a:lnTo>
                  <a:pt x="551" y="113"/>
                </a:lnTo>
                <a:lnTo>
                  <a:pt x="559" y="101"/>
                </a:lnTo>
                <a:lnTo>
                  <a:pt x="569" y="92"/>
                </a:lnTo>
                <a:lnTo>
                  <a:pt x="576" y="80"/>
                </a:lnTo>
                <a:lnTo>
                  <a:pt x="582" y="71"/>
                </a:lnTo>
                <a:lnTo>
                  <a:pt x="590" y="63"/>
                </a:lnTo>
                <a:lnTo>
                  <a:pt x="597" y="53"/>
                </a:lnTo>
                <a:lnTo>
                  <a:pt x="603" y="46"/>
                </a:lnTo>
                <a:lnTo>
                  <a:pt x="609" y="38"/>
                </a:lnTo>
                <a:lnTo>
                  <a:pt x="617" y="32"/>
                </a:lnTo>
                <a:lnTo>
                  <a:pt x="620" y="26"/>
                </a:lnTo>
                <a:lnTo>
                  <a:pt x="626" y="21"/>
                </a:lnTo>
                <a:lnTo>
                  <a:pt x="632" y="15"/>
                </a:lnTo>
                <a:lnTo>
                  <a:pt x="636" y="11"/>
                </a:lnTo>
                <a:lnTo>
                  <a:pt x="642" y="7"/>
                </a:lnTo>
                <a:lnTo>
                  <a:pt x="645" y="5"/>
                </a:lnTo>
                <a:lnTo>
                  <a:pt x="649" y="3"/>
                </a:lnTo>
                <a:lnTo>
                  <a:pt x="653" y="2"/>
                </a:lnTo>
                <a:lnTo>
                  <a:pt x="655" y="0"/>
                </a:lnTo>
                <a:lnTo>
                  <a:pt x="659" y="0"/>
                </a:lnTo>
                <a:lnTo>
                  <a:pt x="661" y="0"/>
                </a:lnTo>
                <a:lnTo>
                  <a:pt x="665" y="2"/>
                </a:lnTo>
                <a:lnTo>
                  <a:pt x="666" y="2"/>
                </a:lnTo>
                <a:lnTo>
                  <a:pt x="666" y="5"/>
                </a:lnTo>
                <a:lnTo>
                  <a:pt x="668" y="7"/>
                </a:lnTo>
                <a:lnTo>
                  <a:pt x="668" y="13"/>
                </a:lnTo>
                <a:lnTo>
                  <a:pt x="668" y="17"/>
                </a:lnTo>
                <a:lnTo>
                  <a:pt x="668" y="23"/>
                </a:lnTo>
                <a:lnTo>
                  <a:pt x="666" y="30"/>
                </a:lnTo>
                <a:lnTo>
                  <a:pt x="665" y="38"/>
                </a:lnTo>
                <a:lnTo>
                  <a:pt x="663" y="46"/>
                </a:lnTo>
                <a:lnTo>
                  <a:pt x="661" y="55"/>
                </a:lnTo>
                <a:lnTo>
                  <a:pt x="657" y="65"/>
                </a:lnTo>
                <a:lnTo>
                  <a:pt x="655" y="76"/>
                </a:lnTo>
                <a:lnTo>
                  <a:pt x="651" y="90"/>
                </a:lnTo>
                <a:lnTo>
                  <a:pt x="645" y="101"/>
                </a:lnTo>
                <a:lnTo>
                  <a:pt x="642" y="117"/>
                </a:lnTo>
                <a:lnTo>
                  <a:pt x="636" y="130"/>
                </a:lnTo>
                <a:lnTo>
                  <a:pt x="630" y="147"/>
                </a:lnTo>
                <a:lnTo>
                  <a:pt x="624" y="163"/>
                </a:lnTo>
                <a:lnTo>
                  <a:pt x="617" y="180"/>
                </a:lnTo>
                <a:lnTo>
                  <a:pt x="609" y="199"/>
                </a:lnTo>
                <a:lnTo>
                  <a:pt x="601" y="218"/>
                </a:lnTo>
                <a:lnTo>
                  <a:pt x="594" y="239"/>
                </a:lnTo>
                <a:lnTo>
                  <a:pt x="584" y="261"/>
                </a:lnTo>
                <a:lnTo>
                  <a:pt x="576" y="284"/>
                </a:lnTo>
                <a:lnTo>
                  <a:pt x="567" y="307"/>
                </a:lnTo>
                <a:lnTo>
                  <a:pt x="555" y="332"/>
                </a:lnTo>
                <a:lnTo>
                  <a:pt x="546" y="357"/>
                </a:lnTo>
                <a:lnTo>
                  <a:pt x="534" y="383"/>
                </a:lnTo>
                <a:lnTo>
                  <a:pt x="522" y="410"/>
                </a:lnTo>
                <a:lnTo>
                  <a:pt x="511" y="439"/>
                </a:lnTo>
                <a:lnTo>
                  <a:pt x="498" y="468"/>
                </a:lnTo>
                <a:lnTo>
                  <a:pt x="486" y="499"/>
                </a:lnTo>
                <a:lnTo>
                  <a:pt x="471" y="527"/>
                </a:lnTo>
                <a:lnTo>
                  <a:pt x="457" y="558"/>
                </a:lnTo>
                <a:lnTo>
                  <a:pt x="444" y="585"/>
                </a:lnTo>
                <a:lnTo>
                  <a:pt x="432" y="614"/>
                </a:lnTo>
                <a:lnTo>
                  <a:pt x="419" y="641"/>
                </a:lnTo>
                <a:lnTo>
                  <a:pt x="407" y="666"/>
                </a:lnTo>
                <a:lnTo>
                  <a:pt x="396" y="690"/>
                </a:lnTo>
                <a:lnTo>
                  <a:pt x="384" y="714"/>
                </a:lnTo>
                <a:lnTo>
                  <a:pt x="373" y="737"/>
                </a:lnTo>
                <a:lnTo>
                  <a:pt x="363" y="760"/>
                </a:lnTo>
                <a:lnTo>
                  <a:pt x="352" y="779"/>
                </a:lnTo>
                <a:lnTo>
                  <a:pt x="342" y="800"/>
                </a:lnTo>
                <a:lnTo>
                  <a:pt x="332" y="819"/>
                </a:lnTo>
                <a:lnTo>
                  <a:pt x="323" y="836"/>
                </a:lnTo>
                <a:lnTo>
                  <a:pt x="315" y="854"/>
                </a:lnTo>
                <a:lnTo>
                  <a:pt x="307" y="871"/>
                </a:lnTo>
                <a:lnTo>
                  <a:pt x="300" y="886"/>
                </a:lnTo>
                <a:lnTo>
                  <a:pt x="292" y="900"/>
                </a:lnTo>
                <a:lnTo>
                  <a:pt x="284" y="915"/>
                </a:lnTo>
                <a:lnTo>
                  <a:pt x="277" y="927"/>
                </a:lnTo>
                <a:lnTo>
                  <a:pt x="271" y="938"/>
                </a:lnTo>
                <a:lnTo>
                  <a:pt x="265" y="950"/>
                </a:lnTo>
                <a:lnTo>
                  <a:pt x="259" y="959"/>
                </a:lnTo>
                <a:lnTo>
                  <a:pt x="254" y="969"/>
                </a:lnTo>
                <a:lnTo>
                  <a:pt x="250" y="976"/>
                </a:lnTo>
                <a:lnTo>
                  <a:pt x="244" y="982"/>
                </a:lnTo>
                <a:lnTo>
                  <a:pt x="240" y="990"/>
                </a:lnTo>
                <a:lnTo>
                  <a:pt x="236" y="994"/>
                </a:lnTo>
                <a:lnTo>
                  <a:pt x="233" y="999"/>
                </a:lnTo>
                <a:lnTo>
                  <a:pt x="231" y="1001"/>
                </a:lnTo>
                <a:lnTo>
                  <a:pt x="227" y="1005"/>
                </a:lnTo>
                <a:lnTo>
                  <a:pt x="225" y="1007"/>
                </a:lnTo>
                <a:lnTo>
                  <a:pt x="219" y="1007"/>
                </a:lnTo>
                <a:lnTo>
                  <a:pt x="211" y="1009"/>
                </a:lnTo>
                <a:lnTo>
                  <a:pt x="204" y="1009"/>
                </a:lnTo>
                <a:lnTo>
                  <a:pt x="198" y="1007"/>
                </a:lnTo>
                <a:lnTo>
                  <a:pt x="190" y="1005"/>
                </a:lnTo>
                <a:lnTo>
                  <a:pt x="183" y="1001"/>
                </a:lnTo>
                <a:lnTo>
                  <a:pt x="177" y="998"/>
                </a:lnTo>
                <a:lnTo>
                  <a:pt x="169" y="992"/>
                </a:lnTo>
                <a:lnTo>
                  <a:pt x="160" y="986"/>
                </a:lnTo>
                <a:lnTo>
                  <a:pt x="152" y="978"/>
                </a:lnTo>
                <a:lnTo>
                  <a:pt x="144" y="971"/>
                </a:lnTo>
                <a:lnTo>
                  <a:pt x="135" y="963"/>
                </a:lnTo>
                <a:lnTo>
                  <a:pt x="125" y="953"/>
                </a:lnTo>
                <a:lnTo>
                  <a:pt x="115" y="944"/>
                </a:lnTo>
                <a:lnTo>
                  <a:pt x="106" y="932"/>
                </a:lnTo>
                <a:lnTo>
                  <a:pt x="94" y="923"/>
                </a:lnTo>
                <a:lnTo>
                  <a:pt x="83" y="911"/>
                </a:lnTo>
                <a:lnTo>
                  <a:pt x="73" y="900"/>
                </a:lnTo>
                <a:lnTo>
                  <a:pt x="64" y="888"/>
                </a:lnTo>
                <a:lnTo>
                  <a:pt x="54" y="877"/>
                </a:lnTo>
                <a:lnTo>
                  <a:pt x="46" y="865"/>
                </a:lnTo>
                <a:lnTo>
                  <a:pt x="39" y="856"/>
                </a:lnTo>
                <a:lnTo>
                  <a:pt x="31" y="844"/>
                </a:lnTo>
                <a:lnTo>
                  <a:pt x="25" y="834"/>
                </a:lnTo>
                <a:lnTo>
                  <a:pt x="19" y="823"/>
                </a:lnTo>
                <a:lnTo>
                  <a:pt x="14" y="813"/>
                </a:lnTo>
                <a:lnTo>
                  <a:pt x="10" y="806"/>
                </a:lnTo>
                <a:lnTo>
                  <a:pt x="6" y="796"/>
                </a:lnTo>
                <a:lnTo>
                  <a:pt x="2" y="786"/>
                </a:lnTo>
                <a:lnTo>
                  <a:pt x="0" y="779"/>
                </a:lnTo>
                <a:lnTo>
                  <a:pt x="0" y="771"/>
                </a:lnTo>
                <a:lnTo>
                  <a:pt x="0" y="765"/>
                </a:lnTo>
                <a:lnTo>
                  <a:pt x="0" y="758"/>
                </a:lnTo>
                <a:lnTo>
                  <a:pt x="0" y="752"/>
                </a:lnTo>
                <a:lnTo>
                  <a:pt x="0" y="746"/>
                </a:lnTo>
                <a:lnTo>
                  <a:pt x="2" y="742"/>
                </a:lnTo>
                <a:lnTo>
                  <a:pt x="2" y="737"/>
                </a:lnTo>
                <a:lnTo>
                  <a:pt x="4" y="733"/>
                </a:lnTo>
                <a:lnTo>
                  <a:pt x="8" y="731"/>
                </a:lnTo>
                <a:lnTo>
                  <a:pt x="10" y="727"/>
                </a:lnTo>
                <a:lnTo>
                  <a:pt x="12" y="725"/>
                </a:lnTo>
                <a:lnTo>
                  <a:pt x="16" y="725"/>
                </a:lnTo>
                <a:lnTo>
                  <a:pt x="19" y="723"/>
                </a:lnTo>
                <a:lnTo>
                  <a:pt x="23" y="723"/>
                </a:lnTo>
                <a:lnTo>
                  <a:pt x="29" y="723"/>
                </a:lnTo>
                <a:lnTo>
                  <a:pt x="35" y="725"/>
                </a:lnTo>
                <a:lnTo>
                  <a:pt x="41" y="725"/>
                </a:lnTo>
                <a:lnTo>
                  <a:pt x="46" y="729"/>
                </a:lnTo>
                <a:lnTo>
                  <a:pt x="52" y="731"/>
                </a:lnTo>
                <a:lnTo>
                  <a:pt x="58" y="733"/>
                </a:lnTo>
                <a:lnTo>
                  <a:pt x="69" y="735"/>
                </a:lnTo>
                <a:lnTo>
                  <a:pt x="77" y="737"/>
                </a:lnTo>
                <a:lnTo>
                  <a:pt x="85" y="737"/>
                </a:lnTo>
                <a:lnTo>
                  <a:pt x="91" y="737"/>
                </a:lnTo>
                <a:lnTo>
                  <a:pt x="96" y="735"/>
                </a:lnTo>
                <a:lnTo>
                  <a:pt x="102" y="733"/>
                </a:lnTo>
                <a:lnTo>
                  <a:pt x="106" y="72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37"/>
          <p:cNvSpPr/>
          <p:nvPr/>
        </p:nvSpPr>
        <p:spPr>
          <a:xfrm>
            <a:off x="5832360" y="2935440"/>
            <a:ext cx="292320" cy="290520"/>
          </a:xfrm>
          <a:custGeom>
            <a:avLst/>
            <a:gdLst/>
            <a:ahLst/>
            <a:rect l="l" t="t" r="r" b="b"/>
            <a:pathLst>
              <a:path w="369" h="365">
                <a:moveTo>
                  <a:pt x="254" y="61"/>
                </a:moveTo>
                <a:lnTo>
                  <a:pt x="271" y="69"/>
                </a:lnTo>
                <a:lnTo>
                  <a:pt x="286" y="81"/>
                </a:lnTo>
                <a:lnTo>
                  <a:pt x="302" y="92"/>
                </a:lnTo>
                <a:lnTo>
                  <a:pt x="315" y="104"/>
                </a:lnTo>
                <a:lnTo>
                  <a:pt x="328" y="117"/>
                </a:lnTo>
                <a:lnTo>
                  <a:pt x="340" y="130"/>
                </a:lnTo>
                <a:lnTo>
                  <a:pt x="351" y="144"/>
                </a:lnTo>
                <a:lnTo>
                  <a:pt x="361" y="157"/>
                </a:lnTo>
                <a:lnTo>
                  <a:pt x="363" y="175"/>
                </a:lnTo>
                <a:lnTo>
                  <a:pt x="367" y="194"/>
                </a:lnTo>
                <a:lnTo>
                  <a:pt x="369" y="211"/>
                </a:lnTo>
                <a:lnTo>
                  <a:pt x="369" y="228"/>
                </a:lnTo>
                <a:lnTo>
                  <a:pt x="369" y="246"/>
                </a:lnTo>
                <a:lnTo>
                  <a:pt x="367" y="261"/>
                </a:lnTo>
                <a:lnTo>
                  <a:pt x="363" y="276"/>
                </a:lnTo>
                <a:lnTo>
                  <a:pt x="361" y="292"/>
                </a:lnTo>
                <a:lnTo>
                  <a:pt x="355" y="299"/>
                </a:lnTo>
                <a:lnTo>
                  <a:pt x="351" y="307"/>
                </a:lnTo>
                <a:lnTo>
                  <a:pt x="348" y="315"/>
                </a:lnTo>
                <a:lnTo>
                  <a:pt x="344" y="322"/>
                </a:lnTo>
                <a:lnTo>
                  <a:pt x="338" y="328"/>
                </a:lnTo>
                <a:lnTo>
                  <a:pt x="334" y="336"/>
                </a:lnTo>
                <a:lnTo>
                  <a:pt x="330" y="340"/>
                </a:lnTo>
                <a:lnTo>
                  <a:pt x="327" y="345"/>
                </a:lnTo>
                <a:lnTo>
                  <a:pt x="323" y="349"/>
                </a:lnTo>
                <a:lnTo>
                  <a:pt x="319" y="353"/>
                </a:lnTo>
                <a:lnTo>
                  <a:pt x="315" y="357"/>
                </a:lnTo>
                <a:lnTo>
                  <a:pt x="311" y="359"/>
                </a:lnTo>
                <a:lnTo>
                  <a:pt x="309" y="361"/>
                </a:lnTo>
                <a:lnTo>
                  <a:pt x="305" y="363"/>
                </a:lnTo>
                <a:lnTo>
                  <a:pt x="303" y="363"/>
                </a:lnTo>
                <a:lnTo>
                  <a:pt x="302" y="365"/>
                </a:lnTo>
                <a:lnTo>
                  <a:pt x="296" y="363"/>
                </a:lnTo>
                <a:lnTo>
                  <a:pt x="292" y="363"/>
                </a:lnTo>
                <a:lnTo>
                  <a:pt x="286" y="361"/>
                </a:lnTo>
                <a:lnTo>
                  <a:pt x="280" y="357"/>
                </a:lnTo>
                <a:lnTo>
                  <a:pt x="275" y="353"/>
                </a:lnTo>
                <a:lnTo>
                  <a:pt x="269" y="349"/>
                </a:lnTo>
                <a:lnTo>
                  <a:pt x="261" y="343"/>
                </a:lnTo>
                <a:lnTo>
                  <a:pt x="255" y="336"/>
                </a:lnTo>
                <a:lnTo>
                  <a:pt x="248" y="328"/>
                </a:lnTo>
                <a:lnTo>
                  <a:pt x="240" y="320"/>
                </a:lnTo>
                <a:lnTo>
                  <a:pt x="231" y="313"/>
                </a:lnTo>
                <a:lnTo>
                  <a:pt x="223" y="301"/>
                </a:lnTo>
                <a:lnTo>
                  <a:pt x="213" y="292"/>
                </a:lnTo>
                <a:lnTo>
                  <a:pt x="204" y="280"/>
                </a:lnTo>
                <a:lnTo>
                  <a:pt x="194" y="267"/>
                </a:lnTo>
                <a:lnTo>
                  <a:pt x="183" y="255"/>
                </a:lnTo>
                <a:lnTo>
                  <a:pt x="161" y="232"/>
                </a:lnTo>
                <a:lnTo>
                  <a:pt x="140" y="211"/>
                </a:lnTo>
                <a:lnTo>
                  <a:pt x="121" y="190"/>
                </a:lnTo>
                <a:lnTo>
                  <a:pt x="102" y="173"/>
                </a:lnTo>
                <a:lnTo>
                  <a:pt x="85" y="153"/>
                </a:lnTo>
                <a:lnTo>
                  <a:pt x="69" y="138"/>
                </a:lnTo>
                <a:lnTo>
                  <a:pt x="54" y="123"/>
                </a:lnTo>
                <a:lnTo>
                  <a:pt x="40" y="109"/>
                </a:lnTo>
                <a:lnTo>
                  <a:pt x="35" y="102"/>
                </a:lnTo>
                <a:lnTo>
                  <a:pt x="29" y="96"/>
                </a:lnTo>
                <a:lnTo>
                  <a:pt x="23" y="88"/>
                </a:lnTo>
                <a:lnTo>
                  <a:pt x="17" y="82"/>
                </a:lnTo>
                <a:lnTo>
                  <a:pt x="14" y="77"/>
                </a:lnTo>
                <a:lnTo>
                  <a:pt x="10" y="73"/>
                </a:lnTo>
                <a:lnTo>
                  <a:pt x="8" y="67"/>
                </a:lnTo>
                <a:lnTo>
                  <a:pt x="4" y="61"/>
                </a:lnTo>
                <a:lnTo>
                  <a:pt x="2" y="56"/>
                </a:lnTo>
                <a:lnTo>
                  <a:pt x="2" y="52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2" y="33"/>
                </a:lnTo>
                <a:lnTo>
                  <a:pt x="2" y="29"/>
                </a:lnTo>
                <a:lnTo>
                  <a:pt x="6" y="25"/>
                </a:lnTo>
                <a:lnTo>
                  <a:pt x="10" y="19"/>
                </a:lnTo>
                <a:lnTo>
                  <a:pt x="15" y="15"/>
                </a:lnTo>
                <a:lnTo>
                  <a:pt x="19" y="13"/>
                </a:lnTo>
                <a:lnTo>
                  <a:pt x="25" y="11"/>
                </a:lnTo>
                <a:lnTo>
                  <a:pt x="29" y="10"/>
                </a:lnTo>
                <a:lnTo>
                  <a:pt x="35" y="8"/>
                </a:lnTo>
                <a:lnTo>
                  <a:pt x="40" y="6"/>
                </a:lnTo>
                <a:lnTo>
                  <a:pt x="46" y="4"/>
                </a:lnTo>
                <a:lnTo>
                  <a:pt x="54" y="2"/>
                </a:lnTo>
                <a:lnTo>
                  <a:pt x="62" y="2"/>
                </a:lnTo>
                <a:lnTo>
                  <a:pt x="69" y="0"/>
                </a:lnTo>
                <a:lnTo>
                  <a:pt x="79" y="0"/>
                </a:lnTo>
                <a:lnTo>
                  <a:pt x="88" y="0"/>
                </a:lnTo>
                <a:lnTo>
                  <a:pt x="100" y="0"/>
                </a:lnTo>
                <a:lnTo>
                  <a:pt x="121" y="4"/>
                </a:lnTo>
                <a:lnTo>
                  <a:pt x="142" y="10"/>
                </a:lnTo>
                <a:lnTo>
                  <a:pt x="161" y="13"/>
                </a:lnTo>
                <a:lnTo>
                  <a:pt x="181" y="21"/>
                </a:lnTo>
                <a:lnTo>
                  <a:pt x="200" y="29"/>
                </a:lnTo>
                <a:lnTo>
                  <a:pt x="217" y="36"/>
                </a:lnTo>
                <a:lnTo>
                  <a:pt x="227" y="42"/>
                </a:lnTo>
                <a:lnTo>
                  <a:pt x="236" y="48"/>
                </a:lnTo>
                <a:lnTo>
                  <a:pt x="244" y="54"/>
                </a:lnTo>
                <a:lnTo>
                  <a:pt x="254" y="6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上部斜钩伸展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3"/>
          <p:cNvSpPr/>
          <p:nvPr/>
        </p:nvSpPr>
        <p:spPr>
          <a:xfrm>
            <a:off x="2124000" y="1868400"/>
            <a:ext cx="134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5508720" y="3859200"/>
            <a:ext cx="772920" cy="628560"/>
          </a:xfrm>
          <a:custGeom>
            <a:avLst/>
            <a:gdLst/>
            <a:ahLst/>
            <a:rect l="l" t="t" r="r" b="b"/>
            <a:pathLst>
              <a:path w="975" h="790">
                <a:moveTo>
                  <a:pt x="63" y="727"/>
                </a:moveTo>
                <a:lnTo>
                  <a:pt x="54" y="717"/>
                </a:lnTo>
                <a:lnTo>
                  <a:pt x="46" y="710"/>
                </a:lnTo>
                <a:lnTo>
                  <a:pt x="38" y="700"/>
                </a:lnTo>
                <a:lnTo>
                  <a:pt x="31" y="692"/>
                </a:lnTo>
                <a:lnTo>
                  <a:pt x="25" y="685"/>
                </a:lnTo>
                <a:lnTo>
                  <a:pt x="19" y="677"/>
                </a:lnTo>
                <a:lnTo>
                  <a:pt x="15" y="669"/>
                </a:lnTo>
                <a:lnTo>
                  <a:pt x="12" y="664"/>
                </a:lnTo>
                <a:lnTo>
                  <a:pt x="8" y="656"/>
                </a:lnTo>
                <a:lnTo>
                  <a:pt x="4" y="650"/>
                </a:lnTo>
                <a:lnTo>
                  <a:pt x="2" y="644"/>
                </a:lnTo>
                <a:lnTo>
                  <a:pt x="0" y="639"/>
                </a:lnTo>
                <a:lnTo>
                  <a:pt x="0" y="633"/>
                </a:lnTo>
                <a:lnTo>
                  <a:pt x="0" y="627"/>
                </a:lnTo>
                <a:lnTo>
                  <a:pt x="2" y="623"/>
                </a:lnTo>
                <a:lnTo>
                  <a:pt x="4" y="618"/>
                </a:lnTo>
                <a:lnTo>
                  <a:pt x="4" y="614"/>
                </a:lnTo>
                <a:lnTo>
                  <a:pt x="4" y="610"/>
                </a:lnTo>
                <a:lnTo>
                  <a:pt x="6" y="606"/>
                </a:lnTo>
                <a:lnTo>
                  <a:pt x="8" y="602"/>
                </a:lnTo>
                <a:lnTo>
                  <a:pt x="10" y="598"/>
                </a:lnTo>
                <a:lnTo>
                  <a:pt x="13" y="596"/>
                </a:lnTo>
                <a:lnTo>
                  <a:pt x="17" y="593"/>
                </a:lnTo>
                <a:lnTo>
                  <a:pt x="21" y="591"/>
                </a:lnTo>
                <a:lnTo>
                  <a:pt x="25" y="589"/>
                </a:lnTo>
                <a:lnTo>
                  <a:pt x="31" y="587"/>
                </a:lnTo>
                <a:lnTo>
                  <a:pt x="37" y="585"/>
                </a:lnTo>
                <a:lnTo>
                  <a:pt x="42" y="583"/>
                </a:lnTo>
                <a:lnTo>
                  <a:pt x="50" y="583"/>
                </a:lnTo>
                <a:lnTo>
                  <a:pt x="58" y="581"/>
                </a:lnTo>
                <a:lnTo>
                  <a:pt x="65" y="581"/>
                </a:lnTo>
                <a:lnTo>
                  <a:pt x="75" y="581"/>
                </a:lnTo>
                <a:lnTo>
                  <a:pt x="81" y="581"/>
                </a:lnTo>
                <a:lnTo>
                  <a:pt x="88" y="579"/>
                </a:lnTo>
                <a:lnTo>
                  <a:pt x="96" y="579"/>
                </a:lnTo>
                <a:lnTo>
                  <a:pt x="106" y="577"/>
                </a:lnTo>
                <a:lnTo>
                  <a:pt x="115" y="573"/>
                </a:lnTo>
                <a:lnTo>
                  <a:pt x="125" y="571"/>
                </a:lnTo>
                <a:lnTo>
                  <a:pt x="134" y="568"/>
                </a:lnTo>
                <a:lnTo>
                  <a:pt x="146" y="564"/>
                </a:lnTo>
                <a:lnTo>
                  <a:pt x="157" y="558"/>
                </a:lnTo>
                <a:lnTo>
                  <a:pt x="169" y="554"/>
                </a:lnTo>
                <a:lnTo>
                  <a:pt x="182" y="548"/>
                </a:lnTo>
                <a:lnTo>
                  <a:pt x="194" y="541"/>
                </a:lnTo>
                <a:lnTo>
                  <a:pt x="209" y="533"/>
                </a:lnTo>
                <a:lnTo>
                  <a:pt x="223" y="525"/>
                </a:lnTo>
                <a:lnTo>
                  <a:pt x="238" y="518"/>
                </a:lnTo>
                <a:lnTo>
                  <a:pt x="253" y="510"/>
                </a:lnTo>
                <a:lnTo>
                  <a:pt x="269" y="499"/>
                </a:lnTo>
                <a:lnTo>
                  <a:pt x="286" y="489"/>
                </a:lnTo>
                <a:lnTo>
                  <a:pt x="303" y="475"/>
                </a:lnTo>
                <a:lnTo>
                  <a:pt x="324" y="464"/>
                </a:lnTo>
                <a:lnTo>
                  <a:pt x="344" y="449"/>
                </a:lnTo>
                <a:lnTo>
                  <a:pt x="367" y="433"/>
                </a:lnTo>
                <a:lnTo>
                  <a:pt x="390" y="418"/>
                </a:lnTo>
                <a:lnTo>
                  <a:pt x="415" y="401"/>
                </a:lnTo>
                <a:lnTo>
                  <a:pt x="440" y="381"/>
                </a:lnTo>
                <a:lnTo>
                  <a:pt x="467" y="362"/>
                </a:lnTo>
                <a:lnTo>
                  <a:pt x="495" y="341"/>
                </a:lnTo>
                <a:lnTo>
                  <a:pt x="524" y="318"/>
                </a:lnTo>
                <a:lnTo>
                  <a:pt x="555" y="295"/>
                </a:lnTo>
                <a:lnTo>
                  <a:pt x="588" y="270"/>
                </a:lnTo>
                <a:lnTo>
                  <a:pt x="620" y="245"/>
                </a:lnTo>
                <a:lnTo>
                  <a:pt x="657" y="218"/>
                </a:lnTo>
                <a:lnTo>
                  <a:pt x="689" y="191"/>
                </a:lnTo>
                <a:lnTo>
                  <a:pt x="722" y="167"/>
                </a:lnTo>
                <a:lnTo>
                  <a:pt x="737" y="155"/>
                </a:lnTo>
                <a:lnTo>
                  <a:pt x="753" y="143"/>
                </a:lnTo>
                <a:lnTo>
                  <a:pt x="768" y="132"/>
                </a:lnTo>
                <a:lnTo>
                  <a:pt x="781" y="122"/>
                </a:lnTo>
                <a:lnTo>
                  <a:pt x="795" y="111"/>
                </a:lnTo>
                <a:lnTo>
                  <a:pt x="808" y="101"/>
                </a:lnTo>
                <a:lnTo>
                  <a:pt x="822" y="94"/>
                </a:lnTo>
                <a:lnTo>
                  <a:pt x="833" y="84"/>
                </a:lnTo>
                <a:lnTo>
                  <a:pt x="845" y="76"/>
                </a:lnTo>
                <a:lnTo>
                  <a:pt x="856" y="69"/>
                </a:lnTo>
                <a:lnTo>
                  <a:pt x="866" y="61"/>
                </a:lnTo>
                <a:lnTo>
                  <a:pt x="875" y="53"/>
                </a:lnTo>
                <a:lnTo>
                  <a:pt x="885" y="48"/>
                </a:lnTo>
                <a:lnTo>
                  <a:pt x="895" y="40"/>
                </a:lnTo>
                <a:lnTo>
                  <a:pt x="902" y="36"/>
                </a:lnTo>
                <a:lnTo>
                  <a:pt x="910" y="30"/>
                </a:lnTo>
                <a:lnTo>
                  <a:pt x="918" y="25"/>
                </a:lnTo>
                <a:lnTo>
                  <a:pt x="925" y="21"/>
                </a:lnTo>
                <a:lnTo>
                  <a:pt x="931" y="17"/>
                </a:lnTo>
                <a:lnTo>
                  <a:pt x="937" y="13"/>
                </a:lnTo>
                <a:lnTo>
                  <a:pt x="943" y="9"/>
                </a:lnTo>
                <a:lnTo>
                  <a:pt x="947" y="7"/>
                </a:lnTo>
                <a:lnTo>
                  <a:pt x="952" y="5"/>
                </a:lnTo>
                <a:lnTo>
                  <a:pt x="954" y="3"/>
                </a:lnTo>
                <a:lnTo>
                  <a:pt x="958" y="1"/>
                </a:lnTo>
                <a:lnTo>
                  <a:pt x="960" y="0"/>
                </a:lnTo>
                <a:lnTo>
                  <a:pt x="962" y="0"/>
                </a:lnTo>
                <a:lnTo>
                  <a:pt x="964" y="0"/>
                </a:lnTo>
                <a:lnTo>
                  <a:pt x="968" y="0"/>
                </a:lnTo>
                <a:lnTo>
                  <a:pt x="970" y="1"/>
                </a:lnTo>
                <a:lnTo>
                  <a:pt x="973" y="3"/>
                </a:lnTo>
                <a:lnTo>
                  <a:pt x="973" y="7"/>
                </a:lnTo>
                <a:lnTo>
                  <a:pt x="975" y="11"/>
                </a:lnTo>
                <a:lnTo>
                  <a:pt x="975" y="15"/>
                </a:lnTo>
                <a:lnTo>
                  <a:pt x="975" y="25"/>
                </a:lnTo>
                <a:lnTo>
                  <a:pt x="975" y="28"/>
                </a:lnTo>
                <a:lnTo>
                  <a:pt x="971" y="36"/>
                </a:lnTo>
                <a:lnTo>
                  <a:pt x="968" y="44"/>
                </a:lnTo>
                <a:lnTo>
                  <a:pt x="962" y="53"/>
                </a:lnTo>
                <a:lnTo>
                  <a:pt x="954" y="65"/>
                </a:lnTo>
                <a:lnTo>
                  <a:pt x="945" y="76"/>
                </a:lnTo>
                <a:lnTo>
                  <a:pt x="933" y="92"/>
                </a:lnTo>
                <a:lnTo>
                  <a:pt x="920" y="107"/>
                </a:lnTo>
                <a:lnTo>
                  <a:pt x="904" y="124"/>
                </a:lnTo>
                <a:lnTo>
                  <a:pt x="889" y="142"/>
                </a:lnTo>
                <a:lnTo>
                  <a:pt x="870" y="163"/>
                </a:lnTo>
                <a:lnTo>
                  <a:pt x="849" y="186"/>
                </a:lnTo>
                <a:lnTo>
                  <a:pt x="827" y="209"/>
                </a:lnTo>
                <a:lnTo>
                  <a:pt x="803" y="234"/>
                </a:lnTo>
                <a:lnTo>
                  <a:pt x="778" y="261"/>
                </a:lnTo>
                <a:lnTo>
                  <a:pt x="751" y="291"/>
                </a:lnTo>
                <a:lnTo>
                  <a:pt x="722" y="320"/>
                </a:lnTo>
                <a:lnTo>
                  <a:pt x="693" y="347"/>
                </a:lnTo>
                <a:lnTo>
                  <a:pt x="666" y="374"/>
                </a:lnTo>
                <a:lnTo>
                  <a:pt x="639" y="401"/>
                </a:lnTo>
                <a:lnTo>
                  <a:pt x="614" y="426"/>
                </a:lnTo>
                <a:lnTo>
                  <a:pt x="589" y="449"/>
                </a:lnTo>
                <a:lnTo>
                  <a:pt x="564" y="472"/>
                </a:lnTo>
                <a:lnTo>
                  <a:pt x="540" y="495"/>
                </a:lnTo>
                <a:lnTo>
                  <a:pt x="516" y="516"/>
                </a:lnTo>
                <a:lnTo>
                  <a:pt x="495" y="535"/>
                </a:lnTo>
                <a:lnTo>
                  <a:pt x="474" y="554"/>
                </a:lnTo>
                <a:lnTo>
                  <a:pt x="453" y="573"/>
                </a:lnTo>
                <a:lnTo>
                  <a:pt x="434" y="593"/>
                </a:lnTo>
                <a:lnTo>
                  <a:pt x="415" y="610"/>
                </a:lnTo>
                <a:lnTo>
                  <a:pt x="397" y="627"/>
                </a:lnTo>
                <a:lnTo>
                  <a:pt x="382" y="642"/>
                </a:lnTo>
                <a:lnTo>
                  <a:pt x="365" y="658"/>
                </a:lnTo>
                <a:lnTo>
                  <a:pt x="349" y="673"/>
                </a:lnTo>
                <a:lnTo>
                  <a:pt x="334" y="687"/>
                </a:lnTo>
                <a:lnTo>
                  <a:pt x="319" y="700"/>
                </a:lnTo>
                <a:lnTo>
                  <a:pt x="303" y="712"/>
                </a:lnTo>
                <a:lnTo>
                  <a:pt x="290" y="723"/>
                </a:lnTo>
                <a:lnTo>
                  <a:pt x="278" y="733"/>
                </a:lnTo>
                <a:lnTo>
                  <a:pt x="267" y="742"/>
                </a:lnTo>
                <a:lnTo>
                  <a:pt x="255" y="750"/>
                </a:lnTo>
                <a:lnTo>
                  <a:pt x="244" y="760"/>
                </a:lnTo>
                <a:lnTo>
                  <a:pt x="234" y="765"/>
                </a:lnTo>
                <a:lnTo>
                  <a:pt x="225" y="771"/>
                </a:lnTo>
                <a:lnTo>
                  <a:pt x="215" y="777"/>
                </a:lnTo>
                <a:lnTo>
                  <a:pt x="207" y="781"/>
                </a:lnTo>
                <a:lnTo>
                  <a:pt x="200" y="784"/>
                </a:lnTo>
                <a:lnTo>
                  <a:pt x="194" y="788"/>
                </a:lnTo>
                <a:lnTo>
                  <a:pt x="186" y="790"/>
                </a:lnTo>
                <a:lnTo>
                  <a:pt x="179" y="790"/>
                </a:lnTo>
                <a:lnTo>
                  <a:pt x="171" y="790"/>
                </a:lnTo>
                <a:lnTo>
                  <a:pt x="165" y="790"/>
                </a:lnTo>
                <a:lnTo>
                  <a:pt x="156" y="788"/>
                </a:lnTo>
                <a:lnTo>
                  <a:pt x="148" y="786"/>
                </a:lnTo>
                <a:lnTo>
                  <a:pt x="140" y="784"/>
                </a:lnTo>
                <a:lnTo>
                  <a:pt x="133" y="781"/>
                </a:lnTo>
                <a:lnTo>
                  <a:pt x="123" y="777"/>
                </a:lnTo>
                <a:lnTo>
                  <a:pt x="115" y="771"/>
                </a:lnTo>
                <a:lnTo>
                  <a:pt x="106" y="765"/>
                </a:lnTo>
                <a:lnTo>
                  <a:pt x="98" y="760"/>
                </a:lnTo>
                <a:lnTo>
                  <a:pt x="88" y="752"/>
                </a:lnTo>
                <a:lnTo>
                  <a:pt x="81" y="744"/>
                </a:lnTo>
                <a:lnTo>
                  <a:pt x="71" y="736"/>
                </a:lnTo>
                <a:lnTo>
                  <a:pt x="63" y="72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30"/>
          <p:cNvSpPr/>
          <p:nvPr/>
        </p:nvSpPr>
        <p:spPr>
          <a:xfrm>
            <a:off x="5780160" y="2948040"/>
            <a:ext cx="396720" cy="2019240"/>
          </a:xfrm>
          <a:custGeom>
            <a:avLst/>
            <a:gdLst/>
            <a:ahLst/>
            <a:rect l="l" t="t" r="r" b="b"/>
            <a:pathLst>
              <a:path w="499" h="2543">
                <a:moveTo>
                  <a:pt x="288" y="226"/>
                </a:moveTo>
                <a:lnTo>
                  <a:pt x="284" y="203"/>
                </a:lnTo>
                <a:lnTo>
                  <a:pt x="278" y="184"/>
                </a:lnTo>
                <a:lnTo>
                  <a:pt x="274" y="163"/>
                </a:lnTo>
                <a:lnTo>
                  <a:pt x="270" y="144"/>
                </a:lnTo>
                <a:lnTo>
                  <a:pt x="265" y="127"/>
                </a:lnTo>
                <a:lnTo>
                  <a:pt x="261" y="109"/>
                </a:lnTo>
                <a:lnTo>
                  <a:pt x="257" y="94"/>
                </a:lnTo>
                <a:lnTo>
                  <a:pt x="253" y="81"/>
                </a:lnTo>
                <a:lnTo>
                  <a:pt x="247" y="77"/>
                </a:lnTo>
                <a:lnTo>
                  <a:pt x="244" y="71"/>
                </a:lnTo>
                <a:lnTo>
                  <a:pt x="242" y="67"/>
                </a:lnTo>
                <a:lnTo>
                  <a:pt x="238" y="63"/>
                </a:lnTo>
                <a:lnTo>
                  <a:pt x="236" y="58"/>
                </a:lnTo>
                <a:lnTo>
                  <a:pt x="234" y="54"/>
                </a:lnTo>
                <a:lnTo>
                  <a:pt x="232" y="44"/>
                </a:lnTo>
                <a:lnTo>
                  <a:pt x="232" y="34"/>
                </a:lnTo>
                <a:lnTo>
                  <a:pt x="234" y="27"/>
                </a:lnTo>
                <a:lnTo>
                  <a:pt x="236" y="17"/>
                </a:lnTo>
                <a:lnTo>
                  <a:pt x="240" y="8"/>
                </a:lnTo>
                <a:lnTo>
                  <a:pt x="242" y="6"/>
                </a:lnTo>
                <a:lnTo>
                  <a:pt x="245" y="4"/>
                </a:lnTo>
                <a:lnTo>
                  <a:pt x="249" y="2"/>
                </a:lnTo>
                <a:lnTo>
                  <a:pt x="255" y="2"/>
                </a:lnTo>
                <a:lnTo>
                  <a:pt x="261" y="0"/>
                </a:lnTo>
                <a:lnTo>
                  <a:pt x="267" y="0"/>
                </a:lnTo>
                <a:lnTo>
                  <a:pt x="274" y="0"/>
                </a:lnTo>
                <a:lnTo>
                  <a:pt x="282" y="0"/>
                </a:lnTo>
                <a:lnTo>
                  <a:pt x="290" y="0"/>
                </a:lnTo>
                <a:lnTo>
                  <a:pt x="297" y="0"/>
                </a:lnTo>
                <a:lnTo>
                  <a:pt x="307" y="0"/>
                </a:lnTo>
                <a:lnTo>
                  <a:pt x="316" y="2"/>
                </a:lnTo>
                <a:lnTo>
                  <a:pt x="338" y="4"/>
                </a:lnTo>
                <a:lnTo>
                  <a:pt x="359" y="8"/>
                </a:lnTo>
                <a:lnTo>
                  <a:pt x="380" y="17"/>
                </a:lnTo>
                <a:lnTo>
                  <a:pt x="401" y="27"/>
                </a:lnTo>
                <a:lnTo>
                  <a:pt x="420" y="34"/>
                </a:lnTo>
                <a:lnTo>
                  <a:pt x="437" y="42"/>
                </a:lnTo>
                <a:lnTo>
                  <a:pt x="453" y="50"/>
                </a:lnTo>
                <a:lnTo>
                  <a:pt x="460" y="54"/>
                </a:lnTo>
                <a:lnTo>
                  <a:pt x="468" y="58"/>
                </a:lnTo>
                <a:lnTo>
                  <a:pt x="474" y="61"/>
                </a:lnTo>
                <a:lnTo>
                  <a:pt x="480" y="63"/>
                </a:lnTo>
                <a:lnTo>
                  <a:pt x="485" y="67"/>
                </a:lnTo>
                <a:lnTo>
                  <a:pt x="489" y="69"/>
                </a:lnTo>
                <a:lnTo>
                  <a:pt x="491" y="71"/>
                </a:lnTo>
                <a:lnTo>
                  <a:pt x="493" y="75"/>
                </a:lnTo>
                <a:lnTo>
                  <a:pt x="495" y="79"/>
                </a:lnTo>
                <a:lnTo>
                  <a:pt x="495" y="82"/>
                </a:lnTo>
                <a:lnTo>
                  <a:pt x="497" y="92"/>
                </a:lnTo>
                <a:lnTo>
                  <a:pt x="499" y="102"/>
                </a:lnTo>
                <a:lnTo>
                  <a:pt x="497" y="113"/>
                </a:lnTo>
                <a:lnTo>
                  <a:pt x="495" y="127"/>
                </a:lnTo>
                <a:lnTo>
                  <a:pt x="493" y="140"/>
                </a:lnTo>
                <a:lnTo>
                  <a:pt x="489" y="153"/>
                </a:lnTo>
                <a:lnTo>
                  <a:pt x="487" y="161"/>
                </a:lnTo>
                <a:lnTo>
                  <a:pt x="485" y="169"/>
                </a:lnTo>
                <a:lnTo>
                  <a:pt x="483" y="176"/>
                </a:lnTo>
                <a:lnTo>
                  <a:pt x="482" y="186"/>
                </a:lnTo>
                <a:lnTo>
                  <a:pt x="478" y="194"/>
                </a:lnTo>
                <a:lnTo>
                  <a:pt x="476" y="205"/>
                </a:lnTo>
                <a:lnTo>
                  <a:pt x="474" y="215"/>
                </a:lnTo>
                <a:lnTo>
                  <a:pt x="474" y="226"/>
                </a:lnTo>
                <a:lnTo>
                  <a:pt x="472" y="238"/>
                </a:lnTo>
                <a:lnTo>
                  <a:pt x="470" y="249"/>
                </a:lnTo>
                <a:lnTo>
                  <a:pt x="468" y="263"/>
                </a:lnTo>
                <a:lnTo>
                  <a:pt x="468" y="276"/>
                </a:lnTo>
                <a:lnTo>
                  <a:pt x="466" y="290"/>
                </a:lnTo>
                <a:lnTo>
                  <a:pt x="466" y="305"/>
                </a:lnTo>
                <a:lnTo>
                  <a:pt x="466" y="319"/>
                </a:lnTo>
                <a:lnTo>
                  <a:pt x="466" y="336"/>
                </a:lnTo>
                <a:lnTo>
                  <a:pt x="462" y="351"/>
                </a:lnTo>
                <a:lnTo>
                  <a:pt x="462" y="368"/>
                </a:lnTo>
                <a:lnTo>
                  <a:pt x="460" y="386"/>
                </a:lnTo>
                <a:lnTo>
                  <a:pt x="459" y="405"/>
                </a:lnTo>
                <a:lnTo>
                  <a:pt x="457" y="424"/>
                </a:lnTo>
                <a:lnTo>
                  <a:pt x="457" y="445"/>
                </a:lnTo>
                <a:lnTo>
                  <a:pt x="455" y="466"/>
                </a:lnTo>
                <a:lnTo>
                  <a:pt x="455" y="487"/>
                </a:lnTo>
                <a:lnTo>
                  <a:pt x="453" y="510"/>
                </a:lnTo>
                <a:lnTo>
                  <a:pt x="451" y="533"/>
                </a:lnTo>
                <a:lnTo>
                  <a:pt x="451" y="558"/>
                </a:lnTo>
                <a:lnTo>
                  <a:pt x="449" y="583"/>
                </a:lnTo>
                <a:lnTo>
                  <a:pt x="447" y="608"/>
                </a:lnTo>
                <a:lnTo>
                  <a:pt x="447" y="633"/>
                </a:lnTo>
                <a:lnTo>
                  <a:pt x="445" y="660"/>
                </a:lnTo>
                <a:lnTo>
                  <a:pt x="443" y="687"/>
                </a:lnTo>
                <a:lnTo>
                  <a:pt x="441" y="702"/>
                </a:lnTo>
                <a:lnTo>
                  <a:pt x="439" y="718"/>
                </a:lnTo>
                <a:lnTo>
                  <a:pt x="439" y="735"/>
                </a:lnTo>
                <a:lnTo>
                  <a:pt x="439" y="754"/>
                </a:lnTo>
                <a:lnTo>
                  <a:pt x="437" y="773"/>
                </a:lnTo>
                <a:lnTo>
                  <a:pt x="437" y="793"/>
                </a:lnTo>
                <a:lnTo>
                  <a:pt x="435" y="814"/>
                </a:lnTo>
                <a:lnTo>
                  <a:pt x="435" y="835"/>
                </a:lnTo>
                <a:lnTo>
                  <a:pt x="435" y="858"/>
                </a:lnTo>
                <a:lnTo>
                  <a:pt x="435" y="881"/>
                </a:lnTo>
                <a:lnTo>
                  <a:pt x="434" y="906"/>
                </a:lnTo>
                <a:lnTo>
                  <a:pt x="434" y="931"/>
                </a:lnTo>
                <a:lnTo>
                  <a:pt x="434" y="958"/>
                </a:lnTo>
                <a:lnTo>
                  <a:pt x="434" y="984"/>
                </a:lnTo>
                <a:lnTo>
                  <a:pt x="434" y="1013"/>
                </a:lnTo>
                <a:lnTo>
                  <a:pt x="434" y="1044"/>
                </a:lnTo>
                <a:lnTo>
                  <a:pt x="434" y="1073"/>
                </a:lnTo>
                <a:lnTo>
                  <a:pt x="434" y="1105"/>
                </a:lnTo>
                <a:lnTo>
                  <a:pt x="434" y="1136"/>
                </a:lnTo>
                <a:lnTo>
                  <a:pt x="434" y="1171"/>
                </a:lnTo>
                <a:lnTo>
                  <a:pt x="434" y="1205"/>
                </a:lnTo>
                <a:lnTo>
                  <a:pt x="435" y="1240"/>
                </a:lnTo>
                <a:lnTo>
                  <a:pt x="435" y="1276"/>
                </a:lnTo>
                <a:lnTo>
                  <a:pt x="435" y="1313"/>
                </a:lnTo>
                <a:lnTo>
                  <a:pt x="435" y="1351"/>
                </a:lnTo>
                <a:lnTo>
                  <a:pt x="437" y="1389"/>
                </a:lnTo>
                <a:lnTo>
                  <a:pt x="437" y="1430"/>
                </a:lnTo>
                <a:lnTo>
                  <a:pt x="439" y="1470"/>
                </a:lnTo>
                <a:lnTo>
                  <a:pt x="439" y="1512"/>
                </a:lnTo>
                <a:lnTo>
                  <a:pt x="439" y="1556"/>
                </a:lnTo>
                <a:lnTo>
                  <a:pt x="441" y="1600"/>
                </a:lnTo>
                <a:lnTo>
                  <a:pt x="443" y="1645"/>
                </a:lnTo>
                <a:lnTo>
                  <a:pt x="441" y="1689"/>
                </a:lnTo>
                <a:lnTo>
                  <a:pt x="441" y="1733"/>
                </a:lnTo>
                <a:lnTo>
                  <a:pt x="441" y="1775"/>
                </a:lnTo>
                <a:lnTo>
                  <a:pt x="441" y="1815"/>
                </a:lnTo>
                <a:lnTo>
                  <a:pt x="441" y="1856"/>
                </a:lnTo>
                <a:lnTo>
                  <a:pt x="439" y="1894"/>
                </a:lnTo>
                <a:lnTo>
                  <a:pt x="439" y="1931"/>
                </a:lnTo>
                <a:lnTo>
                  <a:pt x="437" y="1967"/>
                </a:lnTo>
                <a:lnTo>
                  <a:pt x="437" y="2002"/>
                </a:lnTo>
                <a:lnTo>
                  <a:pt x="435" y="2036"/>
                </a:lnTo>
                <a:lnTo>
                  <a:pt x="434" y="2067"/>
                </a:lnTo>
                <a:lnTo>
                  <a:pt x="432" y="2099"/>
                </a:lnTo>
                <a:lnTo>
                  <a:pt x="432" y="2128"/>
                </a:lnTo>
                <a:lnTo>
                  <a:pt x="430" y="2157"/>
                </a:lnTo>
                <a:lnTo>
                  <a:pt x="428" y="2184"/>
                </a:lnTo>
                <a:lnTo>
                  <a:pt x="426" y="2209"/>
                </a:lnTo>
                <a:lnTo>
                  <a:pt x="424" y="2234"/>
                </a:lnTo>
                <a:lnTo>
                  <a:pt x="422" y="2257"/>
                </a:lnTo>
                <a:lnTo>
                  <a:pt x="418" y="2280"/>
                </a:lnTo>
                <a:lnTo>
                  <a:pt x="416" y="2301"/>
                </a:lnTo>
                <a:lnTo>
                  <a:pt x="414" y="2320"/>
                </a:lnTo>
                <a:lnTo>
                  <a:pt x="412" y="2339"/>
                </a:lnTo>
                <a:lnTo>
                  <a:pt x="409" y="2357"/>
                </a:lnTo>
                <a:lnTo>
                  <a:pt x="407" y="2372"/>
                </a:lnTo>
                <a:lnTo>
                  <a:pt x="405" y="2387"/>
                </a:lnTo>
                <a:lnTo>
                  <a:pt x="401" y="2401"/>
                </a:lnTo>
                <a:lnTo>
                  <a:pt x="399" y="2412"/>
                </a:lnTo>
                <a:lnTo>
                  <a:pt x="395" y="2424"/>
                </a:lnTo>
                <a:lnTo>
                  <a:pt x="391" y="2433"/>
                </a:lnTo>
                <a:lnTo>
                  <a:pt x="389" y="2443"/>
                </a:lnTo>
                <a:lnTo>
                  <a:pt x="386" y="2451"/>
                </a:lnTo>
                <a:lnTo>
                  <a:pt x="384" y="2456"/>
                </a:lnTo>
                <a:lnTo>
                  <a:pt x="374" y="2468"/>
                </a:lnTo>
                <a:lnTo>
                  <a:pt x="366" y="2477"/>
                </a:lnTo>
                <a:lnTo>
                  <a:pt x="357" y="2487"/>
                </a:lnTo>
                <a:lnTo>
                  <a:pt x="349" y="2495"/>
                </a:lnTo>
                <a:lnTo>
                  <a:pt x="341" y="2504"/>
                </a:lnTo>
                <a:lnTo>
                  <a:pt x="336" y="2510"/>
                </a:lnTo>
                <a:lnTo>
                  <a:pt x="328" y="2516"/>
                </a:lnTo>
                <a:lnTo>
                  <a:pt x="322" y="2522"/>
                </a:lnTo>
                <a:lnTo>
                  <a:pt x="316" y="2527"/>
                </a:lnTo>
                <a:lnTo>
                  <a:pt x="311" y="2531"/>
                </a:lnTo>
                <a:lnTo>
                  <a:pt x="305" y="2535"/>
                </a:lnTo>
                <a:lnTo>
                  <a:pt x="301" y="2537"/>
                </a:lnTo>
                <a:lnTo>
                  <a:pt x="297" y="2539"/>
                </a:lnTo>
                <a:lnTo>
                  <a:pt x="293" y="2541"/>
                </a:lnTo>
                <a:lnTo>
                  <a:pt x="290" y="2541"/>
                </a:lnTo>
                <a:lnTo>
                  <a:pt x="288" y="2543"/>
                </a:lnTo>
                <a:lnTo>
                  <a:pt x="278" y="2537"/>
                </a:lnTo>
                <a:lnTo>
                  <a:pt x="270" y="2529"/>
                </a:lnTo>
                <a:lnTo>
                  <a:pt x="261" y="2522"/>
                </a:lnTo>
                <a:lnTo>
                  <a:pt x="253" y="2512"/>
                </a:lnTo>
                <a:lnTo>
                  <a:pt x="245" y="2502"/>
                </a:lnTo>
                <a:lnTo>
                  <a:pt x="242" y="2495"/>
                </a:lnTo>
                <a:lnTo>
                  <a:pt x="240" y="2489"/>
                </a:lnTo>
                <a:lnTo>
                  <a:pt x="236" y="2481"/>
                </a:lnTo>
                <a:lnTo>
                  <a:pt x="234" y="2474"/>
                </a:lnTo>
                <a:lnTo>
                  <a:pt x="230" y="2466"/>
                </a:lnTo>
                <a:lnTo>
                  <a:pt x="228" y="2456"/>
                </a:lnTo>
                <a:lnTo>
                  <a:pt x="224" y="2447"/>
                </a:lnTo>
                <a:lnTo>
                  <a:pt x="219" y="2439"/>
                </a:lnTo>
                <a:lnTo>
                  <a:pt x="213" y="2430"/>
                </a:lnTo>
                <a:lnTo>
                  <a:pt x="207" y="2420"/>
                </a:lnTo>
                <a:lnTo>
                  <a:pt x="199" y="2410"/>
                </a:lnTo>
                <a:lnTo>
                  <a:pt x="192" y="2403"/>
                </a:lnTo>
                <a:lnTo>
                  <a:pt x="176" y="2383"/>
                </a:lnTo>
                <a:lnTo>
                  <a:pt x="159" y="2362"/>
                </a:lnTo>
                <a:lnTo>
                  <a:pt x="140" y="2343"/>
                </a:lnTo>
                <a:lnTo>
                  <a:pt x="119" y="2322"/>
                </a:lnTo>
                <a:lnTo>
                  <a:pt x="98" y="2299"/>
                </a:lnTo>
                <a:lnTo>
                  <a:pt x="84" y="2287"/>
                </a:lnTo>
                <a:lnTo>
                  <a:pt x="73" y="2278"/>
                </a:lnTo>
                <a:lnTo>
                  <a:pt x="61" y="2266"/>
                </a:lnTo>
                <a:lnTo>
                  <a:pt x="52" y="2259"/>
                </a:lnTo>
                <a:lnTo>
                  <a:pt x="42" y="2249"/>
                </a:lnTo>
                <a:lnTo>
                  <a:pt x="34" y="2241"/>
                </a:lnTo>
                <a:lnTo>
                  <a:pt x="27" y="2234"/>
                </a:lnTo>
                <a:lnTo>
                  <a:pt x="19" y="2226"/>
                </a:lnTo>
                <a:lnTo>
                  <a:pt x="13" y="2220"/>
                </a:lnTo>
                <a:lnTo>
                  <a:pt x="9" y="2215"/>
                </a:lnTo>
                <a:lnTo>
                  <a:pt x="5" y="2209"/>
                </a:lnTo>
                <a:lnTo>
                  <a:pt x="4" y="2203"/>
                </a:lnTo>
                <a:lnTo>
                  <a:pt x="2" y="2199"/>
                </a:lnTo>
                <a:lnTo>
                  <a:pt x="0" y="2195"/>
                </a:lnTo>
                <a:lnTo>
                  <a:pt x="2" y="2193"/>
                </a:lnTo>
                <a:lnTo>
                  <a:pt x="4" y="2192"/>
                </a:lnTo>
                <a:lnTo>
                  <a:pt x="4" y="2188"/>
                </a:lnTo>
                <a:lnTo>
                  <a:pt x="5" y="2186"/>
                </a:lnTo>
                <a:lnTo>
                  <a:pt x="9" y="2186"/>
                </a:lnTo>
                <a:lnTo>
                  <a:pt x="13" y="2186"/>
                </a:lnTo>
                <a:lnTo>
                  <a:pt x="17" y="2186"/>
                </a:lnTo>
                <a:lnTo>
                  <a:pt x="23" y="2186"/>
                </a:lnTo>
                <a:lnTo>
                  <a:pt x="28" y="2188"/>
                </a:lnTo>
                <a:lnTo>
                  <a:pt x="36" y="2188"/>
                </a:lnTo>
                <a:lnTo>
                  <a:pt x="44" y="2190"/>
                </a:lnTo>
                <a:lnTo>
                  <a:pt x="53" y="2192"/>
                </a:lnTo>
                <a:lnTo>
                  <a:pt x="63" y="2193"/>
                </a:lnTo>
                <a:lnTo>
                  <a:pt x="73" y="2195"/>
                </a:lnTo>
                <a:lnTo>
                  <a:pt x="84" y="2197"/>
                </a:lnTo>
                <a:lnTo>
                  <a:pt x="98" y="2199"/>
                </a:lnTo>
                <a:lnTo>
                  <a:pt x="111" y="2203"/>
                </a:lnTo>
                <a:lnTo>
                  <a:pt x="123" y="2207"/>
                </a:lnTo>
                <a:lnTo>
                  <a:pt x="136" y="2211"/>
                </a:lnTo>
                <a:lnTo>
                  <a:pt x="148" y="2215"/>
                </a:lnTo>
                <a:lnTo>
                  <a:pt x="159" y="2216"/>
                </a:lnTo>
                <a:lnTo>
                  <a:pt x="171" y="2218"/>
                </a:lnTo>
                <a:lnTo>
                  <a:pt x="180" y="2220"/>
                </a:lnTo>
                <a:lnTo>
                  <a:pt x="190" y="2222"/>
                </a:lnTo>
                <a:lnTo>
                  <a:pt x="199" y="2222"/>
                </a:lnTo>
                <a:lnTo>
                  <a:pt x="207" y="2222"/>
                </a:lnTo>
                <a:lnTo>
                  <a:pt x="215" y="2222"/>
                </a:lnTo>
                <a:lnTo>
                  <a:pt x="222" y="2222"/>
                </a:lnTo>
                <a:lnTo>
                  <a:pt x="230" y="2222"/>
                </a:lnTo>
                <a:lnTo>
                  <a:pt x="236" y="2220"/>
                </a:lnTo>
                <a:lnTo>
                  <a:pt x="242" y="2218"/>
                </a:lnTo>
                <a:lnTo>
                  <a:pt x="247" y="2216"/>
                </a:lnTo>
                <a:lnTo>
                  <a:pt x="253" y="2215"/>
                </a:lnTo>
                <a:lnTo>
                  <a:pt x="255" y="2211"/>
                </a:lnTo>
                <a:lnTo>
                  <a:pt x="257" y="2207"/>
                </a:lnTo>
                <a:lnTo>
                  <a:pt x="259" y="2199"/>
                </a:lnTo>
                <a:lnTo>
                  <a:pt x="263" y="2192"/>
                </a:lnTo>
                <a:lnTo>
                  <a:pt x="267" y="2182"/>
                </a:lnTo>
                <a:lnTo>
                  <a:pt x="268" y="2170"/>
                </a:lnTo>
                <a:lnTo>
                  <a:pt x="272" y="2157"/>
                </a:lnTo>
                <a:lnTo>
                  <a:pt x="276" y="2142"/>
                </a:lnTo>
                <a:lnTo>
                  <a:pt x="280" y="2124"/>
                </a:lnTo>
                <a:lnTo>
                  <a:pt x="282" y="2107"/>
                </a:lnTo>
                <a:lnTo>
                  <a:pt x="286" y="2086"/>
                </a:lnTo>
                <a:lnTo>
                  <a:pt x="290" y="2065"/>
                </a:lnTo>
                <a:lnTo>
                  <a:pt x="292" y="2042"/>
                </a:lnTo>
                <a:lnTo>
                  <a:pt x="293" y="2015"/>
                </a:lnTo>
                <a:lnTo>
                  <a:pt x="297" y="1988"/>
                </a:lnTo>
                <a:lnTo>
                  <a:pt x="299" y="1961"/>
                </a:lnTo>
                <a:lnTo>
                  <a:pt x="301" y="1946"/>
                </a:lnTo>
                <a:lnTo>
                  <a:pt x="301" y="1929"/>
                </a:lnTo>
                <a:lnTo>
                  <a:pt x="303" y="1911"/>
                </a:lnTo>
                <a:lnTo>
                  <a:pt x="303" y="1894"/>
                </a:lnTo>
                <a:lnTo>
                  <a:pt x="303" y="1875"/>
                </a:lnTo>
                <a:lnTo>
                  <a:pt x="305" y="1856"/>
                </a:lnTo>
                <a:lnTo>
                  <a:pt x="305" y="1835"/>
                </a:lnTo>
                <a:lnTo>
                  <a:pt x="307" y="1813"/>
                </a:lnTo>
                <a:lnTo>
                  <a:pt x="307" y="1792"/>
                </a:lnTo>
                <a:lnTo>
                  <a:pt x="307" y="1769"/>
                </a:lnTo>
                <a:lnTo>
                  <a:pt x="307" y="1744"/>
                </a:lnTo>
                <a:lnTo>
                  <a:pt x="309" y="1719"/>
                </a:lnTo>
                <a:lnTo>
                  <a:pt x="309" y="1694"/>
                </a:lnTo>
                <a:lnTo>
                  <a:pt x="309" y="1668"/>
                </a:lnTo>
                <a:lnTo>
                  <a:pt x="309" y="1639"/>
                </a:lnTo>
                <a:lnTo>
                  <a:pt x="311" y="1612"/>
                </a:lnTo>
                <a:lnTo>
                  <a:pt x="311" y="1581"/>
                </a:lnTo>
                <a:lnTo>
                  <a:pt x="311" y="1551"/>
                </a:lnTo>
                <a:lnTo>
                  <a:pt x="311" y="1520"/>
                </a:lnTo>
                <a:lnTo>
                  <a:pt x="311" y="1487"/>
                </a:lnTo>
                <a:lnTo>
                  <a:pt x="311" y="1455"/>
                </a:lnTo>
                <a:lnTo>
                  <a:pt x="311" y="1420"/>
                </a:lnTo>
                <a:lnTo>
                  <a:pt x="311" y="1386"/>
                </a:lnTo>
                <a:lnTo>
                  <a:pt x="311" y="1349"/>
                </a:lnTo>
                <a:lnTo>
                  <a:pt x="311" y="1313"/>
                </a:lnTo>
                <a:lnTo>
                  <a:pt x="311" y="1274"/>
                </a:lnTo>
                <a:lnTo>
                  <a:pt x="311" y="1236"/>
                </a:lnTo>
                <a:lnTo>
                  <a:pt x="311" y="1196"/>
                </a:lnTo>
                <a:lnTo>
                  <a:pt x="313" y="1155"/>
                </a:lnTo>
                <a:lnTo>
                  <a:pt x="313" y="1113"/>
                </a:lnTo>
                <a:lnTo>
                  <a:pt x="313" y="1071"/>
                </a:lnTo>
                <a:lnTo>
                  <a:pt x="313" y="1027"/>
                </a:lnTo>
                <a:lnTo>
                  <a:pt x="313" y="983"/>
                </a:lnTo>
                <a:lnTo>
                  <a:pt x="311" y="940"/>
                </a:lnTo>
                <a:lnTo>
                  <a:pt x="311" y="900"/>
                </a:lnTo>
                <a:lnTo>
                  <a:pt x="311" y="860"/>
                </a:lnTo>
                <a:lnTo>
                  <a:pt x="311" y="819"/>
                </a:lnTo>
                <a:lnTo>
                  <a:pt x="311" y="783"/>
                </a:lnTo>
                <a:lnTo>
                  <a:pt x="311" y="746"/>
                </a:lnTo>
                <a:lnTo>
                  <a:pt x="309" y="710"/>
                </a:lnTo>
                <a:lnTo>
                  <a:pt x="309" y="677"/>
                </a:lnTo>
                <a:lnTo>
                  <a:pt x="309" y="643"/>
                </a:lnTo>
                <a:lnTo>
                  <a:pt x="309" y="612"/>
                </a:lnTo>
                <a:lnTo>
                  <a:pt x="307" y="581"/>
                </a:lnTo>
                <a:lnTo>
                  <a:pt x="307" y="553"/>
                </a:lnTo>
                <a:lnTo>
                  <a:pt x="305" y="524"/>
                </a:lnTo>
                <a:lnTo>
                  <a:pt x="305" y="497"/>
                </a:lnTo>
                <a:lnTo>
                  <a:pt x="305" y="472"/>
                </a:lnTo>
                <a:lnTo>
                  <a:pt x="303" y="447"/>
                </a:lnTo>
                <a:lnTo>
                  <a:pt x="303" y="424"/>
                </a:lnTo>
                <a:lnTo>
                  <a:pt x="301" y="403"/>
                </a:lnTo>
                <a:lnTo>
                  <a:pt x="301" y="382"/>
                </a:lnTo>
                <a:lnTo>
                  <a:pt x="299" y="363"/>
                </a:lnTo>
                <a:lnTo>
                  <a:pt x="299" y="343"/>
                </a:lnTo>
                <a:lnTo>
                  <a:pt x="297" y="326"/>
                </a:lnTo>
                <a:lnTo>
                  <a:pt x="297" y="311"/>
                </a:lnTo>
                <a:lnTo>
                  <a:pt x="295" y="295"/>
                </a:lnTo>
                <a:lnTo>
                  <a:pt x="293" y="282"/>
                </a:lnTo>
                <a:lnTo>
                  <a:pt x="293" y="271"/>
                </a:lnTo>
                <a:lnTo>
                  <a:pt x="292" y="259"/>
                </a:lnTo>
                <a:lnTo>
                  <a:pt x="292" y="249"/>
                </a:lnTo>
                <a:lnTo>
                  <a:pt x="290" y="240"/>
                </a:lnTo>
                <a:lnTo>
                  <a:pt x="290" y="232"/>
                </a:lnTo>
                <a:lnTo>
                  <a:pt x="288" y="22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31"/>
          <p:cNvSpPr/>
          <p:nvPr/>
        </p:nvSpPr>
        <p:spPr>
          <a:xfrm>
            <a:off x="6222960" y="3424320"/>
            <a:ext cx="343080" cy="1004760"/>
          </a:xfrm>
          <a:custGeom>
            <a:avLst/>
            <a:gdLst/>
            <a:ahLst/>
            <a:rect l="l" t="t" r="r" b="b"/>
            <a:pathLst>
              <a:path w="432" h="1266">
                <a:moveTo>
                  <a:pt x="336" y="731"/>
                </a:moveTo>
                <a:lnTo>
                  <a:pt x="327" y="758"/>
                </a:lnTo>
                <a:lnTo>
                  <a:pt x="319" y="785"/>
                </a:lnTo>
                <a:lnTo>
                  <a:pt x="310" y="810"/>
                </a:lnTo>
                <a:lnTo>
                  <a:pt x="298" y="836"/>
                </a:lnTo>
                <a:lnTo>
                  <a:pt x="288" y="861"/>
                </a:lnTo>
                <a:lnTo>
                  <a:pt x="279" y="884"/>
                </a:lnTo>
                <a:lnTo>
                  <a:pt x="256" y="932"/>
                </a:lnTo>
                <a:lnTo>
                  <a:pt x="231" y="978"/>
                </a:lnTo>
                <a:lnTo>
                  <a:pt x="204" y="1023"/>
                </a:lnTo>
                <a:lnTo>
                  <a:pt x="177" y="1065"/>
                </a:lnTo>
                <a:lnTo>
                  <a:pt x="148" y="1107"/>
                </a:lnTo>
                <a:lnTo>
                  <a:pt x="133" y="1126"/>
                </a:lnTo>
                <a:lnTo>
                  <a:pt x="118" y="1145"/>
                </a:lnTo>
                <a:lnTo>
                  <a:pt x="104" y="1163"/>
                </a:lnTo>
                <a:lnTo>
                  <a:pt x="93" y="1180"/>
                </a:lnTo>
                <a:lnTo>
                  <a:pt x="79" y="1193"/>
                </a:lnTo>
                <a:lnTo>
                  <a:pt x="70" y="1207"/>
                </a:lnTo>
                <a:lnTo>
                  <a:pt x="58" y="1220"/>
                </a:lnTo>
                <a:lnTo>
                  <a:pt x="50" y="1232"/>
                </a:lnTo>
                <a:lnTo>
                  <a:pt x="41" y="1241"/>
                </a:lnTo>
                <a:lnTo>
                  <a:pt x="33" y="1249"/>
                </a:lnTo>
                <a:lnTo>
                  <a:pt x="27" y="1255"/>
                </a:lnTo>
                <a:lnTo>
                  <a:pt x="20" y="1261"/>
                </a:lnTo>
                <a:lnTo>
                  <a:pt x="16" y="1264"/>
                </a:lnTo>
                <a:lnTo>
                  <a:pt x="10" y="1266"/>
                </a:lnTo>
                <a:lnTo>
                  <a:pt x="6" y="1266"/>
                </a:lnTo>
                <a:lnTo>
                  <a:pt x="4" y="1264"/>
                </a:lnTo>
                <a:lnTo>
                  <a:pt x="2" y="1262"/>
                </a:lnTo>
                <a:lnTo>
                  <a:pt x="0" y="1259"/>
                </a:lnTo>
                <a:lnTo>
                  <a:pt x="0" y="1253"/>
                </a:lnTo>
                <a:lnTo>
                  <a:pt x="0" y="1247"/>
                </a:lnTo>
                <a:lnTo>
                  <a:pt x="0" y="1241"/>
                </a:lnTo>
                <a:lnTo>
                  <a:pt x="2" y="1234"/>
                </a:lnTo>
                <a:lnTo>
                  <a:pt x="4" y="1226"/>
                </a:lnTo>
                <a:lnTo>
                  <a:pt x="8" y="1216"/>
                </a:lnTo>
                <a:lnTo>
                  <a:pt x="12" y="1205"/>
                </a:lnTo>
                <a:lnTo>
                  <a:pt x="16" y="1193"/>
                </a:lnTo>
                <a:lnTo>
                  <a:pt x="22" y="1180"/>
                </a:lnTo>
                <a:lnTo>
                  <a:pt x="27" y="1165"/>
                </a:lnTo>
                <a:lnTo>
                  <a:pt x="35" y="1149"/>
                </a:lnTo>
                <a:lnTo>
                  <a:pt x="45" y="1132"/>
                </a:lnTo>
                <a:lnTo>
                  <a:pt x="54" y="1115"/>
                </a:lnTo>
                <a:lnTo>
                  <a:pt x="64" y="1095"/>
                </a:lnTo>
                <a:lnTo>
                  <a:pt x="75" y="1076"/>
                </a:lnTo>
                <a:lnTo>
                  <a:pt x="85" y="1057"/>
                </a:lnTo>
                <a:lnTo>
                  <a:pt x="104" y="1019"/>
                </a:lnTo>
                <a:lnTo>
                  <a:pt x="121" y="980"/>
                </a:lnTo>
                <a:lnTo>
                  <a:pt x="139" y="940"/>
                </a:lnTo>
                <a:lnTo>
                  <a:pt x="154" y="898"/>
                </a:lnTo>
                <a:lnTo>
                  <a:pt x="167" y="856"/>
                </a:lnTo>
                <a:lnTo>
                  <a:pt x="181" y="811"/>
                </a:lnTo>
                <a:lnTo>
                  <a:pt x="194" y="767"/>
                </a:lnTo>
                <a:lnTo>
                  <a:pt x="208" y="725"/>
                </a:lnTo>
                <a:lnTo>
                  <a:pt x="219" y="683"/>
                </a:lnTo>
                <a:lnTo>
                  <a:pt x="229" y="641"/>
                </a:lnTo>
                <a:lnTo>
                  <a:pt x="238" y="597"/>
                </a:lnTo>
                <a:lnTo>
                  <a:pt x="246" y="554"/>
                </a:lnTo>
                <a:lnTo>
                  <a:pt x="254" y="510"/>
                </a:lnTo>
                <a:lnTo>
                  <a:pt x="260" y="468"/>
                </a:lnTo>
                <a:lnTo>
                  <a:pt x="265" y="428"/>
                </a:lnTo>
                <a:lnTo>
                  <a:pt x="269" y="387"/>
                </a:lnTo>
                <a:lnTo>
                  <a:pt x="271" y="349"/>
                </a:lnTo>
                <a:lnTo>
                  <a:pt x="273" y="330"/>
                </a:lnTo>
                <a:lnTo>
                  <a:pt x="273" y="311"/>
                </a:lnTo>
                <a:lnTo>
                  <a:pt x="273" y="293"/>
                </a:lnTo>
                <a:lnTo>
                  <a:pt x="275" y="276"/>
                </a:lnTo>
                <a:lnTo>
                  <a:pt x="273" y="259"/>
                </a:lnTo>
                <a:lnTo>
                  <a:pt x="273" y="243"/>
                </a:lnTo>
                <a:lnTo>
                  <a:pt x="273" y="228"/>
                </a:lnTo>
                <a:lnTo>
                  <a:pt x="271" y="213"/>
                </a:lnTo>
                <a:lnTo>
                  <a:pt x="271" y="199"/>
                </a:lnTo>
                <a:lnTo>
                  <a:pt x="269" y="186"/>
                </a:lnTo>
                <a:lnTo>
                  <a:pt x="267" y="172"/>
                </a:lnTo>
                <a:lnTo>
                  <a:pt x="265" y="161"/>
                </a:lnTo>
                <a:lnTo>
                  <a:pt x="263" y="149"/>
                </a:lnTo>
                <a:lnTo>
                  <a:pt x="262" y="140"/>
                </a:lnTo>
                <a:lnTo>
                  <a:pt x="260" y="128"/>
                </a:lnTo>
                <a:lnTo>
                  <a:pt x="258" y="119"/>
                </a:lnTo>
                <a:lnTo>
                  <a:pt x="254" y="101"/>
                </a:lnTo>
                <a:lnTo>
                  <a:pt x="252" y="84"/>
                </a:lnTo>
                <a:lnTo>
                  <a:pt x="250" y="69"/>
                </a:lnTo>
                <a:lnTo>
                  <a:pt x="250" y="55"/>
                </a:lnTo>
                <a:lnTo>
                  <a:pt x="250" y="42"/>
                </a:lnTo>
                <a:lnTo>
                  <a:pt x="252" y="34"/>
                </a:lnTo>
                <a:lnTo>
                  <a:pt x="254" y="28"/>
                </a:lnTo>
                <a:lnTo>
                  <a:pt x="256" y="21"/>
                </a:lnTo>
                <a:lnTo>
                  <a:pt x="260" y="15"/>
                </a:lnTo>
                <a:lnTo>
                  <a:pt x="265" y="11"/>
                </a:lnTo>
                <a:lnTo>
                  <a:pt x="271" y="7"/>
                </a:lnTo>
                <a:lnTo>
                  <a:pt x="279" y="4"/>
                </a:lnTo>
                <a:lnTo>
                  <a:pt x="286" y="2"/>
                </a:lnTo>
                <a:lnTo>
                  <a:pt x="296" y="0"/>
                </a:lnTo>
                <a:lnTo>
                  <a:pt x="308" y="0"/>
                </a:lnTo>
                <a:lnTo>
                  <a:pt x="319" y="0"/>
                </a:lnTo>
                <a:lnTo>
                  <a:pt x="331" y="2"/>
                </a:lnTo>
                <a:lnTo>
                  <a:pt x="346" y="4"/>
                </a:lnTo>
                <a:lnTo>
                  <a:pt x="359" y="7"/>
                </a:lnTo>
                <a:lnTo>
                  <a:pt x="377" y="11"/>
                </a:lnTo>
                <a:lnTo>
                  <a:pt x="394" y="15"/>
                </a:lnTo>
                <a:lnTo>
                  <a:pt x="411" y="21"/>
                </a:lnTo>
                <a:lnTo>
                  <a:pt x="432" y="28"/>
                </a:lnTo>
                <a:lnTo>
                  <a:pt x="430" y="57"/>
                </a:lnTo>
                <a:lnTo>
                  <a:pt x="429" y="86"/>
                </a:lnTo>
                <a:lnTo>
                  <a:pt x="429" y="113"/>
                </a:lnTo>
                <a:lnTo>
                  <a:pt x="427" y="142"/>
                </a:lnTo>
                <a:lnTo>
                  <a:pt x="425" y="169"/>
                </a:lnTo>
                <a:lnTo>
                  <a:pt x="423" y="195"/>
                </a:lnTo>
                <a:lnTo>
                  <a:pt x="421" y="222"/>
                </a:lnTo>
                <a:lnTo>
                  <a:pt x="421" y="247"/>
                </a:lnTo>
                <a:lnTo>
                  <a:pt x="417" y="299"/>
                </a:lnTo>
                <a:lnTo>
                  <a:pt x="411" y="347"/>
                </a:lnTo>
                <a:lnTo>
                  <a:pt x="407" y="393"/>
                </a:lnTo>
                <a:lnTo>
                  <a:pt x="402" y="437"/>
                </a:lnTo>
                <a:lnTo>
                  <a:pt x="396" y="481"/>
                </a:lnTo>
                <a:lnTo>
                  <a:pt x="390" y="522"/>
                </a:lnTo>
                <a:lnTo>
                  <a:pt x="382" y="560"/>
                </a:lnTo>
                <a:lnTo>
                  <a:pt x="375" y="598"/>
                </a:lnTo>
                <a:lnTo>
                  <a:pt x="365" y="635"/>
                </a:lnTo>
                <a:lnTo>
                  <a:pt x="358" y="668"/>
                </a:lnTo>
                <a:lnTo>
                  <a:pt x="348" y="700"/>
                </a:lnTo>
                <a:lnTo>
                  <a:pt x="336" y="73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32"/>
          <p:cNvSpPr/>
          <p:nvPr/>
        </p:nvSpPr>
        <p:spPr>
          <a:xfrm>
            <a:off x="7157880" y="2936880"/>
            <a:ext cx="254160" cy="193680"/>
          </a:xfrm>
          <a:custGeom>
            <a:avLst/>
            <a:gdLst/>
            <a:ahLst/>
            <a:rect l="l" t="t" r="r" b="b"/>
            <a:pathLst>
              <a:path w="321" h="243">
                <a:moveTo>
                  <a:pt x="0" y="0"/>
                </a:moveTo>
                <a:lnTo>
                  <a:pt x="23" y="0"/>
                </a:lnTo>
                <a:lnTo>
                  <a:pt x="46" y="0"/>
                </a:lnTo>
                <a:lnTo>
                  <a:pt x="69" y="0"/>
                </a:lnTo>
                <a:lnTo>
                  <a:pt x="88" y="2"/>
                </a:lnTo>
                <a:lnTo>
                  <a:pt x="110" y="3"/>
                </a:lnTo>
                <a:lnTo>
                  <a:pt x="127" y="3"/>
                </a:lnTo>
                <a:lnTo>
                  <a:pt x="144" y="7"/>
                </a:lnTo>
                <a:lnTo>
                  <a:pt x="161" y="9"/>
                </a:lnTo>
                <a:lnTo>
                  <a:pt x="177" y="13"/>
                </a:lnTo>
                <a:lnTo>
                  <a:pt x="192" y="15"/>
                </a:lnTo>
                <a:lnTo>
                  <a:pt x="206" y="19"/>
                </a:lnTo>
                <a:lnTo>
                  <a:pt x="219" y="25"/>
                </a:lnTo>
                <a:lnTo>
                  <a:pt x="231" y="28"/>
                </a:lnTo>
                <a:lnTo>
                  <a:pt x="240" y="34"/>
                </a:lnTo>
                <a:lnTo>
                  <a:pt x="252" y="42"/>
                </a:lnTo>
                <a:lnTo>
                  <a:pt x="261" y="48"/>
                </a:lnTo>
                <a:lnTo>
                  <a:pt x="273" y="61"/>
                </a:lnTo>
                <a:lnTo>
                  <a:pt x="284" y="74"/>
                </a:lnTo>
                <a:lnTo>
                  <a:pt x="294" y="88"/>
                </a:lnTo>
                <a:lnTo>
                  <a:pt x="304" y="101"/>
                </a:lnTo>
                <a:lnTo>
                  <a:pt x="311" y="117"/>
                </a:lnTo>
                <a:lnTo>
                  <a:pt x="313" y="122"/>
                </a:lnTo>
                <a:lnTo>
                  <a:pt x="315" y="130"/>
                </a:lnTo>
                <a:lnTo>
                  <a:pt x="317" y="136"/>
                </a:lnTo>
                <a:lnTo>
                  <a:pt x="319" y="144"/>
                </a:lnTo>
                <a:lnTo>
                  <a:pt x="319" y="149"/>
                </a:lnTo>
                <a:lnTo>
                  <a:pt x="321" y="157"/>
                </a:lnTo>
                <a:lnTo>
                  <a:pt x="321" y="165"/>
                </a:lnTo>
                <a:lnTo>
                  <a:pt x="321" y="172"/>
                </a:lnTo>
                <a:lnTo>
                  <a:pt x="319" y="182"/>
                </a:lnTo>
                <a:lnTo>
                  <a:pt x="319" y="188"/>
                </a:lnTo>
                <a:lnTo>
                  <a:pt x="319" y="195"/>
                </a:lnTo>
                <a:lnTo>
                  <a:pt x="319" y="201"/>
                </a:lnTo>
                <a:lnTo>
                  <a:pt x="319" y="213"/>
                </a:lnTo>
                <a:lnTo>
                  <a:pt x="317" y="222"/>
                </a:lnTo>
                <a:lnTo>
                  <a:pt x="315" y="230"/>
                </a:lnTo>
                <a:lnTo>
                  <a:pt x="313" y="236"/>
                </a:lnTo>
                <a:lnTo>
                  <a:pt x="309" y="241"/>
                </a:lnTo>
                <a:lnTo>
                  <a:pt x="305" y="243"/>
                </a:lnTo>
                <a:lnTo>
                  <a:pt x="302" y="243"/>
                </a:lnTo>
                <a:lnTo>
                  <a:pt x="298" y="243"/>
                </a:lnTo>
                <a:lnTo>
                  <a:pt x="290" y="241"/>
                </a:lnTo>
                <a:lnTo>
                  <a:pt x="284" y="239"/>
                </a:lnTo>
                <a:lnTo>
                  <a:pt x="275" y="236"/>
                </a:lnTo>
                <a:lnTo>
                  <a:pt x="267" y="232"/>
                </a:lnTo>
                <a:lnTo>
                  <a:pt x="256" y="226"/>
                </a:lnTo>
                <a:lnTo>
                  <a:pt x="246" y="220"/>
                </a:lnTo>
                <a:lnTo>
                  <a:pt x="232" y="215"/>
                </a:lnTo>
                <a:lnTo>
                  <a:pt x="221" y="207"/>
                </a:lnTo>
                <a:lnTo>
                  <a:pt x="206" y="197"/>
                </a:lnTo>
                <a:lnTo>
                  <a:pt x="192" y="188"/>
                </a:lnTo>
                <a:lnTo>
                  <a:pt x="177" y="178"/>
                </a:lnTo>
                <a:lnTo>
                  <a:pt x="160" y="167"/>
                </a:lnTo>
                <a:lnTo>
                  <a:pt x="142" y="157"/>
                </a:lnTo>
                <a:lnTo>
                  <a:pt x="125" y="145"/>
                </a:lnTo>
                <a:lnTo>
                  <a:pt x="110" y="134"/>
                </a:lnTo>
                <a:lnTo>
                  <a:pt x="94" y="122"/>
                </a:lnTo>
                <a:lnTo>
                  <a:pt x="81" y="111"/>
                </a:lnTo>
                <a:lnTo>
                  <a:pt x="67" y="99"/>
                </a:lnTo>
                <a:lnTo>
                  <a:pt x="56" y="90"/>
                </a:lnTo>
                <a:lnTo>
                  <a:pt x="46" y="78"/>
                </a:lnTo>
                <a:lnTo>
                  <a:pt x="37" y="69"/>
                </a:lnTo>
                <a:lnTo>
                  <a:pt x="27" y="57"/>
                </a:lnTo>
                <a:lnTo>
                  <a:pt x="21" y="48"/>
                </a:lnTo>
                <a:lnTo>
                  <a:pt x="14" y="40"/>
                </a:lnTo>
                <a:lnTo>
                  <a:pt x="10" y="30"/>
                </a:lnTo>
                <a:lnTo>
                  <a:pt x="6" y="21"/>
                </a:lnTo>
                <a:lnTo>
                  <a:pt x="2" y="13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33"/>
          <p:cNvSpPr/>
          <p:nvPr/>
        </p:nvSpPr>
        <p:spPr>
          <a:xfrm>
            <a:off x="6611760" y="3637080"/>
            <a:ext cx="301680" cy="117360"/>
          </a:xfrm>
          <a:custGeom>
            <a:avLst/>
            <a:gdLst/>
            <a:ahLst/>
            <a:rect l="l" t="t" r="r" b="b"/>
            <a:pathLst>
              <a:path w="378" h="148">
                <a:moveTo>
                  <a:pt x="0" y="100"/>
                </a:moveTo>
                <a:lnTo>
                  <a:pt x="19" y="92"/>
                </a:lnTo>
                <a:lnTo>
                  <a:pt x="38" y="85"/>
                </a:lnTo>
                <a:lnTo>
                  <a:pt x="56" y="79"/>
                </a:lnTo>
                <a:lnTo>
                  <a:pt x="75" y="73"/>
                </a:lnTo>
                <a:lnTo>
                  <a:pt x="92" y="68"/>
                </a:lnTo>
                <a:lnTo>
                  <a:pt x="109" y="62"/>
                </a:lnTo>
                <a:lnTo>
                  <a:pt x="125" y="56"/>
                </a:lnTo>
                <a:lnTo>
                  <a:pt x="142" y="50"/>
                </a:lnTo>
                <a:lnTo>
                  <a:pt x="157" y="46"/>
                </a:lnTo>
                <a:lnTo>
                  <a:pt x="171" y="41"/>
                </a:lnTo>
                <a:lnTo>
                  <a:pt x="186" y="37"/>
                </a:lnTo>
                <a:lnTo>
                  <a:pt x="200" y="33"/>
                </a:lnTo>
                <a:lnTo>
                  <a:pt x="213" y="29"/>
                </a:lnTo>
                <a:lnTo>
                  <a:pt x="225" y="25"/>
                </a:lnTo>
                <a:lnTo>
                  <a:pt x="236" y="21"/>
                </a:lnTo>
                <a:lnTo>
                  <a:pt x="248" y="18"/>
                </a:lnTo>
                <a:lnTo>
                  <a:pt x="259" y="16"/>
                </a:lnTo>
                <a:lnTo>
                  <a:pt x="269" y="12"/>
                </a:lnTo>
                <a:lnTo>
                  <a:pt x="278" y="10"/>
                </a:lnTo>
                <a:lnTo>
                  <a:pt x="288" y="8"/>
                </a:lnTo>
                <a:lnTo>
                  <a:pt x="297" y="6"/>
                </a:lnTo>
                <a:lnTo>
                  <a:pt x="305" y="4"/>
                </a:lnTo>
                <a:lnTo>
                  <a:pt x="313" y="2"/>
                </a:lnTo>
                <a:lnTo>
                  <a:pt x="319" y="2"/>
                </a:lnTo>
                <a:lnTo>
                  <a:pt x="326" y="0"/>
                </a:lnTo>
                <a:lnTo>
                  <a:pt x="332" y="0"/>
                </a:lnTo>
                <a:lnTo>
                  <a:pt x="338" y="0"/>
                </a:lnTo>
                <a:lnTo>
                  <a:pt x="342" y="0"/>
                </a:lnTo>
                <a:lnTo>
                  <a:pt x="345" y="0"/>
                </a:lnTo>
                <a:lnTo>
                  <a:pt x="349" y="0"/>
                </a:lnTo>
                <a:lnTo>
                  <a:pt x="353" y="0"/>
                </a:lnTo>
                <a:lnTo>
                  <a:pt x="355" y="2"/>
                </a:lnTo>
                <a:lnTo>
                  <a:pt x="359" y="8"/>
                </a:lnTo>
                <a:lnTo>
                  <a:pt x="363" y="14"/>
                </a:lnTo>
                <a:lnTo>
                  <a:pt x="367" y="20"/>
                </a:lnTo>
                <a:lnTo>
                  <a:pt x="370" y="27"/>
                </a:lnTo>
                <a:lnTo>
                  <a:pt x="374" y="33"/>
                </a:lnTo>
                <a:lnTo>
                  <a:pt x="376" y="39"/>
                </a:lnTo>
                <a:lnTo>
                  <a:pt x="378" y="45"/>
                </a:lnTo>
                <a:lnTo>
                  <a:pt x="378" y="50"/>
                </a:lnTo>
                <a:lnTo>
                  <a:pt x="378" y="54"/>
                </a:lnTo>
                <a:lnTo>
                  <a:pt x="376" y="60"/>
                </a:lnTo>
                <a:lnTo>
                  <a:pt x="376" y="64"/>
                </a:lnTo>
                <a:lnTo>
                  <a:pt x="374" y="68"/>
                </a:lnTo>
                <a:lnTo>
                  <a:pt x="372" y="73"/>
                </a:lnTo>
                <a:lnTo>
                  <a:pt x="369" y="77"/>
                </a:lnTo>
                <a:lnTo>
                  <a:pt x="361" y="85"/>
                </a:lnTo>
                <a:lnTo>
                  <a:pt x="353" y="92"/>
                </a:lnTo>
                <a:lnTo>
                  <a:pt x="344" y="100"/>
                </a:lnTo>
                <a:lnTo>
                  <a:pt x="332" y="106"/>
                </a:lnTo>
                <a:lnTo>
                  <a:pt x="319" y="112"/>
                </a:lnTo>
                <a:lnTo>
                  <a:pt x="301" y="119"/>
                </a:lnTo>
                <a:lnTo>
                  <a:pt x="280" y="127"/>
                </a:lnTo>
                <a:lnTo>
                  <a:pt x="261" y="133"/>
                </a:lnTo>
                <a:lnTo>
                  <a:pt x="238" y="139"/>
                </a:lnTo>
                <a:lnTo>
                  <a:pt x="217" y="142"/>
                </a:lnTo>
                <a:lnTo>
                  <a:pt x="192" y="144"/>
                </a:lnTo>
                <a:lnTo>
                  <a:pt x="167" y="146"/>
                </a:lnTo>
                <a:lnTo>
                  <a:pt x="142" y="148"/>
                </a:lnTo>
                <a:lnTo>
                  <a:pt x="129" y="146"/>
                </a:lnTo>
                <a:lnTo>
                  <a:pt x="115" y="146"/>
                </a:lnTo>
                <a:lnTo>
                  <a:pt x="104" y="146"/>
                </a:lnTo>
                <a:lnTo>
                  <a:pt x="92" y="144"/>
                </a:lnTo>
                <a:lnTo>
                  <a:pt x="81" y="144"/>
                </a:lnTo>
                <a:lnTo>
                  <a:pt x="71" y="142"/>
                </a:lnTo>
                <a:lnTo>
                  <a:pt x="61" y="139"/>
                </a:lnTo>
                <a:lnTo>
                  <a:pt x="52" y="137"/>
                </a:lnTo>
                <a:lnTo>
                  <a:pt x="44" y="135"/>
                </a:lnTo>
                <a:lnTo>
                  <a:pt x="34" y="131"/>
                </a:lnTo>
                <a:lnTo>
                  <a:pt x="29" y="127"/>
                </a:lnTo>
                <a:lnTo>
                  <a:pt x="21" y="121"/>
                </a:lnTo>
                <a:lnTo>
                  <a:pt x="15" y="117"/>
                </a:lnTo>
                <a:lnTo>
                  <a:pt x="9" y="112"/>
                </a:lnTo>
                <a:lnTo>
                  <a:pt x="4" y="106"/>
                </a:lnTo>
                <a:lnTo>
                  <a:pt x="0" y="10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34"/>
          <p:cNvSpPr/>
          <p:nvPr/>
        </p:nvSpPr>
        <p:spPr>
          <a:xfrm>
            <a:off x="6261120" y="4481640"/>
            <a:ext cx="193680" cy="420480"/>
          </a:xfrm>
          <a:custGeom>
            <a:avLst/>
            <a:gdLst/>
            <a:ahLst/>
            <a:rect l="l" t="t" r="r" b="b"/>
            <a:pathLst>
              <a:path w="244" h="529">
                <a:moveTo>
                  <a:pt x="41" y="284"/>
                </a:moveTo>
                <a:lnTo>
                  <a:pt x="47" y="276"/>
                </a:lnTo>
                <a:lnTo>
                  <a:pt x="52" y="268"/>
                </a:lnTo>
                <a:lnTo>
                  <a:pt x="58" y="261"/>
                </a:lnTo>
                <a:lnTo>
                  <a:pt x="62" y="253"/>
                </a:lnTo>
                <a:lnTo>
                  <a:pt x="66" y="243"/>
                </a:lnTo>
                <a:lnTo>
                  <a:pt x="71" y="234"/>
                </a:lnTo>
                <a:lnTo>
                  <a:pt x="79" y="213"/>
                </a:lnTo>
                <a:lnTo>
                  <a:pt x="85" y="190"/>
                </a:lnTo>
                <a:lnTo>
                  <a:pt x="91" y="167"/>
                </a:lnTo>
                <a:lnTo>
                  <a:pt x="94" y="140"/>
                </a:lnTo>
                <a:lnTo>
                  <a:pt x="100" y="115"/>
                </a:lnTo>
                <a:lnTo>
                  <a:pt x="102" y="103"/>
                </a:lnTo>
                <a:lnTo>
                  <a:pt x="104" y="92"/>
                </a:lnTo>
                <a:lnTo>
                  <a:pt x="106" y="82"/>
                </a:lnTo>
                <a:lnTo>
                  <a:pt x="108" y="72"/>
                </a:lnTo>
                <a:lnTo>
                  <a:pt x="110" y="65"/>
                </a:lnTo>
                <a:lnTo>
                  <a:pt x="112" y="55"/>
                </a:lnTo>
                <a:lnTo>
                  <a:pt x="114" y="48"/>
                </a:lnTo>
                <a:lnTo>
                  <a:pt x="118" y="42"/>
                </a:lnTo>
                <a:lnTo>
                  <a:pt x="119" y="34"/>
                </a:lnTo>
                <a:lnTo>
                  <a:pt x="121" y="28"/>
                </a:lnTo>
                <a:lnTo>
                  <a:pt x="123" y="23"/>
                </a:lnTo>
                <a:lnTo>
                  <a:pt x="125" y="19"/>
                </a:lnTo>
                <a:lnTo>
                  <a:pt x="127" y="13"/>
                </a:lnTo>
                <a:lnTo>
                  <a:pt x="131" y="11"/>
                </a:lnTo>
                <a:lnTo>
                  <a:pt x="133" y="7"/>
                </a:lnTo>
                <a:lnTo>
                  <a:pt x="135" y="5"/>
                </a:lnTo>
                <a:lnTo>
                  <a:pt x="137" y="3"/>
                </a:lnTo>
                <a:lnTo>
                  <a:pt x="141" y="1"/>
                </a:lnTo>
                <a:lnTo>
                  <a:pt x="146" y="0"/>
                </a:lnTo>
                <a:lnTo>
                  <a:pt x="152" y="0"/>
                </a:lnTo>
                <a:lnTo>
                  <a:pt x="160" y="1"/>
                </a:lnTo>
                <a:lnTo>
                  <a:pt x="167" y="5"/>
                </a:lnTo>
                <a:lnTo>
                  <a:pt x="177" y="7"/>
                </a:lnTo>
                <a:lnTo>
                  <a:pt x="185" y="13"/>
                </a:lnTo>
                <a:lnTo>
                  <a:pt x="194" y="17"/>
                </a:lnTo>
                <a:lnTo>
                  <a:pt x="198" y="26"/>
                </a:lnTo>
                <a:lnTo>
                  <a:pt x="204" y="38"/>
                </a:lnTo>
                <a:lnTo>
                  <a:pt x="212" y="48"/>
                </a:lnTo>
                <a:lnTo>
                  <a:pt x="217" y="61"/>
                </a:lnTo>
                <a:lnTo>
                  <a:pt x="225" y="72"/>
                </a:lnTo>
                <a:lnTo>
                  <a:pt x="231" y="86"/>
                </a:lnTo>
                <a:lnTo>
                  <a:pt x="237" y="99"/>
                </a:lnTo>
                <a:lnTo>
                  <a:pt x="242" y="115"/>
                </a:lnTo>
                <a:lnTo>
                  <a:pt x="242" y="122"/>
                </a:lnTo>
                <a:lnTo>
                  <a:pt x="244" y="134"/>
                </a:lnTo>
                <a:lnTo>
                  <a:pt x="244" y="143"/>
                </a:lnTo>
                <a:lnTo>
                  <a:pt x="244" y="155"/>
                </a:lnTo>
                <a:lnTo>
                  <a:pt x="242" y="167"/>
                </a:lnTo>
                <a:lnTo>
                  <a:pt x="240" y="180"/>
                </a:lnTo>
                <a:lnTo>
                  <a:pt x="238" y="193"/>
                </a:lnTo>
                <a:lnTo>
                  <a:pt x="235" y="207"/>
                </a:lnTo>
                <a:lnTo>
                  <a:pt x="231" y="220"/>
                </a:lnTo>
                <a:lnTo>
                  <a:pt x="227" y="236"/>
                </a:lnTo>
                <a:lnTo>
                  <a:pt x="223" y="253"/>
                </a:lnTo>
                <a:lnTo>
                  <a:pt x="217" y="268"/>
                </a:lnTo>
                <a:lnTo>
                  <a:pt x="212" y="285"/>
                </a:lnTo>
                <a:lnTo>
                  <a:pt x="206" y="305"/>
                </a:lnTo>
                <a:lnTo>
                  <a:pt x="200" y="324"/>
                </a:lnTo>
                <a:lnTo>
                  <a:pt x="194" y="345"/>
                </a:lnTo>
                <a:lnTo>
                  <a:pt x="187" y="364"/>
                </a:lnTo>
                <a:lnTo>
                  <a:pt x="181" y="383"/>
                </a:lnTo>
                <a:lnTo>
                  <a:pt x="173" y="401"/>
                </a:lnTo>
                <a:lnTo>
                  <a:pt x="167" y="416"/>
                </a:lnTo>
                <a:lnTo>
                  <a:pt x="162" y="431"/>
                </a:lnTo>
                <a:lnTo>
                  <a:pt x="154" y="447"/>
                </a:lnTo>
                <a:lnTo>
                  <a:pt x="148" y="460"/>
                </a:lnTo>
                <a:lnTo>
                  <a:pt x="142" y="472"/>
                </a:lnTo>
                <a:lnTo>
                  <a:pt x="137" y="483"/>
                </a:lnTo>
                <a:lnTo>
                  <a:pt x="131" y="493"/>
                </a:lnTo>
                <a:lnTo>
                  <a:pt x="125" y="500"/>
                </a:lnTo>
                <a:lnTo>
                  <a:pt x="119" y="508"/>
                </a:lnTo>
                <a:lnTo>
                  <a:pt x="114" y="514"/>
                </a:lnTo>
                <a:lnTo>
                  <a:pt x="108" y="520"/>
                </a:lnTo>
                <a:lnTo>
                  <a:pt x="104" y="523"/>
                </a:lnTo>
                <a:lnTo>
                  <a:pt x="100" y="525"/>
                </a:lnTo>
                <a:lnTo>
                  <a:pt x="94" y="527"/>
                </a:lnTo>
                <a:lnTo>
                  <a:pt x="91" y="529"/>
                </a:lnTo>
                <a:lnTo>
                  <a:pt x="87" y="529"/>
                </a:lnTo>
                <a:lnTo>
                  <a:pt x="81" y="529"/>
                </a:lnTo>
                <a:lnTo>
                  <a:pt x="77" y="527"/>
                </a:lnTo>
                <a:lnTo>
                  <a:pt x="73" y="525"/>
                </a:lnTo>
                <a:lnTo>
                  <a:pt x="70" y="523"/>
                </a:lnTo>
                <a:lnTo>
                  <a:pt x="66" y="520"/>
                </a:lnTo>
                <a:lnTo>
                  <a:pt x="62" y="516"/>
                </a:lnTo>
                <a:lnTo>
                  <a:pt x="58" y="512"/>
                </a:lnTo>
                <a:lnTo>
                  <a:pt x="54" y="508"/>
                </a:lnTo>
                <a:lnTo>
                  <a:pt x="50" y="502"/>
                </a:lnTo>
                <a:lnTo>
                  <a:pt x="45" y="491"/>
                </a:lnTo>
                <a:lnTo>
                  <a:pt x="41" y="477"/>
                </a:lnTo>
                <a:lnTo>
                  <a:pt x="31" y="464"/>
                </a:lnTo>
                <a:lnTo>
                  <a:pt x="23" y="451"/>
                </a:lnTo>
                <a:lnTo>
                  <a:pt x="18" y="437"/>
                </a:lnTo>
                <a:lnTo>
                  <a:pt x="14" y="424"/>
                </a:lnTo>
                <a:lnTo>
                  <a:pt x="10" y="412"/>
                </a:lnTo>
                <a:lnTo>
                  <a:pt x="6" y="401"/>
                </a:lnTo>
                <a:lnTo>
                  <a:pt x="4" y="391"/>
                </a:lnTo>
                <a:lnTo>
                  <a:pt x="4" y="381"/>
                </a:lnTo>
                <a:lnTo>
                  <a:pt x="2" y="376"/>
                </a:lnTo>
                <a:lnTo>
                  <a:pt x="0" y="372"/>
                </a:lnTo>
                <a:lnTo>
                  <a:pt x="0" y="366"/>
                </a:lnTo>
                <a:lnTo>
                  <a:pt x="0" y="360"/>
                </a:lnTo>
                <a:lnTo>
                  <a:pt x="0" y="355"/>
                </a:lnTo>
                <a:lnTo>
                  <a:pt x="0" y="349"/>
                </a:lnTo>
                <a:lnTo>
                  <a:pt x="2" y="343"/>
                </a:lnTo>
                <a:lnTo>
                  <a:pt x="4" y="337"/>
                </a:lnTo>
                <a:lnTo>
                  <a:pt x="6" y="330"/>
                </a:lnTo>
                <a:lnTo>
                  <a:pt x="10" y="324"/>
                </a:lnTo>
                <a:lnTo>
                  <a:pt x="14" y="318"/>
                </a:lnTo>
                <a:lnTo>
                  <a:pt x="18" y="310"/>
                </a:lnTo>
                <a:lnTo>
                  <a:pt x="22" y="305"/>
                </a:lnTo>
                <a:lnTo>
                  <a:pt x="27" y="297"/>
                </a:lnTo>
                <a:lnTo>
                  <a:pt x="33" y="291"/>
                </a:lnTo>
                <a:lnTo>
                  <a:pt x="41" y="28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35"/>
          <p:cNvSpPr/>
          <p:nvPr/>
        </p:nvSpPr>
        <p:spPr>
          <a:xfrm>
            <a:off x="6781680" y="4370400"/>
            <a:ext cx="266760" cy="231840"/>
          </a:xfrm>
          <a:custGeom>
            <a:avLst/>
            <a:gdLst/>
            <a:ahLst/>
            <a:rect l="l" t="t" r="r" b="b"/>
            <a:pathLst>
              <a:path w="336" h="292">
                <a:moveTo>
                  <a:pt x="0" y="37"/>
                </a:moveTo>
                <a:lnTo>
                  <a:pt x="0" y="27"/>
                </a:lnTo>
                <a:lnTo>
                  <a:pt x="2" y="22"/>
                </a:lnTo>
                <a:lnTo>
                  <a:pt x="4" y="14"/>
                </a:lnTo>
                <a:lnTo>
                  <a:pt x="8" y="10"/>
                </a:lnTo>
                <a:lnTo>
                  <a:pt x="13" y="6"/>
                </a:lnTo>
                <a:lnTo>
                  <a:pt x="19" y="2"/>
                </a:lnTo>
                <a:lnTo>
                  <a:pt x="27" y="0"/>
                </a:lnTo>
                <a:lnTo>
                  <a:pt x="36" y="0"/>
                </a:lnTo>
                <a:lnTo>
                  <a:pt x="38" y="0"/>
                </a:lnTo>
                <a:lnTo>
                  <a:pt x="42" y="0"/>
                </a:lnTo>
                <a:lnTo>
                  <a:pt x="46" y="2"/>
                </a:lnTo>
                <a:lnTo>
                  <a:pt x="50" y="2"/>
                </a:lnTo>
                <a:lnTo>
                  <a:pt x="56" y="4"/>
                </a:lnTo>
                <a:lnTo>
                  <a:pt x="61" y="4"/>
                </a:lnTo>
                <a:lnTo>
                  <a:pt x="69" y="6"/>
                </a:lnTo>
                <a:lnTo>
                  <a:pt x="77" y="8"/>
                </a:lnTo>
                <a:lnTo>
                  <a:pt x="84" y="10"/>
                </a:lnTo>
                <a:lnTo>
                  <a:pt x="94" y="12"/>
                </a:lnTo>
                <a:lnTo>
                  <a:pt x="102" y="14"/>
                </a:lnTo>
                <a:lnTo>
                  <a:pt x="111" y="16"/>
                </a:lnTo>
                <a:lnTo>
                  <a:pt x="132" y="20"/>
                </a:lnTo>
                <a:lnTo>
                  <a:pt x="154" y="25"/>
                </a:lnTo>
                <a:lnTo>
                  <a:pt x="175" y="35"/>
                </a:lnTo>
                <a:lnTo>
                  <a:pt x="196" y="45"/>
                </a:lnTo>
                <a:lnTo>
                  <a:pt x="215" y="56"/>
                </a:lnTo>
                <a:lnTo>
                  <a:pt x="234" y="70"/>
                </a:lnTo>
                <a:lnTo>
                  <a:pt x="251" y="81"/>
                </a:lnTo>
                <a:lnTo>
                  <a:pt x="267" y="94"/>
                </a:lnTo>
                <a:lnTo>
                  <a:pt x="282" y="108"/>
                </a:lnTo>
                <a:lnTo>
                  <a:pt x="296" y="121"/>
                </a:lnTo>
                <a:lnTo>
                  <a:pt x="301" y="131"/>
                </a:lnTo>
                <a:lnTo>
                  <a:pt x="307" y="139"/>
                </a:lnTo>
                <a:lnTo>
                  <a:pt x="313" y="148"/>
                </a:lnTo>
                <a:lnTo>
                  <a:pt x="319" y="156"/>
                </a:lnTo>
                <a:lnTo>
                  <a:pt x="323" y="164"/>
                </a:lnTo>
                <a:lnTo>
                  <a:pt x="326" y="171"/>
                </a:lnTo>
                <a:lnTo>
                  <a:pt x="328" y="179"/>
                </a:lnTo>
                <a:lnTo>
                  <a:pt x="330" y="187"/>
                </a:lnTo>
                <a:lnTo>
                  <a:pt x="332" y="194"/>
                </a:lnTo>
                <a:lnTo>
                  <a:pt x="334" y="200"/>
                </a:lnTo>
                <a:lnTo>
                  <a:pt x="336" y="208"/>
                </a:lnTo>
                <a:lnTo>
                  <a:pt x="336" y="215"/>
                </a:lnTo>
                <a:lnTo>
                  <a:pt x="336" y="221"/>
                </a:lnTo>
                <a:lnTo>
                  <a:pt x="334" y="229"/>
                </a:lnTo>
                <a:lnTo>
                  <a:pt x="334" y="235"/>
                </a:lnTo>
                <a:lnTo>
                  <a:pt x="332" y="242"/>
                </a:lnTo>
                <a:lnTo>
                  <a:pt x="328" y="248"/>
                </a:lnTo>
                <a:lnTo>
                  <a:pt x="326" y="256"/>
                </a:lnTo>
                <a:lnTo>
                  <a:pt x="324" y="260"/>
                </a:lnTo>
                <a:lnTo>
                  <a:pt x="323" y="265"/>
                </a:lnTo>
                <a:lnTo>
                  <a:pt x="321" y="269"/>
                </a:lnTo>
                <a:lnTo>
                  <a:pt x="317" y="273"/>
                </a:lnTo>
                <a:lnTo>
                  <a:pt x="313" y="281"/>
                </a:lnTo>
                <a:lnTo>
                  <a:pt x="305" y="284"/>
                </a:lnTo>
                <a:lnTo>
                  <a:pt x="299" y="288"/>
                </a:lnTo>
                <a:lnTo>
                  <a:pt x="292" y="290"/>
                </a:lnTo>
                <a:lnTo>
                  <a:pt x="284" y="292"/>
                </a:lnTo>
                <a:lnTo>
                  <a:pt x="280" y="290"/>
                </a:lnTo>
                <a:lnTo>
                  <a:pt x="275" y="290"/>
                </a:lnTo>
                <a:lnTo>
                  <a:pt x="269" y="288"/>
                </a:lnTo>
                <a:lnTo>
                  <a:pt x="261" y="284"/>
                </a:lnTo>
                <a:lnTo>
                  <a:pt x="253" y="281"/>
                </a:lnTo>
                <a:lnTo>
                  <a:pt x="246" y="275"/>
                </a:lnTo>
                <a:lnTo>
                  <a:pt x="238" y="269"/>
                </a:lnTo>
                <a:lnTo>
                  <a:pt x="228" y="263"/>
                </a:lnTo>
                <a:lnTo>
                  <a:pt x="219" y="256"/>
                </a:lnTo>
                <a:lnTo>
                  <a:pt x="209" y="246"/>
                </a:lnTo>
                <a:lnTo>
                  <a:pt x="198" y="236"/>
                </a:lnTo>
                <a:lnTo>
                  <a:pt x="184" y="225"/>
                </a:lnTo>
                <a:lnTo>
                  <a:pt x="173" y="213"/>
                </a:lnTo>
                <a:lnTo>
                  <a:pt x="159" y="200"/>
                </a:lnTo>
                <a:lnTo>
                  <a:pt x="144" y="187"/>
                </a:lnTo>
                <a:lnTo>
                  <a:pt x="131" y="171"/>
                </a:lnTo>
                <a:lnTo>
                  <a:pt x="115" y="156"/>
                </a:lnTo>
                <a:lnTo>
                  <a:pt x="100" y="144"/>
                </a:lnTo>
                <a:lnTo>
                  <a:pt x="86" y="131"/>
                </a:lnTo>
                <a:lnTo>
                  <a:pt x="75" y="119"/>
                </a:lnTo>
                <a:lnTo>
                  <a:pt x="63" y="110"/>
                </a:lnTo>
                <a:lnTo>
                  <a:pt x="52" y="98"/>
                </a:lnTo>
                <a:lnTo>
                  <a:pt x="42" y="89"/>
                </a:lnTo>
                <a:lnTo>
                  <a:pt x="35" y="81"/>
                </a:lnTo>
                <a:lnTo>
                  <a:pt x="25" y="71"/>
                </a:lnTo>
                <a:lnTo>
                  <a:pt x="19" y="64"/>
                </a:lnTo>
                <a:lnTo>
                  <a:pt x="13" y="58"/>
                </a:lnTo>
                <a:lnTo>
                  <a:pt x="8" y="52"/>
                </a:lnTo>
                <a:lnTo>
                  <a:pt x="4" y="47"/>
                </a:lnTo>
                <a:lnTo>
                  <a:pt x="2" y="43"/>
                </a:lnTo>
                <a:lnTo>
                  <a:pt x="0" y="39"/>
                </a:lnTo>
                <a:lnTo>
                  <a:pt x="0" y="3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36"/>
          <p:cNvSpPr/>
          <p:nvPr/>
        </p:nvSpPr>
        <p:spPr>
          <a:xfrm>
            <a:off x="7386480" y="4476600"/>
            <a:ext cx="277920" cy="277920"/>
          </a:xfrm>
          <a:custGeom>
            <a:avLst/>
            <a:gdLst/>
            <a:ahLst/>
            <a:rect l="l" t="t" r="r" b="b"/>
            <a:pathLst>
              <a:path w="350" h="351">
                <a:moveTo>
                  <a:pt x="92" y="180"/>
                </a:moveTo>
                <a:lnTo>
                  <a:pt x="77" y="157"/>
                </a:lnTo>
                <a:lnTo>
                  <a:pt x="64" y="138"/>
                </a:lnTo>
                <a:lnTo>
                  <a:pt x="52" y="119"/>
                </a:lnTo>
                <a:lnTo>
                  <a:pt x="40" y="100"/>
                </a:lnTo>
                <a:lnTo>
                  <a:pt x="31" y="84"/>
                </a:lnTo>
                <a:lnTo>
                  <a:pt x="23" y="69"/>
                </a:lnTo>
                <a:lnTo>
                  <a:pt x="16" y="55"/>
                </a:lnTo>
                <a:lnTo>
                  <a:pt x="10" y="44"/>
                </a:lnTo>
                <a:lnTo>
                  <a:pt x="6" y="32"/>
                </a:lnTo>
                <a:lnTo>
                  <a:pt x="2" y="25"/>
                </a:lnTo>
                <a:lnTo>
                  <a:pt x="0" y="17"/>
                </a:lnTo>
                <a:lnTo>
                  <a:pt x="0" y="9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2" y="0"/>
                </a:lnTo>
                <a:lnTo>
                  <a:pt x="56" y="2"/>
                </a:lnTo>
                <a:lnTo>
                  <a:pt x="69" y="4"/>
                </a:lnTo>
                <a:lnTo>
                  <a:pt x="87" y="6"/>
                </a:lnTo>
                <a:lnTo>
                  <a:pt x="104" y="11"/>
                </a:lnTo>
                <a:lnTo>
                  <a:pt x="110" y="13"/>
                </a:lnTo>
                <a:lnTo>
                  <a:pt x="117" y="15"/>
                </a:lnTo>
                <a:lnTo>
                  <a:pt x="133" y="23"/>
                </a:lnTo>
                <a:lnTo>
                  <a:pt x="148" y="32"/>
                </a:lnTo>
                <a:lnTo>
                  <a:pt x="165" y="44"/>
                </a:lnTo>
                <a:lnTo>
                  <a:pt x="184" y="55"/>
                </a:lnTo>
                <a:lnTo>
                  <a:pt x="204" y="69"/>
                </a:lnTo>
                <a:lnTo>
                  <a:pt x="225" y="82"/>
                </a:lnTo>
                <a:lnTo>
                  <a:pt x="246" y="96"/>
                </a:lnTo>
                <a:lnTo>
                  <a:pt x="263" y="109"/>
                </a:lnTo>
                <a:lnTo>
                  <a:pt x="279" y="125"/>
                </a:lnTo>
                <a:lnTo>
                  <a:pt x="294" y="140"/>
                </a:lnTo>
                <a:lnTo>
                  <a:pt x="305" y="157"/>
                </a:lnTo>
                <a:lnTo>
                  <a:pt x="317" y="173"/>
                </a:lnTo>
                <a:lnTo>
                  <a:pt x="323" y="180"/>
                </a:lnTo>
                <a:lnTo>
                  <a:pt x="327" y="188"/>
                </a:lnTo>
                <a:lnTo>
                  <a:pt x="330" y="196"/>
                </a:lnTo>
                <a:lnTo>
                  <a:pt x="334" y="203"/>
                </a:lnTo>
                <a:lnTo>
                  <a:pt x="338" y="209"/>
                </a:lnTo>
                <a:lnTo>
                  <a:pt x="340" y="217"/>
                </a:lnTo>
                <a:lnTo>
                  <a:pt x="344" y="234"/>
                </a:lnTo>
                <a:lnTo>
                  <a:pt x="348" y="251"/>
                </a:lnTo>
                <a:lnTo>
                  <a:pt x="350" y="267"/>
                </a:lnTo>
                <a:lnTo>
                  <a:pt x="350" y="280"/>
                </a:lnTo>
                <a:lnTo>
                  <a:pt x="350" y="291"/>
                </a:lnTo>
                <a:lnTo>
                  <a:pt x="348" y="295"/>
                </a:lnTo>
                <a:lnTo>
                  <a:pt x="348" y="301"/>
                </a:lnTo>
                <a:lnTo>
                  <a:pt x="346" y="305"/>
                </a:lnTo>
                <a:lnTo>
                  <a:pt x="344" y="309"/>
                </a:lnTo>
                <a:lnTo>
                  <a:pt x="342" y="311"/>
                </a:lnTo>
                <a:lnTo>
                  <a:pt x="340" y="315"/>
                </a:lnTo>
                <a:lnTo>
                  <a:pt x="334" y="322"/>
                </a:lnTo>
                <a:lnTo>
                  <a:pt x="328" y="330"/>
                </a:lnTo>
                <a:lnTo>
                  <a:pt x="323" y="336"/>
                </a:lnTo>
                <a:lnTo>
                  <a:pt x="313" y="341"/>
                </a:lnTo>
                <a:lnTo>
                  <a:pt x="303" y="345"/>
                </a:lnTo>
                <a:lnTo>
                  <a:pt x="294" y="347"/>
                </a:lnTo>
                <a:lnTo>
                  <a:pt x="282" y="349"/>
                </a:lnTo>
                <a:lnTo>
                  <a:pt x="269" y="351"/>
                </a:lnTo>
                <a:lnTo>
                  <a:pt x="261" y="349"/>
                </a:lnTo>
                <a:lnTo>
                  <a:pt x="254" y="347"/>
                </a:lnTo>
                <a:lnTo>
                  <a:pt x="246" y="343"/>
                </a:lnTo>
                <a:lnTo>
                  <a:pt x="238" y="339"/>
                </a:lnTo>
                <a:lnTo>
                  <a:pt x="229" y="334"/>
                </a:lnTo>
                <a:lnTo>
                  <a:pt x="219" y="326"/>
                </a:lnTo>
                <a:lnTo>
                  <a:pt x="207" y="316"/>
                </a:lnTo>
                <a:lnTo>
                  <a:pt x="198" y="307"/>
                </a:lnTo>
                <a:lnTo>
                  <a:pt x="186" y="295"/>
                </a:lnTo>
                <a:lnTo>
                  <a:pt x="175" y="282"/>
                </a:lnTo>
                <a:lnTo>
                  <a:pt x="161" y="268"/>
                </a:lnTo>
                <a:lnTo>
                  <a:pt x="148" y="253"/>
                </a:lnTo>
                <a:lnTo>
                  <a:pt x="135" y="238"/>
                </a:lnTo>
                <a:lnTo>
                  <a:pt x="121" y="219"/>
                </a:lnTo>
                <a:lnTo>
                  <a:pt x="106" y="199"/>
                </a:lnTo>
                <a:lnTo>
                  <a:pt x="92" y="18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37"/>
          <p:cNvSpPr/>
          <p:nvPr/>
        </p:nvSpPr>
        <p:spPr>
          <a:xfrm>
            <a:off x="6576840" y="4552920"/>
            <a:ext cx="873360" cy="461880"/>
          </a:xfrm>
          <a:custGeom>
            <a:avLst/>
            <a:gdLst/>
            <a:ahLst/>
            <a:rect l="l" t="t" r="r" b="b"/>
            <a:pathLst>
              <a:path w="1100" h="581">
                <a:moveTo>
                  <a:pt x="1052" y="497"/>
                </a:moveTo>
                <a:lnTo>
                  <a:pt x="1046" y="499"/>
                </a:lnTo>
                <a:lnTo>
                  <a:pt x="1040" y="503"/>
                </a:lnTo>
                <a:lnTo>
                  <a:pt x="1035" y="504"/>
                </a:lnTo>
                <a:lnTo>
                  <a:pt x="1029" y="508"/>
                </a:lnTo>
                <a:lnTo>
                  <a:pt x="1023" y="512"/>
                </a:lnTo>
                <a:lnTo>
                  <a:pt x="1015" y="514"/>
                </a:lnTo>
                <a:lnTo>
                  <a:pt x="1000" y="522"/>
                </a:lnTo>
                <a:lnTo>
                  <a:pt x="981" y="531"/>
                </a:lnTo>
                <a:lnTo>
                  <a:pt x="963" y="539"/>
                </a:lnTo>
                <a:lnTo>
                  <a:pt x="942" y="549"/>
                </a:lnTo>
                <a:lnTo>
                  <a:pt x="921" y="558"/>
                </a:lnTo>
                <a:lnTo>
                  <a:pt x="910" y="560"/>
                </a:lnTo>
                <a:lnTo>
                  <a:pt x="896" y="562"/>
                </a:lnTo>
                <a:lnTo>
                  <a:pt x="883" y="564"/>
                </a:lnTo>
                <a:lnTo>
                  <a:pt x="869" y="566"/>
                </a:lnTo>
                <a:lnTo>
                  <a:pt x="856" y="568"/>
                </a:lnTo>
                <a:lnTo>
                  <a:pt x="841" y="570"/>
                </a:lnTo>
                <a:lnTo>
                  <a:pt x="823" y="572"/>
                </a:lnTo>
                <a:lnTo>
                  <a:pt x="806" y="574"/>
                </a:lnTo>
                <a:lnTo>
                  <a:pt x="789" y="575"/>
                </a:lnTo>
                <a:lnTo>
                  <a:pt x="772" y="577"/>
                </a:lnTo>
                <a:lnTo>
                  <a:pt x="752" y="577"/>
                </a:lnTo>
                <a:lnTo>
                  <a:pt x="733" y="579"/>
                </a:lnTo>
                <a:lnTo>
                  <a:pt x="712" y="579"/>
                </a:lnTo>
                <a:lnTo>
                  <a:pt x="691" y="581"/>
                </a:lnTo>
                <a:lnTo>
                  <a:pt x="670" y="581"/>
                </a:lnTo>
                <a:lnTo>
                  <a:pt x="649" y="581"/>
                </a:lnTo>
                <a:lnTo>
                  <a:pt x="626" y="579"/>
                </a:lnTo>
                <a:lnTo>
                  <a:pt x="604" y="575"/>
                </a:lnTo>
                <a:lnTo>
                  <a:pt x="581" y="572"/>
                </a:lnTo>
                <a:lnTo>
                  <a:pt x="560" y="568"/>
                </a:lnTo>
                <a:lnTo>
                  <a:pt x="539" y="562"/>
                </a:lnTo>
                <a:lnTo>
                  <a:pt x="518" y="556"/>
                </a:lnTo>
                <a:lnTo>
                  <a:pt x="499" y="551"/>
                </a:lnTo>
                <a:lnTo>
                  <a:pt x="478" y="545"/>
                </a:lnTo>
                <a:lnTo>
                  <a:pt x="457" y="537"/>
                </a:lnTo>
                <a:lnTo>
                  <a:pt x="436" y="527"/>
                </a:lnTo>
                <a:lnTo>
                  <a:pt x="416" y="518"/>
                </a:lnTo>
                <a:lnTo>
                  <a:pt x="395" y="508"/>
                </a:lnTo>
                <a:lnTo>
                  <a:pt x="376" y="499"/>
                </a:lnTo>
                <a:lnTo>
                  <a:pt x="355" y="487"/>
                </a:lnTo>
                <a:lnTo>
                  <a:pt x="336" y="474"/>
                </a:lnTo>
                <a:lnTo>
                  <a:pt x="317" y="460"/>
                </a:lnTo>
                <a:lnTo>
                  <a:pt x="295" y="447"/>
                </a:lnTo>
                <a:lnTo>
                  <a:pt x="278" y="433"/>
                </a:lnTo>
                <a:lnTo>
                  <a:pt x="259" y="420"/>
                </a:lnTo>
                <a:lnTo>
                  <a:pt x="244" y="405"/>
                </a:lnTo>
                <a:lnTo>
                  <a:pt x="226" y="391"/>
                </a:lnTo>
                <a:lnTo>
                  <a:pt x="211" y="378"/>
                </a:lnTo>
                <a:lnTo>
                  <a:pt x="196" y="364"/>
                </a:lnTo>
                <a:lnTo>
                  <a:pt x="182" y="353"/>
                </a:lnTo>
                <a:lnTo>
                  <a:pt x="169" y="339"/>
                </a:lnTo>
                <a:lnTo>
                  <a:pt x="157" y="326"/>
                </a:lnTo>
                <a:lnTo>
                  <a:pt x="146" y="314"/>
                </a:lnTo>
                <a:lnTo>
                  <a:pt x="136" y="301"/>
                </a:lnTo>
                <a:lnTo>
                  <a:pt x="126" y="290"/>
                </a:lnTo>
                <a:lnTo>
                  <a:pt x="117" y="278"/>
                </a:lnTo>
                <a:lnTo>
                  <a:pt x="109" y="265"/>
                </a:lnTo>
                <a:lnTo>
                  <a:pt x="103" y="255"/>
                </a:lnTo>
                <a:lnTo>
                  <a:pt x="90" y="232"/>
                </a:lnTo>
                <a:lnTo>
                  <a:pt x="77" y="211"/>
                </a:lnTo>
                <a:lnTo>
                  <a:pt x="63" y="190"/>
                </a:lnTo>
                <a:lnTo>
                  <a:pt x="52" y="169"/>
                </a:lnTo>
                <a:lnTo>
                  <a:pt x="42" y="148"/>
                </a:lnTo>
                <a:lnTo>
                  <a:pt x="32" y="128"/>
                </a:lnTo>
                <a:lnTo>
                  <a:pt x="29" y="117"/>
                </a:lnTo>
                <a:lnTo>
                  <a:pt x="25" y="107"/>
                </a:lnTo>
                <a:lnTo>
                  <a:pt x="21" y="96"/>
                </a:lnTo>
                <a:lnTo>
                  <a:pt x="19" y="84"/>
                </a:lnTo>
                <a:lnTo>
                  <a:pt x="15" y="73"/>
                </a:lnTo>
                <a:lnTo>
                  <a:pt x="11" y="63"/>
                </a:lnTo>
                <a:lnTo>
                  <a:pt x="7" y="53"/>
                </a:lnTo>
                <a:lnTo>
                  <a:pt x="6" y="46"/>
                </a:lnTo>
                <a:lnTo>
                  <a:pt x="4" y="38"/>
                </a:lnTo>
                <a:lnTo>
                  <a:pt x="2" y="30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0" y="7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3" y="2"/>
                </a:lnTo>
                <a:lnTo>
                  <a:pt x="17" y="4"/>
                </a:lnTo>
                <a:lnTo>
                  <a:pt x="21" y="5"/>
                </a:lnTo>
                <a:lnTo>
                  <a:pt x="25" y="9"/>
                </a:lnTo>
                <a:lnTo>
                  <a:pt x="30" y="15"/>
                </a:lnTo>
                <a:lnTo>
                  <a:pt x="36" y="19"/>
                </a:lnTo>
                <a:lnTo>
                  <a:pt x="42" y="25"/>
                </a:lnTo>
                <a:lnTo>
                  <a:pt x="48" y="32"/>
                </a:lnTo>
                <a:lnTo>
                  <a:pt x="55" y="38"/>
                </a:lnTo>
                <a:lnTo>
                  <a:pt x="61" y="48"/>
                </a:lnTo>
                <a:lnTo>
                  <a:pt x="69" y="55"/>
                </a:lnTo>
                <a:lnTo>
                  <a:pt x="77" y="65"/>
                </a:lnTo>
                <a:lnTo>
                  <a:pt x="86" y="75"/>
                </a:lnTo>
                <a:lnTo>
                  <a:pt x="94" y="86"/>
                </a:lnTo>
                <a:lnTo>
                  <a:pt x="103" y="98"/>
                </a:lnTo>
                <a:lnTo>
                  <a:pt x="117" y="119"/>
                </a:lnTo>
                <a:lnTo>
                  <a:pt x="130" y="142"/>
                </a:lnTo>
                <a:lnTo>
                  <a:pt x="148" y="163"/>
                </a:lnTo>
                <a:lnTo>
                  <a:pt x="165" y="184"/>
                </a:lnTo>
                <a:lnTo>
                  <a:pt x="182" y="205"/>
                </a:lnTo>
                <a:lnTo>
                  <a:pt x="203" y="222"/>
                </a:lnTo>
                <a:lnTo>
                  <a:pt x="213" y="232"/>
                </a:lnTo>
                <a:lnTo>
                  <a:pt x="222" y="240"/>
                </a:lnTo>
                <a:lnTo>
                  <a:pt x="234" y="247"/>
                </a:lnTo>
                <a:lnTo>
                  <a:pt x="245" y="255"/>
                </a:lnTo>
                <a:lnTo>
                  <a:pt x="263" y="268"/>
                </a:lnTo>
                <a:lnTo>
                  <a:pt x="282" y="282"/>
                </a:lnTo>
                <a:lnTo>
                  <a:pt x="303" y="295"/>
                </a:lnTo>
                <a:lnTo>
                  <a:pt x="326" y="307"/>
                </a:lnTo>
                <a:lnTo>
                  <a:pt x="351" y="320"/>
                </a:lnTo>
                <a:lnTo>
                  <a:pt x="363" y="326"/>
                </a:lnTo>
                <a:lnTo>
                  <a:pt x="376" y="332"/>
                </a:lnTo>
                <a:lnTo>
                  <a:pt x="389" y="336"/>
                </a:lnTo>
                <a:lnTo>
                  <a:pt x="405" y="341"/>
                </a:lnTo>
                <a:lnTo>
                  <a:pt x="420" y="347"/>
                </a:lnTo>
                <a:lnTo>
                  <a:pt x="436" y="351"/>
                </a:lnTo>
                <a:lnTo>
                  <a:pt x="449" y="359"/>
                </a:lnTo>
                <a:lnTo>
                  <a:pt x="462" y="364"/>
                </a:lnTo>
                <a:lnTo>
                  <a:pt x="476" y="370"/>
                </a:lnTo>
                <a:lnTo>
                  <a:pt x="489" y="374"/>
                </a:lnTo>
                <a:lnTo>
                  <a:pt x="505" y="380"/>
                </a:lnTo>
                <a:lnTo>
                  <a:pt x="518" y="384"/>
                </a:lnTo>
                <a:lnTo>
                  <a:pt x="533" y="385"/>
                </a:lnTo>
                <a:lnTo>
                  <a:pt x="549" y="389"/>
                </a:lnTo>
                <a:lnTo>
                  <a:pt x="580" y="395"/>
                </a:lnTo>
                <a:lnTo>
                  <a:pt x="610" y="397"/>
                </a:lnTo>
                <a:lnTo>
                  <a:pt x="641" y="399"/>
                </a:lnTo>
                <a:lnTo>
                  <a:pt x="672" y="401"/>
                </a:lnTo>
                <a:lnTo>
                  <a:pt x="687" y="401"/>
                </a:lnTo>
                <a:lnTo>
                  <a:pt x="700" y="401"/>
                </a:lnTo>
                <a:lnTo>
                  <a:pt x="714" y="399"/>
                </a:lnTo>
                <a:lnTo>
                  <a:pt x="727" y="399"/>
                </a:lnTo>
                <a:lnTo>
                  <a:pt x="739" y="399"/>
                </a:lnTo>
                <a:lnTo>
                  <a:pt x="750" y="399"/>
                </a:lnTo>
                <a:lnTo>
                  <a:pt x="760" y="399"/>
                </a:lnTo>
                <a:lnTo>
                  <a:pt x="770" y="399"/>
                </a:lnTo>
                <a:lnTo>
                  <a:pt x="777" y="397"/>
                </a:lnTo>
                <a:lnTo>
                  <a:pt x="785" y="397"/>
                </a:lnTo>
                <a:lnTo>
                  <a:pt x="793" y="395"/>
                </a:lnTo>
                <a:lnTo>
                  <a:pt x="798" y="395"/>
                </a:lnTo>
                <a:lnTo>
                  <a:pt x="804" y="393"/>
                </a:lnTo>
                <a:lnTo>
                  <a:pt x="808" y="391"/>
                </a:lnTo>
                <a:lnTo>
                  <a:pt x="812" y="389"/>
                </a:lnTo>
                <a:lnTo>
                  <a:pt x="814" y="387"/>
                </a:lnTo>
                <a:lnTo>
                  <a:pt x="816" y="385"/>
                </a:lnTo>
                <a:lnTo>
                  <a:pt x="818" y="382"/>
                </a:lnTo>
                <a:lnTo>
                  <a:pt x="818" y="376"/>
                </a:lnTo>
                <a:lnTo>
                  <a:pt x="818" y="372"/>
                </a:lnTo>
                <a:lnTo>
                  <a:pt x="818" y="364"/>
                </a:lnTo>
                <a:lnTo>
                  <a:pt x="818" y="359"/>
                </a:lnTo>
                <a:lnTo>
                  <a:pt x="816" y="351"/>
                </a:lnTo>
                <a:lnTo>
                  <a:pt x="816" y="341"/>
                </a:lnTo>
                <a:lnTo>
                  <a:pt x="814" y="332"/>
                </a:lnTo>
                <a:lnTo>
                  <a:pt x="812" y="322"/>
                </a:lnTo>
                <a:lnTo>
                  <a:pt x="808" y="311"/>
                </a:lnTo>
                <a:lnTo>
                  <a:pt x="806" y="299"/>
                </a:lnTo>
                <a:lnTo>
                  <a:pt x="802" y="286"/>
                </a:lnTo>
                <a:lnTo>
                  <a:pt x="798" y="272"/>
                </a:lnTo>
                <a:lnTo>
                  <a:pt x="795" y="259"/>
                </a:lnTo>
                <a:lnTo>
                  <a:pt x="791" y="243"/>
                </a:lnTo>
                <a:lnTo>
                  <a:pt x="785" y="226"/>
                </a:lnTo>
                <a:lnTo>
                  <a:pt x="783" y="213"/>
                </a:lnTo>
                <a:lnTo>
                  <a:pt x="779" y="199"/>
                </a:lnTo>
                <a:lnTo>
                  <a:pt x="777" y="186"/>
                </a:lnTo>
                <a:lnTo>
                  <a:pt x="775" y="172"/>
                </a:lnTo>
                <a:lnTo>
                  <a:pt x="773" y="163"/>
                </a:lnTo>
                <a:lnTo>
                  <a:pt x="772" y="151"/>
                </a:lnTo>
                <a:lnTo>
                  <a:pt x="772" y="142"/>
                </a:lnTo>
                <a:lnTo>
                  <a:pt x="772" y="134"/>
                </a:lnTo>
                <a:lnTo>
                  <a:pt x="772" y="126"/>
                </a:lnTo>
                <a:lnTo>
                  <a:pt x="772" y="119"/>
                </a:lnTo>
                <a:lnTo>
                  <a:pt x="772" y="113"/>
                </a:lnTo>
                <a:lnTo>
                  <a:pt x="773" y="107"/>
                </a:lnTo>
                <a:lnTo>
                  <a:pt x="775" y="103"/>
                </a:lnTo>
                <a:lnTo>
                  <a:pt x="775" y="100"/>
                </a:lnTo>
                <a:lnTo>
                  <a:pt x="779" y="98"/>
                </a:lnTo>
                <a:lnTo>
                  <a:pt x="781" y="98"/>
                </a:lnTo>
                <a:lnTo>
                  <a:pt x="785" y="98"/>
                </a:lnTo>
                <a:lnTo>
                  <a:pt x="789" y="101"/>
                </a:lnTo>
                <a:lnTo>
                  <a:pt x="793" y="103"/>
                </a:lnTo>
                <a:lnTo>
                  <a:pt x="798" y="107"/>
                </a:lnTo>
                <a:lnTo>
                  <a:pt x="806" y="113"/>
                </a:lnTo>
                <a:lnTo>
                  <a:pt x="812" y="119"/>
                </a:lnTo>
                <a:lnTo>
                  <a:pt x="819" y="124"/>
                </a:lnTo>
                <a:lnTo>
                  <a:pt x="829" y="132"/>
                </a:lnTo>
                <a:lnTo>
                  <a:pt x="837" y="142"/>
                </a:lnTo>
                <a:lnTo>
                  <a:pt x="846" y="151"/>
                </a:lnTo>
                <a:lnTo>
                  <a:pt x="856" y="163"/>
                </a:lnTo>
                <a:lnTo>
                  <a:pt x="866" y="174"/>
                </a:lnTo>
                <a:lnTo>
                  <a:pt x="875" y="188"/>
                </a:lnTo>
                <a:lnTo>
                  <a:pt x="887" y="201"/>
                </a:lnTo>
                <a:lnTo>
                  <a:pt x="898" y="219"/>
                </a:lnTo>
                <a:lnTo>
                  <a:pt x="908" y="234"/>
                </a:lnTo>
                <a:lnTo>
                  <a:pt x="919" y="247"/>
                </a:lnTo>
                <a:lnTo>
                  <a:pt x="929" y="263"/>
                </a:lnTo>
                <a:lnTo>
                  <a:pt x="939" y="274"/>
                </a:lnTo>
                <a:lnTo>
                  <a:pt x="948" y="288"/>
                </a:lnTo>
                <a:lnTo>
                  <a:pt x="958" y="297"/>
                </a:lnTo>
                <a:lnTo>
                  <a:pt x="967" y="309"/>
                </a:lnTo>
                <a:lnTo>
                  <a:pt x="977" y="318"/>
                </a:lnTo>
                <a:lnTo>
                  <a:pt x="987" y="326"/>
                </a:lnTo>
                <a:lnTo>
                  <a:pt x="994" y="334"/>
                </a:lnTo>
                <a:lnTo>
                  <a:pt x="1002" y="341"/>
                </a:lnTo>
                <a:lnTo>
                  <a:pt x="1010" y="347"/>
                </a:lnTo>
                <a:lnTo>
                  <a:pt x="1017" y="353"/>
                </a:lnTo>
                <a:lnTo>
                  <a:pt x="1025" y="357"/>
                </a:lnTo>
                <a:lnTo>
                  <a:pt x="1033" y="361"/>
                </a:lnTo>
                <a:lnTo>
                  <a:pt x="1040" y="364"/>
                </a:lnTo>
                <a:lnTo>
                  <a:pt x="1052" y="372"/>
                </a:lnTo>
                <a:lnTo>
                  <a:pt x="1063" y="382"/>
                </a:lnTo>
                <a:lnTo>
                  <a:pt x="1073" y="391"/>
                </a:lnTo>
                <a:lnTo>
                  <a:pt x="1083" y="399"/>
                </a:lnTo>
                <a:lnTo>
                  <a:pt x="1090" y="409"/>
                </a:lnTo>
                <a:lnTo>
                  <a:pt x="1092" y="412"/>
                </a:lnTo>
                <a:lnTo>
                  <a:pt x="1094" y="418"/>
                </a:lnTo>
                <a:lnTo>
                  <a:pt x="1096" y="422"/>
                </a:lnTo>
                <a:lnTo>
                  <a:pt x="1098" y="426"/>
                </a:lnTo>
                <a:lnTo>
                  <a:pt x="1098" y="432"/>
                </a:lnTo>
                <a:lnTo>
                  <a:pt x="1100" y="435"/>
                </a:lnTo>
                <a:lnTo>
                  <a:pt x="1098" y="441"/>
                </a:lnTo>
                <a:lnTo>
                  <a:pt x="1096" y="447"/>
                </a:lnTo>
                <a:lnTo>
                  <a:pt x="1092" y="455"/>
                </a:lnTo>
                <a:lnTo>
                  <a:pt x="1088" y="462"/>
                </a:lnTo>
                <a:lnTo>
                  <a:pt x="1083" y="470"/>
                </a:lnTo>
                <a:lnTo>
                  <a:pt x="1073" y="478"/>
                </a:lnTo>
                <a:lnTo>
                  <a:pt x="1069" y="483"/>
                </a:lnTo>
                <a:lnTo>
                  <a:pt x="1063" y="487"/>
                </a:lnTo>
                <a:lnTo>
                  <a:pt x="1058" y="493"/>
                </a:lnTo>
                <a:lnTo>
                  <a:pt x="1052" y="49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8"/>
          <p:cNvSpPr/>
          <p:nvPr/>
        </p:nvSpPr>
        <p:spPr>
          <a:xfrm>
            <a:off x="6902280" y="3567240"/>
            <a:ext cx="549360" cy="736560"/>
          </a:xfrm>
          <a:custGeom>
            <a:avLst/>
            <a:gdLst/>
            <a:ahLst/>
            <a:rect l="l" t="t" r="r" b="b"/>
            <a:pathLst>
              <a:path w="693" h="929">
                <a:moveTo>
                  <a:pt x="595" y="346"/>
                </a:moveTo>
                <a:lnTo>
                  <a:pt x="578" y="372"/>
                </a:lnTo>
                <a:lnTo>
                  <a:pt x="556" y="399"/>
                </a:lnTo>
                <a:lnTo>
                  <a:pt x="537" y="426"/>
                </a:lnTo>
                <a:lnTo>
                  <a:pt x="516" y="455"/>
                </a:lnTo>
                <a:lnTo>
                  <a:pt x="495" y="484"/>
                </a:lnTo>
                <a:lnTo>
                  <a:pt x="472" y="512"/>
                </a:lnTo>
                <a:lnTo>
                  <a:pt x="451" y="543"/>
                </a:lnTo>
                <a:lnTo>
                  <a:pt x="430" y="576"/>
                </a:lnTo>
                <a:lnTo>
                  <a:pt x="401" y="607"/>
                </a:lnTo>
                <a:lnTo>
                  <a:pt x="372" y="639"/>
                </a:lnTo>
                <a:lnTo>
                  <a:pt x="343" y="670"/>
                </a:lnTo>
                <a:lnTo>
                  <a:pt x="311" y="702"/>
                </a:lnTo>
                <a:lnTo>
                  <a:pt x="278" y="733"/>
                </a:lnTo>
                <a:lnTo>
                  <a:pt x="243" y="766"/>
                </a:lnTo>
                <a:lnTo>
                  <a:pt x="207" y="797"/>
                </a:lnTo>
                <a:lnTo>
                  <a:pt x="188" y="814"/>
                </a:lnTo>
                <a:lnTo>
                  <a:pt x="169" y="829"/>
                </a:lnTo>
                <a:lnTo>
                  <a:pt x="149" y="844"/>
                </a:lnTo>
                <a:lnTo>
                  <a:pt x="130" y="858"/>
                </a:lnTo>
                <a:lnTo>
                  <a:pt x="115" y="871"/>
                </a:lnTo>
                <a:lnTo>
                  <a:pt x="99" y="883"/>
                </a:lnTo>
                <a:lnTo>
                  <a:pt x="84" y="892"/>
                </a:lnTo>
                <a:lnTo>
                  <a:pt x="73" y="900"/>
                </a:lnTo>
                <a:lnTo>
                  <a:pt x="59" y="908"/>
                </a:lnTo>
                <a:lnTo>
                  <a:pt x="50" y="915"/>
                </a:lnTo>
                <a:lnTo>
                  <a:pt x="40" y="919"/>
                </a:lnTo>
                <a:lnTo>
                  <a:pt x="32" y="923"/>
                </a:lnTo>
                <a:lnTo>
                  <a:pt x="25" y="927"/>
                </a:lnTo>
                <a:lnTo>
                  <a:pt x="17" y="929"/>
                </a:lnTo>
                <a:lnTo>
                  <a:pt x="13" y="929"/>
                </a:lnTo>
                <a:lnTo>
                  <a:pt x="7" y="929"/>
                </a:lnTo>
                <a:lnTo>
                  <a:pt x="4" y="929"/>
                </a:lnTo>
                <a:lnTo>
                  <a:pt x="2" y="927"/>
                </a:lnTo>
                <a:lnTo>
                  <a:pt x="0" y="923"/>
                </a:lnTo>
                <a:lnTo>
                  <a:pt x="0" y="919"/>
                </a:lnTo>
                <a:lnTo>
                  <a:pt x="2" y="914"/>
                </a:lnTo>
                <a:lnTo>
                  <a:pt x="4" y="906"/>
                </a:lnTo>
                <a:lnTo>
                  <a:pt x="9" y="896"/>
                </a:lnTo>
                <a:lnTo>
                  <a:pt x="15" y="887"/>
                </a:lnTo>
                <a:lnTo>
                  <a:pt x="23" y="875"/>
                </a:lnTo>
                <a:lnTo>
                  <a:pt x="30" y="864"/>
                </a:lnTo>
                <a:lnTo>
                  <a:pt x="40" y="848"/>
                </a:lnTo>
                <a:lnTo>
                  <a:pt x="53" y="833"/>
                </a:lnTo>
                <a:lnTo>
                  <a:pt x="65" y="816"/>
                </a:lnTo>
                <a:lnTo>
                  <a:pt x="80" y="797"/>
                </a:lnTo>
                <a:lnTo>
                  <a:pt x="98" y="777"/>
                </a:lnTo>
                <a:lnTo>
                  <a:pt x="115" y="756"/>
                </a:lnTo>
                <a:lnTo>
                  <a:pt x="134" y="733"/>
                </a:lnTo>
                <a:lnTo>
                  <a:pt x="155" y="708"/>
                </a:lnTo>
                <a:lnTo>
                  <a:pt x="176" y="683"/>
                </a:lnTo>
                <a:lnTo>
                  <a:pt x="197" y="660"/>
                </a:lnTo>
                <a:lnTo>
                  <a:pt x="219" y="637"/>
                </a:lnTo>
                <a:lnTo>
                  <a:pt x="238" y="614"/>
                </a:lnTo>
                <a:lnTo>
                  <a:pt x="255" y="593"/>
                </a:lnTo>
                <a:lnTo>
                  <a:pt x="272" y="572"/>
                </a:lnTo>
                <a:lnTo>
                  <a:pt x="290" y="551"/>
                </a:lnTo>
                <a:lnTo>
                  <a:pt x="305" y="532"/>
                </a:lnTo>
                <a:lnTo>
                  <a:pt x="320" y="512"/>
                </a:lnTo>
                <a:lnTo>
                  <a:pt x="334" y="495"/>
                </a:lnTo>
                <a:lnTo>
                  <a:pt x="345" y="476"/>
                </a:lnTo>
                <a:lnTo>
                  <a:pt x="357" y="459"/>
                </a:lnTo>
                <a:lnTo>
                  <a:pt x="368" y="441"/>
                </a:lnTo>
                <a:lnTo>
                  <a:pt x="378" y="424"/>
                </a:lnTo>
                <a:lnTo>
                  <a:pt x="386" y="409"/>
                </a:lnTo>
                <a:lnTo>
                  <a:pt x="393" y="394"/>
                </a:lnTo>
                <a:lnTo>
                  <a:pt x="399" y="376"/>
                </a:lnTo>
                <a:lnTo>
                  <a:pt x="407" y="363"/>
                </a:lnTo>
                <a:lnTo>
                  <a:pt x="412" y="347"/>
                </a:lnTo>
                <a:lnTo>
                  <a:pt x="418" y="334"/>
                </a:lnTo>
                <a:lnTo>
                  <a:pt x="432" y="307"/>
                </a:lnTo>
                <a:lnTo>
                  <a:pt x="443" y="280"/>
                </a:lnTo>
                <a:lnTo>
                  <a:pt x="455" y="257"/>
                </a:lnTo>
                <a:lnTo>
                  <a:pt x="462" y="232"/>
                </a:lnTo>
                <a:lnTo>
                  <a:pt x="466" y="221"/>
                </a:lnTo>
                <a:lnTo>
                  <a:pt x="470" y="209"/>
                </a:lnTo>
                <a:lnTo>
                  <a:pt x="474" y="198"/>
                </a:lnTo>
                <a:lnTo>
                  <a:pt x="476" y="188"/>
                </a:lnTo>
                <a:lnTo>
                  <a:pt x="478" y="177"/>
                </a:lnTo>
                <a:lnTo>
                  <a:pt x="480" y="165"/>
                </a:lnTo>
                <a:lnTo>
                  <a:pt x="482" y="156"/>
                </a:lnTo>
                <a:lnTo>
                  <a:pt x="482" y="146"/>
                </a:lnTo>
                <a:lnTo>
                  <a:pt x="483" y="136"/>
                </a:lnTo>
                <a:lnTo>
                  <a:pt x="483" y="129"/>
                </a:lnTo>
                <a:lnTo>
                  <a:pt x="485" y="113"/>
                </a:lnTo>
                <a:lnTo>
                  <a:pt x="483" y="100"/>
                </a:lnTo>
                <a:lnTo>
                  <a:pt x="483" y="86"/>
                </a:lnTo>
                <a:lnTo>
                  <a:pt x="480" y="75"/>
                </a:lnTo>
                <a:lnTo>
                  <a:pt x="476" y="65"/>
                </a:lnTo>
                <a:lnTo>
                  <a:pt x="472" y="56"/>
                </a:lnTo>
                <a:lnTo>
                  <a:pt x="470" y="48"/>
                </a:lnTo>
                <a:lnTo>
                  <a:pt x="468" y="38"/>
                </a:lnTo>
                <a:lnTo>
                  <a:pt x="468" y="31"/>
                </a:lnTo>
                <a:lnTo>
                  <a:pt x="470" y="23"/>
                </a:lnTo>
                <a:lnTo>
                  <a:pt x="472" y="19"/>
                </a:lnTo>
                <a:lnTo>
                  <a:pt x="474" y="15"/>
                </a:lnTo>
                <a:lnTo>
                  <a:pt x="478" y="14"/>
                </a:lnTo>
                <a:lnTo>
                  <a:pt x="480" y="10"/>
                </a:lnTo>
                <a:lnTo>
                  <a:pt x="483" y="8"/>
                </a:lnTo>
                <a:lnTo>
                  <a:pt x="489" y="6"/>
                </a:lnTo>
                <a:lnTo>
                  <a:pt x="491" y="2"/>
                </a:lnTo>
                <a:lnTo>
                  <a:pt x="495" y="2"/>
                </a:lnTo>
                <a:lnTo>
                  <a:pt x="499" y="0"/>
                </a:lnTo>
                <a:lnTo>
                  <a:pt x="503" y="0"/>
                </a:lnTo>
                <a:lnTo>
                  <a:pt x="508" y="0"/>
                </a:lnTo>
                <a:lnTo>
                  <a:pt x="516" y="2"/>
                </a:lnTo>
                <a:lnTo>
                  <a:pt x="522" y="2"/>
                </a:lnTo>
                <a:lnTo>
                  <a:pt x="530" y="4"/>
                </a:lnTo>
                <a:lnTo>
                  <a:pt x="537" y="8"/>
                </a:lnTo>
                <a:lnTo>
                  <a:pt x="547" y="10"/>
                </a:lnTo>
                <a:lnTo>
                  <a:pt x="554" y="14"/>
                </a:lnTo>
                <a:lnTo>
                  <a:pt x="564" y="19"/>
                </a:lnTo>
                <a:lnTo>
                  <a:pt x="576" y="23"/>
                </a:lnTo>
                <a:lnTo>
                  <a:pt x="585" y="29"/>
                </a:lnTo>
                <a:lnTo>
                  <a:pt x="595" y="35"/>
                </a:lnTo>
                <a:lnTo>
                  <a:pt x="606" y="42"/>
                </a:lnTo>
                <a:lnTo>
                  <a:pt x="618" y="50"/>
                </a:lnTo>
                <a:lnTo>
                  <a:pt x="627" y="60"/>
                </a:lnTo>
                <a:lnTo>
                  <a:pt x="637" y="67"/>
                </a:lnTo>
                <a:lnTo>
                  <a:pt x="647" y="75"/>
                </a:lnTo>
                <a:lnTo>
                  <a:pt x="654" y="85"/>
                </a:lnTo>
                <a:lnTo>
                  <a:pt x="662" y="92"/>
                </a:lnTo>
                <a:lnTo>
                  <a:pt x="668" y="100"/>
                </a:lnTo>
                <a:lnTo>
                  <a:pt x="674" y="106"/>
                </a:lnTo>
                <a:lnTo>
                  <a:pt x="679" y="113"/>
                </a:lnTo>
                <a:lnTo>
                  <a:pt x="683" y="121"/>
                </a:lnTo>
                <a:lnTo>
                  <a:pt x="687" y="129"/>
                </a:lnTo>
                <a:lnTo>
                  <a:pt x="691" y="134"/>
                </a:lnTo>
                <a:lnTo>
                  <a:pt x="691" y="142"/>
                </a:lnTo>
                <a:lnTo>
                  <a:pt x="693" y="148"/>
                </a:lnTo>
                <a:lnTo>
                  <a:pt x="691" y="156"/>
                </a:lnTo>
                <a:lnTo>
                  <a:pt x="691" y="163"/>
                </a:lnTo>
                <a:lnTo>
                  <a:pt x="687" y="169"/>
                </a:lnTo>
                <a:lnTo>
                  <a:pt x="685" y="177"/>
                </a:lnTo>
                <a:lnTo>
                  <a:pt x="681" y="186"/>
                </a:lnTo>
                <a:lnTo>
                  <a:pt x="677" y="194"/>
                </a:lnTo>
                <a:lnTo>
                  <a:pt x="674" y="204"/>
                </a:lnTo>
                <a:lnTo>
                  <a:pt x="670" y="213"/>
                </a:lnTo>
                <a:lnTo>
                  <a:pt x="666" y="225"/>
                </a:lnTo>
                <a:lnTo>
                  <a:pt x="660" y="234"/>
                </a:lnTo>
                <a:lnTo>
                  <a:pt x="654" y="248"/>
                </a:lnTo>
                <a:lnTo>
                  <a:pt x="647" y="259"/>
                </a:lnTo>
                <a:lnTo>
                  <a:pt x="641" y="273"/>
                </a:lnTo>
                <a:lnTo>
                  <a:pt x="633" y="286"/>
                </a:lnTo>
                <a:lnTo>
                  <a:pt x="624" y="299"/>
                </a:lnTo>
                <a:lnTo>
                  <a:pt x="616" y="313"/>
                </a:lnTo>
                <a:lnTo>
                  <a:pt x="606" y="328"/>
                </a:lnTo>
                <a:lnTo>
                  <a:pt x="595" y="34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9"/>
          <p:cNvSpPr/>
          <p:nvPr/>
        </p:nvSpPr>
        <p:spPr>
          <a:xfrm>
            <a:off x="6794640" y="2871720"/>
            <a:ext cx="920520" cy="1555920"/>
          </a:xfrm>
          <a:custGeom>
            <a:avLst/>
            <a:gdLst/>
            <a:ahLst/>
            <a:rect l="l" t="t" r="r" b="b"/>
            <a:pathLst>
              <a:path w="1162" h="1961">
                <a:moveTo>
                  <a:pt x="436" y="1368"/>
                </a:moveTo>
                <a:lnTo>
                  <a:pt x="415" y="1330"/>
                </a:lnTo>
                <a:lnTo>
                  <a:pt x="396" y="1292"/>
                </a:lnTo>
                <a:lnTo>
                  <a:pt x="379" y="1255"/>
                </a:lnTo>
                <a:lnTo>
                  <a:pt x="359" y="1219"/>
                </a:lnTo>
                <a:lnTo>
                  <a:pt x="344" y="1184"/>
                </a:lnTo>
                <a:lnTo>
                  <a:pt x="327" y="1150"/>
                </a:lnTo>
                <a:lnTo>
                  <a:pt x="311" y="1115"/>
                </a:lnTo>
                <a:lnTo>
                  <a:pt x="296" y="1082"/>
                </a:lnTo>
                <a:lnTo>
                  <a:pt x="283" y="1050"/>
                </a:lnTo>
                <a:lnTo>
                  <a:pt x="269" y="1017"/>
                </a:lnTo>
                <a:lnTo>
                  <a:pt x="256" y="985"/>
                </a:lnTo>
                <a:lnTo>
                  <a:pt x="244" y="954"/>
                </a:lnTo>
                <a:lnTo>
                  <a:pt x="235" y="923"/>
                </a:lnTo>
                <a:lnTo>
                  <a:pt x="225" y="892"/>
                </a:lnTo>
                <a:lnTo>
                  <a:pt x="217" y="864"/>
                </a:lnTo>
                <a:lnTo>
                  <a:pt x="210" y="833"/>
                </a:lnTo>
                <a:lnTo>
                  <a:pt x="196" y="775"/>
                </a:lnTo>
                <a:lnTo>
                  <a:pt x="183" y="718"/>
                </a:lnTo>
                <a:lnTo>
                  <a:pt x="169" y="660"/>
                </a:lnTo>
                <a:lnTo>
                  <a:pt x="156" y="603"/>
                </a:lnTo>
                <a:lnTo>
                  <a:pt x="142" y="547"/>
                </a:lnTo>
                <a:lnTo>
                  <a:pt x="129" y="489"/>
                </a:lnTo>
                <a:lnTo>
                  <a:pt x="116" y="432"/>
                </a:lnTo>
                <a:lnTo>
                  <a:pt x="104" y="372"/>
                </a:lnTo>
                <a:lnTo>
                  <a:pt x="96" y="344"/>
                </a:lnTo>
                <a:lnTo>
                  <a:pt x="91" y="317"/>
                </a:lnTo>
                <a:lnTo>
                  <a:pt x="85" y="292"/>
                </a:lnTo>
                <a:lnTo>
                  <a:pt x="79" y="267"/>
                </a:lnTo>
                <a:lnTo>
                  <a:pt x="73" y="246"/>
                </a:lnTo>
                <a:lnTo>
                  <a:pt x="68" y="225"/>
                </a:lnTo>
                <a:lnTo>
                  <a:pt x="62" y="205"/>
                </a:lnTo>
                <a:lnTo>
                  <a:pt x="58" y="188"/>
                </a:lnTo>
                <a:lnTo>
                  <a:pt x="52" y="171"/>
                </a:lnTo>
                <a:lnTo>
                  <a:pt x="48" y="157"/>
                </a:lnTo>
                <a:lnTo>
                  <a:pt x="43" y="144"/>
                </a:lnTo>
                <a:lnTo>
                  <a:pt x="39" y="131"/>
                </a:lnTo>
                <a:lnTo>
                  <a:pt x="33" y="119"/>
                </a:lnTo>
                <a:lnTo>
                  <a:pt x="29" y="109"/>
                </a:lnTo>
                <a:lnTo>
                  <a:pt x="25" y="102"/>
                </a:lnTo>
                <a:lnTo>
                  <a:pt x="21" y="94"/>
                </a:lnTo>
                <a:lnTo>
                  <a:pt x="16" y="88"/>
                </a:lnTo>
                <a:lnTo>
                  <a:pt x="12" y="81"/>
                </a:lnTo>
                <a:lnTo>
                  <a:pt x="10" y="75"/>
                </a:lnTo>
                <a:lnTo>
                  <a:pt x="6" y="69"/>
                </a:lnTo>
                <a:lnTo>
                  <a:pt x="4" y="63"/>
                </a:lnTo>
                <a:lnTo>
                  <a:pt x="2" y="58"/>
                </a:lnTo>
                <a:lnTo>
                  <a:pt x="0" y="48"/>
                </a:lnTo>
                <a:lnTo>
                  <a:pt x="0" y="37"/>
                </a:lnTo>
                <a:lnTo>
                  <a:pt x="2" y="27"/>
                </a:lnTo>
                <a:lnTo>
                  <a:pt x="4" y="17"/>
                </a:lnTo>
                <a:lnTo>
                  <a:pt x="8" y="10"/>
                </a:lnTo>
                <a:lnTo>
                  <a:pt x="10" y="6"/>
                </a:lnTo>
                <a:lnTo>
                  <a:pt x="14" y="6"/>
                </a:lnTo>
                <a:lnTo>
                  <a:pt x="18" y="4"/>
                </a:lnTo>
                <a:lnTo>
                  <a:pt x="21" y="2"/>
                </a:lnTo>
                <a:lnTo>
                  <a:pt x="25" y="2"/>
                </a:lnTo>
                <a:lnTo>
                  <a:pt x="31" y="0"/>
                </a:lnTo>
                <a:lnTo>
                  <a:pt x="37" y="0"/>
                </a:lnTo>
                <a:lnTo>
                  <a:pt x="45" y="0"/>
                </a:lnTo>
                <a:lnTo>
                  <a:pt x="50" y="0"/>
                </a:lnTo>
                <a:lnTo>
                  <a:pt x="58" y="0"/>
                </a:lnTo>
                <a:lnTo>
                  <a:pt x="66" y="0"/>
                </a:lnTo>
                <a:lnTo>
                  <a:pt x="75" y="2"/>
                </a:lnTo>
                <a:lnTo>
                  <a:pt x="85" y="4"/>
                </a:lnTo>
                <a:lnTo>
                  <a:pt x="94" y="4"/>
                </a:lnTo>
                <a:lnTo>
                  <a:pt x="104" y="6"/>
                </a:lnTo>
                <a:lnTo>
                  <a:pt x="116" y="10"/>
                </a:lnTo>
                <a:lnTo>
                  <a:pt x="125" y="13"/>
                </a:lnTo>
                <a:lnTo>
                  <a:pt x="137" y="17"/>
                </a:lnTo>
                <a:lnTo>
                  <a:pt x="146" y="23"/>
                </a:lnTo>
                <a:lnTo>
                  <a:pt x="154" y="27"/>
                </a:lnTo>
                <a:lnTo>
                  <a:pt x="164" y="31"/>
                </a:lnTo>
                <a:lnTo>
                  <a:pt x="171" y="37"/>
                </a:lnTo>
                <a:lnTo>
                  <a:pt x="179" y="40"/>
                </a:lnTo>
                <a:lnTo>
                  <a:pt x="187" y="44"/>
                </a:lnTo>
                <a:lnTo>
                  <a:pt x="192" y="48"/>
                </a:lnTo>
                <a:lnTo>
                  <a:pt x="198" y="52"/>
                </a:lnTo>
                <a:lnTo>
                  <a:pt x="204" y="56"/>
                </a:lnTo>
                <a:lnTo>
                  <a:pt x="208" y="58"/>
                </a:lnTo>
                <a:lnTo>
                  <a:pt x="213" y="61"/>
                </a:lnTo>
                <a:lnTo>
                  <a:pt x="217" y="63"/>
                </a:lnTo>
                <a:lnTo>
                  <a:pt x="219" y="67"/>
                </a:lnTo>
                <a:lnTo>
                  <a:pt x="223" y="69"/>
                </a:lnTo>
                <a:lnTo>
                  <a:pt x="227" y="75"/>
                </a:lnTo>
                <a:lnTo>
                  <a:pt x="231" y="81"/>
                </a:lnTo>
                <a:lnTo>
                  <a:pt x="235" y="88"/>
                </a:lnTo>
                <a:lnTo>
                  <a:pt x="236" y="96"/>
                </a:lnTo>
                <a:lnTo>
                  <a:pt x="238" y="104"/>
                </a:lnTo>
                <a:lnTo>
                  <a:pt x="238" y="111"/>
                </a:lnTo>
                <a:lnTo>
                  <a:pt x="236" y="121"/>
                </a:lnTo>
                <a:lnTo>
                  <a:pt x="236" y="127"/>
                </a:lnTo>
                <a:lnTo>
                  <a:pt x="235" y="131"/>
                </a:lnTo>
                <a:lnTo>
                  <a:pt x="231" y="144"/>
                </a:lnTo>
                <a:lnTo>
                  <a:pt x="227" y="157"/>
                </a:lnTo>
                <a:lnTo>
                  <a:pt x="225" y="173"/>
                </a:lnTo>
                <a:lnTo>
                  <a:pt x="225" y="186"/>
                </a:lnTo>
                <a:lnTo>
                  <a:pt x="225" y="202"/>
                </a:lnTo>
                <a:lnTo>
                  <a:pt x="227" y="217"/>
                </a:lnTo>
                <a:lnTo>
                  <a:pt x="231" y="234"/>
                </a:lnTo>
                <a:lnTo>
                  <a:pt x="235" y="251"/>
                </a:lnTo>
                <a:lnTo>
                  <a:pt x="235" y="274"/>
                </a:lnTo>
                <a:lnTo>
                  <a:pt x="236" y="299"/>
                </a:lnTo>
                <a:lnTo>
                  <a:pt x="236" y="313"/>
                </a:lnTo>
                <a:lnTo>
                  <a:pt x="238" y="326"/>
                </a:lnTo>
                <a:lnTo>
                  <a:pt x="240" y="340"/>
                </a:lnTo>
                <a:lnTo>
                  <a:pt x="242" y="355"/>
                </a:lnTo>
                <a:lnTo>
                  <a:pt x="246" y="370"/>
                </a:lnTo>
                <a:lnTo>
                  <a:pt x="248" y="386"/>
                </a:lnTo>
                <a:lnTo>
                  <a:pt x="250" y="401"/>
                </a:lnTo>
                <a:lnTo>
                  <a:pt x="254" y="418"/>
                </a:lnTo>
                <a:lnTo>
                  <a:pt x="258" y="436"/>
                </a:lnTo>
                <a:lnTo>
                  <a:pt x="261" y="455"/>
                </a:lnTo>
                <a:lnTo>
                  <a:pt x="265" y="474"/>
                </a:lnTo>
                <a:lnTo>
                  <a:pt x="269" y="495"/>
                </a:lnTo>
                <a:lnTo>
                  <a:pt x="273" y="514"/>
                </a:lnTo>
                <a:lnTo>
                  <a:pt x="279" y="537"/>
                </a:lnTo>
                <a:lnTo>
                  <a:pt x="284" y="559"/>
                </a:lnTo>
                <a:lnTo>
                  <a:pt x="288" y="583"/>
                </a:lnTo>
                <a:lnTo>
                  <a:pt x="296" y="606"/>
                </a:lnTo>
                <a:lnTo>
                  <a:pt x="302" y="631"/>
                </a:lnTo>
                <a:lnTo>
                  <a:pt x="308" y="656"/>
                </a:lnTo>
                <a:lnTo>
                  <a:pt x="315" y="681"/>
                </a:lnTo>
                <a:lnTo>
                  <a:pt x="323" y="708"/>
                </a:lnTo>
                <a:lnTo>
                  <a:pt x="331" y="735"/>
                </a:lnTo>
                <a:lnTo>
                  <a:pt x="340" y="762"/>
                </a:lnTo>
                <a:lnTo>
                  <a:pt x="348" y="791"/>
                </a:lnTo>
                <a:lnTo>
                  <a:pt x="367" y="848"/>
                </a:lnTo>
                <a:lnTo>
                  <a:pt x="377" y="877"/>
                </a:lnTo>
                <a:lnTo>
                  <a:pt x="388" y="906"/>
                </a:lnTo>
                <a:lnTo>
                  <a:pt x="398" y="935"/>
                </a:lnTo>
                <a:lnTo>
                  <a:pt x="407" y="965"/>
                </a:lnTo>
                <a:lnTo>
                  <a:pt x="417" y="994"/>
                </a:lnTo>
                <a:lnTo>
                  <a:pt x="428" y="1023"/>
                </a:lnTo>
                <a:lnTo>
                  <a:pt x="438" y="1050"/>
                </a:lnTo>
                <a:lnTo>
                  <a:pt x="450" y="1079"/>
                </a:lnTo>
                <a:lnTo>
                  <a:pt x="475" y="1134"/>
                </a:lnTo>
                <a:lnTo>
                  <a:pt x="501" y="1188"/>
                </a:lnTo>
                <a:lnTo>
                  <a:pt x="530" y="1240"/>
                </a:lnTo>
                <a:lnTo>
                  <a:pt x="559" y="1292"/>
                </a:lnTo>
                <a:lnTo>
                  <a:pt x="590" y="1343"/>
                </a:lnTo>
                <a:lnTo>
                  <a:pt x="605" y="1366"/>
                </a:lnTo>
                <a:lnTo>
                  <a:pt x="620" y="1391"/>
                </a:lnTo>
                <a:lnTo>
                  <a:pt x="636" y="1413"/>
                </a:lnTo>
                <a:lnTo>
                  <a:pt x="649" y="1434"/>
                </a:lnTo>
                <a:lnTo>
                  <a:pt x="665" y="1455"/>
                </a:lnTo>
                <a:lnTo>
                  <a:pt x="678" y="1474"/>
                </a:lnTo>
                <a:lnTo>
                  <a:pt x="693" y="1491"/>
                </a:lnTo>
                <a:lnTo>
                  <a:pt x="709" y="1510"/>
                </a:lnTo>
                <a:lnTo>
                  <a:pt x="722" y="1526"/>
                </a:lnTo>
                <a:lnTo>
                  <a:pt x="738" y="1541"/>
                </a:lnTo>
                <a:lnTo>
                  <a:pt x="751" y="1556"/>
                </a:lnTo>
                <a:lnTo>
                  <a:pt x="766" y="1572"/>
                </a:lnTo>
                <a:lnTo>
                  <a:pt x="782" y="1585"/>
                </a:lnTo>
                <a:lnTo>
                  <a:pt x="797" y="1597"/>
                </a:lnTo>
                <a:lnTo>
                  <a:pt x="812" y="1610"/>
                </a:lnTo>
                <a:lnTo>
                  <a:pt x="828" y="1622"/>
                </a:lnTo>
                <a:lnTo>
                  <a:pt x="841" y="1633"/>
                </a:lnTo>
                <a:lnTo>
                  <a:pt x="857" y="1643"/>
                </a:lnTo>
                <a:lnTo>
                  <a:pt x="870" y="1652"/>
                </a:lnTo>
                <a:lnTo>
                  <a:pt x="882" y="1660"/>
                </a:lnTo>
                <a:lnTo>
                  <a:pt x="895" y="1668"/>
                </a:lnTo>
                <a:lnTo>
                  <a:pt x="906" y="1675"/>
                </a:lnTo>
                <a:lnTo>
                  <a:pt x="916" y="1681"/>
                </a:lnTo>
                <a:lnTo>
                  <a:pt x="926" y="1685"/>
                </a:lnTo>
                <a:lnTo>
                  <a:pt x="935" y="1689"/>
                </a:lnTo>
                <a:lnTo>
                  <a:pt x="943" y="1693"/>
                </a:lnTo>
                <a:lnTo>
                  <a:pt x="951" y="1695"/>
                </a:lnTo>
                <a:lnTo>
                  <a:pt x="958" y="1697"/>
                </a:lnTo>
                <a:lnTo>
                  <a:pt x="964" y="1697"/>
                </a:lnTo>
                <a:lnTo>
                  <a:pt x="970" y="1697"/>
                </a:lnTo>
                <a:lnTo>
                  <a:pt x="976" y="1697"/>
                </a:lnTo>
                <a:lnTo>
                  <a:pt x="981" y="1695"/>
                </a:lnTo>
                <a:lnTo>
                  <a:pt x="983" y="1693"/>
                </a:lnTo>
                <a:lnTo>
                  <a:pt x="985" y="1689"/>
                </a:lnTo>
                <a:lnTo>
                  <a:pt x="989" y="1683"/>
                </a:lnTo>
                <a:lnTo>
                  <a:pt x="993" y="1679"/>
                </a:lnTo>
                <a:lnTo>
                  <a:pt x="995" y="1672"/>
                </a:lnTo>
                <a:lnTo>
                  <a:pt x="999" y="1666"/>
                </a:lnTo>
                <a:lnTo>
                  <a:pt x="1002" y="1656"/>
                </a:lnTo>
                <a:lnTo>
                  <a:pt x="1008" y="1647"/>
                </a:lnTo>
                <a:lnTo>
                  <a:pt x="1012" y="1637"/>
                </a:lnTo>
                <a:lnTo>
                  <a:pt x="1018" y="1626"/>
                </a:lnTo>
                <a:lnTo>
                  <a:pt x="1022" y="1614"/>
                </a:lnTo>
                <a:lnTo>
                  <a:pt x="1027" y="1601"/>
                </a:lnTo>
                <a:lnTo>
                  <a:pt x="1033" y="1587"/>
                </a:lnTo>
                <a:lnTo>
                  <a:pt x="1039" y="1570"/>
                </a:lnTo>
                <a:lnTo>
                  <a:pt x="1045" y="1555"/>
                </a:lnTo>
                <a:lnTo>
                  <a:pt x="1052" y="1537"/>
                </a:lnTo>
                <a:lnTo>
                  <a:pt x="1056" y="1518"/>
                </a:lnTo>
                <a:lnTo>
                  <a:pt x="1060" y="1503"/>
                </a:lnTo>
                <a:lnTo>
                  <a:pt x="1066" y="1487"/>
                </a:lnTo>
                <a:lnTo>
                  <a:pt x="1070" y="1472"/>
                </a:lnTo>
                <a:lnTo>
                  <a:pt x="1074" y="1460"/>
                </a:lnTo>
                <a:lnTo>
                  <a:pt x="1077" y="1447"/>
                </a:lnTo>
                <a:lnTo>
                  <a:pt x="1081" y="1437"/>
                </a:lnTo>
                <a:lnTo>
                  <a:pt x="1085" y="1428"/>
                </a:lnTo>
                <a:lnTo>
                  <a:pt x="1089" y="1418"/>
                </a:lnTo>
                <a:lnTo>
                  <a:pt x="1093" y="1413"/>
                </a:lnTo>
                <a:lnTo>
                  <a:pt x="1097" y="1405"/>
                </a:lnTo>
                <a:lnTo>
                  <a:pt x="1100" y="1401"/>
                </a:lnTo>
                <a:lnTo>
                  <a:pt x="1104" y="1397"/>
                </a:lnTo>
                <a:lnTo>
                  <a:pt x="1106" y="1393"/>
                </a:lnTo>
                <a:lnTo>
                  <a:pt x="1108" y="1391"/>
                </a:lnTo>
                <a:lnTo>
                  <a:pt x="1112" y="1391"/>
                </a:lnTo>
                <a:lnTo>
                  <a:pt x="1114" y="1395"/>
                </a:lnTo>
                <a:lnTo>
                  <a:pt x="1116" y="1399"/>
                </a:lnTo>
                <a:lnTo>
                  <a:pt x="1116" y="1403"/>
                </a:lnTo>
                <a:lnTo>
                  <a:pt x="1118" y="1411"/>
                </a:lnTo>
                <a:lnTo>
                  <a:pt x="1120" y="1418"/>
                </a:lnTo>
                <a:lnTo>
                  <a:pt x="1122" y="1426"/>
                </a:lnTo>
                <a:lnTo>
                  <a:pt x="1122" y="1436"/>
                </a:lnTo>
                <a:lnTo>
                  <a:pt x="1123" y="1447"/>
                </a:lnTo>
                <a:lnTo>
                  <a:pt x="1123" y="1460"/>
                </a:lnTo>
                <a:lnTo>
                  <a:pt x="1125" y="1474"/>
                </a:lnTo>
                <a:lnTo>
                  <a:pt x="1127" y="1489"/>
                </a:lnTo>
                <a:lnTo>
                  <a:pt x="1127" y="1505"/>
                </a:lnTo>
                <a:lnTo>
                  <a:pt x="1129" y="1524"/>
                </a:lnTo>
                <a:lnTo>
                  <a:pt x="1131" y="1543"/>
                </a:lnTo>
                <a:lnTo>
                  <a:pt x="1133" y="1562"/>
                </a:lnTo>
                <a:lnTo>
                  <a:pt x="1135" y="1585"/>
                </a:lnTo>
                <a:lnTo>
                  <a:pt x="1135" y="1608"/>
                </a:lnTo>
                <a:lnTo>
                  <a:pt x="1135" y="1629"/>
                </a:lnTo>
                <a:lnTo>
                  <a:pt x="1137" y="1650"/>
                </a:lnTo>
                <a:lnTo>
                  <a:pt x="1137" y="1672"/>
                </a:lnTo>
                <a:lnTo>
                  <a:pt x="1139" y="1691"/>
                </a:lnTo>
                <a:lnTo>
                  <a:pt x="1139" y="1710"/>
                </a:lnTo>
                <a:lnTo>
                  <a:pt x="1141" y="1729"/>
                </a:lnTo>
                <a:lnTo>
                  <a:pt x="1143" y="1746"/>
                </a:lnTo>
                <a:lnTo>
                  <a:pt x="1145" y="1764"/>
                </a:lnTo>
                <a:lnTo>
                  <a:pt x="1146" y="1781"/>
                </a:lnTo>
                <a:lnTo>
                  <a:pt x="1148" y="1796"/>
                </a:lnTo>
                <a:lnTo>
                  <a:pt x="1150" y="1812"/>
                </a:lnTo>
                <a:lnTo>
                  <a:pt x="1152" y="1825"/>
                </a:lnTo>
                <a:lnTo>
                  <a:pt x="1154" y="1839"/>
                </a:lnTo>
                <a:lnTo>
                  <a:pt x="1156" y="1852"/>
                </a:lnTo>
                <a:lnTo>
                  <a:pt x="1160" y="1864"/>
                </a:lnTo>
                <a:lnTo>
                  <a:pt x="1160" y="1875"/>
                </a:lnTo>
                <a:lnTo>
                  <a:pt x="1162" y="1885"/>
                </a:lnTo>
                <a:lnTo>
                  <a:pt x="1162" y="1896"/>
                </a:lnTo>
                <a:lnTo>
                  <a:pt x="1162" y="1904"/>
                </a:lnTo>
                <a:lnTo>
                  <a:pt x="1160" y="1913"/>
                </a:lnTo>
                <a:lnTo>
                  <a:pt x="1158" y="1921"/>
                </a:lnTo>
                <a:lnTo>
                  <a:pt x="1156" y="1929"/>
                </a:lnTo>
                <a:lnTo>
                  <a:pt x="1152" y="1936"/>
                </a:lnTo>
                <a:lnTo>
                  <a:pt x="1148" y="1942"/>
                </a:lnTo>
                <a:lnTo>
                  <a:pt x="1145" y="1946"/>
                </a:lnTo>
                <a:lnTo>
                  <a:pt x="1141" y="1952"/>
                </a:lnTo>
                <a:lnTo>
                  <a:pt x="1135" y="1956"/>
                </a:lnTo>
                <a:lnTo>
                  <a:pt x="1129" y="1958"/>
                </a:lnTo>
                <a:lnTo>
                  <a:pt x="1123" y="1959"/>
                </a:lnTo>
                <a:lnTo>
                  <a:pt x="1118" y="1961"/>
                </a:lnTo>
                <a:lnTo>
                  <a:pt x="1112" y="1961"/>
                </a:lnTo>
                <a:lnTo>
                  <a:pt x="1102" y="1961"/>
                </a:lnTo>
                <a:lnTo>
                  <a:pt x="1091" y="1959"/>
                </a:lnTo>
                <a:lnTo>
                  <a:pt x="1079" y="1956"/>
                </a:lnTo>
                <a:lnTo>
                  <a:pt x="1066" y="1952"/>
                </a:lnTo>
                <a:lnTo>
                  <a:pt x="1052" y="1948"/>
                </a:lnTo>
                <a:lnTo>
                  <a:pt x="1037" y="1940"/>
                </a:lnTo>
                <a:lnTo>
                  <a:pt x="1022" y="1935"/>
                </a:lnTo>
                <a:lnTo>
                  <a:pt x="1004" y="1925"/>
                </a:lnTo>
                <a:lnTo>
                  <a:pt x="985" y="1915"/>
                </a:lnTo>
                <a:lnTo>
                  <a:pt x="966" y="1904"/>
                </a:lnTo>
                <a:lnTo>
                  <a:pt x="945" y="1892"/>
                </a:lnTo>
                <a:lnTo>
                  <a:pt x="924" y="1879"/>
                </a:lnTo>
                <a:lnTo>
                  <a:pt x="901" y="1865"/>
                </a:lnTo>
                <a:lnTo>
                  <a:pt x="878" y="1850"/>
                </a:lnTo>
                <a:lnTo>
                  <a:pt x="853" y="1833"/>
                </a:lnTo>
                <a:lnTo>
                  <a:pt x="828" y="1816"/>
                </a:lnTo>
                <a:lnTo>
                  <a:pt x="799" y="1796"/>
                </a:lnTo>
                <a:lnTo>
                  <a:pt x="770" y="1777"/>
                </a:lnTo>
                <a:lnTo>
                  <a:pt x="743" y="1756"/>
                </a:lnTo>
                <a:lnTo>
                  <a:pt x="716" y="1733"/>
                </a:lnTo>
                <a:lnTo>
                  <a:pt x="690" y="1710"/>
                </a:lnTo>
                <a:lnTo>
                  <a:pt x="663" y="1685"/>
                </a:lnTo>
                <a:lnTo>
                  <a:pt x="638" y="1658"/>
                </a:lnTo>
                <a:lnTo>
                  <a:pt x="613" y="1631"/>
                </a:lnTo>
                <a:lnTo>
                  <a:pt x="588" y="1604"/>
                </a:lnTo>
                <a:lnTo>
                  <a:pt x="565" y="1574"/>
                </a:lnTo>
                <a:lnTo>
                  <a:pt x="542" y="1543"/>
                </a:lnTo>
                <a:lnTo>
                  <a:pt x="519" y="1510"/>
                </a:lnTo>
                <a:lnTo>
                  <a:pt x="498" y="1478"/>
                </a:lnTo>
                <a:lnTo>
                  <a:pt x="476" y="1441"/>
                </a:lnTo>
                <a:lnTo>
                  <a:pt x="455" y="1405"/>
                </a:lnTo>
                <a:lnTo>
                  <a:pt x="436" y="136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6583320" y="3841920"/>
            <a:ext cx="406440" cy="296640"/>
          </a:xfrm>
          <a:custGeom>
            <a:avLst/>
            <a:gdLst/>
            <a:ahLst/>
            <a:rect l="l" t="t" r="r" b="b"/>
            <a:pathLst>
              <a:path w="511" h="374">
                <a:moveTo>
                  <a:pt x="475" y="132"/>
                </a:moveTo>
                <a:lnTo>
                  <a:pt x="471" y="136"/>
                </a:lnTo>
                <a:lnTo>
                  <a:pt x="465" y="140"/>
                </a:lnTo>
                <a:lnTo>
                  <a:pt x="459" y="145"/>
                </a:lnTo>
                <a:lnTo>
                  <a:pt x="453" y="153"/>
                </a:lnTo>
                <a:lnTo>
                  <a:pt x="446" y="163"/>
                </a:lnTo>
                <a:lnTo>
                  <a:pt x="438" y="172"/>
                </a:lnTo>
                <a:lnTo>
                  <a:pt x="430" y="184"/>
                </a:lnTo>
                <a:lnTo>
                  <a:pt x="423" y="199"/>
                </a:lnTo>
                <a:lnTo>
                  <a:pt x="413" y="214"/>
                </a:lnTo>
                <a:lnTo>
                  <a:pt x="406" y="232"/>
                </a:lnTo>
                <a:lnTo>
                  <a:pt x="396" y="251"/>
                </a:lnTo>
                <a:lnTo>
                  <a:pt x="386" y="272"/>
                </a:lnTo>
                <a:lnTo>
                  <a:pt x="377" y="295"/>
                </a:lnTo>
                <a:lnTo>
                  <a:pt x="371" y="307"/>
                </a:lnTo>
                <a:lnTo>
                  <a:pt x="365" y="318"/>
                </a:lnTo>
                <a:lnTo>
                  <a:pt x="359" y="332"/>
                </a:lnTo>
                <a:lnTo>
                  <a:pt x="356" y="345"/>
                </a:lnTo>
                <a:lnTo>
                  <a:pt x="350" y="358"/>
                </a:lnTo>
                <a:lnTo>
                  <a:pt x="344" y="374"/>
                </a:lnTo>
                <a:lnTo>
                  <a:pt x="315" y="374"/>
                </a:lnTo>
                <a:lnTo>
                  <a:pt x="286" y="374"/>
                </a:lnTo>
                <a:lnTo>
                  <a:pt x="290" y="347"/>
                </a:lnTo>
                <a:lnTo>
                  <a:pt x="294" y="322"/>
                </a:lnTo>
                <a:lnTo>
                  <a:pt x="298" y="299"/>
                </a:lnTo>
                <a:lnTo>
                  <a:pt x="300" y="276"/>
                </a:lnTo>
                <a:lnTo>
                  <a:pt x="304" y="257"/>
                </a:lnTo>
                <a:lnTo>
                  <a:pt x="306" y="237"/>
                </a:lnTo>
                <a:lnTo>
                  <a:pt x="308" y="220"/>
                </a:lnTo>
                <a:lnTo>
                  <a:pt x="310" y="203"/>
                </a:lnTo>
                <a:lnTo>
                  <a:pt x="311" y="190"/>
                </a:lnTo>
                <a:lnTo>
                  <a:pt x="313" y="176"/>
                </a:lnTo>
                <a:lnTo>
                  <a:pt x="313" y="165"/>
                </a:lnTo>
                <a:lnTo>
                  <a:pt x="313" y="155"/>
                </a:lnTo>
                <a:lnTo>
                  <a:pt x="313" y="147"/>
                </a:lnTo>
                <a:lnTo>
                  <a:pt x="311" y="140"/>
                </a:lnTo>
                <a:lnTo>
                  <a:pt x="311" y="136"/>
                </a:lnTo>
                <a:lnTo>
                  <a:pt x="310" y="132"/>
                </a:lnTo>
                <a:lnTo>
                  <a:pt x="306" y="130"/>
                </a:lnTo>
                <a:lnTo>
                  <a:pt x="304" y="128"/>
                </a:lnTo>
                <a:lnTo>
                  <a:pt x="300" y="126"/>
                </a:lnTo>
                <a:lnTo>
                  <a:pt x="296" y="124"/>
                </a:lnTo>
                <a:lnTo>
                  <a:pt x="290" y="124"/>
                </a:lnTo>
                <a:lnTo>
                  <a:pt x="286" y="122"/>
                </a:lnTo>
                <a:lnTo>
                  <a:pt x="275" y="122"/>
                </a:lnTo>
                <a:lnTo>
                  <a:pt x="262" y="122"/>
                </a:lnTo>
                <a:lnTo>
                  <a:pt x="246" y="124"/>
                </a:lnTo>
                <a:lnTo>
                  <a:pt x="231" y="128"/>
                </a:lnTo>
                <a:lnTo>
                  <a:pt x="214" y="132"/>
                </a:lnTo>
                <a:lnTo>
                  <a:pt x="190" y="138"/>
                </a:lnTo>
                <a:lnTo>
                  <a:pt x="167" y="143"/>
                </a:lnTo>
                <a:lnTo>
                  <a:pt x="142" y="149"/>
                </a:lnTo>
                <a:lnTo>
                  <a:pt x="116" y="157"/>
                </a:lnTo>
                <a:lnTo>
                  <a:pt x="89" y="166"/>
                </a:lnTo>
                <a:lnTo>
                  <a:pt x="60" y="174"/>
                </a:lnTo>
                <a:lnTo>
                  <a:pt x="31" y="184"/>
                </a:lnTo>
                <a:lnTo>
                  <a:pt x="0" y="193"/>
                </a:lnTo>
                <a:lnTo>
                  <a:pt x="0" y="157"/>
                </a:lnTo>
                <a:lnTo>
                  <a:pt x="0" y="120"/>
                </a:lnTo>
                <a:lnTo>
                  <a:pt x="33" y="111"/>
                </a:lnTo>
                <a:lnTo>
                  <a:pt x="64" y="101"/>
                </a:lnTo>
                <a:lnTo>
                  <a:pt x="93" y="94"/>
                </a:lnTo>
                <a:lnTo>
                  <a:pt x="119" y="86"/>
                </a:lnTo>
                <a:lnTo>
                  <a:pt x="146" y="78"/>
                </a:lnTo>
                <a:lnTo>
                  <a:pt x="169" y="71"/>
                </a:lnTo>
                <a:lnTo>
                  <a:pt x="192" y="63"/>
                </a:lnTo>
                <a:lnTo>
                  <a:pt x="212" y="57"/>
                </a:lnTo>
                <a:lnTo>
                  <a:pt x="231" y="51"/>
                </a:lnTo>
                <a:lnTo>
                  <a:pt x="248" y="46"/>
                </a:lnTo>
                <a:lnTo>
                  <a:pt x="263" y="40"/>
                </a:lnTo>
                <a:lnTo>
                  <a:pt x="275" y="36"/>
                </a:lnTo>
                <a:lnTo>
                  <a:pt x="286" y="32"/>
                </a:lnTo>
                <a:lnTo>
                  <a:pt x="292" y="30"/>
                </a:lnTo>
                <a:lnTo>
                  <a:pt x="296" y="28"/>
                </a:lnTo>
                <a:lnTo>
                  <a:pt x="300" y="26"/>
                </a:lnTo>
                <a:lnTo>
                  <a:pt x="304" y="24"/>
                </a:lnTo>
                <a:lnTo>
                  <a:pt x="306" y="24"/>
                </a:lnTo>
                <a:lnTo>
                  <a:pt x="310" y="23"/>
                </a:lnTo>
                <a:lnTo>
                  <a:pt x="327" y="13"/>
                </a:lnTo>
                <a:lnTo>
                  <a:pt x="334" y="9"/>
                </a:lnTo>
                <a:lnTo>
                  <a:pt x="344" y="5"/>
                </a:lnTo>
                <a:lnTo>
                  <a:pt x="354" y="3"/>
                </a:lnTo>
                <a:lnTo>
                  <a:pt x="361" y="1"/>
                </a:lnTo>
                <a:lnTo>
                  <a:pt x="371" y="0"/>
                </a:lnTo>
                <a:lnTo>
                  <a:pt x="381" y="0"/>
                </a:lnTo>
                <a:lnTo>
                  <a:pt x="382" y="0"/>
                </a:lnTo>
                <a:lnTo>
                  <a:pt x="384" y="0"/>
                </a:lnTo>
                <a:lnTo>
                  <a:pt x="392" y="1"/>
                </a:lnTo>
                <a:lnTo>
                  <a:pt x="402" y="3"/>
                </a:lnTo>
                <a:lnTo>
                  <a:pt x="413" y="5"/>
                </a:lnTo>
                <a:lnTo>
                  <a:pt x="425" y="9"/>
                </a:lnTo>
                <a:lnTo>
                  <a:pt x="436" y="13"/>
                </a:lnTo>
                <a:lnTo>
                  <a:pt x="450" y="19"/>
                </a:lnTo>
                <a:lnTo>
                  <a:pt x="463" y="23"/>
                </a:lnTo>
                <a:lnTo>
                  <a:pt x="469" y="26"/>
                </a:lnTo>
                <a:lnTo>
                  <a:pt x="475" y="32"/>
                </a:lnTo>
                <a:lnTo>
                  <a:pt x="480" y="36"/>
                </a:lnTo>
                <a:lnTo>
                  <a:pt x="486" y="42"/>
                </a:lnTo>
                <a:lnTo>
                  <a:pt x="490" y="46"/>
                </a:lnTo>
                <a:lnTo>
                  <a:pt x="494" y="49"/>
                </a:lnTo>
                <a:lnTo>
                  <a:pt x="500" y="57"/>
                </a:lnTo>
                <a:lnTo>
                  <a:pt x="505" y="65"/>
                </a:lnTo>
                <a:lnTo>
                  <a:pt x="507" y="72"/>
                </a:lnTo>
                <a:lnTo>
                  <a:pt x="509" y="78"/>
                </a:lnTo>
                <a:lnTo>
                  <a:pt x="511" y="84"/>
                </a:lnTo>
                <a:lnTo>
                  <a:pt x="509" y="92"/>
                </a:lnTo>
                <a:lnTo>
                  <a:pt x="507" y="99"/>
                </a:lnTo>
                <a:lnTo>
                  <a:pt x="505" y="107"/>
                </a:lnTo>
                <a:lnTo>
                  <a:pt x="501" y="113"/>
                </a:lnTo>
                <a:lnTo>
                  <a:pt x="496" y="119"/>
                </a:lnTo>
                <a:lnTo>
                  <a:pt x="490" y="122"/>
                </a:lnTo>
                <a:lnTo>
                  <a:pt x="482" y="128"/>
                </a:lnTo>
                <a:lnTo>
                  <a:pt x="475" y="13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41"/>
          <p:cNvSpPr/>
          <p:nvPr/>
        </p:nvSpPr>
        <p:spPr>
          <a:xfrm>
            <a:off x="6621480" y="4110120"/>
            <a:ext cx="282600" cy="115920"/>
          </a:xfrm>
          <a:custGeom>
            <a:avLst/>
            <a:gdLst/>
            <a:ahLst/>
            <a:rect l="l" t="t" r="r" b="b"/>
            <a:pathLst>
              <a:path w="356" h="146">
                <a:moveTo>
                  <a:pt x="0" y="62"/>
                </a:moveTo>
                <a:lnTo>
                  <a:pt x="27" y="54"/>
                </a:lnTo>
                <a:lnTo>
                  <a:pt x="56" y="48"/>
                </a:lnTo>
                <a:lnTo>
                  <a:pt x="81" y="43"/>
                </a:lnTo>
                <a:lnTo>
                  <a:pt x="106" y="37"/>
                </a:lnTo>
                <a:lnTo>
                  <a:pt x="129" y="31"/>
                </a:lnTo>
                <a:lnTo>
                  <a:pt x="152" y="25"/>
                </a:lnTo>
                <a:lnTo>
                  <a:pt x="173" y="21"/>
                </a:lnTo>
                <a:lnTo>
                  <a:pt x="192" y="18"/>
                </a:lnTo>
                <a:lnTo>
                  <a:pt x="210" y="14"/>
                </a:lnTo>
                <a:lnTo>
                  <a:pt x="227" y="10"/>
                </a:lnTo>
                <a:lnTo>
                  <a:pt x="242" y="8"/>
                </a:lnTo>
                <a:lnTo>
                  <a:pt x="256" y="4"/>
                </a:lnTo>
                <a:lnTo>
                  <a:pt x="269" y="2"/>
                </a:lnTo>
                <a:lnTo>
                  <a:pt x="279" y="2"/>
                </a:lnTo>
                <a:lnTo>
                  <a:pt x="288" y="0"/>
                </a:lnTo>
                <a:lnTo>
                  <a:pt x="296" y="0"/>
                </a:lnTo>
                <a:lnTo>
                  <a:pt x="310" y="0"/>
                </a:lnTo>
                <a:lnTo>
                  <a:pt x="321" y="2"/>
                </a:lnTo>
                <a:lnTo>
                  <a:pt x="331" y="6"/>
                </a:lnTo>
                <a:lnTo>
                  <a:pt x="338" y="10"/>
                </a:lnTo>
                <a:lnTo>
                  <a:pt x="346" y="16"/>
                </a:lnTo>
                <a:lnTo>
                  <a:pt x="350" y="18"/>
                </a:lnTo>
                <a:lnTo>
                  <a:pt x="352" y="21"/>
                </a:lnTo>
                <a:lnTo>
                  <a:pt x="354" y="25"/>
                </a:lnTo>
                <a:lnTo>
                  <a:pt x="354" y="29"/>
                </a:lnTo>
                <a:lnTo>
                  <a:pt x="356" y="33"/>
                </a:lnTo>
                <a:lnTo>
                  <a:pt x="356" y="37"/>
                </a:lnTo>
                <a:lnTo>
                  <a:pt x="356" y="39"/>
                </a:lnTo>
                <a:lnTo>
                  <a:pt x="354" y="43"/>
                </a:lnTo>
                <a:lnTo>
                  <a:pt x="352" y="44"/>
                </a:lnTo>
                <a:lnTo>
                  <a:pt x="350" y="46"/>
                </a:lnTo>
                <a:lnTo>
                  <a:pt x="346" y="50"/>
                </a:lnTo>
                <a:lnTo>
                  <a:pt x="342" y="52"/>
                </a:lnTo>
                <a:lnTo>
                  <a:pt x="338" y="54"/>
                </a:lnTo>
                <a:lnTo>
                  <a:pt x="333" y="58"/>
                </a:lnTo>
                <a:lnTo>
                  <a:pt x="327" y="60"/>
                </a:lnTo>
                <a:lnTo>
                  <a:pt x="321" y="64"/>
                </a:lnTo>
                <a:lnTo>
                  <a:pt x="313" y="66"/>
                </a:lnTo>
                <a:lnTo>
                  <a:pt x="306" y="69"/>
                </a:lnTo>
                <a:lnTo>
                  <a:pt x="296" y="73"/>
                </a:lnTo>
                <a:lnTo>
                  <a:pt x="286" y="75"/>
                </a:lnTo>
                <a:lnTo>
                  <a:pt x="277" y="79"/>
                </a:lnTo>
                <a:lnTo>
                  <a:pt x="267" y="83"/>
                </a:lnTo>
                <a:lnTo>
                  <a:pt x="256" y="87"/>
                </a:lnTo>
                <a:lnTo>
                  <a:pt x="242" y="89"/>
                </a:lnTo>
                <a:lnTo>
                  <a:pt x="231" y="92"/>
                </a:lnTo>
                <a:lnTo>
                  <a:pt x="215" y="96"/>
                </a:lnTo>
                <a:lnTo>
                  <a:pt x="202" y="100"/>
                </a:lnTo>
                <a:lnTo>
                  <a:pt x="187" y="104"/>
                </a:lnTo>
                <a:lnTo>
                  <a:pt x="171" y="108"/>
                </a:lnTo>
                <a:lnTo>
                  <a:pt x="156" y="112"/>
                </a:lnTo>
                <a:lnTo>
                  <a:pt x="139" y="115"/>
                </a:lnTo>
                <a:lnTo>
                  <a:pt x="119" y="119"/>
                </a:lnTo>
                <a:lnTo>
                  <a:pt x="102" y="125"/>
                </a:lnTo>
                <a:lnTo>
                  <a:pt x="83" y="129"/>
                </a:lnTo>
                <a:lnTo>
                  <a:pt x="64" y="133"/>
                </a:lnTo>
                <a:lnTo>
                  <a:pt x="43" y="137"/>
                </a:lnTo>
                <a:lnTo>
                  <a:pt x="22" y="142"/>
                </a:lnTo>
                <a:lnTo>
                  <a:pt x="0" y="146"/>
                </a:lnTo>
                <a:lnTo>
                  <a:pt x="0" y="104"/>
                </a:lnTo>
                <a:lnTo>
                  <a:pt x="0" y="6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42"/>
          <p:cNvSpPr/>
          <p:nvPr/>
        </p:nvSpPr>
        <p:spPr>
          <a:xfrm>
            <a:off x="5651640" y="3494160"/>
            <a:ext cx="668160" cy="225360"/>
          </a:xfrm>
          <a:custGeom>
            <a:avLst/>
            <a:gdLst/>
            <a:ahLst/>
            <a:rect l="l" t="t" r="r" b="b"/>
            <a:pathLst>
              <a:path w="842" h="284">
                <a:moveTo>
                  <a:pt x="403" y="98"/>
                </a:moveTo>
                <a:lnTo>
                  <a:pt x="422" y="92"/>
                </a:lnTo>
                <a:lnTo>
                  <a:pt x="439" y="86"/>
                </a:lnTo>
                <a:lnTo>
                  <a:pt x="456" y="81"/>
                </a:lnTo>
                <a:lnTo>
                  <a:pt x="474" y="75"/>
                </a:lnTo>
                <a:lnTo>
                  <a:pt x="491" y="71"/>
                </a:lnTo>
                <a:lnTo>
                  <a:pt x="506" y="65"/>
                </a:lnTo>
                <a:lnTo>
                  <a:pt x="522" y="61"/>
                </a:lnTo>
                <a:lnTo>
                  <a:pt x="537" y="56"/>
                </a:lnTo>
                <a:lnTo>
                  <a:pt x="550" y="52"/>
                </a:lnTo>
                <a:lnTo>
                  <a:pt x="564" y="48"/>
                </a:lnTo>
                <a:lnTo>
                  <a:pt x="577" y="44"/>
                </a:lnTo>
                <a:lnTo>
                  <a:pt x="589" y="38"/>
                </a:lnTo>
                <a:lnTo>
                  <a:pt x="602" y="36"/>
                </a:lnTo>
                <a:lnTo>
                  <a:pt x="614" y="33"/>
                </a:lnTo>
                <a:lnTo>
                  <a:pt x="623" y="29"/>
                </a:lnTo>
                <a:lnTo>
                  <a:pt x="635" y="25"/>
                </a:lnTo>
                <a:lnTo>
                  <a:pt x="645" y="23"/>
                </a:lnTo>
                <a:lnTo>
                  <a:pt x="654" y="19"/>
                </a:lnTo>
                <a:lnTo>
                  <a:pt x="662" y="17"/>
                </a:lnTo>
                <a:lnTo>
                  <a:pt x="670" y="15"/>
                </a:lnTo>
                <a:lnTo>
                  <a:pt x="677" y="11"/>
                </a:lnTo>
                <a:lnTo>
                  <a:pt x="685" y="10"/>
                </a:lnTo>
                <a:lnTo>
                  <a:pt x="691" y="8"/>
                </a:lnTo>
                <a:lnTo>
                  <a:pt x="696" y="6"/>
                </a:lnTo>
                <a:lnTo>
                  <a:pt x="702" y="6"/>
                </a:lnTo>
                <a:lnTo>
                  <a:pt x="706" y="4"/>
                </a:lnTo>
                <a:lnTo>
                  <a:pt x="712" y="2"/>
                </a:lnTo>
                <a:lnTo>
                  <a:pt x="714" y="2"/>
                </a:lnTo>
                <a:lnTo>
                  <a:pt x="718" y="2"/>
                </a:lnTo>
                <a:lnTo>
                  <a:pt x="719" y="0"/>
                </a:lnTo>
                <a:lnTo>
                  <a:pt x="721" y="0"/>
                </a:lnTo>
                <a:lnTo>
                  <a:pt x="723" y="0"/>
                </a:lnTo>
                <a:lnTo>
                  <a:pt x="729" y="4"/>
                </a:lnTo>
                <a:lnTo>
                  <a:pt x="735" y="10"/>
                </a:lnTo>
                <a:lnTo>
                  <a:pt x="742" y="13"/>
                </a:lnTo>
                <a:lnTo>
                  <a:pt x="750" y="19"/>
                </a:lnTo>
                <a:lnTo>
                  <a:pt x="760" y="23"/>
                </a:lnTo>
                <a:lnTo>
                  <a:pt x="769" y="27"/>
                </a:lnTo>
                <a:lnTo>
                  <a:pt x="781" y="33"/>
                </a:lnTo>
                <a:lnTo>
                  <a:pt x="794" y="36"/>
                </a:lnTo>
                <a:lnTo>
                  <a:pt x="800" y="40"/>
                </a:lnTo>
                <a:lnTo>
                  <a:pt x="806" y="46"/>
                </a:lnTo>
                <a:lnTo>
                  <a:pt x="812" y="50"/>
                </a:lnTo>
                <a:lnTo>
                  <a:pt x="817" y="56"/>
                </a:lnTo>
                <a:lnTo>
                  <a:pt x="825" y="63"/>
                </a:lnTo>
                <a:lnTo>
                  <a:pt x="831" y="71"/>
                </a:lnTo>
                <a:lnTo>
                  <a:pt x="837" y="79"/>
                </a:lnTo>
                <a:lnTo>
                  <a:pt x="840" y="86"/>
                </a:lnTo>
                <a:lnTo>
                  <a:pt x="842" y="92"/>
                </a:lnTo>
                <a:lnTo>
                  <a:pt x="842" y="98"/>
                </a:lnTo>
                <a:lnTo>
                  <a:pt x="840" y="100"/>
                </a:lnTo>
                <a:lnTo>
                  <a:pt x="840" y="102"/>
                </a:lnTo>
                <a:lnTo>
                  <a:pt x="838" y="104"/>
                </a:lnTo>
                <a:lnTo>
                  <a:pt x="835" y="104"/>
                </a:lnTo>
                <a:lnTo>
                  <a:pt x="833" y="106"/>
                </a:lnTo>
                <a:lnTo>
                  <a:pt x="829" y="107"/>
                </a:lnTo>
                <a:lnTo>
                  <a:pt x="825" y="111"/>
                </a:lnTo>
                <a:lnTo>
                  <a:pt x="819" y="113"/>
                </a:lnTo>
                <a:lnTo>
                  <a:pt x="814" y="115"/>
                </a:lnTo>
                <a:lnTo>
                  <a:pt x="808" y="117"/>
                </a:lnTo>
                <a:lnTo>
                  <a:pt x="802" y="121"/>
                </a:lnTo>
                <a:lnTo>
                  <a:pt x="794" y="123"/>
                </a:lnTo>
                <a:lnTo>
                  <a:pt x="787" y="127"/>
                </a:lnTo>
                <a:lnTo>
                  <a:pt x="779" y="129"/>
                </a:lnTo>
                <a:lnTo>
                  <a:pt x="769" y="132"/>
                </a:lnTo>
                <a:lnTo>
                  <a:pt x="760" y="134"/>
                </a:lnTo>
                <a:lnTo>
                  <a:pt x="750" y="138"/>
                </a:lnTo>
                <a:lnTo>
                  <a:pt x="739" y="142"/>
                </a:lnTo>
                <a:lnTo>
                  <a:pt x="729" y="146"/>
                </a:lnTo>
                <a:lnTo>
                  <a:pt x="716" y="148"/>
                </a:lnTo>
                <a:lnTo>
                  <a:pt x="704" y="152"/>
                </a:lnTo>
                <a:lnTo>
                  <a:pt x="691" y="155"/>
                </a:lnTo>
                <a:lnTo>
                  <a:pt x="677" y="159"/>
                </a:lnTo>
                <a:lnTo>
                  <a:pt x="664" y="163"/>
                </a:lnTo>
                <a:lnTo>
                  <a:pt x="648" y="167"/>
                </a:lnTo>
                <a:lnTo>
                  <a:pt x="633" y="173"/>
                </a:lnTo>
                <a:lnTo>
                  <a:pt x="616" y="177"/>
                </a:lnTo>
                <a:lnTo>
                  <a:pt x="600" y="180"/>
                </a:lnTo>
                <a:lnTo>
                  <a:pt x="583" y="184"/>
                </a:lnTo>
                <a:lnTo>
                  <a:pt x="564" y="190"/>
                </a:lnTo>
                <a:lnTo>
                  <a:pt x="547" y="194"/>
                </a:lnTo>
                <a:lnTo>
                  <a:pt x="527" y="200"/>
                </a:lnTo>
                <a:lnTo>
                  <a:pt x="508" y="205"/>
                </a:lnTo>
                <a:lnTo>
                  <a:pt x="491" y="211"/>
                </a:lnTo>
                <a:lnTo>
                  <a:pt x="474" y="215"/>
                </a:lnTo>
                <a:lnTo>
                  <a:pt x="456" y="221"/>
                </a:lnTo>
                <a:lnTo>
                  <a:pt x="441" y="225"/>
                </a:lnTo>
                <a:lnTo>
                  <a:pt x="426" y="228"/>
                </a:lnTo>
                <a:lnTo>
                  <a:pt x="410" y="232"/>
                </a:lnTo>
                <a:lnTo>
                  <a:pt x="395" y="238"/>
                </a:lnTo>
                <a:lnTo>
                  <a:pt x="382" y="242"/>
                </a:lnTo>
                <a:lnTo>
                  <a:pt x="368" y="244"/>
                </a:lnTo>
                <a:lnTo>
                  <a:pt x="355" y="248"/>
                </a:lnTo>
                <a:lnTo>
                  <a:pt x="341" y="251"/>
                </a:lnTo>
                <a:lnTo>
                  <a:pt x="328" y="253"/>
                </a:lnTo>
                <a:lnTo>
                  <a:pt x="316" y="257"/>
                </a:lnTo>
                <a:lnTo>
                  <a:pt x="305" y="259"/>
                </a:lnTo>
                <a:lnTo>
                  <a:pt x="295" y="263"/>
                </a:lnTo>
                <a:lnTo>
                  <a:pt x="284" y="265"/>
                </a:lnTo>
                <a:lnTo>
                  <a:pt x="274" y="267"/>
                </a:lnTo>
                <a:lnTo>
                  <a:pt x="264" y="269"/>
                </a:lnTo>
                <a:lnTo>
                  <a:pt x="255" y="271"/>
                </a:lnTo>
                <a:lnTo>
                  <a:pt x="247" y="272"/>
                </a:lnTo>
                <a:lnTo>
                  <a:pt x="239" y="272"/>
                </a:lnTo>
                <a:lnTo>
                  <a:pt x="232" y="274"/>
                </a:lnTo>
                <a:lnTo>
                  <a:pt x="224" y="276"/>
                </a:lnTo>
                <a:lnTo>
                  <a:pt x="218" y="276"/>
                </a:lnTo>
                <a:lnTo>
                  <a:pt x="213" y="278"/>
                </a:lnTo>
                <a:lnTo>
                  <a:pt x="207" y="278"/>
                </a:lnTo>
                <a:lnTo>
                  <a:pt x="201" y="278"/>
                </a:lnTo>
                <a:lnTo>
                  <a:pt x="197" y="278"/>
                </a:lnTo>
                <a:lnTo>
                  <a:pt x="193" y="278"/>
                </a:lnTo>
                <a:lnTo>
                  <a:pt x="190" y="280"/>
                </a:lnTo>
                <a:lnTo>
                  <a:pt x="184" y="282"/>
                </a:lnTo>
                <a:lnTo>
                  <a:pt x="176" y="282"/>
                </a:lnTo>
                <a:lnTo>
                  <a:pt x="165" y="284"/>
                </a:lnTo>
                <a:lnTo>
                  <a:pt x="153" y="284"/>
                </a:lnTo>
                <a:lnTo>
                  <a:pt x="142" y="282"/>
                </a:lnTo>
                <a:lnTo>
                  <a:pt x="130" y="280"/>
                </a:lnTo>
                <a:lnTo>
                  <a:pt x="119" y="276"/>
                </a:lnTo>
                <a:lnTo>
                  <a:pt x="107" y="271"/>
                </a:lnTo>
                <a:lnTo>
                  <a:pt x="96" y="267"/>
                </a:lnTo>
                <a:lnTo>
                  <a:pt x="82" y="261"/>
                </a:lnTo>
                <a:lnTo>
                  <a:pt x="69" y="255"/>
                </a:lnTo>
                <a:lnTo>
                  <a:pt x="55" y="248"/>
                </a:lnTo>
                <a:lnTo>
                  <a:pt x="44" y="240"/>
                </a:lnTo>
                <a:lnTo>
                  <a:pt x="30" y="230"/>
                </a:lnTo>
                <a:lnTo>
                  <a:pt x="19" y="219"/>
                </a:lnTo>
                <a:lnTo>
                  <a:pt x="9" y="207"/>
                </a:lnTo>
                <a:lnTo>
                  <a:pt x="0" y="194"/>
                </a:lnTo>
                <a:lnTo>
                  <a:pt x="13" y="192"/>
                </a:lnTo>
                <a:lnTo>
                  <a:pt x="30" y="188"/>
                </a:lnTo>
                <a:lnTo>
                  <a:pt x="46" y="186"/>
                </a:lnTo>
                <a:lnTo>
                  <a:pt x="65" y="182"/>
                </a:lnTo>
                <a:lnTo>
                  <a:pt x="84" y="178"/>
                </a:lnTo>
                <a:lnTo>
                  <a:pt x="105" y="175"/>
                </a:lnTo>
                <a:lnTo>
                  <a:pt x="128" y="169"/>
                </a:lnTo>
                <a:lnTo>
                  <a:pt x="153" y="163"/>
                </a:lnTo>
                <a:lnTo>
                  <a:pt x="178" y="157"/>
                </a:lnTo>
                <a:lnTo>
                  <a:pt x="207" y="152"/>
                </a:lnTo>
                <a:lnTo>
                  <a:pt x="236" y="144"/>
                </a:lnTo>
                <a:lnTo>
                  <a:pt x="264" y="136"/>
                </a:lnTo>
                <a:lnTo>
                  <a:pt x="297" y="129"/>
                </a:lnTo>
                <a:lnTo>
                  <a:pt x="332" y="119"/>
                </a:lnTo>
                <a:lnTo>
                  <a:pt x="366" y="107"/>
                </a:lnTo>
                <a:lnTo>
                  <a:pt x="403" y="9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43"/>
          <p:cNvSpPr/>
          <p:nvPr/>
        </p:nvSpPr>
        <p:spPr>
          <a:xfrm>
            <a:off x="6480000" y="3292560"/>
            <a:ext cx="903600" cy="220680"/>
          </a:xfrm>
          <a:custGeom>
            <a:avLst/>
            <a:gdLst/>
            <a:ahLst/>
            <a:rect l="l" t="t" r="r" b="b"/>
            <a:pathLst>
              <a:path w="1138" h="278">
                <a:moveTo>
                  <a:pt x="0" y="193"/>
                </a:moveTo>
                <a:lnTo>
                  <a:pt x="8" y="192"/>
                </a:lnTo>
                <a:lnTo>
                  <a:pt x="17" y="192"/>
                </a:lnTo>
                <a:lnTo>
                  <a:pt x="25" y="192"/>
                </a:lnTo>
                <a:lnTo>
                  <a:pt x="34" y="192"/>
                </a:lnTo>
                <a:lnTo>
                  <a:pt x="46" y="190"/>
                </a:lnTo>
                <a:lnTo>
                  <a:pt x="56" y="190"/>
                </a:lnTo>
                <a:lnTo>
                  <a:pt x="67" y="188"/>
                </a:lnTo>
                <a:lnTo>
                  <a:pt x="81" y="186"/>
                </a:lnTo>
                <a:lnTo>
                  <a:pt x="92" y="184"/>
                </a:lnTo>
                <a:lnTo>
                  <a:pt x="105" y="182"/>
                </a:lnTo>
                <a:lnTo>
                  <a:pt x="119" y="180"/>
                </a:lnTo>
                <a:lnTo>
                  <a:pt x="132" y="178"/>
                </a:lnTo>
                <a:lnTo>
                  <a:pt x="148" y="176"/>
                </a:lnTo>
                <a:lnTo>
                  <a:pt x="163" y="172"/>
                </a:lnTo>
                <a:lnTo>
                  <a:pt x="178" y="170"/>
                </a:lnTo>
                <a:lnTo>
                  <a:pt x="194" y="167"/>
                </a:lnTo>
                <a:lnTo>
                  <a:pt x="211" y="165"/>
                </a:lnTo>
                <a:lnTo>
                  <a:pt x="228" y="161"/>
                </a:lnTo>
                <a:lnTo>
                  <a:pt x="246" y="157"/>
                </a:lnTo>
                <a:lnTo>
                  <a:pt x="265" y="153"/>
                </a:lnTo>
                <a:lnTo>
                  <a:pt x="282" y="149"/>
                </a:lnTo>
                <a:lnTo>
                  <a:pt x="301" y="146"/>
                </a:lnTo>
                <a:lnTo>
                  <a:pt x="322" y="142"/>
                </a:lnTo>
                <a:lnTo>
                  <a:pt x="342" y="136"/>
                </a:lnTo>
                <a:lnTo>
                  <a:pt x="363" y="132"/>
                </a:lnTo>
                <a:lnTo>
                  <a:pt x="384" y="128"/>
                </a:lnTo>
                <a:lnTo>
                  <a:pt x="405" y="122"/>
                </a:lnTo>
                <a:lnTo>
                  <a:pt x="428" y="117"/>
                </a:lnTo>
                <a:lnTo>
                  <a:pt x="451" y="113"/>
                </a:lnTo>
                <a:lnTo>
                  <a:pt x="474" y="107"/>
                </a:lnTo>
                <a:lnTo>
                  <a:pt x="497" y="101"/>
                </a:lnTo>
                <a:lnTo>
                  <a:pt x="522" y="96"/>
                </a:lnTo>
                <a:lnTo>
                  <a:pt x="547" y="90"/>
                </a:lnTo>
                <a:lnTo>
                  <a:pt x="570" y="84"/>
                </a:lnTo>
                <a:lnTo>
                  <a:pt x="593" y="78"/>
                </a:lnTo>
                <a:lnTo>
                  <a:pt x="614" y="74"/>
                </a:lnTo>
                <a:lnTo>
                  <a:pt x="637" y="69"/>
                </a:lnTo>
                <a:lnTo>
                  <a:pt x="656" y="63"/>
                </a:lnTo>
                <a:lnTo>
                  <a:pt x="678" y="59"/>
                </a:lnTo>
                <a:lnTo>
                  <a:pt x="697" y="53"/>
                </a:lnTo>
                <a:lnTo>
                  <a:pt x="716" y="50"/>
                </a:lnTo>
                <a:lnTo>
                  <a:pt x="735" y="46"/>
                </a:lnTo>
                <a:lnTo>
                  <a:pt x="752" y="42"/>
                </a:lnTo>
                <a:lnTo>
                  <a:pt x="770" y="38"/>
                </a:lnTo>
                <a:lnTo>
                  <a:pt x="787" y="34"/>
                </a:lnTo>
                <a:lnTo>
                  <a:pt x="802" y="30"/>
                </a:lnTo>
                <a:lnTo>
                  <a:pt x="818" y="27"/>
                </a:lnTo>
                <a:lnTo>
                  <a:pt x="833" y="25"/>
                </a:lnTo>
                <a:lnTo>
                  <a:pt x="847" y="21"/>
                </a:lnTo>
                <a:lnTo>
                  <a:pt x="860" y="19"/>
                </a:lnTo>
                <a:lnTo>
                  <a:pt x="873" y="15"/>
                </a:lnTo>
                <a:lnTo>
                  <a:pt x="887" y="13"/>
                </a:lnTo>
                <a:lnTo>
                  <a:pt x="898" y="11"/>
                </a:lnTo>
                <a:lnTo>
                  <a:pt x="908" y="9"/>
                </a:lnTo>
                <a:lnTo>
                  <a:pt x="919" y="7"/>
                </a:lnTo>
                <a:lnTo>
                  <a:pt x="929" y="5"/>
                </a:lnTo>
                <a:lnTo>
                  <a:pt x="939" y="3"/>
                </a:lnTo>
                <a:lnTo>
                  <a:pt x="946" y="2"/>
                </a:lnTo>
                <a:lnTo>
                  <a:pt x="954" y="2"/>
                </a:lnTo>
                <a:lnTo>
                  <a:pt x="962" y="0"/>
                </a:lnTo>
                <a:lnTo>
                  <a:pt x="969" y="0"/>
                </a:lnTo>
                <a:lnTo>
                  <a:pt x="975" y="0"/>
                </a:lnTo>
                <a:lnTo>
                  <a:pt x="981" y="0"/>
                </a:lnTo>
                <a:lnTo>
                  <a:pt x="985" y="0"/>
                </a:lnTo>
                <a:lnTo>
                  <a:pt x="1012" y="0"/>
                </a:lnTo>
                <a:lnTo>
                  <a:pt x="1025" y="0"/>
                </a:lnTo>
                <a:lnTo>
                  <a:pt x="1038" y="0"/>
                </a:lnTo>
                <a:lnTo>
                  <a:pt x="1052" y="2"/>
                </a:lnTo>
                <a:lnTo>
                  <a:pt x="1065" y="3"/>
                </a:lnTo>
                <a:lnTo>
                  <a:pt x="1079" y="7"/>
                </a:lnTo>
                <a:lnTo>
                  <a:pt x="1092" y="11"/>
                </a:lnTo>
                <a:lnTo>
                  <a:pt x="1098" y="13"/>
                </a:lnTo>
                <a:lnTo>
                  <a:pt x="1104" y="15"/>
                </a:lnTo>
                <a:lnTo>
                  <a:pt x="1110" y="19"/>
                </a:lnTo>
                <a:lnTo>
                  <a:pt x="1113" y="21"/>
                </a:lnTo>
                <a:lnTo>
                  <a:pt x="1117" y="25"/>
                </a:lnTo>
                <a:lnTo>
                  <a:pt x="1121" y="28"/>
                </a:lnTo>
                <a:lnTo>
                  <a:pt x="1129" y="34"/>
                </a:lnTo>
                <a:lnTo>
                  <a:pt x="1133" y="42"/>
                </a:lnTo>
                <a:lnTo>
                  <a:pt x="1136" y="48"/>
                </a:lnTo>
                <a:lnTo>
                  <a:pt x="1138" y="53"/>
                </a:lnTo>
                <a:lnTo>
                  <a:pt x="1138" y="59"/>
                </a:lnTo>
                <a:lnTo>
                  <a:pt x="1138" y="61"/>
                </a:lnTo>
                <a:lnTo>
                  <a:pt x="1136" y="63"/>
                </a:lnTo>
                <a:lnTo>
                  <a:pt x="1134" y="67"/>
                </a:lnTo>
                <a:lnTo>
                  <a:pt x="1133" y="69"/>
                </a:lnTo>
                <a:lnTo>
                  <a:pt x="1129" y="71"/>
                </a:lnTo>
                <a:lnTo>
                  <a:pt x="1123" y="74"/>
                </a:lnTo>
                <a:lnTo>
                  <a:pt x="1117" y="76"/>
                </a:lnTo>
                <a:lnTo>
                  <a:pt x="1111" y="80"/>
                </a:lnTo>
                <a:lnTo>
                  <a:pt x="1104" y="82"/>
                </a:lnTo>
                <a:lnTo>
                  <a:pt x="1096" y="86"/>
                </a:lnTo>
                <a:lnTo>
                  <a:pt x="1088" y="88"/>
                </a:lnTo>
                <a:lnTo>
                  <a:pt x="1079" y="92"/>
                </a:lnTo>
                <a:lnTo>
                  <a:pt x="1067" y="96"/>
                </a:lnTo>
                <a:lnTo>
                  <a:pt x="1056" y="99"/>
                </a:lnTo>
                <a:lnTo>
                  <a:pt x="1044" y="101"/>
                </a:lnTo>
                <a:lnTo>
                  <a:pt x="1031" y="105"/>
                </a:lnTo>
                <a:lnTo>
                  <a:pt x="1017" y="109"/>
                </a:lnTo>
                <a:lnTo>
                  <a:pt x="1004" y="113"/>
                </a:lnTo>
                <a:lnTo>
                  <a:pt x="989" y="117"/>
                </a:lnTo>
                <a:lnTo>
                  <a:pt x="971" y="121"/>
                </a:lnTo>
                <a:lnTo>
                  <a:pt x="954" y="126"/>
                </a:lnTo>
                <a:lnTo>
                  <a:pt x="937" y="130"/>
                </a:lnTo>
                <a:lnTo>
                  <a:pt x="918" y="134"/>
                </a:lnTo>
                <a:lnTo>
                  <a:pt x="898" y="138"/>
                </a:lnTo>
                <a:lnTo>
                  <a:pt x="877" y="144"/>
                </a:lnTo>
                <a:lnTo>
                  <a:pt x="856" y="147"/>
                </a:lnTo>
                <a:lnTo>
                  <a:pt x="835" y="153"/>
                </a:lnTo>
                <a:lnTo>
                  <a:pt x="812" y="159"/>
                </a:lnTo>
                <a:lnTo>
                  <a:pt x="787" y="163"/>
                </a:lnTo>
                <a:lnTo>
                  <a:pt x="762" y="169"/>
                </a:lnTo>
                <a:lnTo>
                  <a:pt x="737" y="174"/>
                </a:lnTo>
                <a:lnTo>
                  <a:pt x="712" y="180"/>
                </a:lnTo>
                <a:lnTo>
                  <a:pt x="658" y="192"/>
                </a:lnTo>
                <a:lnTo>
                  <a:pt x="607" y="203"/>
                </a:lnTo>
                <a:lnTo>
                  <a:pt x="557" y="213"/>
                </a:lnTo>
                <a:lnTo>
                  <a:pt x="507" y="222"/>
                </a:lnTo>
                <a:lnTo>
                  <a:pt x="459" y="230"/>
                </a:lnTo>
                <a:lnTo>
                  <a:pt x="411" y="238"/>
                </a:lnTo>
                <a:lnTo>
                  <a:pt x="365" y="245"/>
                </a:lnTo>
                <a:lnTo>
                  <a:pt x="320" y="251"/>
                </a:lnTo>
                <a:lnTo>
                  <a:pt x="276" y="257"/>
                </a:lnTo>
                <a:lnTo>
                  <a:pt x="234" y="263"/>
                </a:lnTo>
                <a:lnTo>
                  <a:pt x="192" y="266"/>
                </a:lnTo>
                <a:lnTo>
                  <a:pt x="152" y="270"/>
                </a:lnTo>
                <a:lnTo>
                  <a:pt x="111" y="274"/>
                </a:lnTo>
                <a:lnTo>
                  <a:pt x="73" y="276"/>
                </a:lnTo>
                <a:lnTo>
                  <a:pt x="36" y="276"/>
                </a:lnTo>
                <a:lnTo>
                  <a:pt x="0" y="278"/>
                </a:lnTo>
                <a:lnTo>
                  <a:pt x="0" y="236"/>
                </a:lnTo>
                <a:lnTo>
                  <a:pt x="0" y="19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44"/>
          <p:cNvSpPr/>
          <p:nvPr/>
        </p:nvSpPr>
        <p:spPr>
          <a:xfrm>
            <a:off x="6513480" y="3929040"/>
            <a:ext cx="130320" cy="344520"/>
          </a:xfrm>
          <a:custGeom>
            <a:avLst/>
            <a:gdLst/>
            <a:ahLst/>
            <a:rect l="l" t="t" r="r" b="b"/>
            <a:pathLst>
              <a:path w="163" h="434">
                <a:moveTo>
                  <a:pt x="54" y="178"/>
                </a:moveTo>
                <a:lnTo>
                  <a:pt x="52" y="161"/>
                </a:lnTo>
                <a:lnTo>
                  <a:pt x="50" y="144"/>
                </a:lnTo>
                <a:lnTo>
                  <a:pt x="48" y="130"/>
                </a:lnTo>
                <a:lnTo>
                  <a:pt x="46" y="117"/>
                </a:lnTo>
                <a:lnTo>
                  <a:pt x="42" y="105"/>
                </a:lnTo>
                <a:lnTo>
                  <a:pt x="40" y="100"/>
                </a:lnTo>
                <a:lnTo>
                  <a:pt x="39" y="96"/>
                </a:lnTo>
                <a:lnTo>
                  <a:pt x="35" y="90"/>
                </a:lnTo>
                <a:lnTo>
                  <a:pt x="33" y="88"/>
                </a:lnTo>
                <a:lnTo>
                  <a:pt x="31" y="84"/>
                </a:lnTo>
                <a:lnTo>
                  <a:pt x="29" y="82"/>
                </a:lnTo>
                <a:lnTo>
                  <a:pt x="21" y="77"/>
                </a:lnTo>
                <a:lnTo>
                  <a:pt x="14" y="71"/>
                </a:lnTo>
                <a:lnTo>
                  <a:pt x="8" y="63"/>
                </a:lnTo>
                <a:lnTo>
                  <a:pt x="4" y="55"/>
                </a:lnTo>
                <a:lnTo>
                  <a:pt x="2" y="48"/>
                </a:lnTo>
                <a:lnTo>
                  <a:pt x="0" y="44"/>
                </a:lnTo>
                <a:lnTo>
                  <a:pt x="0" y="38"/>
                </a:lnTo>
                <a:lnTo>
                  <a:pt x="0" y="34"/>
                </a:lnTo>
                <a:lnTo>
                  <a:pt x="2" y="31"/>
                </a:lnTo>
                <a:lnTo>
                  <a:pt x="4" y="25"/>
                </a:lnTo>
                <a:lnTo>
                  <a:pt x="6" y="21"/>
                </a:lnTo>
                <a:lnTo>
                  <a:pt x="6" y="17"/>
                </a:lnTo>
                <a:lnTo>
                  <a:pt x="8" y="13"/>
                </a:lnTo>
                <a:lnTo>
                  <a:pt x="10" y="9"/>
                </a:lnTo>
                <a:lnTo>
                  <a:pt x="14" y="8"/>
                </a:lnTo>
                <a:lnTo>
                  <a:pt x="19" y="6"/>
                </a:lnTo>
                <a:lnTo>
                  <a:pt x="25" y="4"/>
                </a:lnTo>
                <a:lnTo>
                  <a:pt x="33" y="2"/>
                </a:lnTo>
                <a:lnTo>
                  <a:pt x="40" y="2"/>
                </a:lnTo>
                <a:lnTo>
                  <a:pt x="50" y="0"/>
                </a:lnTo>
                <a:lnTo>
                  <a:pt x="62" y="0"/>
                </a:lnTo>
                <a:lnTo>
                  <a:pt x="73" y="2"/>
                </a:lnTo>
                <a:lnTo>
                  <a:pt x="85" y="2"/>
                </a:lnTo>
                <a:lnTo>
                  <a:pt x="100" y="4"/>
                </a:lnTo>
                <a:lnTo>
                  <a:pt x="115" y="4"/>
                </a:lnTo>
                <a:lnTo>
                  <a:pt x="131" y="6"/>
                </a:lnTo>
                <a:lnTo>
                  <a:pt x="148" y="9"/>
                </a:lnTo>
                <a:lnTo>
                  <a:pt x="150" y="34"/>
                </a:lnTo>
                <a:lnTo>
                  <a:pt x="152" y="59"/>
                </a:lnTo>
                <a:lnTo>
                  <a:pt x="154" y="84"/>
                </a:lnTo>
                <a:lnTo>
                  <a:pt x="156" y="107"/>
                </a:lnTo>
                <a:lnTo>
                  <a:pt x="158" y="130"/>
                </a:lnTo>
                <a:lnTo>
                  <a:pt x="158" y="151"/>
                </a:lnTo>
                <a:lnTo>
                  <a:pt x="159" y="173"/>
                </a:lnTo>
                <a:lnTo>
                  <a:pt x="161" y="192"/>
                </a:lnTo>
                <a:lnTo>
                  <a:pt x="161" y="213"/>
                </a:lnTo>
                <a:lnTo>
                  <a:pt x="163" y="230"/>
                </a:lnTo>
                <a:lnTo>
                  <a:pt x="163" y="249"/>
                </a:lnTo>
                <a:lnTo>
                  <a:pt x="163" y="265"/>
                </a:lnTo>
                <a:lnTo>
                  <a:pt x="163" y="282"/>
                </a:lnTo>
                <a:lnTo>
                  <a:pt x="163" y="297"/>
                </a:lnTo>
                <a:lnTo>
                  <a:pt x="163" y="311"/>
                </a:lnTo>
                <a:lnTo>
                  <a:pt x="163" y="326"/>
                </a:lnTo>
                <a:lnTo>
                  <a:pt x="163" y="338"/>
                </a:lnTo>
                <a:lnTo>
                  <a:pt x="163" y="351"/>
                </a:lnTo>
                <a:lnTo>
                  <a:pt x="161" y="363"/>
                </a:lnTo>
                <a:lnTo>
                  <a:pt x="161" y="372"/>
                </a:lnTo>
                <a:lnTo>
                  <a:pt x="159" y="382"/>
                </a:lnTo>
                <a:lnTo>
                  <a:pt x="159" y="391"/>
                </a:lnTo>
                <a:lnTo>
                  <a:pt x="158" y="399"/>
                </a:lnTo>
                <a:lnTo>
                  <a:pt x="156" y="405"/>
                </a:lnTo>
                <a:lnTo>
                  <a:pt x="154" y="412"/>
                </a:lnTo>
                <a:lnTo>
                  <a:pt x="152" y="418"/>
                </a:lnTo>
                <a:lnTo>
                  <a:pt x="150" y="422"/>
                </a:lnTo>
                <a:lnTo>
                  <a:pt x="148" y="426"/>
                </a:lnTo>
                <a:lnTo>
                  <a:pt x="144" y="430"/>
                </a:lnTo>
                <a:lnTo>
                  <a:pt x="142" y="432"/>
                </a:lnTo>
                <a:lnTo>
                  <a:pt x="138" y="432"/>
                </a:lnTo>
                <a:lnTo>
                  <a:pt x="136" y="434"/>
                </a:lnTo>
                <a:lnTo>
                  <a:pt x="129" y="432"/>
                </a:lnTo>
                <a:lnTo>
                  <a:pt x="123" y="432"/>
                </a:lnTo>
                <a:lnTo>
                  <a:pt x="117" y="430"/>
                </a:lnTo>
                <a:lnTo>
                  <a:pt x="113" y="426"/>
                </a:lnTo>
                <a:lnTo>
                  <a:pt x="108" y="422"/>
                </a:lnTo>
                <a:lnTo>
                  <a:pt x="104" y="418"/>
                </a:lnTo>
                <a:lnTo>
                  <a:pt x="100" y="412"/>
                </a:lnTo>
                <a:lnTo>
                  <a:pt x="98" y="407"/>
                </a:lnTo>
                <a:lnTo>
                  <a:pt x="94" y="401"/>
                </a:lnTo>
                <a:lnTo>
                  <a:pt x="90" y="393"/>
                </a:lnTo>
                <a:lnTo>
                  <a:pt x="88" y="386"/>
                </a:lnTo>
                <a:lnTo>
                  <a:pt x="87" y="376"/>
                </a:lnTo>
                <a:lnTo>
                  <a:pt x="83" y="368"/>
                </a:lnTo>
                <a:lnTo>
                  <a:pt x="81" y="357"/>
                </a:lnTo>
                <a:lnTo>
                  <a:pt x="79" y="347"/>
                </a:lnTo>
                <a:lnTo>
                  <a:pt x="77" y="336"/>
                </a:lnTo>
                <a:lnTo>
                  <a:pt x="73" y="313"/>
                </a:lnTo>
                <a:lnTo>
                  <a:pt x="69" y="292"/>
                </a:lnTo>
                <a:lnTo>
                  <a:pt x="67" y="269"/>
                </a:lnTo>
                <a:lnTo>
                  <a:pt x="65" y="247"/>
                </a:lnTo>
                <a:lnTo>
                  <a:pt x="62" y="228"/>
                </a:lnTo>
                <a:lnTo>
                  <a:pt x="60" y="209"/>
                </a:lnTo>
                <a:lnTo>
                  <a:pt x="58" y="201"/>
                </a:lnTo>
                <a:lnTo>
                  <a:pt x="58" y="194"/>
                </a:lnTo>
                <a:lnTo>
                  <a:pt x="56" y="186"/>
                </a:lnTo>
                <a:lnTo>
                  <a:pt x="54" y="17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6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217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2"/>
            <p:cNvSpPr/>
            <p:nvPr/>
          </p:nvSpPr>
          <p:spPr>
            <a:xfrm>
              <a:off x="12560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上下对正，“又”的捺画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9"/>
          <p:cNvSpPr/>
          <p:nvPr/>
        </p:nvSpPr>
        <p:spPr>
          <a:xfrm>
            <a:off x="5553000" y="3402000"/>
            <a:ext cx="430200" cy="1592280"/>
          </a:xfrm>
          <a:custGeom>
            <a:avLst/>
            <a:gdLst/>
            <a:ahLst/>
            <a:rect l="l" t="t" r="r" b="b"/>
            <a:pathLst>
              <a:path w="541" h="2005">
                <a:moveTo>
                  <a:pt x="115" y="1921"/>
                </a:moveTo>
                <a:lnTo>
                  <a:pt x="105" y="1930"/>
                </a:lnTo>
                <a:lnTo>
                  <a:pt x="98" y="1942"/>
                </a:lnTo>
                <a:lnTo>
                  <a:pt x="88" y="1951"/>
                </a:lnTo>
                <a:lnTo>
                  <a:pt x="80" y="1959"/>
                </a:lnTo>
                <a:lnTo>
                  <a:pt x="73" y="1967"/>
                </a:lnTo>
                <a:lnTo>
                  <a:pt x="65" y="1974"/>
                </a:lnTo>
                <a:lnTo>
                  <a:pt x="59" y="1980"/>
                </a:lnTo>
                <a:lnTo>
                  <a:pt x="52" y="1986"/>
                </a:lnTo>
                <a:lnTo>
                  <a:pt x="46" y="1990"/>
                </a:lnTo>
                <a:lnTo>
                  <a:pt x="38" y="1994"/>
                </a:lnTo>
                <a:lnTo>
                  <a:pt x="32" y="1997"/>
                </a:lnTo>
                <a:lnTo>
                  <a:pt x="27" y="2001"/>
                </a:lnTo>
                <a:lnTo>
                  <a:pt x="21" y="2003"/>
                </a:lnTo>
                <a:lnTo>
                  <a:pt x="17" y="2003"/>
                </a:lnTo>
                <a:lnTo>
                  <a:pt x="11" y="2005"/>
                </a:lnTo>
                <a:lnTo>
                  <a:pt x="8" y="2005"/>
                </a:lnTo>
                <a:lnTo>
                  <a:pt x="4" y="2005"/>
                </a:lnTo>
                <a:lnTo>
                  <a:pt x="2" y="2001"/>
                </a:lnTo>
                <a:lnTo>
                  <a:pt x="0" y="1997"/>
                </a:lnTo>
                <a:lnTo>
                  <a:pt x="2" y="1992"/>
                </a:lnTo>
                <a:lnTo>
                  <a:pt x="4" y="1984"/>
                </a:lnTo>
                <a:lnTo>
                  <a:pt x="6" y="1974"/>
                </a:lnTo>
                <a:lnTo>
                  <a:pt x="11" y="1963"/>
                </a:lnTo>
                <a:lnTo>
                  <a:pt x="17" y="1950"/>
                </a:lnTo>
                <a:lnTo>
                  <a:pt x="27" y="1934"/>
                </a:lnTo>
                <a:lnTo>
                  <a:pt x="36" y="1917"/>
                </a:lnTo>
                <a:lnTo>
                  <a:pt x="40" y="1907"/>
                </a:lnTo>
                <a:lnTo>
                  <a:pt x="46" y="1898"/>
                </a:lnTo>
                <a:lnTo>
                  <a:pt x="54" y="1888"/>
                </a:lnTo>
                <a:lnTo>
                  <a:pt x="59" y="1877"/>
                </a:lnTo>
                <a:lnTo>
                  <a:pt x="67" y="1867"/>
                </a:lnTo>
                <a:lnTo>
                  <a:pt x="73" y="1854"/>
                </a:lnTo>
                <a:lnTo>
                  <a:pt x="80" y="1842"/>
                </a:lnTo>
                <a:lnTo>
                  <a:pt x="90" y="1831"/>
                </a:lnTo>
                <a:lnTo>
                  <a:pt x="98" y="1817"/>
                </a:lnTo>
                <a:lnTo>
                  <a:pt x="107" y="1804"/>
                </a:lnTo>
                <a:lnTo>
                  <a:pt x="115" y="1788"/>
                </a:lnTo>
                <a:lnTo>
                  <a:pt x="127" y="1775"/>
                </a:lnTo>
                <a:lnTo>
                  <a:pt x="144" y="1744"/>
                </a:lnTo>
                <a:lnTo>
                  <a:pt x="159" y="1713"/>
                </a:lnTo>
                <a:lnTo>
                  <a:pt x="176" y="1683"/>
                </a:lnTo>
                <a:lnTo>
                  <a:pt x="192" y="1650"/>
                </a:lnTo>
                <a:lnTo>
                  <a:pt x="207" y="1619"/>
                </a:lnTo>
                <a:lnTo>
                  <a:pt x="223" y="1587"/>
                </a:lnTo>
                <a:lnTo>
                  <a:pt x="236" y="1552"/>
                </a:lnTo>
                <a:lnTo>
                  <a:pt x="249" y="1520"/>
                </a:lnTo>
                <a:lnTo>
                  <a:pt x="263" y="1485"/>
                </a:lnTo>
                <a:lnTo>
                  <a:pt x="276" y="1451"/>
                </a:lnTo>
                <a:lnTo>
                  <a:pt x="288" y="1414"/>
                </a:lnTo>
                <a:lnTo>
                  <a:pt x="299" y="1380"/>
                </a:lnTo>
                <a:lnTo>
                  <a:pt x="311" y="1343"/>
                </a:lnTo>
                <a:lnTo>
                  <a:pt x="320" y="1305"/>
                </a:lnTo>
                <a:lnTo>
                  <a:pt x="330" y="1268"/>
                </a:lnTo>
                <a:lnTo>
                  <a:pt x="340" y="1230"/>
                </a:lnTo>
                <a:lnTo>
                  <a:pt x="347" y="1190"/>
                </a:lnTo>
                <a:lnTo>
                  <a:pt x="357" y="1151"/>
                </a:lnTo>
                <a:lnTo>
                  <a:pt x="363" y="1111"/>
                </a:lnTo>
                <a:lnTo>
                  <a:pt x="370" y="1072"/>
                </a:lnTo>
                <a:lnTo>
                  <a:pt x="376" y="1032"/>
                </a:lnTo>
                <a:lnTo>
                  <a:pt x="382" y="992"/>
                </a:lnTo>
                <a:lnTo>
                  <a:pt x="388" y="952"/>
                </a:lnTo>
                <a:lnTo>
                  <a:pt x="393" y="911"/>
                </a:lnTo>
                <a:lnTo>
                  <a:pt x="397" y="869"/>
                </a:lnTo>
                <a:lnTo>
                  <a:pt x="401" y="829"/>
                </a:lnTo>
                <a:lnTo>
                  <a:pt x="403" y="787"/>
                </a:lnTo>
                <a:lnTo>
                  <a:pt x="407" y="744"/>
                </a:lnTo>
                <a:lnTo>
                  <a:pt x="409" y="702"/>
                </a:lnTo>
                <a:lnTo>
                  <a:pt x="409" y="660"/>
                </a:lnTo>
                <a:lnTo>
                  <a:pt x="411" y="618"/>
                </a:lnTo>
                <a:lnTo>
                  <a:pt x="411" y="575"/>
                </a:lnTo>
                <a:lnTo>
                  <a:pt x="411" y="552"/>
                </a:lnTo>
                <a:lnTo>
                  <a:pt x="411" y="533"/>
                </a:lnTo>
                <a:lnTo>
                  <a:pt x="411" y="512"/>
                </a:lnTo>
                <a:lnTo>
                  <a:pt x="411" y="493"/>
                </a:lnTo>
                <a:lnTo>
                  <a:pt x="411" y="472"/>
                </a:lnTo>
                <a:lnTo>
                  <a:pt x="409" y="455"/>
                </a:lnTo>
                <a:lnTo>
                  <a:pt x="409" y="435"/>
                </a:lnTo>
                <a:lnTo>
                  <a:pt x="409" y="418"/>
                </a:lnTo>
                <a:lnTo>
                  <a:pt x="407" y="384"/>
                </a:lnTo>
                <a:lnTo>
                  <a:pt x="407" y="351"/>
                </a:lnTo>
                <a:lnTo>
                  <a:pt x="405" y="320"/>
                </a:lnTo>
                <a:lnTo>
                  <a:pt x="403" y="291"/>
                </a:lnTo>
                <a:lnTo>
                  <a:pt x="401" y="265"/>
                </a:lnTo>
                <a:lnTo>
                  <a:pt x="399" y="240"/>
                </a:lnTo>
                <a:lnTo>
                  <a:pt x="397" y="215"/>
                </a:lnTo>
                <a:lnTo>
                  <a:pt x="395" y="194"/>
                </a:lnTo>
                <a:lnTo>
                  <a:pt x="393" y="174"/>
                </a:lnTo>
                <a:lnTo>
                  <a:pt x="391" y="157"/>
                </a:lnTo>
                <a:lnTo>
                  <a:pt x="390" y="140"/>
                </a:lnTo>
                <a:lnTo>
                  <a:pt x="388" y="126"/>
                </a:lnTo>
                <a:lnTo>
                  <a:pt x="382" y="113"/>
                </a:lnTo>
                <a:lnTo>
                  <a:pt x="380" y="100"/>
                </a:lnTo>
                <a:lnTo>
                  <a:pt x="376" y="88"/>
                </a:lnTo>
                <a:lnTo>
                  <a:pt x="374" y="78"/>
                </a:lnTo>
                <a:lnTo>
                  <a:pt x="372" y="67"/>
                </a:lnTo>
                <a:lnTo>
                  <a:pt x="370" y="59"/>
                </a:lnTo>
                <a:lnTo>
                  <a:pt x="370" y="50"/>
                </a:lnTo>
                <a:lnTo>
                  <a:pt x="370" y="42"/>
                </a:lnTo>
                <a:lnTo>
                  <a:pt x="370" y="36"/>
                </a:lnTo>
                <a:lnTo>
                  <a:pt x="370" y="29"/>
                </a:lnTo>
                <a:lnTo>
                  <a:pt x="372" y="23"/>
                </a:lnTo>
                <a:lnTo>
                  <a:pt x="374" y="19"/>
                </a:lnTo>
                <a:lnTo>
                  <a:pt x="376" y="13"/>
                </a:lnTo>
                <a:lnTo>
                  <a:pt x="380" y="11"/>
                </a:lnTo>
                <a:lnTo>
                  <a:pt x="382" y="7"/>
                </a:lnTo>
                <a:lnTo>
                  <a:pt x="388" y="5"/>
                </a:lnTo>
                <a:lnTo>
                  <a:pt x="390" y="2"/>
                </a:lnTo>
                <a:lnTo>
                  <a:pt x="391" y="2"/>
                </a:lnTo>
                <a:lnTo>
                  <a:pt x="395" y="0"/>
                </a:lnTo>
                <a:lnTo>
                  <a:pt x="397" y="0"/>
                </a:lnTo>
                <a:lnTo>
                  <a:pt x="405" y="0"/>
                </a:lnTo>
                <a:lnTo>
                  <a:pt x="413" y="2"/>
                </a:lnTo>
                <a:lnTo>
                  <a:pt x="420" y="4"/>
                </a:lnTo>
                <a:lnTo>
                  <a:pt x="428" y="7"/>
                </a:lnTo>
                <a:lnTo>
                  <a:pt x="438" y="11"/>
                </a:lnTo>
                <a:lnTo>
                  <a:pt x="447" y="17"/>
                </a:lnTo>
                <a:lnTo>
                  <a:pt x="455" y="21"/>
                </a:lnTo>
                <a:lnTo>
                  <a:pt x="466" y="25"/>
                </a:lnTo>
                <a:lnTo>
                  <a:pt x="478" y="29"/>
                </a:lnTo>
                <a:lnTo>
                  <a:pt x="489" y="32"/>
                </a:lnTo>
                <a:lnTo>
                  <a:pt x="501" y="36"/>
                </a:lnTo>
                <a:lnTo>
                  <a:pt x="514" y="38"/>
                </a:lnTo>
                <a:lnTo>
                  <a:pt x="528" y="40"/>
                </a:lnTo>
                <a:lnTo>
                  <a:pt x="541" y="42"/>
                </a:lnTo>
                <a:lnTo>
                  <a:pt x="541" y="53"/>
                </a:lnTo>
                <a:lnTo>
                  <a:pt x="541" y="65"/>
                </a:lnTo>
                <a:lnTo>
                  <a:pt x="541" y="78"/>
                </a:lnTo>
                <a:lnTo>
                  <a:pt x="541" y="90"/>
                </a:lnTo>
                <a:lnTo>
                  <a:pt x="541" y="105"/>
                </a:lnTo>
                <a:lnTo>
                  <a:pt x="541" y="119"/>
                </a:lnTo>
                <a:lnTo>
                  <a:pt x="541" y="134"/>
                </a:lnTo>
                <a:lnTo>
                  <a:pt x="541" y="149"/>
                </a:lnTo>
                <a:lnTo>
                  <a:pt x="541" y="167"/>
                </a:lnTo>
                <a:lnTo>
                  <a:pt x="541" y="182"/>
                </a:lnTo>
                <a:lnTo>
                  <a:pt x="541" y="199"/>
                </a:lnTo>
                <a:lnTo>
                  <a:pt x="541" y="218"/>
                </a:lnTo>
                <a:lnTo>
                  <a:pt x="541" y="236"/>
                </a:lnTo>
                <a:lnTo>
                  <a:pt x="541" y="255"/>
                </a:lnTo>
                <a:lnTo>
                  <a:pt x="541" y="274"/>
                </a:lnTo>
                <a:lnTo>
                  <a:pt x="541" y="295"/>
                </a:lnTo>
                <a:lnTo>
                  <a:pt x="541" y="316"/>
                </a:lnTo>
                <a:lnTo>
                  <a:pt x="541" y="337"/>
                </a:lnTo>
                <a:lnTo>
                  <a:pt x="541" y="359"/>
                </a:lnTo>
                <a:lnTo>
                  <a:pt x="541" y="382"/>
                </a:lnTo>
                <a:lnTo>
                  <a:pt x="541" y="405"/>
                </a:lnTo>
                <a:lnTo>
                  <a:pt x="541" y="428"/>
                </a:lnTo>
                <a:lnTo>
                  <a:pt x="541" y="453"/>
                </a:lnTo>
                <a:lnTo>
                  <a:pt x="541" y="478"/>
                </a:lnTo>
                <a:lnTo>
                  <a:pt x="541" y="503"/>
                </a:lnTo>
                <a:lnTo>
                  <a:pt x="541" y="529"/>
                </a:lnTo>
                <a:lnTo>
                  <a:pt x="541" y="554"/>
                </a:lnTo>
                <a:lnTo>
                  <a:pt x="541" y="581"/>
                </a:lnTo>
                <a:lnTo>
                  <a:pt x="541" y="610"/>
                </a:lnTo>
                <a:lnTo>
                  <a:pt x="541" y="637"/>
                </a:lnTo>
                <a:lnTo>
                  <a:pt x="541" y="666"/>
                </a:lnTo>
                <a:lnTo>
                  <a:pt x="541" y="696"/>
                </a:lnTo>
                <a:lnTo>
                  <a:pt x="541" y="725"/>
                </a:lnTo>
                <a:lnTo>
                  <a:pt x="539" y="756"/>
                </a:lnTo>
                <a:lnTo>
                  <a:pt x="539" y="787"/>
                </a:lnTo>
                <a:lnTo>
                  <a:pt x="537" y="817"/>
                </a:lnTo>
                <a:lnTo>
                  <a:pt x="534" y="850"/>
                </a:lnTo>
                <a:lnTo>
                  <a:pt x="532" y="883"/>
                </a:lnTo>
                <a:lnTo>
                  <a:pt x="524" y="948"/>
                </a:lnTo>
                <a:lnTo>
                  <a:pt x="516" y="1017"/>
                </a:lnTo>
                <a:lnTo>
                  <a:pt x="505" y="1086"/>
                </a:lnTo>
                <a:lnTo>
                  <a:pt x="495" y="1157"/>
                </a:lnTo>
                <a:lnTo>
                  <a:pt x="482" y="1230"/>
                </a:lnTo>
                <a:lnTo>
                  <a:pt x="474" y="1264"/>
                </a:lnTo>
                <a:lnTo>
                  <a:pt x="468" y="1299"/>
                </a:lnTo>
                <a:lnTo>
                  <a:pt x="459" y="1333"/>
                </a:lnTo>
                <a:lnTo>
                  <a:pt x="451" y="1366"/>
                </a:lnTo>
                <a:lnTo>
                  <a:pt x="441" y="1397"/>
                </a:lnTo>
                <a:lnTo>
                  <a:pt x="432" y="1428"/>
                </a:lnTo>
                <a:lnTo>
                  <a:pt x="422" y="1456"/>
                </a:lnTo>
                <a:lnTo>
                  <a:pt x="411" y="1485"/>
                </a:lnTo>
                <a:lnTo>
                  <a:pt x="399" y="1512"/>
                </a:lnTo>
                <a:lnTo>
                  <a:pt x="388" y="1539"/>
                </a:lnTo>
                <a:lnTo>
                  <a:pt x="374" y="1564"/>
                </a:lnTo>
                <a:lnTo>
                  <a:pt x="361" y="1589"/>
                </a:lnTo>
                <a:lnTo>
                  <a:pt x="347" y="1612"/>
                </a:lnTo>
                <a:lnTo>
                  <a:pt x="334" y="1635"/>
                </a:lnTo>
                <a:lnTo>
                  <a:pt x="319" y="1656"/>
                </a:lnTo>
                <a:lnTo>
                  <a:pt x="303" y="1677"/>
                </a:lnTo>
                <a:lnTo>
                  <a:pt x="288" y="1698"/>
                </a:lnTo>
                <a:lnTo>
                  <a:pt x="274" y="1717"/>
                </a:lnTo>
                <a:lnTo>
                  <a:pt x="259" y="1735"/>
                </a:lnTo>
                <a:lnTo>
                  <a:pt x="246" y="1754"/>
                </a:lnTo>
                <a:lnTo>
                  <a:pt x="232" y="1769"/>
                </a:lnTo>
                <a:lnTo>
                  <a:pt x="221" y="1786"/>
                </a:lnTo>
                <a:lnTo>
                  <a:pt x="207" y="1802"/>
                </a:lnTo>
                <a:lnTo>
                  <a:pt x="196" y="1817"/>
                </a:lnTo>
                <a:lnTo>
                  <a:pt x="184" y="1831"/>
                </a:lnTo>
                <a:lnTo>
                  <a:pt x="173" y="1846"/>
                </a:lnTo>
                <a:lnTo>
                  <a:pt x="161" y="1859"/>
                </a:lnTo>
                <a:lnTo>
                  <a:pt x="152" y="1871"/>
                </a:lnTo>
                <a:lnTo>
                  <a:pt x="132" y="1896"/>
                </a:lnTo>
                <a:lnTo>
                  <a:pt x="115" y="192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30"/>
          <p:cNvSpPr/>
          <p:nvPr/>
        </p:nvSpPr>
        <p:spPr>
          <a:xfrm>
            <a:off x="5983200" y="2921040"/>
            <a:ext cx="376200" cy="533520"/>
          </a:xfrm>
          <a:custGeom>
            <a:avLst/>
            <a:gdLst/>
            <a:ahLst/>
            <a:rect l="l" t="t" r="r" b="b"/>
            <a:pathLst>
              <a:path w="474" h="672">
                <a:moveTo>
                  <a:pt x="227" y="200"/>
                </a:moveTo>
                <a:lnTo>
                  <a:pt x="231" y="188"/>
                </a:lnTo>
                <a:lnTo>
                  <a:pt x="233" y="177"/>
                </a:lnTo>
                <a:lnTo>
                  <a:pt x="236" y="165"/>
                </a:lnTo>
                <a:lnTo>
                  <a:pt x="238" y="156"/>
                </a:lnTo>
                <a:lnTo>
                  <a:pt x="242" y="137"/>
                </a:lnTo>
                <a:lnTo>
                  <a:pt x="244" y="117"/>
                </a:lnTo>
                <a:lnTo>
                  <a:pt x="244" y="100"/>
                </a:lnTo>
                <a:lnTo>
                  <a:pt x="244" y="83"/>
                </a:lnTo>
                <a:lnTo>
                  <a:pt x="240" y="67"/>
                </a:lnTo>
                <a:lnTo>
                  <a:pt x="238" y="54"/>
                </a:lnTo>
                <a:lnTo>
                  <a:pt x="233" y="50"/>
                </a:lnTo>
                <a:lnTo>
                  <a:pt x="229" y="44"/>
                </a:lnTo>
                <a:lnTo>
                  <a:pt x="227" y="41"/>
                </a:lnTo>
                <a:lnTo>
                  <a:pt x="225" y="37"/>
                </a:lnTo>
                <a:lnTo>
                  <a:pt x="223" y="35"/>
                </a:lnTo>
                <a:lnTo>
                  <a:pt x="221" y="31"/>
                </a:lnTo>
                <a:lnTo>
                  <a:pt x="221" y="27"/>
                </a:lnTo>
                <a:lnTo>
                  <a:pt x="221" y="25"/>
                </a:lnTo>
                <a:lnTo>
                  <a:pt x="221" y="21"/>
                </a:lnTo>
                <a:lnTo>
                  <a:pt x="223" y="19"/>
                </a:lnTo>
                <a:lnTo>
                  <a:pt x="225" y="18"/>
                </a:lnTo>
                <a:lnTo>
                  <a:pt x="229" y="14"/>
                </a:lnTo>
                <a:lnTo>
                  <a:pt x="233" y="12"/>
                </a:lnTo>
                <a:lnTo>
                  <a:pt x="236" y="10"/>
                </a:lnTo>
                <a:lnTo>
                  <a:pt x="242" y="8"/>
                </a:lnTo>
                <a:lnTo>
                  <a:pt x="250" y="6"/>
                </a:lnTo>
                <a:lnTo>
                  <a:pt x="254" y="2"/>
                </a:lnTo>
                <a:lnTo>
                  <a:pt x="259" y="2"/>
                </a:lnTo>
                <a:lnTo>
                  <a:pt x="265" y="0"/>
                </a:lnTo>
                <a:lnTo>
                  <a:pt x="271" y="0"/>
                </a:lnTo>
                <a:lnTo>
                  <a:pt x="279" y="0"/>
                </a:lnTo>
                <a:lnTo>
                  <a:pt x="284" y="0"/>
                </a:lnTo>
                <a:lnTo>
                  <a:pt x="302" y="4"/>
                </a:lnTo>
                <a:lnTo>
                  <a:pt x="319" y="8"/>
                </a:lnTo>
                <a:lnTo>
                  <a:pt x="338" y="14"/>
                </a:lnTo>
                <a:lnTo>
                  <a:pt x="357" y="21"/>
                </a:lnTo>
                <a:lnTo>
                  <a:pt x="380" y="29"/>
                </a:lnTo>
                <a:lnTo>
                  <a:pt x="390" y="37"/>
                </a:lnTo>
                <a:lnTo>
                  <a:pt x="401" y="43"/>
                </a:lnTo>
                <a:lnTo>
                  <a:pt x="411" y="48"/>
                </a:lnTo>
                <a:lnTo>
                  <a:pt x="419" y="54"/>
                </a:lnTo>
                <a:lnTo>
                  <a:pt x="428" y="60"/>
                </a:lnTo>
                <a:lnTo>
                  <a:pt x="436" y="66"/>
                </a:lnTo>
                <a:lnTo>
                  <a:pt x="444" y="71"/>
                </a:lnTo>
                <a:lnTo>
                  <a:pt x="449" y="77"/>
                </a:lnTo>
                <a:lnTo>
                  <a:pt x="455" y="83"/>
                </a:lnTo>
                <a:lnTo>
                  <a:pt x="461" y="87"/>
                </a:lnTo>
                <a:lnTo>
                  <a:pt x="465" y="92"/>
                </a:lnTo>
                <a:lnTo>
                  <a:pt x="469" y="96"/>
                </a:lnTo>
                <a:lnTo>
                  <a:pt x="471" y="100"/>
                </a:lnTo>
                <a:lnTo>
                  <a:pt x="472" y="106"/>
                </a:lnTo>
                <a:lnTo>
                  <a:pt x="474" y="110"/>
                </a:lnTo>
                <a:lnTo>
                  <a:pt x="474" y="115"/>
                </a:lnTo>
                <a:lnTo>
                  <a:pt x="474" y="119"/>
                </a:lnTo>
                <a:lnTo>
                  <a:pt x="472" y="123"/>
                </a:lnTo>
                <a:lnTo>
                  <a:pt x="471" y="129"/>
                </a:lnTo>
                <a:lnTo>
                  <a:pt x="469" y="135"/>
                </a:lnTo>
                <a:lnTo>
                  <a:pt x="465" y="142"/>
                </a:lnTo>
                <a:lnTo>
                  <a:pt x="461" y="150"/>
                </a:lnTo>
                <a:lnTo>
                  <a:pt x="455" y="160"/>
                </a:lnTo>
                <a:lnTo>
                  <a:pt x="449" y="169"/>
                </a:lnTo>
                <a:lnTo>
                  <a:pt x="442" y="179"/>
                </a:lnTo>
                <a:lnTo>
                  <a:pt x="436" y="190"/>
                </a:lnTo>
                <a:lnTo>
                  <a:pt x="426" y="204"/>
                </a:lnTo>
                <a:lnTo>
                  <a:pt x="417" y="217"/>
                </a:lnTo>
                <a:lnTo>
                  <a:pt x="407" y="231"/>
                </a:lnTo>
                <a:lnTo>
                  <a:pt x="398" y="246"/>
                </a:lnTo>
                <a:lnTo>
                  <a:pt x="386" y="261"/>
                </a:lnTo>
                <a:lnTo>
                  <a:pt x="375" y="279"/>
                </a:lnTo>
                <a:lnTo>
                  <a:pt x="361" y="296"/>
                </a:lnTo>
                <a:lnTo>
                  <a:pt x="348" y="315"/>
                </a:lnTo>
                <a:lnTo>
                  <a:pt x="332" y="334"/>
                </a:lnTo>
                <a:lnTo>
                  <a:pt x="317" y="355"/>
                </a:lnTo>
                <a:lnTo>
                  <a:pt x="302" y="376"/>
                </a:lnTo>
                <a:lnTo>
                  <a:pt x="284" y="399"/>
                </a:lnTo>
                <a:lnTo>
                  <a:pt x="267" y="422"/>
                </a:lnTo>
                <a:lnTo>
                  <a:pt x="248" y="446"/>
                </a:lnTo>
                <a:lnTo>
                  <a:pt x="229" y="470"/>
                </a:lnTo>
                <a:lnTo>
                  <a:pt x="208" y="497"/>
                </a:lnTo>
                <a:lnTo>
                  <a:pt x="188" y="524"/>
                </a:lnTo>
                <a:lnTo>
                  <a:pt x="165" y="551"/>
                </a:lnTo>
                <a:lnTo>
                  <a:pt x="144" y="580"/>
                </a:lnTo>
                <a:lnTo>
                  <a:pt x="119" y="611"/>
                </a:lnTo>
                <a:lnTo>
                  <a:pt x="96" y="641"/>
                </a:lnTo>
                <a:lnTo>
                  <a:pt x="71" y="672"/>
                </a:lnTo>
                <a:lnTo>
                  <a:pt x="35" y="672"/>
                </a:lnTo>
                <a:lnTo>
                  <a:pt x="0" y="672"/>
                </a:lnTo>
                <a:lnTo>
                  <a:pt x="12" y="649"/>
                </a:lnTo>
                <a:lnTo>
                  <a:pt x="23" y="626"/>
                </a:lnTo>
                <a:lnTo>
                  <a:pt x="35" y="603"/>
                </a:lnTo>
                <a:lnTo>
                  <a:pt x="46" y="582"/>
                </a:lnTo>
                <a:lnTo>
                  <a:pt x="58" y="559"/>
                </a:lnTo>
                <a:lnTo>
                  <a:pt x="67" y="540"/>
                </a:lnTo>
                <a:lnTo>
                  <a:pt x="77" y="518"/>
                </a:lnTo>
                <a:lnTo>
                  <a:pt x="89" y="499"/>
                </a:lnTo>
                <a:lnTo>
                  <a:pt x="98" y="480"/>
                </a:lnTo>
                <a:lnTo>
                  <a:pt x="106" y="461"/>
                </a:lnTo>
                <a:lnTo>
                  <a:pt x="115" y="444"/>
                </a:lnTo>
                <a:lnTo>
                  <a:pt x="125" y="426"/>
                </a:lnTo>
                <a:lnTo>
                  <a:pt x="133" y="409"/>
                </a:lnTo>
                <a:lnTo>
                  <a:pt x="140" y="394"/>
                </a:lnTo>
                <a:lnTo>
                  <a:pt x="148" y="378"/>
                </a:lnTo>
                <a:lnTo>
                  <a:pt x="156" y="363"/>
                </a:lnTo>
                <a:lnTo>
                  <a:pt x="163" y="348"/>
                </a:lnTo>
                <a:lnTo>
                  <a:pt x="171" y="334"/>
                </a:lnTo>
                <a:lnTo>
                  <a:pt x="177" y="321"/>
                </a:lnTo>
                <a:lnTo>
                  <a:pt x="183" y="309"/>
                </a:lnTo>
                <a:lnTo>
                  <a:pt x="188" y="296"/>
                </a:lnTo>
                <a:lnTo>
                  <a:pt x="194" y="284"/>
                </a:lnTo>
                <a:lnTo>
                  <a:pt x="198" y="273"/>
                </a:lnTo>
                <a:lnTo>
                  <a:pt x="204" y="263"/>
                </a:lnTo>
                <a:lnTo>
                  <a:pt x="208" y="254"/>
                </a:lnTo>
                <a:lnTo>
                  <a:pt x="211" y="244"/>
                </a:lnTo>
                <a:lnTo>
                  <a:pt x="215" y="234"/>
                </a:lnTo>
                <a:lnTo>
                  <a:pt x="217" y="227"/>
                </a:lnTo>
                <a:lnTo>
                  <a:pt x="221" y="219"/>
                </a:lnTo>
                <a:lnTo>
                  <a:pt x="223" y="211"/>
                </a:lnTo>
                <a:lnTo>
                  <a:pt x="225" y="206"/>
                </a:lnTo>
                <a:lnTo>
                  <a:pt x="227" y="20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1"/>
          <p:cNvSpPr/>
          <p:nvPr/>
        </p:nvSpPr>
        <p:spPr>
          <a:xfrm>
            <a:off x="5878440" y="3344760"/>
            <a:ext cx="687600" cy="655920"/>
          </a:xfrm>
          <a:custGeom>
            <a:avLst/>
            <a:gdLst/>
            <a:ahLst/>
            <a:rect l="l" t="t" r="r" b="b"/>
            <a:pathLst>
              <a:path w="866" h="825">
                <a:moveTo>
                  <a:pt x="570" y="29"/>
                </a:moveTo>
                <a:lnTo>
                  <a:pt x="574" y="21"/>
                </a:lnTo>
                <a:lnTo>
                  <a:pt x="579" y="13"/>
                </a:lnTo>
                <a:lnTo>
                  <a:pt x="587" y="7"/>
                </a:lnTo>
                <a:lnTo>
                  <a:pt x="595" y="4"/>
                </a:lnTo>
                <a:lnTo>
                  <a:pt x="604" y="0"/>
                </a:lnTo>
                <a:lnTo>
                  <a:pt x="610" y="0"/>
                </a:lnTo>
                <a:lnTo>
                  <a:pt x="616" y="0"/>
                </a:lnTo>
                <a:lnTo>
                  <a:pt x="622" y="0"/>
                </a:lnTo>
                <a:lnTo>
                  <a:pt x="627" y="2"/>
                </a:lnTo>
                <a:lnTo>
                  <a:pt x="633" y="2"/>
                </a:lnTo>
                <a:lnTo>
                  <a:pt x="641" y="6"/>
                </a:lnTo>
                <a:lnTo>
                  <a:pt x="654" y="9"/>
                </a:lnTo>
                <a:lnTo>
                  <a:pt x="670" y="15"/>
                </a:lnTo>
                <a:lnTo>
                  <a:pt x="685" y="23"/>
                </a:lnTo>
                <a:lnTo>
                  <a:pt x="702" y="32"/>
                </a:lnTo>
                <a:lnTo>
                  <a:pt x="722" y="42"/>
                </a:lnTo>
                <a:lnTo>
                  <a:pt x="741" y="52"/>
                </a:lnTo>
                <a:lnTo>
                  <a:pt x="760" y="65"/>
                </a:lnTo>
                <a:lnTo>
                  <a:pt x="783" y="78"/>
                </a:lnTo>
                <a:lnTo>
                  <a:pt x="793" y="84"/>
                </a:lnTo>
                <a:lnTo>
                  <a:pt x="802" y="92"/>
                </a:lnTo>
                <a:lnTo>
                  <a:pt x="812" y="98"/>
                </a:lnTo>
                <a:lnTo>
                  <a:pt x="819" y="105"/>
                </a:lnTo>
                <a:lnTo>
                  <a:pt x="827" y="111"/>
                </a:lnTo>
                <a:lnTo>
                  <a:pt x="835" y="117"/>
                </a:lnTo>
                <a:lnTo>
                  <a:pt x="841" y="125"/>
                </a:lnTo>
                <a:lnTo>
                  <a:pt x="846" y="130"/>
                </a:lnTo>
                <a:lnTo>
                  <a:pt x="850" y="136"/>
                </a:lnTo>
                <a:lnTo>
                  <a:pt x="854" y="142"/>
                </a:lnTo>
                <a:lnTo>
                  <a:pt x="858" y="148"/>
                </a:lnTo>
                <a:lnTo>
                  <a:pt x="862" y="153"/>
                </a:lnTo>
                <a:lnTo>
                  <a:pt x="864" y="159"/>
                </a:lnTo>
                <a:lnTo>
                  <a:pt x="864" y="165"/>
                </a:lnTo>
                <a:lnTo>
                  <a:pt x="866" y="171"/>
                </a:lnTo>
                <a:lnTo>
                  <a:pt x="866" y="174"/>
                </a:lnTo>
                <a:lnTo>
                  <a:pt x="866" y="184"/>
                </a:lnTo>
                <a:lnTo>
                  <a:pt x="864" y="192"/>
                </a:lnTo>
                <a:lnTo>
                  <a:pt x="860" y="201"/>
                </a:lnTo>
                <a:lnTo>
                  <a:pt x="856" y="209"/>
                </a:lnTo>
                <a:lnTo>
                  <a:pt x="852" y="217"/>
                </a:lnTo>
                <a:lnTo>
                  <a:pt x="844" y="224"/>
                </a:lnTo>
                <a:lnTo>
                  <a:pt x="839" y="230"/>
                </a:lnTo>
                <a:lnTo>
                  <a:pt x="831" y="236"/>
                </a:lnTo>
                <a:lnTo>
                  <a:pt x="827" y="236"/>
                </a:lnTo>
                <a:lnTo>
                  <a:pt x="825" y="238"/>
                </a:lnTo>
                <a:lnTo>
                  <a:pt x="823" y="242"/>
                </a:lnTo>
                <a:lnTo>
                  <a:pt x="821" y="244"/>
                </a:lnTo>
                <a:lnTo>
                  <a:pt x="818" y="247"/>
                </a:lnTo>
                <a:lnTo>
                  <a:pt x="816" y="251"/>
                </a:lnTo>
                <a:lnTo>
                  <a:pt x="812" y="255"/>
                </a:lnTo>
                <a:lnTo>
                  <a:pt x="810" y="261"/>
                </a:lnTo>
                <a:lnTo>
                  <a:pt x="808" y="265"/>
                </a:lnTo>
                <a:lnTo>
                  <a:pt x="804" y="272"/>
                </a:lnTo>
                <a:lnTo>
                  <a:pt x="802" y="278"/>
                </a:lnTo>
                <a:lnTo>
                  <a:pt x="798" y="284"/>
                </a:lnTo>
                <a:lnTo>
                  <a:pt x="796" y="291"/>
                </a:lnTo>
                <a:lnTo>
                  <a:pt x="793" y="299"/>
                </a:lnTo>
                <a:lnTo>
                  <a:pt x="789" y="309"/>
                </a:lnTo>
                <a:lnTo>
                  <a:pt x="787" y="316"/>
                </a:lnTo>
                <a:lnTo>
                  <a:pt x="783" y="326"/>
                </a:lnTo>
                <a:lnTo>
                  <a:pt x="781" y="336"/>
                </a:lnTo>
                <a:lnTo>
                  <a:pt x="777" y="347"/>
                </a:lnTo>
                <a:lnTo>
                  <a:pt x="773" y="357"/>
                </a:lnTo>
                <a:lnTo>
                  <a:pt x="771" y="368"/>
                </a:lnTo>
                <a:lnTo>
                  <a:pt x="768" y="380"/>
                </a:lnTo>
                <a:lnTo>
                  <a:pt x="764" y="393"/>
                </a:lnTo>
                <a:lnTo>
                  <a:pt x="762" y="405"/>
                </a:lnTo>
                <a:lnTo>
                  <a:pt x="758" y="418"/>
                </a:lnTo>
                <a:lnTo>
                  <a:pt x="754" y="434"/>
                </a:lnTo>
                <a:lnTo>
                  <a:pt x="752" y="447"/>
                </a:lnTo>
                <a:lnTo>
                  <a:pt x="748" y="462"/>
                </a:lnTo>
                <a:lnTo>
                  <a:pt x="745" y="478"/>
                </a:lnTo>
                <a:lnTo>
                  <a:pt x="741" y="493"/>
                </a:lnTo>
                <a:lnTo>
                  <a:pt x="739" y="508"/>
                </a:lnTo>
                <a:lnTo>
                  <a:pt x="735" y="526"/>
                </a:lnTo>
                <a:lnTo>
                  <a:pt x="731" y="543"/>
                </a:lnTo>
                <a:lnTo>
                  <a:pt x="729" y="558"/>
                </a:lnTo>
                <a:lnTo>
                  <a:pt x="725" y="576"/>
                </a:lnTo>
                <a:lnTo>
                  <a:pt x="722" y="591"/>
                </a:lnTo>
                <a:lnTo>
                  <a:pt x="720" y="604"/>
                </a:lnTo>
                <a:lnTo>
                  <a:pt x="716" y="620"/>
                </a:lnTo>
                <a:lnTo>
                  <a:pt x="714" y="633"/>
                </a:lnTo>
                <a:lnTo>
                  <a:pt x="710" y="647"/>
                </a:lnTo>
                <a:lnTo>
                  <a:pt x="708" y="660"/>
                </a:lnTo>
                <a:lnTo>
                  <a:pt x="706" y="671"/>
                </a:lnTo>
                <a:lnTo>
                  <a:pt x="702" y="683"/>
                </a:lnTo>
                <a:lnTo>
                  <a:pt x="700" y="695"/>
                </a:lnTo>
                <a:lnTo>
                  <a:pt x="698" y="706"/>
                </a:lnTo>
                <a:lnTo>
                  <a:pt x="697" y="716"/>
                </a:lnTo>
                <a:lnTo>
                  <a:pt x="695" y="725"/>
                </a:lnTo>
                <a:lnTo>
                  <a:pt x="693" y="735"/>
                </a:lnTo>
                <a:lnTo>
                  <a:pt x="691" y="744"/>
                </a:lnTo>
                <a:lnTo>
                  <a:pt x="689" y="752"/>
                </a:lnTo>
                <a:lnTo>
                  <a:pt x="687" y="760"/>
                </a:lnTo>
                <a:lnTo>
                  <a:pt x="685" y="767"/>
                </a:lnTo>
                <a:lnTo>
                  <a:pt x="683" y="775"/>
                </a:lnTo>
                <a:lnTo>
                  <a:pt x="681" y="781"/>
                </a:lnTo>
                <a:lnTo>
                  <a:pt x="681" y="787"/>
                </a:lnTo>
                <a:lnTo>
                  <a:pt x="679" y="792"/>
                </a:lnTo>
                <a:lnTo>
                  <a:pt x="679" y="796"/>
                </a:lnTo>
                <a:lnTo>
                  <a:pt x="677" y="800"/>
                </a:lnTo>
                <a:lnTo>
                  <a:pt x="677" y="804"/>
                </a:lnTo>
                <a:lnTo>
                  <a:pt x="677" y="808"/>
                </a:lnTo>
                <a:lnTo>
                  <a:pt x="675" y="812"/>
                </a:lnTo>
                <a:lnTo>
                  <a:pt x="675" y="813"/>
                </a:lnTo>
                <a:lnTo>
                  <a:pt x="675" y="815"/>
                </a:lnTo>
                <a:lnTo>
                  <a:pt x="675" y="817"/>
                </a:lnTo>
                <a:lnTo>
                  <a:pt x="672" y="821"/>
                </a:lnTo>
                <a:lnTo>
                  <a:pt x="666" y="823"/>
                </a:lnTo>
                <a:lnTo>
                  <a:pt x="660" y="825"/>
                </a:lnTo>
                <a:lnTo>
                  <a:pt x="654" y="825"/>
                </a:lnTo>
                <a:lnTo>
                  <a:pt x="647" y="825"/>
                </a:lnTo>
                <a:lnTo>
                  <a:pt x="639" y="823"/>
                </a:lnTo>
                <a:lnTo>
                  <a:pt x="627" y="821"/>
                </a:lnTo>
                <a:lnTo>
                  <a:pt x="622" y="819"/>
                </a:lnTo>
                <a:lnTo>
                  <a:pt x="616" y="817"/>
                </a:lnTo>
                <a:lnTo>
                  <a:pt x="610" y="813"/>
                </a:lnTo>
                <a:lnTo>
                  <a:pt x="604" y="812"/>
                </a:lnTo>
                <a:lnTo>
                  <a:pt x="599" y="808"/>
                </a:lnTo>
                <a:lnTo>
                  <a:pt x="593" y="806"/>
                </a:lnTo>
                <a:lnTo>
                  <a:pt x="589" y="802"/>
                </a:lnTo>
                <a:lnTo>
                  <a:pt x="585" y="798"/>
                </a:lnTo>
                <a:lnTo>
                  <a:pt x="583" y="792"/>
                </a:lnTo>
                <a:lnTo>
                  <a:pt x="581" y="789"/>
                </a:lnTo>
                <a:lnTo>
                  <a:pt x="579" y="783"/>
                </a:lnTo>
                <a:lnTo>
                  <a:pt x="578" y="777"/>
                </a:lnTo>
                <a:lnTo>
                  <a:pt x="576" y="771"/>
                </a:lnTo>
                <a:lnTo>
                  <a:pt x="576" y="764"/>
                </a:lnTo>
                <a:lnTo>
                  <a:pt x="576" y="758"/>
                </a:lnTo>
                <a:lnTo>
                  <a:pt x="578" y="748"/>
                </a:lnTo>
                <a:lnTo>
                  <a:pt x="579" y="741"/>
                </a:lnTo>
                <a:lnTo>
                  <a:pt x="581" y="733"/>
                </a:lnTo>
                <a:lnTo>
                  <a:pt x="581" y="721"/>
                </a:lnTo>
                <a:lnTo>
                  <a:pt x="581" y="712"/>
                </a:lnTo>
                <a:lnTo>
                  <a:pt x="581" y="698"/>
                </a:lnTo>
                <a:lnTo>
                  <a:pt x="583" y="685"/>
                </a:lnTo>
                <a:lnTo>
                  <a:pt x="583" y="670"/>
                </a:lnTo>
                <a:lnTo>
                  <a:pt x="585" y="652"/>
                </a:lnTo>
                <a:lnTo>
                  <a:pt x="587" y="635"/>
                </a:lnTo>
                <a:lnTo>
                  <a:pt x="589" y="616"/>
                </a:lnTo>
                <a:lnTo>
                  <a:pt x="593" y="595"/>
                </a:lnTo>
                <a:lnTo>
                  <a:pt x="595" y="574"/>
                </a:lnTo>
                <a:lnTo>
                  <a:pt x="597" y="551"/>
                </a:lnTo>
                <a:lnTo>
                  <a:pt x="601" y="526"/>
                </a:lnTo>
                <a:lnTo>
                  <a:pt x="604" y="501"/>
                </a:lnTo>
                <a:lnTo>
                  <a:pt x="608" y="474"/>
                </a:lnTo>
                <a:lnTo>
                  <a:pt x="612" y="447"/>
                </a:lnTo>
                <a:lnTo>
                  <a:pt x="616" y="418"/>
                </a:lnTo>
                <a:lnTo>
                  <a:pt x="618" y="389"/>
                </a:lnTo>
                <a:lnTo>
                  <a:pt x="620" y="361"/>
                </a:lnTo>
                <a:lnTo>
                  <a:pt x="622" y="336"/>
                </a:lnTo>
                <a:lnTo>
                  <a:pt x="622" y="313"/>
                </a:lnTo>
                <a:lnTo>
                  <a:pt x="624" y="290"/>
                </a:lnTo>
                <a:lnTo>
                  <a:pt x="624" y="270"/>
                </a:lnTo>
                <a:lnTo>
                  <a:pt x="624" y="251"/>
                </a:lnTo>
                <a:lnTo>
                  <a:pt x="624" y="236"/>
                </a:lnTo>
                <a:lnTo>
                  <a:pt x="622" y="220"/>
                </a:lnTo>
                <a:lnTo>
                  <a:pt x="622" y="207"/>
                </a:lnTo>
                <a:lnTo>
                  <a:pt x="620" y="196"/>
                </a:lnTo>
                <a:lnTo>
                  <a:pt x="618" y="184"/>
                </a:lnTo>
                <a:lnTo>
                  <a:pt x="616" y="176"/>
                </a:lnTo>
                <a:lnTo>
                  <a:pt x="612" y="171"/>
                </a:lnTo>
                <a:lnTo>
                  <a:pt x="608" y="165"/>
                </a:lnTo>
                <a:lnTo>
                  <a:pt x="604" y="163"/>
                </a:lnTo>
                <a:lnTo>
                  <a:pt x="599" y="159"/>
                </a:lnTo>
                <a:lnTo>
                  <a:pt x="593" y="157"/>
                </a:lnTo>
                <a:lnTo>
                  <a:pt x="585" y="157"/>
                </a:lnTo>
                <a:lnTo>
                  <a:pt x="578" y="155"/>
                </a:lnTo>
                <a:lnTo>
                  <a:pt x="568" y="155"/>
                </a:lnTo>
                <a:lnTo>
                  <a:pt x="556" y="153"/>
                </a:lnTo>
                <a:lnTo>
                  <a:pt x="545" y="153"/>
                </a:lnTo>
                <a:lnTo>
                  <a:pt x="531" y="153"/>
                </a:lnTo>
                <a:lnTo>
                  <a:pt x="518" y="155"/>
                </a:lnTo>
                <a:lnTo>
                  <a:pt x="501" y="157"/>
                </a:lnTo>
                <a:lnTo>
                  <a:pt x="483" y="157"/>
                </a:lnTo>
                <a:lnTo>
                  <a:pt x="466" y="161"/>
                </a:lnTo>
                <a:lnTo>
                  <a:pt x="447" y="163"/>
                </a:lnTo>
                <a:lnTo>
                  <a:pt x="426" y="167"/>
                </a:lnTo>
                <a:lnTo>
                  <a:pt x="403" y="171"/>
                </a:lnTo>
                <a:lnTo>
                  <a:pt x="380" y="174"/>
                </a:lnTo>
                <a:lnTo>
                  <a:pt x="330" y="184"/>
                </a:lnTo>
                <a:lnTo>
                  <a:pt x="284" y="190"/>
                </a:lnTo>
                <a:lnTo>
                  <a:pt x="236" y="197"/>
                </a:lnTo>
                <a:lnTo>
                  <a:pt x="190" y="201"/>
                </a:lnTo>
                <a:lnTo>
                  <a:pt x="142" y="205"/>
                </a:lnTo>
                <a:lnTo>
                  <a:pt x="96" y="209"/>
                </a:lnTo>
                <a:lnTo>
                  <a:pt x="48" y="211"/>
                </a:lnTo>
                <a:lnTo>
                  <a:pt x="0" y="211"/>
                </a:lnTo>
                <a:lnTo>
                  <a:pt x="0" y="163"/>
                </a:lnTo>
                <a:lnTo>
                  <a:pt x="0" y="115"/>
                </a:lnTo>
                <a:lnTo>
                  <a:pt x="34" y="113"/>
                </a:lnTo>
                <a:lnTo>
                  <a:pt x="69" y="113"/>
                </a:lnTo>
                <a:lnTo>
                  <a:pt x="101" y="113"/>
                </a:lnTo>
                <a:lnTo>
                  <a:pt x="132" y="111"/>
                </a:lnTo>
                <a:lnTo>
                  <a:pt x="163" y="111"/>
                </a:lnTo>
                <a:lnTo>
                  <a:pt x="194" y="109"/>
                </a:lnTo>
                <a:lnTo>
                  <a:pt x="220" y="107"/>
                </a:lnTo>
                <a:lnTo>
                  <a:pt x="249" y="105"/>
                </a:lnTo>
                <a:lnTo>
                  <a:pt x="274" y="103"/>
                </a:lnTo>
                <a:lnTo>
                  <a:pt x="299" y="100"/>
                </a:lnTo>
                <a:lnTo>
                  <a:pt x="324" y="98"/>
                </a:lnTo>
                <a:lnTo>
                  <a:pt x="347" y="94"/>
                </a:lnTo>
                <a:lnTo>
                  <a:pt x="368" y="90"/>
                </a:lnTo>
                <a:lnTo>
                  <a:pt x="387" y="86"/>
                </a:lnTo>
                <a:lnTo>
                  <a:pt x="409" y="82"/>
                </a:lnTo>
                <a:lnTo>
                  <a:pt x="426" y="78"/>
                </a:lnTo>
                <a:lnTo>
                  <a:pt x="441" y="75"/>
                </a:lnTo>
                <a:lnTo>
                  <a:pt x="455" y="73"/>
                </a:lnTo>
                <a:lnTo>
                  <a:pt x="470" y="69"/>
                </a:lnTo>
                <a:lnTo>
                  <a:pt x="482" y="67"/>
                </a:lnTo>
                <a:lnTo>
                  <a:pt x="493" y="63"/>
                </a:lnTo>
                <a:lnTo>
                  <a:pt x="505" y="59"/>
                </a:lnTo>
                <a:lnTo>
                  <a:pt x="514" y="57"/>
                </a:lnTo>
                <a:lnTo>
                  <a:pt x="524" y="54"/>
                </a:lnTo>
                <a:lnTo>
                  <a:pt x="533" y="50"/>
                </a:lnTo>
                <a:lnTo>
                  <a:pt x="541" y="46"/>
                </a:lnTo>
                <a:lnTo>
                  <a:pt x="547" y="44"/>
                </a:lnTo>
                <a:lnTo>
                  <a:pt x="553" y="40"/>
                </a:lnTo>
                <a:lnTo>
                  <a:pt x="558" y="36"/>
                </a:lnTo>
                <a:lnTo>
                  <a:pt x="562" y="34"/>
                </a:lnTo>
                <a:lnTo>
                  <a:pt x="566" y="31"/>
                </a:lnTo>
                <a:lnTo>
                  <a:pt x="570" y="2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2"/>
          <p:cNvSpPr/>
          <p:nvPr/>
        </p:nvSpPr>
        <p:spPr>
          <a:xfrm>
            <a:off x="5935680" y="3637080"/>
            <a:ext cx="349200" cy="106200"/>
          </a:xfrm>
          <a:custGeom>
            <a:avLst/>
            <a:gdLst/>
            <a:ahLst/>
            <a:rect l="l" t="t" r="r" b="b"/>
            <a:pathLst>
              <a:path w="439" h="135">
                <a:moveTo>
                  <a:pt x="355" y="110"/>
                </a:moveTo>
                <a:lnTo>
                  <a:pt x="345" y="112"/>
                </a:lnTo>
                <a:lnTo>
                  <a:pt x="334" y="113"/>
                </a:lnTo>
                <a:lnTo>
                  <a:pt x="320" y="117"/>
                </a:lnTo>
                <a:lnTo>
                  <a:pt x="307" y="119"/>
                </a:lnTo>
                <a:lnTo>
                  <a:pt x="290" y="121"/>
                </a:lnTo>
                <a:lnTo>
                  <a:pt x="272" y="123"/>
                </a:lnTo>
                <a:lnTo>
                  <a:pt x="251" y="125"/>
                </a:lnTo>
                <a:lnTo>
                  <a:pt x="230" y="127"/>
                </a:lnTo>
                <a:lnTo>
                  <a:pt x="207" y="129"/>
                </a:lnTo>
                <a:lnTo>
                  <a:pt x="182" y="129"/>
                </a:lnTo>
                <a:lnTo>
                  <a:pt x="157" y="131"/>
                </a:lnTo>
                <a:lnTo>
                  <a:pt x="128" y="131"/>
                </a:lnTo>
                <a:lnTo>
                  <a:pt x="100" y="133"/>
                </a:lnTo>
                <a:lnTo>
                  <a:pt x="67" y="133"/>
                </a:lnTo>
                <a:lnTo>
                  <a:pt x="34" y="133"/>
                </a:lnTo>
                <a:lnTo>
                  <a:pt x="0" y="135"/>
                </a:lnTo>
                <a:lnTo>
                  <a:pt x="0" y="98"/>
                </a:lnTo>
                <a:lnTo>
                  <a:pt x="0" y="62"/>
                </a:lnTo>
                <a:lnTo>
                  <a:pt x="15" y="58"/>
                </a:lnTo>
                <a:lnTo>
                  <a:pt x="30" y="56"/>
                </a:lnTo>
                <a:lnTo>
                  <a:pt x="44" y="54"/>
                </a:lnTo>
                <a:lnTo>
                  <a:pt x="57" y="52"/>
                </a:lnTo>
                <a:lnTo>
                  <a:pt x="84" y="46"/>
                </a:lnTo>
                <a:lnTo>
                  <a:pt x="107" y="42"/>
                </a:lnTo>
                <a:lnTo>
                  <a:pt x="130" y="39"/>
                </a:lnTo>
                <a:lnTo>
                  <a:pt x="151" y="33"/>
                </a:lnTo>
                <a:lnTo>
                  <a:pt x="171" y="29"/>
                </a:lnTo>
                <a:lnTo>
                  <a:pt x="190" y="25"/>
                </a:lnTo>
                <a:lnTo>
                  <a:pt x="215" y="16"/>
                </a:lnTo>
                <a:lnTo>
                  <a:pt x="228" y="12"/>
                </a:lnTo>
                <a:lnTo>
                  <a:pt x="244" y="8"/>
                </a:lnTo>
                <a:lnTo>
                  <a:pt x="257" y="4"/>
                </a:lnTo>
                <a:lnTo>
                  <a:pt x="270" y="2"/>
                </a:lnTo>
                <a:lnTo>
                  <a:pt x="284" y="0"/>
                </a:lnTo>
                <a:lnTo>
                  <a:pt x="297" y="0"/>
                </a:lnTo>
                <a:lnTo>
                  <a:pt x="309" y="0"/>
                </a:lnTo>
                <a:lnTo>
                  <a:pt x="320" y="0"/>
                </a:lnTo>
                <a:lnTo>
                  <a:pt x="332" y="0"/>
                </a:lnTo>
                <a:lnTo>
                  <a:pt x="343" y="2"/>
                </a:lnTo>
                <a:lnTo>
                  <a:pt x="355" y="4"/>
                </a:lnTo>
                <a:lnTo>
                  <a:pt x="366" y="6"/>
                </a:lnTo>
                <a:lnTo>
                  <a:pt x="378" y="8"/>
                </a:lnTo>
                <a:lnTo>
                  <a:pt x="391" y="14"/>
                </a:lnTo>
                <a:lnTo>
                  <a:pt x="397" y="16"/>
                </a:lnTo>
                <a:lnTo>
                  <a:pt x="403" y="18"/>
                </a:lnTo>
                <a:lnTo>
                  <a:pt x="409" y="19"/>
                </a:lnTo>
                <a:lnTo>
                  <a:pt x="414" y="21"/>
                </a:lnTo>
                <a:lnTo>
                  <a:pt x="418" y="23"/>
                </a:lnTo>
                <a:lnTo>
                  <a:pt x="422" y="25"/>
                </a:lnTo>
                <a:lnTo>
                  <a:pt x="428" y="31"/>
                </a:lnTo>
                <a:lnTo>
                  <a:pt x="434" y="35"/>
                </a:lnTo>
                <a:lnTo>
                  <a:pt x="436" y="41"/>
                </a:lnTo>
                <a:lnTo>
                  <a:pt x="437" y="44"/>
                </a:lnTo>
                <a:lnTo>
                  <a:pt x="439" y="50"/>
                </a:lnTo>
                <a:lnTo>
                  <a:pt x="437" y="52"/>
                </a:lnTo>
                <a:lnTo>
                  <a:pt x="437" y="54"/>
                </a:lnTo>
                <a:lnTo>
                  <a:pt x="436" y="58"/>
                </a:lnTo>
                <a:lnTo>
                  <a:pt x="434" y="60"/>
                </a:lnTo>
                <a:lnTo>
                  <a:pt x="432" y="64"/>
                </a:lnTo>
                <a:lnTo>
                  <a:pt x="428" y="67"/>
                </a:lnTo>
                <a:lnTo>
                  <a:pt x="424" y="71"/>
                </a:lnTo>
                <a:lnTo>
                  <a:pt x="418" y="75"/>
                </a:lnTo>
                <a:lnTo>
                  <a:pt x="414" y="79"/>
                </a:lnTo>
                <a:lnTo>
                  <a:pt x="407" y="83"/>
                </a:lnTo>
                <a:lnTo>
                  <a:pt x="401" y="87"/>
                </a:lnTo>
                <a:lnTo>
                  <a:pt x="393" y="90"/>
                </a:lnTo>
                <a:lnTo>
                  <a:pt x="386" y="96"/>
                </a:lnTo>
                <a:lnTo>
                  <a:pt x="376" y="100"/>
                </a:lnTo>
                <a:lnTo>
                  <a:pt x="366" y="106"/>
                </a:lnTo>
                <a:lnTo>
                  <a:pt x="355" y="11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3"/>
          <p:cNvSpPr/>
          <p:nvPr/>
        </p:nvSpPr>
        <p:spPr>
          <a:xfrm>
            <a:off x="5935680" y="3887640"/>
            <a:ext cx="441360" cy="114480"/>
          </a:xfrm>
          <a:custGeom>
            <a:avLst/>
            <a:gdLst/>
            <a:ahLst/>
            <a:rect l="l" t="t" r="r" b="b"/>
            <a:pathLst>
              <a:path w="556" h="144">
                <a:moveTo>
                  <a:pt x="190" y="36"/>
                </a:moveTo>
                <a:lnTo>
                  <a:pt x="201" y="33"/>
                </a:lnTo>
                <a:lnTo>
                  <a:pt x="215" y="31"/>
                </a:lnTo>
                <a:lnTo>
                  <a:pt x="230" y="29"/>
                </a:lnTo>
                <a:lnTo>
                  <a:pt x="247" y="25"/>
                </a:lnTo>
                <a:lnTo>
                  <a:pt x="265" y="23"/>
                </a:lnTo>
                <a:lnTo>
                  <a:pt x="284" y="21"/>
                </a:lnTo>
                <a:lnTo>
                  <a:pt x="305" y="19"/>
                </a:lnTo>
                <a:lnTo>
                  <a:pt x="328" y="17"/>
                </a:lnTo>
                <a:lnTo>
                  <a:pt x="353" y="13"/>
                </a:lnTo>
                <a:lnTo>
                  <a:pt x="378" y="11"/>
                </a:lnTo>
                <a:lnTo>
                  <a:pt x="405" y="10"/>
                </a:lnTo>
                <a:lnTo>
                  <a:pt x="432" y="8"/>
                </a:lnTo>
                <a:lnTo>
                  <a:pt x="462" y="6"/>
                </a:lnTo>
                <a:lnTo>
                  <a:pt x="493" y="4"/>
                </a:lnTo>
                <a:lnTo>
                  <a:pt x="524" y="2"/>
                </a:lnTo>
                <a:lnTo>
                  <a:pt x="556" y="0"/>
                </a:lnTo>
                <a:lnTo>
                  <a:pt x="556" y="40"/>
                </a:lnTo>
                <a:lnTo>
                  <a:pt x="556" y="84"/>
                </a:lnTo>
                <a:lnTo>
                  <a:pt x="526" y="88"/>
                </a:lnTo>
                <a:lnTo>
                  <a:pt x="493" y="92"/>
                </a:lnTo>
                <a:lnTo>
                  <a:pt x="459" y="98"/>
                </a:lnTo>
                <a:lnTo>
                  <a:pt x="426" y="102"/>
                </a:lnTo>
                <a:lnTo>
                  <a:pt x="389" y="105"/>
                </a:lnTo>
                <a:lnTo>
                  <a:pt x="355" y="111"/>
                </a:lnTo>
                <a:lnTo>
                  <a:pt x="286" y="121"/>
                </a:lnTo>
                <a:lnTo>
                  <a:pt x="245" y="125"/>
                </a:lnTo>
                <a:lnTo>
                  <a:pt x="207" y="128"/>
                </a:lnTo>
                <a:lnTo>
                  <a:pt x="169" y="132"/>
                </a:lnTo>
                <a:lnTo>
                  <a:pt x="132" y="136"/>
                </a:lnTo>
                <a:lnTo>
                  <a:pt x="98" y="140"/>
                </a:lnTo>
                <a:lnTo>
                  <a:pt x="63" y="142"/>
                </a:lnTo>
                <a:lnTo>
                  <a:pt x="30" y="144"/>
                </a:lnTo>
                <a:lnTo>
                  <a:pt x="0" y="144"/>
                </a:lnTo>
                <a:lnTo>
                  <a:pt x="0" y="102"/>
                </a:lnTo>
                <a:lnTo>
                  <a:pt x="0" y="59"/>
                </a:lnTo>
                <a:lnTo>
                  <a:pt x="23" y="56"/>
                </a:lnTo>
                <a:lnTo>
                  <a:pt x="46" y="52"/>
                </a:lnTo>
                <a:lnTo>
                  <a:pt x="71" y="50"/>
                </a:lnTo>
                <a:lnTo>
                  <a:pt x="94" y="48"/>
                </a:lnTo>
                <a:lnTo>
                  <a:pt x="119" y="44"/>
                </a:lnTo>
                <a:lnTo>
                  <a:pt x="144" y="42"/>
                </a:lnTo>
                <a:lnTo>
                  <a:pt x="167" y="40"/>
                </a:lnTo>
                <a:lnTo>
                  <a:pt x="190" y="3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4"/>
          <p:cNvSpPr/>
          <p:nvPr/>
        </p:nvSpPr>
        <p:spPr>
          <a:xfrm>
            <a:off x="5908680" y="4138560"/>
            <a:ext cx="554040" cy="760320"/>
          </a:xfrm>
          <a:custGeom>
            <a:avLst/>
            <a:gdLst/>
            <a:ahLst/>
            <a:rect l="l" t="t" r="r" b="b"/>
            <a:pathLst>
              <a:path w="699" h="957">
                <a:moveTo>
                  <a:pt x="225" y="654"/>
                </a:moveTo>
                <a:lnTo>
                  <a:pt x="236" y="658"/>
                </a:lnTo>
                <a:lnTo>
                  <a:pt x="250" y="662"/>
                </a:lnTo>
                <a:lnTo>
                  <a:pt x="261" y="664"/>
                </a:lnTo>
                <a:lnTo>
                  <a:pt x="273" y="667"/>
                </a:lnTo>
                <a:lnTo>
                  <a:pt x="284" y="669"/>
                </a:lnTo>
                <a:lnTo>
                  <a:pt x="294" y="671"/>
                </a:lnTo>
                <a:lnTo>
                  <a:pt x="303" y="671"/>
                </a:lnTo>
                <a:lnTo>
                  <a:pt x="313" y="671"/>
                </a:lnTo>
                <a:lnTo>
                  <a:pt x="323" y="671"/>
                </a:lnTo>
                <a:lnTo>
                  <a:pt x="330" y="671"/>
                </a:lnTo>
                <a:lnTo>
                  <a:pt x="338" y="669"/>
                </a:lnTo>
                <a:lnTo>
                  <a:pt x="344" y="667"/>
                </a:lnTo>
                <a:lnTo>
                  <a:pt x="351" y="664"/>
                </a:lnTo>
                <a:lnTo>
                  <a:pt x="357" y="662"/>
                </a:lnTo>
                <a:lnTo>
                  <a:pt x="363" y="658"/>
                </a:lnTo>
                <a:lnTo>
                  <a:pt x="367" y="654"/>
                </a:lnTo>
                <a:lnTo>
                  <a:pt x="371" y="650"/>
                </a:lnTo>
                <a:lnTo>
                  <a:pt x="376" y="646"/>
                </a:lnTo>
                <a:lnTo>
                  <a:pt x="380" y="639"/>
                </a:lnTo>
                <a:lnTo>
                  <a:pt x="384" y="631"/>
                </a:lnTo>
                <a:lnTo>
                  <a:pt x="390" y="621"/>
                </a:lnTo>
                <a:lnTo>
                  <a:pt x="394" y="610"/>
                </a:lnTo>
                <a:lnTo>
                  <a:pt x="399" y="596"/>
                </a:lnTo>
                <a:lnTo>
                  <a:pt x="403" y="583"/>
                </a:lnTo>
                <a:lnTo>
                  <a:pt x="409" y="566"/>
                </a:lnTo>
                <a:lnTo>
                  <a:pt x="415" y="549"/>
                </a:lnTo>
                <a:lnTo>
                  <a:pt x="419" y="529"/>
                </a:lnTo>
                <a:lnTo>
                  <a:pt x="424" y="508"/>
                </a:lnTo>
                <a:lnTo>
                  <a:pt x="430" y="487"/>
                </a:lnTo>
                <a:lnTo>
                  <a:pt x="436" y="464"/>
                </a:lnTo>
                <a:lnTo>
                  <a:pt x="444" y="437"/>
                </a:lnTo>
                <a:lnTo>
                  <a:pt x="449" y="412"/>
                </a:lnTo>
                <a:lnTo>
                  <a:pt x="453" y="387"/>
                </a:lnTo>
                <a:lnTo>
                  <a:pt x="457" y="364"/>
                </a:lnTo>
                <a:lnTo>
                  <a:pt x="461" y="341"/>
                </a:lnTo>
                <a:lnTo>
                  <a:pt x="463" y="320"/>
                </a:lnTo>
                <a:lnTo>
                  <a:pt x="465" y="301"/>
                </a:lnTo>
                <a:lnTo>
                  <a:pt x="467" y="282"/>
                </a:lnTo>
                <a:lnTo>
                  <a:pt x="469" y="264"/>
                </a:lnTo>
                <a:lnTo>
                  <a:pt x="469" y="249"/>
                </a:lnTo>
                <a:lnTo>
                  <a:pt x="469" y="234"/>
                </a:lnTo>
                <a:lnTo>
                  <a:pt x="469" y="220"/>
                </a:lnTo>
                <a:lnTo>
                  <a:pt x="469" y="209"/>
                </a:lnTo>
                <a:lnTo>
                  <a:pt x="469" y="197"/>
                </a:lnTo>
                <a:lnTo>
                  <a:pt x="467" y="188"/>
                </a:lnTo>
                <a:lnTo>
                  <a:pt x="465" y="180"/>
                </a:lnTo>
                <a:lnTo>
                  <a:pt x="465" y="174"/>
                </a:lnTo>
                <a:lnTo>
                  <a:pt x="463" y="169"/>
                </a:lnTo>
                <a:lnTo>
                  <a:pt x="457" y="167"/>
                </a:lnTo>
                <a:lnTo>
                  <a:pt x="451" y="165"/>
                </a:lnTo>
                <a:lnTo>
                  <a:pt x="446" y="163"/>
                </a:lnTo>
                <a:lnTo>
                  <a:pt x="440" y="161"/>
                </a:lnTo>
                <a:lnTo>
                  <a:pt x="432" y="161"/>
                </a:lnTo>
                <a:lnTo>
                  <a:pt x="424" y="159"/>
                </a:lnTo>
                <a:lnTo>
                  <a:pt x="415" y="159"/>
                </a:lnTo>
                <a:lnTo>
                  <a:pt x="407" y="159"/>
                </a:lnTo>
                <a:lnTo>
                  <a:pt x="398" y="159"/>
                </a:lnTo>
                <a:lnTo>
                  <a:pt x="386" y="159"/>
                </a:lnTo>
                <a:lnTo>
                  <a:pt x="375" y="161"/>
                </a:lnTo>
                <a:lnTo>
                  <a:pt x="363" y="161"/>
                </a:lnTo>
                <a:lnTo>
                  <a:pt x="350" y="163"/>
                </a:lnTo>
                <a:lnTo>
                  <a:pt x="336" y="165"/>
                </a:lnTo>
                <a:lnTo>
                  <a:pt x="323" y="167"/>
                </a:lnTo>
                <a:lnTo>
                  <a:pt x="307" y="169"/>
                </a:lnTo>
                <a:lnTo>
                  <a:pt x="277" y="176"/>
                </a:lnTo>
                <a:lnTo>
                  <a:pt x="242" y="184"/>
                </a:lnTo>
                <a:lnTo>
                  <a:pt x="225" y="188"/>
                </a:lnTo>
                <a:lnTo>
                  <a:pt x="207" y="192"/>
                </a:lnTo>
                <a:lnTo>
                  <a:pt x="190" y="193"/>
                </a:lnTo>
                <a:lnTo>
                  <a:pt x="171" y="195"/>
                </a:lnTo>
                <a:lnTo>
                  <a:pt x="152" y="197"/>
                </a:lnTo>
                <a:lnTo>
                  <a:pt x="133" y="199"/>
                </a:lnTo>
                <a:lnTo>
                  <a:pt x="112" y="201"/>
                </a:lnTo>
                <a:lnTo>
                  <a:pt x="90" y="203"/>
                </a:lnTo>
                <a:lnTo>
                  <a:pt x="69" y="203"/>
                </a:lnTo>
                <a:lnTo>
                  <a:pt x="46" y="205"/>
                </a:lnTo>
                <a:lnTo>
                  <a:pt x="23" y="205"/>
                </a:lnTo>
                <a:lnTo>
                  <a:pt x="0" y="205"/>
                </a:lnTo>
                <a:lnTo>
                  <a:pt x="0" y="163"/>
                </a:lnTo>
                <a:lnTo>
                  <a:pt x="0" y="121"/>
                </a:lnTo>
                <a:lnTo>
                  <a:pt x="21" y="117"/>
                </a:lnTo>
                <a:lnTo>
                  <a:pt x="42" y="115"/>
                </a:lnTo>
                <a:lnTo>
                  <a:pt x="64" y="113"/>
                </a:lnTo>
                <a:lnTo>
                  <a:pt x="83" y="111"/>
                </a:lnTo>
                <a:lnTo>
                  <a:pt x="104" y="109"/>
                </a:lnTo>
                <a:lnTo>
                  <a:pt x="123" y="105"/>
                </a:lnTo>
                <a:lnTo>
                  <a:pt x="140" y="103"/>
                </a:lnTo>
                <a:lnTo>
                  <a:pt x="159" y="101"/>
                </a:lnTo>
                <a:lnTo>
                  <a:pt x="177" y="99"/>
                </a:lnTo>
                <a:lnTo>
                  <a:pt x="194" y="98"/>
                </a:lnTo>
                <a:lnTo>
                  <a:pt x="209" y="96"/>
                </a:lnTo>
                <a:lnTo>
                  <a:pt x="225" y="94"/>
                </a:lnTo>
                <a:lnTo>
                  <a:pt x="240" y="90"/>
                </a:lnTo>
                <a:lnTo>
                  <a:pt x="255" y="88"/>
                </a:lnTo>
                <a:lnTo>
                  <a:pt x="269" y="86"/>
                </a:lnTo>
                <a:lnTo>
                  <a:pt x="284" y="84"/>
                </a:lnTo>
                <a:lnTo>
                  <a:pt x="296" y="82"/>
                </a:lnTo>
                <a:lnTo>
                  <a:pt x="309" y="78"/>
                </a:lnTo>
                <a:lnTo>
                  <a:pt x="321" y="76"/>
                </a:lnTo>
                <a:lnTo>
                  <a:pt x="332" y="73"/>
                </a:lnTo>
                <a:lnTo>
                  <a:pt x="342" y="69"/>
                </a:lnTo>
                <a:lnTo>
                  <a:pt x="353" y="65"/>
                </a:lnTo>
                <a:lnTo>
                  <a:pt x="363" y="61"/>
                </a:lnTo>
                <a:lnTo>
                  <a:pt x="371" y="57"/>
                </a:lnTo>
                <a:lnTo>
                  <a:pt x="378" y="53"/>
                </a:lnTo>
                <a:lnTo>
                  <a:pt x="386" y="50"/>
                </a:lnTo>
                <a:lnTo>
                  <a:pt x="394" y="46"/>
                </a:lnTo>
                <a:lnTo>
                  <a:pt x="399" y="42"/>
                </a:lnTo>
                <a:lnTo>
                  <a:pt x="403" y="36"/>
                </a:lnTo>
                <a:lnTo>
                  <a:pt x="407" y="32"/>
                </a:lnTo>
                <a:lnTo>
                  <a:pt x="411" y="27"/>
                </a:lnTo>
                <a:lnTo>
                  <a:pt x="415" y="23"/>
                </a:lnTo>
                <a:lnTo>
                  <a:pt x="423" y="15"/>
                </a:lnTo>
                <a:lnTo>
                  <a:pt x="428" y="9"/>
                </a:lnTo>
                <a:lnTo>
                  <a:pt x="434" y="7"/>
                </a:lnTo>
                <a:lnTo>
                  <a:pt x="440" y="3"/>
                </a:lnTo>
                <a:lnTo>
                  <a:pt x="446" y="2"/>
                </a:lnTo>
                <a:lnTo>
                  <a:pt x="453" y="0"/>
                </a:lnTo>
                <a:lnTo>
                  <a:pt x="463" y="0"/>
                </a:lnTo>
                <a:lnTo>
                  <a:pt x="497" y="0"/>
                </a:lnTo>
                <a:lnTo>
                  <a:pt x="534" y="0"/>
                </a:lnTo>
                <a:lnTo>
                  <a:pt x="542" y="3"/>
                </a:lnTo>
                <a:lnTo>
                  <a:pt x="553" y="9"/>
                </a:lnTo>
                <a:lnTo>
                  <a:pt x="565" y="13"/>
                </a:lnTo>
                <a:lnTo>
                  <a:pt x="578" y="21"/>
                </a:lnTo>
                <a:lnTo>
                  <a:pt x="591" y="27"/>
                </a:lnTo>
                <a:lnTo>
                  <a:pt x="607" y="36"/>
                </a:lnTo>
                <a:lnTo>
                  <a:pt x="614" y="42"/>
                </a:lnTo>
                <a:lnTo>
                  <a:pt x="622" y="46"/>
                </a:lnTo>
                <a:lnTo>
                  <a:pt x="630" y="53"/>
                </a:lnTo>
                <a:lnTo>
                  <a:pt x="639" y="59"/>
                </a:lnTo>
                <a:lnTo>
                  <a:pt x="653" y="73"/>
                </a:lnTo>
                <a:lnTo>
                  <a:pt x="664" y="84"/>
                </a:lnTo>
                <a:lnTo>
                  <a:pt x="674" y="96"/>
                </a:lnTo>
                <a:lnTo>
                  <a:pt x="682" y="105"/>
                </a:lnTo>
                <a:lnTo>
                  <a:pt x="689" y="113"/>
                </a:lnTo>
                <a:lnTo>
                  <a:pt x="693" y="117"/>
                </a:lnTo>
                <a:lnTo>
                  <a:pt x="695" y="121"/>
                </a:lnTo>
                <a:lnTo>
                  <a:pt x="697" y="124"/>
                </a:lnTo>
                <a:lnTo>
                  <a:pt x="697" y="126"/>
                </a:lnTo>
                <a:lnTo>
                  <a:pt x="699" y="130"/>
                </a:lnTo>
                <a:lnTo>
                  <a:pt x="699" y="132"/>
                </a:lnTo>
                <a:lnTo>
                  <a:pt x="699" y="142"/>
                </a:lnTo>
                <a:lnTo>
                  <a:pt x="697" y="149"/>
                </a:lnTo>
                <a:lnTo>
                  <a:pt x="695" y="159"/>
                </a:lnTo>
                <a:lnTo>
                  <a:pt x="691" y="167"/>
                </a:lnTo>
                <a:lnTo>
                  <a:pt x="687" y="174"/>
                </a:lnTo>
                <a:lnTo>
                  <a:pt x="684" y="182"/>
                </a:lnTo>
                <a:lnTo>
                  <a:pt x="680" y="188"/>
                </a:lnTo>
                <a:lnTo>
                  <a:pt x="676" y="193"/>
                </a:lnTo>
                <a:lnTo>
                  <a:pt x="672" y="195"/>
                </a:lnTo>
                <a:lnTo>
                  <a:pt x="670" y="199"/>
                </a:lnTo>
                <a:lnTo>
                  <a:pt x="668" y="205"/>
                </a:lnTo>
                <a:lnTo>
                  <a:pt x="664" y="211"/>
                </a:lnTo>
                <a:lnTo>
                  <a:pt x="661" y="218"/>
                </a:lnTo>
                <a:lnTo>
                  <a:pt x="659" y="226"/>
                </a:lnTo>
                <a:lnTo>
                  <a:pt x="655" y="236"/>
                </a:lnTo>
                <a:lnTo>
                  <a:pt x="651" y="245"/>
                </a:lnTo>
                <a:lnTo>
                  <a:pt x="649" y="257"/>
                </a:lnTo>
                <a:lnTo>
                  <a:pt x="645" y="270"/>
                </a:lnTo>
                <a:lnTo>
                  <a:pt x="641" y="282"/>
                </a:lnTo>
                <a:lnTo>
                  <a:pt x="639" y="297"/>
                </a:lnTo>
                <a:lnTo>
                  <a:pt x="636" y="312"/>
                </a:lnTo>
                <a:lnTo>
                  <a:pt x="634" y="328"/>
                </a:lnTo>
                <a:lnTo>
                  <a:pt x="630" y="345"/>
                </a:lnTo>
                <a:lnTo>
                  <a:pt x="628" y="362"/>
                </a:lnTo>
                <a:lnTo>
                  <a:pt x="618" y="403"/>
                </a:lnTo>
                <a:lnTo>
                  <a:pt x="611" y="443"/>
                </a:lnTo>
                <a:lnTo>
                  <a:pt x="601" y="481"/>
                </a:lnTo>
                <a:lnTo>
                  <a:pt x="591" y="520"/>
                </a:lnTo>
                <a:lnTo>
                  <a:pt x="580" y="558"/>
                </a:lnTo>
                <a:lnTo>
                  <a:pt x="568" y="598"/>
                </a:lnTo>
                <a:lnTo>
                  <a:pt x="557" y="637"/>
                </a:lnTo>
                <a:lnTo>
                  <a:pt x="545" y="679"/>
                </a:lnTo>
                <a:lnTo>
                  <a:pt x="538" y="698"/>
                </a:lnTo>
                <a:lnTo>
                  <a:pt x="532" y="717"/>
                </a:lnTo>
                <a:lnTo>
                  <a:pt x="524" y="735"/>
                </a:lnTo>
                <a:lnTo>
                  <a:pt x="518" y="752"/>
                </a:lnTo>
                <a:lnTo>
                  <a:pt x="511" y="769"/>
                </a:lnTo>
                <a:lnTo>
                  <a:pt x="503" y="785"/>
                </a:lnTo>
                <a:lnTo>
                  <a:pt x="495" y="800"/>
                </a:lnTo>
                <a:lnTo>
                  <a:pt x="488" y="813"/>
                </a:lnTo>
                <a:lnTo>
                  <a:pt x="480" y="827"/>
                </a:lnTo>
                <a:lnTo>
                  <a:pt x="472" y="838"/>
                </a:lnTo>
                <a:lnTo>
                  <a:pt x="463" y="850"/>
                </a:lnTo>
                <a:lnTo>
                  <a:pt x="455" y="861"/>
                </a:lnTo>
                <a:lnTo>
                  <a:pt x="446" y="871"/>
                </a:lnTo>
                <a:lnTo>
                  <a:pt x="436" y="881"/>
                </a:lnTo>
                <a:lnTo>
                  <a:pt x="424" y="888"/>
                </a:lnTo>
                <a:lnTo>
                  <a:pt x="415" y="896"/>
                </a:lnTo>
                <a:lnTo>
                  <a:pt x="403" y="904"/>
                </a:lnTo>
                <a:lnTo>
                  <a:pt x="394" y="909"/>
                </a:lnTo>
                <a:lnTo>
                  <a:pt x="384" y="915"/>
                </a:lnTo>
                <a:lnTo>
                  <a:pt x="375" y="921"/>
                </a:lnTo>
                <a:lnTo>
                  <a:pt x="357" y="930"/>
                </a:lnTo>
                <a:lnTo>
                  <a:pt x="342" y="940"/>
                </a:lnTo>
                <a:lnTo>
                  <a:pt x="328" y="948"/>
                </a:lnTo>
                <a:lnTo>
                  <a:pt x="323" y="950"/>
                </a:lnTo>
                <a:lnTo>
                  <a:pt x="317" y="952"/>
                </a:lnTo>
                <a:lnTo>
                  <a:pt x="311" y="953"/>
                </a:lnTo>
                <a:lnTo>
                  <a:pt x="305" y="955"/>
                </a:lnTo>
                <a:lnTo>
                  <a:pt x="300" y="955"/>
                </a:lnTo>
                <a:lnTo>
                  <a:pt x="296" y="957"/>
                </a:lnTo>
                <a:lnTo>
                  <a:pt x="288" y="952"/>
                </a:lnTo>
                <a:lnTo>
                  <a:pt x="280" y="946"/>
                </a:lnTo>
                <a:lnTo>
                  <a:pt x="275" y="938"/>
                </a:lnTo>
                <a:lnTo>
                  <a:pt x="271" y="928"/>
                </a:lnTo>
                <a:lnTo>
                  <a:pt x="269" y="919"/>
                </a:lnTo>
                <a:lnTo>
                  <a:pt x="267" y="909"/>
                </a:lnTo>
                <a:lnTo>
                  <a:pt x="267" y="904"/>
                </a:lnTo>
                <a:lnTo>
                  <a:pt x="269" y="896"/>
                </a:lnTo>
                <a:lnTo>
                  <a:pt x="271" y="890"/>
                </a:lnTo>
                <a:lnTo>
                  <a:pt x="273" y="884"/>
                </a:lnTo>
                <a:lnTo>
                  <a:pt x="273" y="877"/>
                </a:lnTo>
                <a:lnTo>
                  <a:pt x="275" y="869"/>
                </a:lnTo>
                <a:lnTo>
                  <a:pt x="273" y="861"/>
                </a:lnTo>
                <a:lnTo>
                  <a:pt x="273" y="854"/>
                </a:lnTo>
                <a:lnTo>
                  <a:pt x="269" y="846"/>
                </a:lnTo>
                <a:lnTo>
                  <a:pt x="267" y="838"/>
                </a:lnTo>
                <a:lnTo>
                  <a:pt x="261" y="829"/>
                </a:lnTo>
                <a:lnTo>
                  <a:pt x="257" y="821"/>
                </a:lnTo>
                <a:lnTo>
                  <a:pt x="252" y="811"/>
                </a:lnTo>
                <a:lnTo>
                  <a:pt x="244" y="802"/>
                </a:lnTo>
                <a:lnTo>
                  <a:pt x="236" y="792"/>
                </a:lnTo>
                <a:lnTo>
                  <a:pt x="229" y="783"/>
                </a:lnTo>
                <a:lnTo>
                  <a:pt x="219" y="771"/>
                </a:lnTo>
                <a:lnTo>
                  <a:pt x="209" y="762"/>
                </a:lnTo>
                <a:lnTo>
                  <a:pt x="200" y="750"/>
                </a:lnTo>
                <a:lnTo>
                  <a:pt x="188" y="738"/>
                </a:lnTo>
                <a:lnTo>
                  <a:pt x="177" y="727"/>
                </a:lnTo>
                <a:lnTo>
                  <a:pt x="167" y="717"/>
                </a:lnTo>
                <a:lnTo>
                  <a:pt x="158" y="706"/>
                </a:lnTo>
                <a:lnTo>
                  <a:pt x="150" y="698"/>
                </a:lnTo>
                <a:lnTo>
                  <a:pt x="140" y="689"/>
                </a:lnTo>
                <a:lnTo>
                  <a:pt x="133" y="681"/>
                </a:lnTo>
                <a:lnTo>
                  <a:pt x="127" y="673"/>
                </a:lnTo>
                <a:lnTo>
                  <a:pt x="121" y="666"/>
                </a:lnTo>
                <a:lnTo>
                  <a:pt x="115" y="660"/>
                </a:lnTo>
                <a:lnTo>
                  <a:pt x="112" y="652"/>
                </a:lnTo>
                <a:lnTo>
                  <a:pt x="108" y="648"/>
                </a:lnTo>
                <a:lnTo>
                  <a:pt x="106" y="643"/>
                </a:lnTo>
                <a:lnTo>
                  <a:pt x="104" y="639"/>
                </a:lnTo>
                <a:lnTo>
                  <a:pt x="104" y="635"/>
                </a:lnTo>
                <a:lnTo>
                  <a:pt x="104" y="631"/>
                </a:lnTo>
                <a:lnTo>
                  <a:pt x="106" y="629"/>
                </a:lnTo>
                <a:lnTo>
                  <a:pt x="108" y="627"/>
                </a:lnTo>
                <a:lnTo>
                  <a:pt x="112" y="625"/>
                </a:lnTo>
                <a:lnTo>
                  <a:pt x="115" y="625"/>
                </a:lnTo>
                <a:lnTo>
                  <a:pt x="119" y="623"/>
                </a:lnTo>
                <a:lnTo>
                  <a:pt x="123" y="623"/>
                </a:lnTo>
                <a:lnTo>
                  <a:pt x="129" y="625"/>
                </a:lnTo>
                <a:lnTo>
                  <a:pt x="136" y="625"/>
                </a:lnTo>
                <a:lnTo>
                  <a:pt x="142" y="627"/>
                </a:lnTo>
                <a:lnTo>
                  <a:pt x="150" y="629"/>
                </a:lnTo>
                <a:lnTo>
                  <a:pt x="158" y="631"/>
                </a:lnTo>
                <a:lnTo>
                  <a:pt x="167" y="635"/>
                </a:lnTo>
                <a:lnTo>
                  <a:pt x="177" y="637"/>
                </a:lnTo>
                <a:lnTo>
                  <a:pt x="188" y="641"/>
                </a:lnTo>
                <a:lnTo>
                  <a:pt x="200" y="644"/>
                </a:lnTo>
                <a:lnTo>
                  <a:pt x="211" y="648"/>
                </a:lnTo>
                <a:lnTo>
                  <a:pt x="225" y="65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5"/>
          <p:cNvSpPr/>
          <p:nvPr/>
        </p:nvSpPr>
        <p:spPr>
          <a:xfrm>
            <a:off x="6564240" y="3162240"/>
            <a:ext cx="341280" cy="776520"/>
          </a:xfrm>
          <a:custGeom>
            <a:avLst/>
            <a:gdLst/>
            <a:ahLst/>
            <a:rect l="l" t="t" r="r" b="b"/>
            <a:pathLst>
              <a:path w="430" h="978">
                <a:moveTo>
                  <a:pt x="109" y="938"/>
                </a:moveTo>
                <a:lnTo>
                  <a:pt x="97" y="944"/>
                </a:lnTo>
                <a:lnTo>
                  <a:pt x="86" y="951"/>
                </a:lnTo>
                <a:lnTo>
                  <a:pt x="76" y="955"/>
                </a:lnTo>
                <a:lnTo>
                  <a:pt x="69" y="961"/>
                </a:lnTo>
                <a:lnTo>
                  <a:pt x="59" y="965"/>
                </a:lnTo>
                <a:lnTo>
                  <a:pt x="51" y="969"/>
                </a:lnTo>
                <a:lnTo>
                  <a:pt x="44" y="972"/>
                </a:lnTo>
                <a:lnTo>
                  <a:pt x="36" y="974"/>
                </a:lnTo>
                <a:lnTo>
                  <a:pt x="30" y="976"/>
                </a:lnTo>
                <a:lnTo>
                  <a:pt x="25" y="978"/>
                </a:lnTo>
                <a:lnTo>
                  <a:pt x="19" y="978"/>
                </a:lnTo>
                <a:lnTo>
                  <a:pt x="15" y="978"/>
                </a:lnTo>
                <a:lnTo>
                  <a:pt x="11" y="978"/>
                </a:lnTo>
                <a:lnTo>
                  <a:pt x="7" y="978"/>
                </a:lnTo>
                <a:lnTo>
                  <a:pt x="3" y="976"/>
                </a:lnTo>
                <a:lnTo>
                  <a:pt x="2" y="974"/>
                </a:lnTo>
                <a:lnTo>
                  <a:pt x="0" y="972"/>
                </a:lnTo>
                <a:lnTo>
                  <a:pt x="0" y="969"/>
                </a:lnTo>
                <a:lnTo>
                  <a:pt x="0" y="965"/>
                </a:lnTo>
                <a:lnTo>
                  <a:pt x="2" y="961"/>
                </a:lnTo>
                <a:lnTo>
                  <a:pt x="3" y="955"/>
                </a:lnTo>
                <a:lnTo>
                  <a:pt x="7" y="949"/>
                </a:lnTo>
                <a:lnTo>
                  <a:pt x="11" y="944"/>
                </a:lnTo>
                <a:lnTo>
                  <a:pt x="17" y="936"/>
                </a:lnTo>
                <a:lnTo>
                  <a:pt x="23" y="928"/>
                </a:lnTo>
                <a:lnTo>
                  <a:pt x="28" y="921"/>
                </a:lnTo>
                <a:lnTo>
                  <a:pt x="36" y="911"/>
                </a:lnTo>
                <a:lnTo>
                  <a:pt x="46" y="901"/>
                </a:lnTo>
                <a:lnTo>
                  <a:pt x="53" y="890"/>
                </a:lnTo>
                <a:lnTo>
                  <a:pt x="63" y="878"/>
                </a:lnTo>
                <a:lnTo>
                  <a:pt x="73" y="867"/>
                </a:lnTo>
                <a:lnTo>
                  <a:pt x="84" y="854"/>
                </a:lnTo>
                <a:lnTo>
                  <a:pt x="96" y="840"/>
                </a:lnTo>
                <a:lnTo>
                  <a:pt x="105" y="829"/>
                </a:lnTo>
                <a:lnTo>
                  <a:pt x="115" y="817"/>
                </a:lnTo>
                <a:lnTo>
                  <a:pt x="124" y="804"/>
                </a:lnTo>
                <a:lnTo>
                  <a:pt x="134" y="790"/>
                </a:lnTo>
                <a:lnTo>
                  <a:pt x="142" y="775"/>
                </a:lnTo>
                <a:lnTo>
                  <a:pt x="159" y="746"/>
                </a:lnTo>
                <a:lnTo>
                  <a:pt x="174" y="713"/>
                </a:lnTo>
                <a:lnTo>
                  <a:pt x="188" y="681"/>
                </a:lnTo>
                <a:lnTo>
                  <a:pt x="201" y="646"/>
                </a:lnTo>
                <a:lnTo>
                  <a:pt x="215" y="612"/>
                </a:lnTo>
                <a:lnTo>
                  <a:pt x="220" y="593"/>
                </a:lnTo>
                <a:lnTo>
                  <a:pt x="226" y="573"/>
                </a:lnTo>
                <a:lnTo>
                  <a:pt x="238" y="537"/>
                </a:lnTo>
                <a:lnTo>
                  <a:pt x="245" y="500"/>
                </a:lnTo>
                <a:lnTo>
                  <a:pt x="253" y="464"/>
                </a:lnTo>
                <a:lnTo>
                  <a:pt x="259" y="427"/>
                </a:lnTo>
                <a:lnTo>
                  <a:pt x="265" y="391"/>
                </a:lnTo>
                <a:lnTo>
                  <a:pt x="270" y="355"/>
                </a:lnTo>
                <a:lnTo>
                  <a:pt x="274" y="320"/>
                </a:lnTo>
                <a:lnTo>
                  <a:pt x="274" y="301"/>
                </a:lnTo>
                <a:lnTo>
                  <a:pt x="274" y="284"/>
                </a:lnTo>
                <a:lnTo>
                  <a:pt x="272" y="266"/>
                </a:lnTo>
                <a:lnTo>
                  <a:pt x="272" y="251"/>
                </a:lnTo>
                <a:lnTo>
                  <a:pt x="270" y="236"/>
                </a:lnTo>
                <a:lnTo>
                  <a:pt x="270" y="220"/>
                </a:lnTo>
                <a:lnTo>
                  <a:pt x="266" y="191"/>
                </a:lnTo>
                <a:lnTo>
                  <a:pt x="263" y="163"/>
                </a:lnTo>
                <a:lnTo>
                  <a:pt x="259" y="138"/>
                </a:lnTo>
                <a:lnTo>
                  <a:pt x="255" y="113"/>
                </a:lnTo>
                <a:lnTo>
                  <a:pt x="251" y="90"/>
                </a:lnTo>
                <a:lnTo>
                  <a:pt x="247" y="80"/>
                </a:lnTo>
                <a:lnTo>
                  <a:pt x="247" y="72"/>
                </a:lnTo>
                <a:lnTo>
                  <a:pt x="245" y="65"/>
                </a:lnTo>
                <a:lnTo>
                  <a:pt x="243" y="57"/>
                </a:lnTo>
                <a:lnTo>
                  <a:pt x="243" y="51"/>
                </a:lnTo>
                <a:lnTo>
                  <a:pt x="241" y="44"/>
                </a:lnTo>
                <a:lnTo>
                  <a:pt x="241" y="34"/>
                </a:lnTo>
                <a:lnTo>
                  <a:pt x="241" y="24"/>
                </a:lnTo>
                <a:lnTo>
                  <a:pt x="243" y="17"/>
                </a:lnTo>
                <a:lnTo>
                  <a:pt x="247" y="9"/>
                </a:lnTo>
                <a:lnTo>
                  <a:pt x="251" y="5"/>
                </a:lnTo>
                <a:lnTo>
                  <a:pt x="253" y="1"/>
                </a:lnTo>
                <a:lnTo>
                  <a:pt x="257" y="1"/>
                </a:lnTo>
                <a:lnTo>
                  <a:pt x="263" y="0"/>
                </a:lnTo>
                <a:lnTo>
                  <a:pt x="268" y="0"/>
                </a:lnTo>
                <a:lnTo>
                  <a:pt x="276" y="0"/>
                </a:lnTo>
                <a:lnTo>
                  <a:pt x="284" y="1"/>
                </a:lnTo>
                <a:lnTo>
                  <a:pt x="293" y="1"/>
                </a:lnTo>
                <a:lnTo>
                  <a:pt x="305" y="3"/>
                </a:lnTo>
                <a:lnTo>
                  <a:pt x="316" y="7"/>
                </a:lnTo>
                <a:lnTo>
                  <a:pt x="328" y="9"/>
                </a:lnTo>
                <a:lnTo>
                  <a:pt x="343" y="13"/>
                </a:lnTo>
                <a:lnTo>
                  <a:pt x="357" y="17"/>
                </a:lnTo>
                <a:lnTo>
                  <a:pt x="374" y="23"/>
                </a:lnTo>
                <a:lnTo>
                  <a:pt x="391" y="28"/>
                </a:lnTo>
                <a:lnTo>
                  <a:pt x="409" y="34"/>
                </a:lnTo>
                <a:lnTo>
                  <a:pt x="430" y="42"/>
                </a:lnTo>
                <a:lnTo>
                  <a:pt x="428" y="82"/>
                </a:lnTo>
                <a:lnTo>
                  <a:pt x="426" y="122"/>
                </a:lnTo>
                <a:lnTo>
                  <a:pt x="424" y="165"/>
                </a:lnTo>
                <a:lnTo>
                  <a:pt x="422" y="207"/>
                </a:lnTo>
                <a:lnTo>
                  <a:pt x="418" y="249"/>
                </a:lnTo>
                <a:lnTo>
                  <a:pt x="414" y="291"/>
                </a:lnTo>
                <a:lnTo>
                  <a:pt x="409" y="335"/>
                </a:lnTo>
                <a:lnTo>
                  <a:pt x="405" y="379"/>
                </a:lnTo>
                <a:lnTo>
                  <a:pt x="403" y="403"/>
                </a:lnTo>
                <a:lnTo>
                  <a:pt x="399" y="426"/>
                </a:lnTo>
                <a:lnTo>
                  <a:pt x="395" y="447"/>
                </a:lnTo>
                <a:lnTo>
                  <a:pt x="391" y="468"/>
                </a:lnTo>
                <a:lnTo>
                  <a:pt x="387" y="491"/>
                </a:lnTo>
                <a:lnTo>
                  <a:pt x="382" y="512"/>
                </a:lnTo>
                <a:lnTo>
                  <a:pt x="376" y="531"/>
                </a:lnTo>
                <a:lnTo>
                  <a:pt x="368" y="552"/>
                </a:lnTo>
                <a:lnTo>
                  <a:pt x="362" y="573"/>
                </a:lnTo>
                <a:lnTo>
                  <a:pt x="355" y="593"/>
                </a:lnTo>
                <a:lnTo>
                  <a:pt x="347" y="614"/>
                </a:lnTo>
                <a:lnTo>
                  <a:pt x="337" y="633"/>
                </a:lnTo>
                <a:lnTo>
                  <a:pt x="328" y="652"/>
                </a:lnTo>
                <a:lnTo>
                  <a:pt x="318" y="671"/>
                </a:lnTo>
                <a:lnTo>
                  <a:pt x="309" y="688"/>
                </a:lnTo>
                <a:lnTo>
                  <a:pt x="299" y="708"/>
                </a:lnTo>
                <a:lnTo>
                  <a:pt x="288" y="727"/>
                </a:lnTo>
                <a:lnTo>
                  <a:pt x="276" y="746"/>
                </a:lnTo>
                <a:lnTo>
                  <a:pt x="265" y="765"/>
                </a:lnTo>
                <a:lnTo>
                  <a:pt x="253" y="782"/>
                </a:lnTo>
                <a:lnTo>
                  <a:pt x="241" y="800"/>
                </a:lnTo>
                <a:lnTo>
                  <a:pt x="232" y="815"/>
                </a:lnTo>
                <a:lnTo>
                  <a:pt x="220" y="830"/>
                </a:lnTo>
                <a:lnTo>
                  <a:pt x="207" y="846"/>
                </a:lnTo>
                <a:lnTo>
                  <a:pt x="195" y="859"/>
                </a:lnTo>
                <a:lnTo>
                  <a:pt x="184" y="873"/>
                </a:lnTo>
                <a:lnTo>
                  <a:pt x="172" y="884"/>
                </a:lnTo>
                <a:lnTo>
                  <a:pt x="159" y="898"/>
                </a:lnTo>
                <a:lnTo>
                  <a:pt x="147" y="907"/>
                </a:lnTo>
                <a:lnTo>
                  <a:pt x="134" y="919"/>
                </a:lnTo>
                <a:lnTo>
                  <a:pt x="121" y="928"/>
                </a:lnTo>
                <a:lnTo>
                  <a:pt x="109" y="93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6"/>
          <p:cNvSpPr/>
          <p:nvPr/>
        </p:nvSpPr>
        <p:spPr>
          <a:xfrm>
            <a:off x="6443640" y="3878280"/>
            <a:ext cx="895320" cy="965160"/>
          </a:xfrm>
          <a:custGeom>
            <a:avLst/>
            <a:gdLst/>
            <a:ahLst/>
            <a:rect l="l" t="t" r="r" b="b"/>
            <a:pathLst>
              <a:path w="1129" h="1217">
                <a:moveTo>
                  <a:pt x="2" y="1213"/>
                </a:moveTo>
                <a:lnTo>
                  <a:pt x="0" y="1211"/>
                </a:lnTo>
                <a:lnTo>
                  <a:pt x="0" y="1210"/>
                </a:lnTo>
                <a:lnTo>
                  <a:pt x="0" y="1208"/>
                </a:lnTo>
                <a:lnTo>
                  <a:pt x="0" y="1206"/>
                </a:lnTo>
                <a:lnTo>
                  <a:pt x="4" y="1202"/>
                </a:lnTo>
                <a:lnTo>
                  <a:pt x="8" y="1196"/>
                </a:lnTo>
                <a:lnTo>
                  <a:pt x="13" y="1190"/>
                </a:lnTo>
                <a:lnTo>
                  <a:pt x="23" y="1185"/>
                </a:lnTo>
                <a:lnTo>
                  <a:pt x="33" y="1177"/>
                </a:lnTo>
                <a:lnTo>
                  <a:pt x="44" y="1169"/>
                </a:lnTo>
                <a:lnTo>
                  <a:pt x="58" y="1160"/>
                </a:lnTo>
                <a:lnTo>
                  <a:pt x="73" y="1150"/>
                </a:lnTo>
                <a:lnTo>
                  <a:pt x="90" y="1140"/>
                </a:lnTo>
                <a:lnTo>
                  <a:pt x="109" y="1129"/>
                </a:lnTo>
                <a:lnTo>
                  <a:pt x="131" y="1117"/>
                </a:lnTo>
                <a:lnTo>
                  <a:pt x="154" y="1106"/>
                </a:lnTo>
                <a:lnTo>
                  <a:pt x="177" y="1092"/>
                </a:lnTo>
                <a:lnTo>
                  <a:pt x="203" y="1079"/>
                </a:lnTo>
                <a:lnTo>
                  <a:pt x="227" y="1067"/>
                </a:lnTo>
                <a:lnTo>
                  <a:pt x="251" y="1054"/>
                </a:lnTo>
                <a:lnTo>
                  <a:pt x="275" y="1043"/>
                </a:lnTo>
                <a:lnTo>
                  <a:pt x="298" y="1029"/>
                </a:lnTo>
                <a:lnTo>
                  <a:pt x="323" y="1016"/>
                </a:lnTo>
                <a:lnTo>
                  <a:pt x="346" y="1000"/>
                </a:lnTo>
                <a:lnTo>
                  <a:pt x="367" y="985"/>
                </a:lnTo>
                <a:lnTo>
                  <a:pt x="390" y="970"/>
                </a:lnTo>
                <a:lnTo>
                  <a:pt x="413" y="954"/>
                </a:lnTo>
                <a:lnTo>
                  <a:pt x="434" y="937"/>
                </a:lnTo>
                <a:lnTo>
                  <a:pt x="455" y="920"/>
                </a:lnTo>
                <a:lnTo>
                  <a:pt x="476" y="902"/>
                </a:lnTo>
                <a:lnTo>
                  <a:pt x="497" y="883"/>
                </a:lnTo>
                <a:lnTo>
                  <a:pt x="518" y="864"/>
                </a:lnTo>
                <a:lnTo>
                  <a:pt x="539" y="845"/>
                </a:lnTo>
                <a:lnTo>
                  <a:pt x="559" y="826"/>
                </a:lnTo>
                <a:lnTo>
                  <a:pt x="578" y="805"/>
                </a:lnTo>
                <a:lnTo>
                  <a:pt x="597" y="783"/>
                </a:lnTo>
                <a:lnTo>
                  <a:pt x="614" y="762"/>
                </a:lnTo>
                <a:lnTo>
                  <a:pt x="632" y="739"/>
                </a:lnTo>
                <a:lnTo>
                  <a:pt x="649" y="718"/>
                </a:lnTo>
                <a:lnTo>
                  <a:pt x="664" y="695"/>
                </a:lnTo>
                <a:lnTo>
                  <a:pt x="680" y="672"/>
                </a:lnTo>
                <a:lnTo>
                  <a:pt x="695" y="649"/>
                </a:lnTo>
                <a:lnTo>
                  <a:pt x="708" y="624"/>
                </a:lnTo>
                <a:lnTo>
                  <a:pt x="724" y="599"/>
                </a:lnTo>
                <a:lnTo>
                  <a:pt x="735" y="574"/>
                </a:lnTo>
                <a:lnTo>
                  <a:pt x="749" y="549"/>
                </a:lnTo>
                <a:lnTo>
                  <a:pt x="762" y="522"/>
                </a:lnTo>
                <a:lnTo>
                  <a:pt x="774" y="494"/>
                </a:lnTo>
                <a:lnTo>
                  <a:pt x="785" y="467"/>
                </a:lnTo>
                <a:lnTo>
                  <a:pt x="797" y="438"/>
                </a:lnTo>
                <a:lnTo>
                  <a:pt x="804" y="411"/>
                </a:lnTo>
                <a:lnTo>
                  <a:pt x="812" y="386"/>
                </a:lnTo>
                <a:lnTo>
                  <a:pt x="818" y="361"/>
                </a:lnTo>
                <a:lnTo>
                  <a:pt x="824" y="340"/>
                </a:lnTo>
                <a:lnTo>
                  <a:pt x="829" y="319"/>
                </a:lnTo>
                <a:lnTo>
                  <a:pt x="835" y="300"/>
                </a:lnTo>
                <a:lnTo>
                  <a:pt x="839" y="283"/>
                </a:lnTo>
                <a:lnTo>
                  <a:pt x="841" y="265"/>
                </a:lnTo>
                <a:lnTo>
                  <a:pt x="845" y="252"/>
                </a:lnTo>
                <a:lnTo>
                  <a:pt x="845" y="238"/>
                </a:lnTo>
                <a:lnTo>
                  <a:pt x="847" y="227"/>
                </a:lnTo>
                <a:lnTo>
                  <a:pt x="847" y="217"/>
                </a:lnTo>
                <a:lnTo>
                  <a:pt x="847" y="210"/>
                </a:lnTo>
                <a:lnTo>
                  <a:pt x="847" y="202"/>
                </a:lnTo>
                <a:lnTo>
                  <a:pt x="845" y="198"/>
                </a:lnTo>
                <a:lnTo>
                  <a:pt x="843" y="194"/>
                </a:lnTo>
                <a:lnTo>
                  <a:pt x="835" y="190"/>
                </a:lnTo>
                <a:lnTo>
                  <a:pt x="826" y="187"/>
                </a:lnTo>
                <a:lnTo>
                  <a:pt x="818" y="185"/>
                </a:lnTo>
                <a:lnTo>
                  <a:pt x="810" y="183"/>
                </a:lnTo>
                <a:lnTo>
                  <a:pt x="802" y="183"/>
                </a:lnTo>
                <a:lnTo>
                  <a:pt x="795" y="183"/>
                </a:lnTo>
                <a:lnTo>
                  <a:pt x="789" y="183"/>
                </a:lnTo>
                <a:lnTo>
                  <a:pt x="785" y="183"/>
                </a:lnTo>
                <a:lnTo>
                  <a:pt x="779" y="183"/>
                </a:lnTo>
                <a:lnTo>
                  <a:pt x="774" y="183"/>
                </a:lnTo>
                <a:lnTo>
                  <a:pt x="766" y="183"/>
                </a:lnTo>
                <a:lnTo>
                  <a:pt x="760" y="185"/>
                </a:lnTo>
                <a:lnTo>
                  <a:pt x="751" y="185"/>
                </a:lnTo>
                <a:lnTo>
                  <a:pt x="741" y="187"/>
                </a:lnTo>
                <a:lnTo>
                  <a:pt x="731" y="189"/>
                </a:lnTo>
                <a:lnTo>
                  <a:pt x="720" y="190"/>
                </a:lnTo>
                <a:lnTo>
                  <a:pt x="708" y="192"/>
                </a:lnTo>
                <a:lnTo>
                  <a:pt x="695" y="196"/>
                </a:lnTo>
                <a:lnTo>
                  <a:pt x="682" y="198"/>
                </a:lnTo>
                <a:lnTo>
                  <a:pt x="666" y="202"/>
                </a:lnTo>
                <a:lnTo>
                  <a:pt x="649" y="206"/>
                </a:lnTo>
                <a:lnTo>
                  <a:pt x="632" y="210"/>
                </a:lnTo>
                <a:lnTo>
                  <a:pt x="614" y="213"/>
                </a:lnTo>
                <a:lnTo>
                  <a:pt x="595" y="219"/>
                </a:lnTo>
                <a:lnTo>
                  <a:pt x="574" y="225"/>
                </a:lnTo>
                <a:lnTo>
                  <a:pt x="557" y="231"/>
                </a:lnTo>
                <a:lnTo>
                  <a:pt x="539" y="237"/>
                </a:lnTo>
                <a:lnTo>
                  <a:pt x="522" y="242"/>
                </a:lnTo>
                <a:lnTo>
                  <a:pt x="509" y="246"/>
                </a:lnTo>
                <a:lnTo>
                  <a:pt x="493" y="250"/>
                </a:lnTo>
                <a:lnTo>
                  <a:pt x="482" y="252"/>
                </a:lnTo>
                <a:lnTo>
                  <a:pt x="470" y="256"/>
                </a:lnTo>
                <a:lnTo>
                  <a:pt x="459" y="258"/>
                </a:lnTo>
                <a:lnTo>
                  <a:pt x="449" y="260"/>
                </a:lnTo>
                <a:lnTo>
                  <a:pt x="442" y="260"/>
                </a:lnTo>
                <a:lnTo>
                  <a:pt x="434" y="260"/>
                </a:lnTo>
                <a:lnTo>
                  <a:pt x="428" y="260"/>
                </a:lnTo>
                <a:lnTo>
                  <a:pt x="422" y="258"/>
                </a:lnTo>
                <a:lnTo>
                  <a:pt x="419" y="258"/>
                </a:lnTo>
                <a:lnTo>
                  <a:pt x="417" y="256"/>
                </a:lnTo>
                <a:lnTo>
                  <a:pt x="407" y="254"/>
                </a:lnTo>
                <a:lnTo>
                  <a:pt x="399" y="252"/>
                </a:lnTo>
                <a:lnTo>
                  <a:pt x="390" y="250"/>
                </a:lnTo>
                <a:lnTo>
                  <a:pt x="380" y="246"/>
                </a:lnTo>
                <a:lnTo>
                  <a:pt x="372" y="240"/>
                </a:lnTo>
                <a:lnTo>
                  <a:pt x="363" y="235"/>
                </a:lnTo>
                <a:lnTo>
                  <a:pt x="353" y="227"/>
                </a:lnTo>
                <a:lnTo>
                  <a:pt x="346" y="219"/>
                </a:lnTo>
                <a:lnTo>
                  <a:pt x="342" y="213"/>
                </a:lnTo>
                <a:lnTo>
                  <a:pt x="338" y="210"/>
                </a:lnTo>
                <a:lnTo>
                  <a:pt x="336" y="206"/>
                </a:lnTo>
                <a:lnTo>
                  <a:pt x="336" y="200"/>
                </a:lnTo>
                <a:lnTo>
                  <a:pt x="336" y="196"/>
                </a:lnTo>
                <a:lnTo>
                  <a:pt x="338" y="192"/>
                </a:lnTo>
                <a:lnTo>
                  <a:pt x="340" y="189"/>
                </a:lnTo>
                <a:lnTo>
                  <a:pt x="344" y="185"/>
                </a:lnTo>
                <a:lnTo>
                  <a:pt x="347" y="179"/>
                </a:lnTo>
                <a:lnTo>
                  <a:pt x="353" y="177"/>
                </a:lnTo>
                <a:lnTo>
                  <a:pt x="359" y="173"/>
                </a:lnTo>
                <a:lnTo>
                  <a:pt x="367" y="169"/>
                </a:lnTo>
                <a:lnTo>
                  <a:pt x="374" y="166"/>
                </a:lnTo>
                <a:lnTo>
                  <a:pt x="384" y="164"/>
                </a:lnTo>
                <a:lnTo>
                  <a:pt x="394" y="160"/>
                </a:lnTo>
                <a:lnTo>
                  <a:pt x="405" y="158"/>
                </a:lnTo>
                <a:lnTo>
                  <a:pt x="417" y="156"/>
                </a:lnTo>
                <a:lnTo>
                  <a:pt x="428" y="154"/>
                </a:lnTo>
                <a:lnTo>
                  <a:pt x="442" y="150"/>
                </a:lnTo>
                <a:lnTo>
                  <a:pt x="455" y="148"/>
                </a:lnTo>
                <a:lnTo>
                  <a:pt x="470" y="146"/>
                </a:lnTo>
                <a:lnTo>
                  <a:pt x="486" y="142"/>
                </a:lnTo>
                <a:lnTo>
                  <a:pt x="501" y="141"/>
                </a:lnTo>
                <a:lnTo>
                  <a:pt x="516" y="137"/>
                </a:lnTo>
                <a:lnTo>
                  <a:pt x="534" y="133"/>
                </a:lnTo>
                <a:lnTo>
                  <a:pt x="551" y="129"/>
                </a:lnTo>
                <a:lnTo>
                  <a:pt x="570" y="125"/>
                </a:lnTo>
                <a:lnTo>
                  <a:pt x="587" y="121"/>
                </a:lnTo>
                <a:lnTo>
                  <a:pt x="607" y="116"/>
                </a:lnTo>
                <a:lnTo>
                  <a:pt x="626" y="110"/>
                </a:lnTo>
                <a:lnTo>
                  <a:pt x="645" y="104"/>
                </a:lnTo>
                <a:lnTo>
                  <a:pt x="666" y="98"/>
                </a:lnTo>
                <a:lnTo>
                  <a:pt x="685" y="91"/>
                </a:lnTo>
                <a:lnTo>
                  <a:pt x="703" y="85"/>
                </a:lnTo>
                <a:lnTo>
                  <a:pt x="720" y="77"/>
                </a:lnTo>
                <a:lnTo>
                  <a:pt x="737" y="71"/>
                </a:lnTo>
                <a:lnTo>
                  <a:pt x="751" y="66"/>
                </a:lnTo>
                <a:lnTo>
                  <a:pt x="766" y="62"/>
                </a:lnTo>
                <a:lnTo>
                  <a:pt x="778" y="56"/>
                </a:lnTo>
                <a:lnTo>
                  <a:pt x="789" y="52"/>
                </a:lnTo>
                <a:lnTo>
                  <a:pt x="801" y="47"/>
                </a:lnTo>
                <a:lnTo>
                  <a:pt x="810" y="43"/>
                </a:lnTo>
                <a:lnTo>
                  <a:pt x="818" y="39"/>
                </a:lnTo>
                <a:lnTo>
                  <a:pt x="826" y="35"/>
                </a:lnTo>
                <a:lnTo>
                  <a:pt x="831" y="33"/>
                </a:lnTo>
                <a:lnTo>
                  <a:pt x="837" y="29"/>
                </a:lnTo>
                <a:lnTo>
                  <a:pt x="841" y="27"/>
                </a:lnTo>
                <a:lnTo>
                  <a:pt x="843" y="25"/>
                </a:lnTo>
                <a:lnTo>
                  <a:pt x="847" y="20"/>
                </a:lnTo>
                <a:lnTo>
                  <a:pt x="852" y="16"/>
                </a:lnTo>
                <a:lnTo>
                  <a:pt x="858" y="12"/>
                </a:lnTo>
                <a:lnTo>
                  <a:pt x="864" y="8"/>
                </a:lnTo>
                <a:lnTo>
                  <a:pt x="872" y="4"/>
                </a:lnTo>
                <a:lnTo>
                  <a:pt x="879" y="2"/>
                </a:lnTo>
                <a:lnTo>
                  <a:pt x="885" y="2"/>
                </a:lnTo>
                <a:lnTo>
                  <a:pt x="891" y="0"/>
                </a:lnTo>
                <a:lnTo>
                  <a:pt x="897" y="0"/>
                </a:lnTo>
                <a:lnTo>
                  <a:pt x="902" y="0"/>
                </a:lnTo>
                <a:lnTo>
                  <a:pt x="910" y="0"/>
                </a:lnTo>
                <a:lnTo>
                  <a:pt x="916" y="2"/>
                </a:lnTo>
                <a:lnTo>
                  <a:pt x="923" y="2"/>
                </a:lnTo>
                <a:lnTo>
                  <a:pt x="931" y="4"/>
                </a:lnTo>
                <a:lnTo>
                  <a:pt x="939" y="6"/>
                </a:lnTo>
                <a:lnTo>
                  <a:pt x="948" y="10"/>
                </a:lnTo>
                <a:lnTo>
                  <a:pt x="966" y="18"/>
                </a:lnTo>
                <a:lnTo>
                  <a:pt x="983" y="25"/>
                </a:lnTo>
                <a:lnTo>
                  <a:pt x="1002" y="37"/>
                </a:lnTo>
                <a:lnTo>
                  <a:pt x="1023" y="48"/>
                </a:lnTo>
                <a:lnTo>
                  <a:pt x="1044" y="62"/>
                </a:lnTo>
                <a:lnTo>
                  <a:pt x="1056" y="68"/>
                </a:lnTo>
                <a:lnTo>
                  <a:pt x="1065" y="75"/>
                </a:lnTo>
                <a:lnTo>
                  <a:pt x="1075" y="81"/>
                </a:lnTo>
                <a:lnTo>
                  <a:pt x="1083" y="89"/>
                </a:lnTo>
                <a:lnTo>
                  <a:pt x="1090" y="95"/>
                </a:lnTo>
                <a:lnTo>
                  <a:pt x="1096" y="100"/>
                </a:lnTo>
                <a:lnTo>
                  <a:pt x="1104" y="108"/>
                </a:lnTo>
                <a:lnTo>
                  <a:pt x="1108" y="114"/>
                </a:lnTo>
                <a:lnTo>
                  <a:pt x="1113" y="118"/>
                </a:lnTo>
                <a:lnTo>
                  <a:pt x="1117" y="123"/>
                </a:lnTo>
                <a:lnTo>
                  <a:pt x="1121" y="129"/>
                </a:lnTo>
                <a:lnTo>
                  <a:pt x="1123" y="133"/>
                </a:lnTo>
                <a:lnTo>
                  <a:pt x="1125" y="137"/>
                </a:lnTo>
                <a:lnTo>
                  <a:pt x="1127" y="141"/>
                </a:lnTo>
                <a:lnTo>
                  <a:pt x="1127" y="142"/>
                </a:lnTo>
                <a:lnTo>
                  <a:pt x="1129" y="146"/>
                </a:lnTo>
                <a:lnTo>
                  <a:pt x="1127" y="150"/>
                </a:lnTo>
                <a:lnTo>
                  <a:pt x="1125" y="156"/>
                </a:lnTo>
                <a:lnTo>
                  <a:pt x="1123" y="164"/>
                </a:lnTo>
                <a:lnTo>
                  <a:pt x="1119" y="169"/>
                </a:lnTo>
                <a:lnTo>
                  <a:pt x="1113" y="177"/>
                </a:lnTo>
                <a:lnTo>
                  <a:pt x="1108" y="183"/>
                </a:lnTo>
                <a:lnTo>
                  <a:pt x="1100" y="189"/>
                </a:lnTo>
                <a:lnTo>
                  <a:pt x="1092" y="194"/>
                </a:lnTo>
                <a:lnTo>
                  <a:pt x="1089" y="196"/>
                </a:lnTo>
                <a:lnTo>
                  <a:pt x="1085" y="198"/>
                </a:lnTo>
                <a:lnTo>
                  <a:pt x="1083" y="200"/>
                </a:lnTo>
                <a:lnTo>
                  <a:pt x="1079" y="204"/>
                </a:lnTo>
                <a:lnTo>
                  <a:pt x="1075" y="206"/>
                </a:lnTo>
                <a:lnTo>
                  <a:pt x="1071" y="210"/>
                </a:lnTo>
                <a:lnTo>
                  <a:pt x="1067" y="215"/>
                </a:lnTo>
                <a:lnTo>
                  <a:pt x="1064" y="219"/>
                </a:lnTo>
                <a:lnTo>
                  <a:pt x="1060" y="225"/>
                </a:lnTo>
                <a:lnTo>
                  <a:pt x="1056" y="231"/>
                </a:lnTo>
                <a:lnTo>
                  <a:pt x="1052" y="237"/>
                </a:lnTo>
                <a:lnTo>
                  <a:pt x="1046" y="244"/>
                </a:lnTo>
                <a:lnTo>
                  <a:pt x="1042" y="252"/>
                </a:lnTo>
                <a:lnTo>
                  <a:pt x="1039" y="260"/>
                </a:lnTo>
                <a:lnTo>
                  <a:pt x="1035" y="267"/>
                </a:lnTo>
                <a:lnTo>
                  <a:pt x="1029" y="277"/>
                </a:lnTo>
                <a:lnTo>
                  <a:pt x="1025" y="285"/>
                </a:lnTo>
                <a:lnTo>
                  <a:pt x="1021" y="296"/>
                </a:lnTo>
                <a:lnTo>
                  <a:pt x="1016" y="306"/>
                </a:lnTo>
                <a:lnTo>
                  <a:pt x="1012" y="317"/>
                </a:lnTo>
                <a:lnTo>
                  <a:pt x="1006" y="327"/>
                </a:lnTo>
                <a:lnTo>
                  <a:pt x="1002" y="340"/>
                </a:lnTo>
                <a:lnTo>
                  <a:pt x="996" y="352"/>
                </a:lnTo>
                <a:lnTo>
                  <a:pt x="993" y="365"/>
                </a:lnTo>
                <a:lnTo>
                  <a:pt x="987" y="379"/>
                </a:lnTo>
                <a:lnTo>
                  <a:pt x="981" y="392"/>
                </a:lnTo>
                <a:lnTo>
                  <a:pt x="977" y="405"/>
                </a:lnTo>
                <a:lnTo>
                  <a:pt x="971" y="421"/>
                </a:lnTo>
                <a:lnTo>
                  <a:pt x="966" y="436"/>
                </a:lnTo>
                <a:lnTo>
                  <a:pt x="962" y="451"/>
                </a:lnTo>
                <a:lnTo>
                  <a:pt x="956" y="469"/>
                </a:lnTo>
                <a:lnTo>
                  <a:pt x="950" y="486"/>
                </a:lnTo>
                <a:lnTo>
                  <a:pt x="937" y="519"/>
                </a:lnTo>
                <a:lnTo>
                  <a:pt x="923" y="551"/>
                </a:lnTo>
                <a:lnTo>
                  <a:pt x="908" y="582"/>
                </a:lnTo>
                <a:lnTo>
                  <a:pt x="893" y="613"/>
                </a:lnTo>
                <a:lnTo>
                  <a:pt x="877" y="641"/>
                </a:lnTo>
                <a:lnTo>
                  <a:pt x="860" y="670"/>
                </a:lnTo>
                <a:lnTo>
                  <a:pt x="843" y="697"/>
                </a:lnTo>
                <a:lnTo>
                  <a:pt x="826" y="724"/>
                </a:lnTo>
                <a:lnTo>
                  <a:pt x="808" y="749"/>
                </a:lnTo>
                <a:lnTo>
                  <a:pt x="789" y="774"/>
                </a:lnTo>
                <a:lnTo>
                  <a:pt x="770" y="799"/>
                </a:lnTo>
                <a:lnTo>
                  <a:pt x="751" y="822"/>
                </a:lnTo>
                <a:lnTo>
                  <a:pt x="730" y="845"/>
                </a:lnTo>
                <a:lnTo>
                  <a:pt x="708" y="866"/>
                </a:lnTo>
                <a:lnTo>
                  <a:pt x="687" y="889"/>
                </a:lnTo>
                <a:lnTo>
                  <a:pt x="666" y="910"/>
                </a:lnTo>
                <a:lnTo>
                  <a:pt x="641" y="929"/>
                </a:lnTo>
                <a:lnTo>
                  <a:pt x="616" y="949"/>
                </a:lnTo>
                <a:lnTo>
                  <a:pt x="591" y="968"/>
                </a:lnTo>
                <a:lnTo>
                  <a:pt x="568" y="985"/>
                </a:lnTo>
                <a:lnTo>
                  <a:pt x="543" y="1002"/>
                </a:lnTo>
                <a:lnTo>
                  <a:pt x="518" y="1020"/>
                </a:lnTo>
                <a:lnTo>
                  <a:pt x="491" y="1035"/>
                </a:lnTo>
                <a:lnTo>
                  <a:pt x="467" y="1050"/>
                </a:lnTo>
                <a:lnTo>
                  <a:pt x="442" y="1064"/>
                </a:lnTo>
                <a:lnTo>
                  <a:pt x="415" y="1077"/>
                </a:lnTo>
                <a:lnTo>
                  <a:pt x="388" y="1091"/>
                </a:lnTo>
                <a:lnTo>
                  <a:pt x="363" y="1104"/>
                </a:lnTo>
                <a:lnTo>
                  <a:pt x="307" y="1129"/>
                </a:lnTo>
                <a:lnTo>
                  <a:pt x="278" y="1140"/>
                </a:lnTo>
                <a:lnTo>
                  <a:pt x="251" y="1152"/>
                </a:lnTo>
                <a:lnTo>
                  <a:pt x="223" y="1163"/>
                </a:lnTo>
                <a:lnTo>
                  <a:pt x="196" y="1173"/>
                </a:lnTo>
                <a:lnTo>
                  <a:pt x="171" y="1183"/>
                </a:lnTo>
                <a:lnTo>
                  <a:pt x="148" y="1190"/>
                </a:lnTo>
                <a:lnTo>
                  <a:pt x="127" y="1196"/>
                </a:lnTo>
                <a:lnTo>
                  <a:pt x="108" y="1202"/>
                </a:lnTo>
                <a:lnTo>
                  <a:pt x="88" y="1206"/>
                </a:lnTo>
                <a:lnTo>
                  <a:pt x="73" y="1210"/>
                </a:lnTo>
                <a:lnTo>
                  <a:pt x="58" y="1213"/>
                </a:lnTo>
                <a:lnTo>
                  <a:pt x="44" y="1215"/>
                </a:lnTo>
                <a:lnTo>
                  <a:pt x="33" y="1217"/>
                </a:lnTo>
                <a:lnTo>
                  <a:pt x="23" y="1217"/>
                </a:lnTo>
                <a:lnTo>
                  <a:pt x="15" y="1217"/>
                </a:lnTo>
                <a:lnTo>
                  <a:pt x="10" y="1215"/>
                </a:lnTo>
                <a:lnTo>
                  <a:pt x="4" y="1215"/>
                </a:lnTo>
                <a:lnTo>
                  <a:pt x="2" y="121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507000" y="4113360"/>
            <a:ext cx="1378080" cy="814320"/>
          </a:xfrm>
          <a:custGeom>
            <a:avLst/>
            <a:gdLst/>
            <a:ahLst/>
            <a:rect l="l" t="t" r="r" b="b"/>
            <a:pathLst>
              <a:path w="1735" h="1027">
                <a:moveTo>
                  <a:pt x="1023" y="929"/>
                </a:moveTo>
                <a:lnTo>
                  <a:pt x="1015" y="923"/>
                </a:lnTo>
                <a:lnTo>
                  <a:pt x="1009" y="915"/>
                </a:lnTo>
                <a:lnTo>
                  <a:pt x="1000" y="910"/>
                </a:lnTo>
                <a:lnTo>
                  <a:pt x="992" y="902"/>
                </a:lnTo>
                <a:lnTo>
                  <a:pt x="983" y="892"/>
                </a:lnTo>
                <a:lnTo>
                  <a:pt x="973" y="885"/>
                </a:lnTo>
                <a:lnTo>
                  <a:pt x="963" y="875"/>
                </a:lnTo>
                <a:lnTo>
                  <a:pt x="952" y="866"/>
                </a:lnTo>
                <a:lnTo>
                  <a:pt x="940" y="854"/>
                </a:lnTo>
                <a:lnTo>
                  <a:pt x="929" y="844"/>
                </a:lnTo>
                <a:lnTo>
                  <a:pt x="915" y="833"/>
                </a:lnTo>
                <a:lnTo>
                  <a:pt x="902" y="819"/>
                </a:lnTo>
                <a:lnTo>
                  <a:pt x="888" y="808"/>
                </a:lnTo>
                <a:lnTo>
                  <a:pt x="875" y="795"/>
                </a:lnTo>
                <a:lnTo>
                  <a:pt x="860" y="781"/>
                </a:lnTo>
                <a:lnTo>
                  <a:pt x="844" y="766"/>
                </a:lnTo>
                <a:lnTo>
                  <a:pt x="829" y="750"/>
                </a:lnTo>
                <a:lnTo>
                  <a:pt x="812" y="735"/>
                </a:lnTo>
                <a:lnTo>
                  <a:pt x="794" y="720"/>
                </a:lnTo>
                <a:lnTo>
                  <a:pt x="777" y="702"/>
                </a:lnTo>
                <a:lnTo>
                  <a:pt x="760" y="685"/>
                </a:lnTo>
                <a:lnTo>
                  <a:pt x="741" y="668"/>
                </a:lnTo>
                <a:lnTo>
                  <a:pt x="721" y="649"/>
                </a:lnTo>
                <a:lnTo>
                  <a:pt x="702" y="629"/>
                </a:lnTo>
                <a:lnTo>
                  <a:pt x="681" y="610"/>
                </a:lnTo>
                <a:lnTo>
                  <a:pt x="660" y="589"/>
                </a:lnTo>
                <a:lnTo>
                  <a:pt x="639" y="568"/>
                </a:lnTo>
                <a:lnTo>
                  <a:pt x="618" y="547"/>
                </a:lnTo>
                <a:lnTo>
                  <a:pt x="595" y="526"/>
                </a:lnTo>
                <a:lnTo>
                  <a:pt x="572" y="503"/>
                </a:lnTo>
                <a:lnTo>
                  <a:pt x="549" y="480"/>
                </a:lnTo>
                <a:lnTo>
                  <a:pt x="526" y="457"/>
                </a:lnTo>
                <a:lnTo>
                  <a:pt x="501" y="434"/>
                </a:lnTo>
                <a:lnTo>
                  <a:pt x="476" y="411"/>
                </a:lnTo>
                <a:lnTo>
                  <a:pt x="453" y="390"/>
                </a:lnTo>
                <a:lnTo>
                  <a:pt x="430" y="370"/>
                </a:lnTo>
                <a:lnTo>
                  <a:pt x="407" y="351"/>
                </a:lnTo>
                <a:lnTo>
                  <a:pt x="386" y="332"/>
                </a:lnTo>
                <a:lnTo>
                  <a:pt x="364" y="313"/>
                </a:lnTo>
                <a:lnTo>
                  <a:pt x="343" y="296"/>
                </a:lnTo>
                <a:lnTo>
                  <a:pt x="324" y="278"/>
                </a:lnTo>
                <a:lnTo>
                  <a:pt x="305" y="263"/>
                </a:lnTo>
                <a:lnTo>
                  <a:pt x="288" y="248"/>
                </a:lnTo>
                <a:lnTo>
                  <a:pt x="270" y="234"/>
                </a:lnTo>
                <a:lnTo>
                  <a:pt x="253" y="219"/>
                </a:lnTo>
                <a:lnTo>
                  <a:pt x="236" y="205"/>
                </a:lnTo>
                <a:lnTo>
                  <a:pt x="220" y="194"/>
                </a:lnTo>
                <a:lnTo>
                  <a:pt x="205" y="182"/>
                </a:lnTo>
                <a:lnTo>
                  <a:pt x="192" y="171"/>
                </a:lnTo>
                <a:lnTo>
                  <a:pt x="178" y="161"/>
                </a:lnTo>
                <a:lnTo>
                  <a:pt x="165" y="152"/>
                </a:lnTo>
                <a:lnTo>
                  <a:pt x="153" y="142"/>
                </a:lnTo>
                <a:lnTo>
                  <a:pt x="142" y="134"/>
                </a:lnTo>
                <a:lnTo>
                  <a:pt x="132" y="127"/>
                </a:lnTo>
                <a:lnTo>
                  <a:pt x="121" y="121"/>
                </a:lnTo>
                <a:lnTo>
                  <a:pt x="111" y="115"/>
                </a:lnTo>
                <a:lnTo>
                  <a:pt x="103" y="109"/>
                </a:lnTo>
                <a:lnTo>
                  <a:pt x="96" y="106"/>
                </a:lnTo>
                <a:lnTo>
                  <a:pt x="88" y="102"/>
                </a:lnTo>
                <a:lnTo>
                  <a:pt x="82" y="98"/>
                </a:lnTo>
                <a:lnTo>
                  <a:pt x="76" y="96"/>
                </a:lnTo>
                <a:lnTo>
                  <a:pt x="71" y="94"/>
                </a:lnTo>
                <a:lnTo>
                  <a:pt x="65" y="92"/>
                </a:lnTo>
                <a:lnTo>
                  <a:pt x="63" y="92"/>
                </a:lnTo>
                <a:lnTo>
                  <a:pt x="53" y="94"/>
                </a:lnTo>
                <a:lnTo>
                  <a:pt x="46" y="96"/>
                </a:lnTo>
                <a:lnTo>
                  <a:pt x="38" y="96"/>
                </a:lnTo>
                <a:lnTo>
                  <a:pt x="30" y="98"/>
                </a:lnTo>
                <a:lnTo>
                  <a:pt x="25" y="98"/>
                </a:lnTo>
                <a:lnTo>
                  <a:pt x="19" y="96"/>
                </a:lnTo>
                <a:lnTo>
                  <a:pt x="15" y="96"/>
                </a:lnTo>
                <a:lnTo>
                  <a:pt x="11" y="94"/>
                </a:lnTo>
                <a:lnTo>
                  <a:pt x="7" y="92"/>
                </a:lnTo>
                <a:lnTo>
                  <a:pt x="3" y="90"/>
                </a:lnTo>
                <a:lnTo>
                  <a:pt x="2" y="86"/>
                </a:lnTo>
                <a:lnTo>
                  <a:pt x="0" y="84"/>
                </a:lnTo>
                <a:lnTo>
                  <a:pt x="0" y="81"/>
                </a:lnTo>
                <a:lnTo>
                  <a:pt x="0" y="77"/>
                </a:lnTo>
                <a:lnTo>
                  <a:pt x="2" y="73"/>
                </a:lnTo>
                <a:lnTo>
                  <a:pt x="3" y="69"/>
                </a:lnTo>
                <a:lnTo>
                  <a:pt x="3" y="60"/>
                </a:lnTo>
                <a:lnTo>
                  <a:pt x="5" y="50"/>
                </a:lnTo>
                <a:lnTo>
                  <a:pt x="7" y="42"/>
                </a:lnTo>
                <a:lnTo>
                  <a:pt x="11" y="33"/>
                </a:lnTo>
                <a:lnTo>
                  <a:pt x="17" y="25"/>
                </a:lnTo>
                <a:lnTo>
                  <a:pt x="23" y="19"/>
                </a:lnTo>
                <a:lnTo>
                  <a:pt x="30" y="13"/>
                </a:lnTo>
                <a:lnTo>
                  <a:pt x="40" y="8"/>
                </a:lnTo>
                <a:lnTo>
                  <a:pt x="44" y="6"/>
                </a:lnTo>
                <a:lnTo>
                  <a:pt x="50" y="4"/>
                </a:lnTo>
                <a:lnTo>
                  <a:pt x="55" y="2"/>
                </a:lnTo>
                <a:lnTo>
                  <a:pt x="61" y="2"/>
                </a:lnTo>
                <a:lnTo>
                  <a:pt x="67" y="0"/>
                </a:lnTo>
                <a:lnTo>
                  <a:pt x="75" y="0"/>
                </a:lnTo>
                <a:lnTo>
                  <a:pt x="82" y="0"/>
                </a:lnTo>
                <a:lnTo>
                  <a:pt x="90" y="2"/>
                </a:lnTo>
                <a:lnTo>
                  <a:pt x="99" y="2"/>
                </a:lnTo>
                <a:lnTo>
                  <a:pt x="109" y="6"/>
                </a:lnTo>
                <a:lnTo>
                  <a:pt x="117" y="8"/>
                </a:lnTo>
                <a:lnTo>
                  <a:pt x="128" y="12"/>
                </a:lnTo>
                <a:lnTo>
                  <a:pt x="138" y="15"/>
                </a:lnTo>
                <a:lnTo>
                  <a:pt x="147" y="19"/>
                </a:lnTo>
                <a:lnTo>
                  <a:pt x="159" y="25"/>
                </a:lnTo>
                <a:lnTo>
                  <a:pt x="170" y="33"/>
                </a:lnTo>
                <a:lnTo>
                  <a:pt x="182" y="40"/>
                </a:lnTo>
                <a:lnTo>
                  <a:pt x="195" y="48"/>
                </a:lnTo>
                <a:lnTo>
                  <a:pt x="211" y="60"/>
                </a:lnTo>
                <a:lnTo>
                  <a:pt x="228" y="71"/>
                </a:lnTo>
                <a:lnTo>
                  <a:pt x="245" y="84"/>
                </a:lnTo>
                <a:lnTo>
                  <a:pt x="266" y="100"/>
                </a:lnTo>
                <a:lnTo>
                  <a:pt x="290" y="117"/>
                </a:lnTo>
                <a:lnTo>
                  <a:pt x="314" y="134"/>
                </a:lnTo>
                <a:lnTo>
                  <a:pt x="339" y="155"/>
                </a:lnTo>
                <a:lnTo>
                  <a:pt x="368" y="177"/>
                </a:lnTo>
                <a:lnTo>
                  <a:pt x="397" y="200"/>
                </a:lnTo>
                <a:lnTo>
                  <a:pt x="428" y="226"/>
                </a:lnTo>
                <a:lnTo>
                  <a:pt x="445" y="240"/>
                </a:lnTo>
                <a:lnTo>
                  <a:pt x="462" y="253"/>
                </a:lnTo>
                <a:lnTo>
                  <a:pt x="480" y="267"/>
                </a:lnTo>
                <a:lnTo>
                  <a:pt x="497" y="282"/>
                </a:lnTo>
                <a:lnTo>
                  <a:pt x="516" y="297"/>
                </a:lnTo>
                <a:lnTo>
                  <a:pt x="533" y="315"/>
                </a:lnTo>
                <a:lnTo>
                  <a:pt x="553" y="330"/>
                </a:lnTo>
                <a:lnTo>
                  <a:pt x="574" y="347"/>
                </a:lnTo>
                <a:lnTo>
                  <a:pt x="612" y="382"/>
                </a:lnTo>
                <a:lnTo>
                  <a:pt x="654" y="415"/>
                </a:lnTo>
                <a:lnTo>
                  <a:pt x="697" y="447"/>
                </a:lnTo>
                <a:lnTo>
                  <a:pt x="739" y="478"/>
                </a:lnTo>
                <a:lnTo>
                  <a:pt x="783" y="507"/>
                </a:lnTo>
                <a:lnTo>
                  <a:pt x="827" y="537"/>
                </a:lnTo>
                <a:lnTo>
                  <a:pt x="873" y="564"/>
                </a:lnTo>
                <a:lnTo>
                  <a:pt x="919" y="593"/>
                </a:lnTo>
                <a:lnTo>
                  <a:pt x="965" y="620"/>
                </a:lnTo>
                <a:lnTo>
                  <a:pt x="1013" y="645"/>
                </a:lnTo>
                <a:lnTo>
                  <a:pt x="1063" y="670"/>
                </a:lnTo>
                <a:lnTo>
                  <a:pt x="1113" y="695"/>
                </a:lnTo>
                <a:lnTo>
                  <a:pt x="1163" y="718"/>
                </a:lnTo>
                <a:lnTo>
                  <a:pt x="1215" y="741"/>
                </a:lnTo>
                <a:lnTo>
                  <a:pt x="1267" y="762"/>
                </a:lnTo>
                <a:lnTo>
                  <a:pt x="1320" y="783"/>
                </a:lnTo>
                <a:lnTo>
                  <a:pt x="1345" y="793"/>
                </a:lnTo>
                <a:lnTo>
                  <a:pt x="1368" y="804"/>
                </a:lnTo>
                <a:lnTo>
                  <a:pt x="1393" y="814"/>
                </a:lnTo>
                <a:lnTo>
                  <a:pt x="1416" y="821"/>
                </a:lnTo>
                <a:lnTo>
                  <a:pt x="1438" y="831"/>
                </a:lnTo>
                <a:lnTo>
                  <a:pt x="1459" y="841"/>
                </a:lnTo>
                <a:lnTo>
                  <a:pt x="1480" y="848"/>
                </a:lnTo>
                <a:lnTo>
                  <a:pt x="1499" y="856"/>
                </a:lnTo>
                <a:lnTo>
                  <a:pt x="1518" y="866"/>
                </a:lnTo>
                <a:lnTo>
                  <a:pt x="1537" y="871"/>
                </a:lnTo>
                <a:lnTo>
                  <a:pt x="1555" y="879"/>
                </a:lnTo>
                <a:lnTo>
                  <a:pt x="1570" y="887"/>
                </a:lnTo>
                <a:lnTo>
                  <a:pt x="1587" y="892"/>
                </a:lnTo>
                <a:lnTo>
                  <a:pt x="1603" y="900"/>
                </a:lnTo>
                <a:lnTo>
                  <a:pt x="1616" y="906"/>
                </a:lnTo>
                <a:lnTo>
                  <a:pt x="1630" y="912"/>
                </a:lnTo>
                <a:lnTo>
                  <a:pt x="1643" y="917"/>
                </a:lnTo>
                <a:lnTo>
                  <a:pt x="1654" y="921"/>
                </a:lnTo>
                <a:lnTo>
                  <a:pt x="1666" y="927"/>
                </a:lnTo>
                <a:lnTo>
                  <a:pt x="1676" y="931"/>
                </a:lnTo>
                <a:lnTo>
                  <a:pt x="1685" y="937"/>
                </a:lnTo>
                <a:lnTo>
                  <a:pt x="1693" y="940"/>
                </a:lnTo>
                <a:lnTo>
                  <a:pt x="1701" y="944"/>
                </a:lnTo>
                <a:lnTo>
                  <a:pt x="1708" y="948"/>
                </a:lnTo>
                <a:lnTo>
                  <a:pt x="1714" y="950"/>
                </a:lnTo>
                <a:lnTo>
                  <a:pt x="1720" y="954"/>
                </a:lnTo>
                <a:lnTo>
                  <a:pt x="1726" y="956"/>
                </a:lnTo>
                <a:lnTo>
                  <a:pt x="1729" y="958"/>
                </a:lnTo>
                <a:lnTo>
                  <a:pt x="1731" y="961"/>
                </a:lnTo>
                <a:lnTo>
                  <a:pt x="1733" y="963"/>
                </a:lnTo>
                <a:lnTo>
                  <a:pt x="1735" y="963"/>
                </a:lnTo>
                <a:lnTo>
                  <a:pt x="1735" y="965"/>
                </a:lnTo>
                <a:lnTo>
                  <a:pt x="1731" y="967"/>
                </a:lnTo>
                <a:lnTo>
                  <a:pt x="1727" y="969"/>
                </a:lnTo>
                <a:lnTo>
                  <a:pt x="1722" y="973"/>
                </a:lnTo>
                <a:lnTo>
                  <a:pt x="1714" y="975"/>
                </a:lnTo>
                <a:lnTo>
                  <a:pt x="1706" y="977"/>
                </a:lnTo>
                <a:lnTo>
                  <a:pt x="1695" y="979"/>
                </a:lnTo>
                <a:lnTo>
                  <a:pt x="1683" y="981"/>
                </a:lnTo>
                <a:lnTo>
                  <a:pt x="1672" y="985"/>
                </a:lnTo>
                <a:lnTo>
                  <a:pt x="1656" y="986"/>
                </a:lnTo>
                <a:lnTo>
                  <a:pt x="1641" y="988"/>
                </a:lnTo>
                <a:lnTo>
                  <a:pt x="1622" y="990"/>
                </a:lnTo>
                <a:lnTo>
                  <a:pt x="1603" y="992"/>
                </a:lnTo>
                <a:lnTo>
                  <a:pt x="1582" y="994"/>
                </a:lnTo>
                <a:lnTo>
                  <a:pt x="1560" y="998"/>
                </a:lnTo>
                <a:lnTo>
                  <a:pt x="1535" y="1000"/>
                </a:lnTo>
                <a:lnTo>
                  <a:pt x="1511" y="1002"/>
                </a:lnTo>
                <a:lnTo>
                  <a:pt x="1482" y="1004"/>
                </a:lnTo>
                <a:lnTo>
                  <a:pt x="1455" y="1006"/>
                </a:lnTo>
                <a:lnTo>
                  <a:pt x="1430" y="1009"/>
                </a:lnTo>
                <a:lnTo>
                  <a:pt x="1405" y="1011"/>
                </a:lnTo>
                <a:lnTo>
                  <a:pt x="1382" y="1013"/>
                </a:lnTo>
                <a:lnTo>
                  <a:pt x="1361" y="1015"/>
                </a:lnTo>
                <a:lnTo>
                  <a:pt x="1340" y="1017"/>
                </a:lnTo>
                <a:lnTo>
                  <a:pt x="1320" y="1019"/>
                </a:lnTo>
                <a:lnTo>
                  <a:pt x="1303" y="1021"/>
                </a:lnTo>
                <a:lnTo>
                  <a:pt x="1288" y="1021"/>
                </a:lnTo>
                <a:lnTo>
                  <a:pt x="1272" y="1023"/>
                </a:lnTo>
                <a:lnTo>
                  <a:pt x="1257" y="1023"/>
                </a:lnTo>
                <a:lnTo>
                  <a:pt x="1246" y="1025"/>
                </a:lnTo>
                <a:lnTo>
                  <a:pt x="1234" y="1025"/>
                </a:lnTo>
                <a:lnTo>
                  <a:pt x="1223" y="1025"/>
                </a:lnTo>
                <a:lnTo>
                  <a:pt x="1213" y="1027"/>
                </a:lnTo>
                <a:lnTo>
                  <a:pt x="1201" y="1025"/>
                </a:lnTo>
                <a:lnTo>
                  <a:pt x="1190" y="1025"/>
                </a:lnTo>
                <a:lnTo>
                  <a:pt x="1180" y="1023"/>
                </a:lnTo>
                <a:lnTo>
                  <a:pt x="1169" y="1019"/>
                </a:lnTo>
                <a:lnTo>
                  <a:pt x="1157" y="1015"/>
                </a:lnTo>
                <a:lnTo>
                  <a:pt x="1146" y="1011"/>
                </a:lnTo>
                <a:lnTo>
                  <a:pt x="1134" y="1006"/>
                </a:lnTo>
                <a:lnTo>
                  <a:pt x="1123" y="1000"/>
                </a:lnTo>
                <a:lnTo>
                  <a:pt x="1111" y="994"/>
                </a:lnTo>
                <a:lnTo>
                  <a:pt x="1098" y="986"/>
                </a:lnTo>
                <a:lnTo>
                  <a:pt x="1086" y="979"/>
                </a:lnTo>
                <a:lnTo>
                  <a:pt x="1075" y="969"/>
                </a:lnTo>
                <a:lnTo>
                  <a:pt x="1061" y="961"/>
                </a:lnTo>
                <a:lnTo>
                  <a:pt x="1050" y="950"/>
                </a:lnTo>
                <a:lnTo>
                  <a:pt x="1036" y="940"/>
                </a:lnTo>
                <a:lnTo>
                  <a:pt x="1023" y="92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8"/>
          <p:cNvSpPr/>
          <p:nvPr/>
        </p:nvSpPr>
        <p:spPr>
          <a:xfrm>
            <a:off x="6811920" y="3070080"/>
            <a:ext cx="771480" cy="663840"/>
          </a:xfrm>
          <a:custGeom>
            <a:avLst/>
            <a:gdLst/>
            <a:ahLst/>
            <a:rect l="l" t="t" r="r" b="b"/>
            <a:pathLst>
              <a:path w="973" h="835">
                <a:moveTo>
                  <a:pt x="391" y="206"/>
                </a:moveTo>
                <a:lnTo>
                  <a:pt x="385" y="202"/>
                </a:lnTo>
                <a:lnTo>
                  <a:pt x="378" y="198"/>
                </a:lnTo>
                <a:lnTo>
                  <a:pt x="370" y="196"/>
                </a:lnTo>
                <a:lnTo>
                  <a:pt x="362" y="196"/>
                </a:lnTo>
                <a:lnTo>
                  <a:pt x="351" y="196"/>
                </a:lnTo>
                <a:lnTo>
                  <a:pt x="345" y="198"/>
                </a:lnTo>
                <a:lnTo>
                  <a:pt x="337" y="198"/>
                </a:lnTo>
                <a:lnTo>
                  <a:pt x="332" y="200"/>
                </a:lnTo>
                <a:lnTo>
                  <a:pt x="324" y="202"/>
                </a:lnTo>
                <a:lnTo>
                  <a:pt x="316" y="202"/>
                </a:lnTo>
                <a:lnTo>
                  <a:pt x="307" y="206"/>
                </a:lnTo>
                <a:lnTo>
                  <a:pt x="295" y="208"/>
                </a:lnTo>
                <a:lnTo>
                  <a:pt x="284" y="210"/>
                </a:lnTo>
                <a:lnTo>
                  <a:pt x="270" y="211"/>
                </a:lnTo>
                <a:lnTo>
                  <a:pt x="255" y="213"/>
                </a:lnTo>
                <a:lnTo>
                  <a:pt x="240" y="215"/>
                </a:lnTo>
                <a:lnTo>
                  <a:pt x="224" y="217"/>
                </a:lnTo>
                <a:lnTo>
                  <a:pt x="207" y="221"/>
                </a:lnTo>
                <a:lnTo>
                  <a:pt x="190" y="221"/>
                </a:lnTo>
                <a:lnTo>
                  <a:pt x="169" y="223"/>
                </a:lnTo>
                <a:lnTo>
                  <a:pt x="149" y="225"/>
                </a:lnTo>
                <a:lnTo>
                  <a:pt x="126" y="227"/>
                </a:lnTo>
                <a:lnTo>
                  <a:pt x="103" y="227"/>
                </a:lnTo>
                <a:lnTo>
                  <a:pt x="80" y="229"/>
                </a:lnTo>
                <a:lnTo>
                  <a:pt x="53" y="229"/>
                </a:lnTo>
                <a:lnTo>
                  <a:pt x="26" y="229"/>
                </a:lnTo>
                <a:lnTo>
                  <a:pt x="0" y="231"/>
                </a:lnTo>
                <a:lnTo>
                  <a:pt x="0" y="192"/>
                </a:lnTo>
                <a:lnTo>
                  <a:pt x="0" y="158"/>
                </a:lnTo>
                <a:lnTo>
                  <a:pt x="30" y="156"/>
                </a:lnTo>
                <a:lnTo>
                  <a:pt x="63" y="154"/>
                </a:lnTo>
                <a:lnTo>
                  <a:pt x="96" y="152"/>
                </a:lnTo>
                <a:lnTo>
                  <a:pt x="130" y="146"/>
                </a:lnTo>
                <a:lnTo>
                  <a:pt x="145" y="142"/>
                </a:lnTo>
                <a:lnTo>
                  <a:pt x="163" y="140"/>
                </a:lnTo>
                <a:lnTo>
                  <a:pt x="180" y="137"/>
                </a:lnTo>
                <a:lnTo>
                  <a:pt x="195" y="131"/>
                </a:lnTo>
                <a:lnTo>
                  <a:pt x="213" y="127"/>
                </a:lnTo>
                <a:lnTo>
                  <a:pt x="228" y="121"/>
                </a:lnTo>
                <a:lnTo>
                  <a:pt x="243" y="116"/>
                </a:lnTo>
                <a:lnTo>
                  <a:pt x="261" y="108"/>
                </a:lnTo>
                <a:lnTo>
                  <a:pt x="274" y="104"/>
                </a:lnTo>
                <a:lnTo>
                  <a:pt x="289" y="98"/>
                </a:lnTo>
                <a:lnTo>
                  <a:pt x="303" y="94"/>
                </a:lnTo>
                <a:lnTo>
                  <a:pt x="316" y="91"/>
                </a:lnTo>
                <a:lnTo>
                  <a:pt x="330" y="85"/>
                </a:lnTo>
                <a:lnTo>
                  <a:pt x="341" y="81"/>
                </a:lnTo>
                <a:lnTo>
                  <a:pt x="353" y="77"/>
                </a:lnTo>
                <a:lnTo>
                  <a:pt x="362" y="71"/>
                </a:lnTo>
                <a:lnTo>
                  <a:pt x="372" y="68"/>
                </a:lnTo>
                <a:lnTo>
                  <a:pt x="382" y="64"/>
                </a:lnTo>
                <a:lnTo>
                  <a:pt x="389" y="58"/>
                </a:lnTo>
                <a:lnTo>
                  <a:pt x="397" y="54"/>
                </a:lnTo>
                <a:lnTo>
                  <a:pt x="403" y="50"/>
                </a:lnTo>
                <a:lnTo>
                  <a:pt x="407" y="45"/>
                </a:lnTo>
                <a:lnTo>
                  <a:pt x="410" y="41"/>
                </a:lnTo>
                <a:lnTo>
                  <a:pt x="414" y="37"/>
                </a:lnTo>
                <a:lnTo>
                  <a:pt x="418" y="27"/>
                </a:lnTo>
                <a:lnTo>
                  <a:pt x="424" y="20"/>
                </a:lnTo>
                <a:lnTo>
                  <a:pt x="432" y="14"/>
                </a:lnTo>
                <a:lnTo>
                  <a:pt x="439" y="8"/>
                </a:lnTo>
                <a:lnTo>
                  <a:pt x="447" y="4"/>
                </a:lnTo>
                <a:lnTo>
                  <a:pt x="457" y="2"/>
                </a:lnTo>
                <a:lnTo>
                  <a:pt x="464" y="0"/>
                </a:lnTo>
                <a:lnTo>
                  <a:pt x="474" y="0"/>
                </a:lnTo>
                <a:lnTo>
                  <a:pt x="478" y="0"/>
                </a:lnTo>
                <a:lnTo>
                  <a:pt x="483" y="0"/>
                </a:lnTo>
                <a:lnTo>
                  <a:pt x="489" y="2"/>
                </a:lnTo>
                <a:lnTo>
                  <a:pt x="495" y="4"/>
                </a:lnTo>
                <a:lnTo>
                  <a:pt x="503" y="6"/>
                </a:lnTo>
                <a:lnTo>
                  <a:pt x="508" y="8"/>
                </a:lnTo>
                <a:lnTo>
                  <a:pt x="526" y="16"/>
                </a:lnTo>
                <a:lnTo>
                  <a:pt x="543" y="23"/>
                </a:lnTo>
                <a:lnTo>
                  <a:pt x="562" y="35"/>
                </a:lnTo>
                <a:lnTo>
                  <a:pt x="581" y="46"/>
                </a:lnTo>
                <a:lnTo>
                  <a:pt x="604" y="60"/>
                </a:lnTo>
                <a:lnTo>
                  <a:pt x="614" y="68"/>
                </a:lnTo>
                <a:lnTo>
                  <a:pt x="625" y="73"/>
                </a:lnTo>
                <a:lnTo>
                  <a:pt x="635" y="81"/>
                </a:lnTo>
                <a:lnTo>
                  <a:pt x="643" y="87"/>
                </a:lnTo>
                <a:lnTo>
                  <a:pt x="652" y="92"/>
                </a:lnTo>
                <a:lnTo>
                  <a:pt x="660" y="100"/>
                </a:lnTo>
                <a:lnTo>
                  <a:pt x="668" y="106"/>
                </a:lnTo>
                <a:lnTo>
                  <a:pt x="673" y="112"/>
                </a:lnTo>
                <a:lnTo>
                  <a:pt x="679" y="117"/>
                </a:lnTo>
                <a:lnTo>
                  <a:pt x="685" y="121"/>
                </a:lnTo>
                <a:lnTo>
                  <a:pt x="689" y="127"/>
                </a:lnTo>
                <a:lnTo>
                  <a:pt x="693" y="131"/>
                </a:lnTo>
                <a:lnTo>
                  <a:pt x="695" y="135"/>
                </a:lnTo>
                <a:lnTo>
                  <a:pt x="696" y="139"/>
                </a:lnTo>
                <a:lnTo>
                  <a:pt x="698" y="142"/>
                </a:lnTo>
                <a:lnTo>
                  <a:pt x="698" y="144"/>
                </a:lnTo>
                <a:lnTo>
                  <a:pt x="693" y="154"/>
                </a:lnTo>
                <a:lnTo>
                  <a:pt x="687" y="163"/>
                </a:lnTo>
                <a:lnTo>
                  <a:pt x="683" y="167"/>
                </a:lnTo>
                <a:lnTo>
                  <a:pt x="679" y="173"/>
                </a:lnTo>
                <a:lnTo>
                  <a:pt x="673" y="177"/>
                </a:lnTo>
                <a:lnTo>
                  <a:pt x="670" y="183"/>
                </a:lnTo>
                <a:lnTo>
                  <a:pt x="664" y="188"/>
                </a:lnTo>
                <a:lnTo>
                  <a:pt x="656" y="192"/>
                </a:lnTo>
                <a:lnTo>
                  <a:pt x="650" y="198"/>
                </a:lnTo>
                <a:lnTo>
                  <a:pt x="641" y="204"/>
                </a:lnTo>
                <a:lnTo>
                  <a:pt x="633" y="210"/>
                </a:lnTo>
                <a:lnTo>
                  <a:pt x="624" y="217"/>
                </a:lnTo>
                <a:lnTo>
                  <a:pt x="614" y="223"/>
                </a:lnTo>
                <a:lnTo>
                  <a:pt x="604" y="231"/>
                </a:lnTo>
                <a:lnTo>
                  <a:pt x="593" y="236"/>
                </a:lnTo>
                <a:lnTo>
                  <a:pt x="583" y="244"/>
                </a:lnTo>
                <a:lnTo>
                  <a:pt x="574" y="254"/>
                </a:lnTo>
                <a:lnTo>
                  <a:pt x="564" y="263"/>
                </a:lnTo>
                <a:lnTo>
                  <a:pt x="554" y="273"/>
                </a:lnTo>
                <a:lnTo>
                  <a:pt x="547" y="284"/>
                </a:lnTo>
                <a:lnTo>
                  <a:pt x="539" y="296"/>
                </a:lnTo>
                <a:lnTo>
                  <a:pt x="533" y="307"/>
                </a:lnTo>
                <a:lnTo>
                  <a:pt x="526" y="321"/>
                </a:lnTo>
                <a:lnTo>
                  <a:pt x="520" y="334"/>
                </a:lnTo>
                <a:lnTo>
                  <a:pt x="514" y="348"/>
                </a:lnTo>
                <a:lnTo>
                  <a:pt x="510" y="363"/>
                </a:lnTo>
                <a:lnTo>
                  <a:pt x="506" y="377"/>
                </a:lnTo>
                <a:lnTo>
                  <a:pt x="503" y="392"/>
                </a:lnTo>
                <a:lnTo>
                  <a:pt x="499" y="407"/>
                </a:lnTo>
                <a:lnTo>
                  <a:pt x="497" y="424"/>
                </a:lnTo>
                <a:lnTo>
                  <a:pt x="493" y="455"/>
                </a:lnTo>
                <a:lnTo>
                  <a:pt x="491" y="484"/>
                </a:lnTo>
                <a:lnTo>
                  <a:pt x="491" y="499"/>
                </a:lnTo>
                <a:lnTo>
                  <a:pt x="489" y="513"/>
                </a:lnTo>
                <a:lnTo>
                  <a:pt x="491" y="526"/>
                </a:lnTo>
                <a:lnTo>
                  <a:pt x="491" y="538"/>
                </a:lnTo>
                <a:lnTo>
                  <a:pt x="493" y="551"/>
                </a:lnTo>
                <a:lnTo>
                  <a:pt x="495" y="563"/>
                </a:lnTo>
                <a:lnTo>
                  <a:pt x="497" y="574"/>
                </a:lnTo>
                <a:lnTo>
                  <a:pt x="501" y="584"/>
                </a:lnTo>
                <a:lnTo>
                  <a:pt x="504" y="593"/>
                </a:lnTo>
                <a:lnTo>
                  <a:pt x="508" y="603"/>
                </a:lnTo>
                <a:lnTo>
                  <a:pt x="514" y="611"/>
                </a:lnTo>
                <a:lnTo>
                  <a:pt x="522" y="618"/>
                </a:lnTo>
                <a:lnTo>
                  <a:pt x="528" y="624"/>
                </a:lnTo>
                <a:lnTo>
                  <a:pt x="535" y="630"/>
                </a:lnTo>
                <a:lnTo>
                  <a:pt x="543" y="636"/>
                </a:lnTo>
                <a:lnTo>
                  <a:pt x="552" y="639"/>
                </a:lnTo>
                <a:lnTo>
                  <a:pt x="562" y="645"/>
                </a:lnTo>
                <a:lnTo>
                  <a:pt x="572" y="649"/>
                </a:lnTo>
                <a:lnTo>
                  <a:pt x="581" y="651"/>
                </a:lnTo>
                <a:lnTo>
                  <a:pt x="593" y="655"/>
                </a:lnTo>
                <a:lnTo>
                  <a:pt x="606" y="657"/>
                </a:lnTo>
                <a:lnTo>
                  <a:pt x="618" y="657"/>
                </a:lnTo>
                <a:lnTo>
                  <a:pt x="631" y="659"/>
                </a:lnTo>
                <a:lnTo>
                  <a:pt x="647" y="659"/>
                </a:lnTo>
                <a:lnTo>
                  <a:pt x="662" y="659"/>
                </a:lnTo>
                <a:lnTo>
                  <a:pt x="677" y="657"/>
                </a:lnTo>
                <a:lnTo>
                  <a:pt x="693" y="657"/>
                </a:lnTo>
                <a:lnTo>
                  <a:pt x="712" y="655"/>
                </a:lnTo>
                <a:lnTo>
                  <a:pt x="729" y="653"/>
                </a:lnTo>
                <a:lnTo>
                  <a:pt x="744" y="651"/>
                </a:lnTo>
                <a:lnTo>
                  <a:pt x="762" y="651"/>
                </a:lnTo>
                <a:lnTo>
                  <a:pt x="777" y="651"/>
                </a:lnTo>
                <a:lnTo>
                  <a:pt x="792" y="653"/>
                </a:lnTo>
                <a:lnTo>
                  <a:pt x="808" y="655"/>
                </a:lnTo>
                <a:lnTo>
                  <a:pt x="823" y="659"/>
                </a:lnTo>
                <a:lnTo>
                  <a:pt x="837" y="662"/>
                </a:lnTo>
                <a:lnTo>
                  <a:pt x="850" y="668"/>
                </a:lnTo>
                <a:lnTo>
                  <a:pt x="863" y="674"/>
                </a:lnTo>
                <a:lnTo>
                  <a:pt x="877" y="680"/>
                </a:lnTo>
                <a:lnTo>
                  <a:pt x="888" y="687"/>
                </a:lnTo>
                <a:lnTo>
                  <a:pt x="902" y="697"/>
                </a:lnTo>
                <a:lnTo>
                  <a:pt x="913" y="705"/>
                </a:lnTo>
                <a:lnTo>
                  <a:pt x="925" y="716"/>
                </a:lnTo>
                <a:lnTo>
                  <a:pt x="936" y="728"/>
                </a:lnTo>
                <a:lnTo>
                  <a:pt x="944" y="737"/>
                </a:lnTo>
                <a:lnTo>
                  <a:pt x="952" y="747"/>
                </a:lnTo>
                <a:lnTo>
                  <a:pt x="958" y="756"/>
                </a:lnTo>
                <a:lnTo>
                  <a:pt x="961" y="766"/>
                </a:lnTo>
                <a:lnTo>
                  <a:pt x="967" y="774"/>
                </a:lnTo>
                <a:lnTo>
                  <a:pt x="969" y="781"/>
                </a:lnTo>
                <a:lnTo>
                  <a:pt x="971" y="787"/>
                </a:lnTo>
                <a:lnTo>
                  <a:pt x="973" y="793"/>
                </a:lnTo>
                <a:lnTo>
                  <a:pt x="973" y="799"/>
                </a:lnTo>
                <a:lnTo>
                  <a:pt x="971" y="803"/>
                </a:lnTo>
                <a:lnTo>
                  <a:pt x="969" y="808"/>
                </a:lnTo>
                <a:lnTo>
                  <a:pt x="967" y="812"/>
                </a:lnTo>
                <a:lnTo>
                  <a:pt x="963" y="816"/>
                </a:lnTo>
                <a:lnTo>
                  <a:pt x="959" y="818"/>
                </a:lnTo>
                <a:lnTo>
                  <a:pt x="954" y="822"/>
                </a:lnTo>
                <a:lnTo>
                  <a:pt x="948" y="824"/>
                </a:lnTo>
                <a:lnTo>
                  <a:pt x="940" y="826"/>
                </a:lnTo>
                <a:lnTo>
                  <a:pt x="933" y="827"/>
                </a:lnTo>
                <a:lnTo>
                  <a:pt x="925" y="829"/>
                </a:lnTo>
                <a:lnTo>
                  <a:pt x="915" y="831"/>
                </a:lnTo>
                <a:lnTo>
                  <a:pt x="904" y="831"/>
                </a:lnTo>
                <a:lnTo>
                  <a:pt x="892" y="833"/>
                </a:lnTo>
                <a:lnTo>
                  <a:pt x="881" y="833"/>
                </a:lnTo>
                <a:lnTo>
                  <a:pt x="867" y="833"/>
                </a:lnTo>
                <a:lnTo>
                  <a:pt x="854" y="835"/>
                </a:lnTo>
                <a:lnTo>
                  <a:pt x="839" y="835"/>
                </a:lnTo>
                <a:lnTo>
                  <a:pt x="823" y="835"/>
                </a:lnTo>
                <a:lnTo>
                  <a:pt x="808" y="835"/>
                </a:lnTo>
                <a:lnTo>
                  <a:pt x="791" y="835"/>
                </a:lnTo>
                <a:lnTo>
                  <a:pt x="771" y="835"/>
                </a:lnTo>
                <a:lnTo>
                  <a:pt x="754" y="835"/>
                </a:lnTo>
                <a:lnTo>
                  <a:pt x="735" y="835"/>
                </a:lnTo>
                <a:lnTo>
                  <a:pt x="714" y="835"/>
                </a:lnTo>
                <a:lnTo>
                  <a:pt x="695" y="835"/>
                </a:lnTo>
                <a:lnTo>
                  <a:pt x="677" y="833"/>
                </a:lnTo>
                <a:lnTo>
                  <a:pt x="658" y="833"/>
                </a:lnTo>
                <a:lnTo>
                  <a:pt x="641" y="831"/>
                </a:lnTo>
                <a:lnTo>
                  <a:pt x="625" y="829"/>
                </a:lnTo>
                <a:lnTo>
                  <a:pt x="608" y="827"/>
                </a:lnTo>
                <a:lnTo>
                  <a:pt x="593" y="826"/>
                </a:lnTo>
                <a:lnTo>
                  <a:pt x="579" y="822"/>
                </a:lnTo>
                <a:lnTo>
                  <a:pt x="564" y="818"/>
                </a:lnTo>
                <a:lnTo>
                  <a:pt x="551" y="814"/>
                </a:lnTo>
                <a:lnTo>
                  <a:pt x="539" y="810"/>
                </a:lnTo>
                <a:lnTo>
                  <a:pt x="528" y="804"/>
                </a:lnTo>
                <a:lnTo>
                  <a:pt x="516" y="801"/>
                </a:lnTo>
                <a:lnTo>
                  <a:pt x="506" y="793"/>
                </a:lnTo>
                <a:lnTo>
                  <a:pt x="497" y="787"/>
                </a:lnTo>
                <a:lnTo>
                  <a:pt x="485" y="783"/>
                </a:lnTo>
                <a:lnTo>
                  <a:pt x="476" y="778"/>
                </a:lnTo>
                <a:lnTo>
                  <a:pt x="466" y="772"/>
                </a:lnTo>
                <a:lnTo>
                  <a:pt x="457" y="766"/>
                </a:lnTo>
                <a:lnTo>
                  <a:pt x="449" y="760"/>
                </a:lnTo>
                <a:lnTo>
                  <a:pt x="439" y="755"/>
                </a:lnTo>
                <a:lnTo>
                  <a:pt x="433" y="749"/>
                </a:lnTo>
                <a:lnTo>
                  <a:pt x="426" y="741"/>
                </a:lnTo>
                <a:lnTo>
                  <a:pt x="420" y="735"/>
                </a:lnTo>
                <a:lnTo>
                  <a:pt x="414" y="728"/>
                </a:lnTo>
                <a:lnTo>
                  <a:pt x="409" y="720"/>
                </a:lnTo>
                <a:lnTo>
                  <a:pt x="403" y="712"/>
                </a:lnTo>
                <a:lnTo>
                  <a:pt x="399" y="705"/>
                </a:lnTo>
                <a:lnTo>
                  <a:pt x="395" y="695"/>
                </a:lnTo>
                <a:lnTo>
                  <a:pt x="393" y="687"/>
                </a:lnTo>
                <a:lnTo>
                  <a:pt x="391" y="678"/>
                </a:lnTo>
                <a:lnTo>
                  <a:pt x="385" y="659"/>
                </a:lnTo>
                <a:lnTo>
                  <a:pt x="382" y="639"/>
                </a:lnTo>
                <a:lnTo>
                  <a:pt x="378" y="618"/>
                </a:lnTo>
                <a:lnTo>
                  <a:pt x="376" y="595"/>
                </a:lnTo>
                <a:lnTo>
                  <a:pt x="374" y="572"/>
                </a:lnTo>
                <a:lnTo>
                  <a:pt x="374" y="547"/>
                </a:lnTo>
                <a:lnTo>
                  <a:pt x="374" y="536"/>
                </a:lnTo>
                <a:lnTo>
                  <a:pt x="374" y="522"/>
                </a:lnTo>
                <a:lnTo>
                  <a:pt x="376" y="509"/>
                </a:lnTo>
                <a:lnTo>
                  <a:pt x="378" y="495"/>
                </a:lnTo>
                <a:lnTo>
                  <a:pt x="378" y="469"/>
                </a:lnTo>
                <a:lnTo>
                  <a:pt x="380" y="444"/>
                </a:lnTo>
                <a:lnTo>
                  <a:pt x="382" y="419"/>
                </a:lnTo>
                <a:lnTo>
                  <a:pt x="385" y="396"/>
                </a:lnTo>
                <a:lnTo>
                  <a:pt x="389" y="371"/>
                </a:lnTo>
                <a:lnTo>
                  <a:pt x="393" y="348"/>
                </a:lnTo>
                <a:lnTo>
                  <a:pt x="403" y="304"/>
                </a:lnTo>
                <a:lnTo>
                  <a:pt x="405" y="292"/>
                </a:lnTo>
                <a:lnTo>
                  <a:pt x="405" y="281"/>
                </a:lnTo>
                <a:lnTo>
                  <a:pt x="407" y="271"/>
                </a:lnTo>
                <a:lnTo>
                  <a:pt x="407" y="263"/>
                </a:lnTo>
                <a:lnTo>
                  <a:pt x="407" y="256"/>
                </a:lnTo>
                <a:lnTo>
                  <a:pt x="407" y="248"/>
                </a:lnTo>
                <a:lnTo>
                  <a:pt x="407" y="242"/>
                </a:lnTo>
                <a:lnTo>
                  <a:pt x="405" y="234"/>
                </a:lnTo>
                <a:lnTo>
                  <a:pt x="403" y="231"/>
                </a:lnTo>
                <a:lnTo>
                  <a:pt x="403" y="225"/>
                </a:lnTo>
                <a:lnTo>
                  <a:pt x="401" y="221"/>
                </a:lnTo>
                <a:lnTo>
                  <a:pt x="399" y="217"/>
                </a:lnTo>
                <a:lnTo>
                  <a:pt x="395" y="210"/>
                </a:lnTo>
                <a:lnTo>
                  <a:pt x="391" y="20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匪      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腥      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2964240" y="2309760"/>
            <a:ext cx="7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ě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0"/>
          <p:cNvSpPr/>
          <p:nvPr/>
        </p:nvSpPr>
        <p:spPr>
          <a:xfrm>
            <a:off x="5314680" y="23209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2775960" y="36752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5531040" y="367812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9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1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TextBox 1"/>
          <p:cNvSpPr/>
          <p:nvPr/>
        </p:nvSpPr>
        <p:spPr>
          <a:xfrm>
            <a:off x="2166840" y="3124080"/>
            <a:ext cx="57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茨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坪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    殷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2255760" y="259236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244760" y="259236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TextBox 1"/>
          <p:cNvSpPr/>
          <p:nvPr/>
        </p:nvSpPr>
        <p:spPr>
          <a:xfrm>
            <a:off x="1208160" y="291132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组合 26"/>
          <p:cNvGrpSpPr/>
          <p:nvPr/>
        </p:nvGrpSpPr>
        <p:grpSpPr>
          <a:xfrm>
            <a:off x="1690560" y="2471760"/>
            <a:ext cx="3953160" cy="1373400"/>
            <a:chOff x="1690560" y="2471760"/>
            <a:chExt cx="3953160" cy="1373400"/>
          </a:xfrm>
        </p:grpSpPr>
        <p:sp>
          <p:nvSpPr>
            <p:cNvPr id="253" name="左大括号 27"/>
            <p:cNvSpPr/>
            <p:nvPr/>
          </p:nvSpPr>
          <p:spPr>
            <a:xfrm>
              <a:off x="1690560" y="2714400"/>
              <a:ext cx="311040" cy="9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28"/>
            <p:cNvSpPr/>
            <p:nvPr/>
          </p:nvSpPr>
          <p:spPr>
            <a:xfrm>
              <a:off x="1938240" y="2471760"/>
              <a:ext cx="37054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ī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殷切　殷实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ā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殷红　朱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1198440" y="1913040"/>
            <a:ext cx="74566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坚韧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摇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殷切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郁郁苍苍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1"/>
          <p:cNvSpPr/>
          <p:nvPr/>
        </p:nvSpPr>
        <p:spPr>
          <a:xfrm>
            <a:off x="1933560" y="1906560"/>
            <a:ext cx="64738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坚固有韧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摇动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树木、建筑物等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凛冽的北风正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摇撼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着柔弱的小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深厚而急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们不能辜负祖国对我们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殷切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期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草木苍翠茂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一片大树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郁郁苍苍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似一把把擎天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绿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"/>
          <p:cNvSpPr/>
          <p:nvPr/>
        </p:nvSpPr>
        <p:spPr>
          <a:xfrm>
            <a:off x="932040" y="1925640"/>
            <a:ext cx="74563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亭亭玉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魂飞魄散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鬼哭狼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矩形 1"/>
          <p:cNvSpPr/>
          <p:nvPr/>
        </p:nvSpPr>
        <p:spPr>
          <a:xfrm>
            <a:off x="2251080" y="1925640"/>
            <a:ext cx="6188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亭亭，直立而美好的样子。形容女子身材细长匀称或花木等形态挺拔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池塘里粉嫩娇艳的荷花像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亭亭玉立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美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魂飞了，魄也散了。形容惊恐万分，极端害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红军将敌人打得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魂飞魄散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再也不敢来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嚎，大声叫。形容大声哭叫，声音凄厉。　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208240" y="4959360"/>
            <a:ext cx="6161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拉小夜曲的声音很难听，像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鬼哭狼嚎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1"/>
          <p:cNvSpPr/>
          <p:nvPr/>
        </p:nvSpPr>
        <p:spPr>
          <a:xfrm>
            <a:off x="944640" y="192564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意气风发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坚贞不屈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血雨腥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7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矩形 1"/>
          <p:cNvSpPr/>
          <p:nvPr/>
        </p:nvSpPr>
        <p:spPr>
          <a:xfrm>
            <a:off x="2251080" y="1925640"/>
            <a:ext cx="61880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意气，意态，气概。风发，像风一样迅猛。形容精神振奋，气概昂扬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意气风发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为实现理想而奋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坚，坚定。贞，有节操。形容有节操，坚定不变，绝不屈服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中华儿女在侵略者面前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坚贞不屈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疯狂杀戮的凶险气氛或环境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们破釜沉舟，打赢了那一场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血雨腥风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战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"/>
          <p:cNvSpPr/>
          <p:nvPr/>
        </p:nvSpPr>
        <p:spPr>
          <a:xfrm>
            <a:off x="3937320" y="146196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坚贞不屈　威武不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"/>
          <p:cNvSpPr/>
          <p:nvPr/>
        </p:nvSpPr>
        <p:spPr>
          <a:xfrm>
            <a:off x="2162160" y="1862280"/>
            <a:ext cx="6613560" cy="41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不向恶势力屈服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坚贞不屈”偏重坚贞，强调不向恶势力屈服的原因是有坚定的节操；“威武不屈”偏重威武，强调在强暴势力面前的态度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在恶势力的威胁下，她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坚贞不屈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，坚持与敌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抗争到底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面对残暴的敌人，他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威武不屈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，不向敌人透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一点儿消息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组合 13"/>
          <p:cNvGrpSpPr/>
          <p:nvPr/>
        </p:nvGrpSpPr>
        <p:grpSpPr>
          <a:xfrm>
            <a:off x="393840" y="898560"/>
            <a:ext cx="2593800" cy="666720"/>
            <a:chOff x="393840" y="898560"/>
            <a:chExt cx="2593800" cy="666720"/>
          </a:xfrm>
        </p:grpSpPr>
        <p:sp>
          <p:nvSpPr>
            <p:cNvPr id="277" name="圆角矩形 14"/>
            <p:cNvSpPr/>
            <p:nvPr/>
          </p:nvSpPr>
          <p:spPr>
            <a:xfrm>
              <a:off x="1209600" y="10364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93840" y="8985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文本框 16"/>
            <p:cNvSpPr/>
            <p:nvPr/>
          </p:nvSpPr>
          <p:spPr>
            <a:xfrm>
              <a:off x="1469160" y="105552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组合 4"/>
          <p:cNvGrpSpPr/>
          <p:nvPr/>
        </p:nvGrpSpPr>
        <p:grpSpPr>
          <a:xfrm>
            <a:off x="681120" y="1927080"/>
            <a:ext cx="1670040" cy="459720"/>
            <a:chOff x="681120" y="1927080"/>
            <a:chExt cx="1670040" cy="459720"/>
          </a:xfrm>
        </p:grpSpPr>
        <p:pic>
          <p:nvPicPr>
            <p:cNvPr id="281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19814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3"/>
            <p:cNvSpPr/>
            <p:nvPr/>
          </p:nvSpPr>
          <p:spPr>
            <a:xfrm>
              <a:off x="1024200" y="19270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组合 20"/>
          <p:cNvGrpSpPr/>
          <p:nvPr/>
        </p:nvGrpSpPr>
        <p:grpSpPr>
          <a:xfrm>
            <a:off x="681120" y="2557440"/>
            <a:ext cx="1670040" cy="459720"/>
            <a:chOff x="681120" y="2557440"/>
            <a:chExt cx="1670040" cy="459720"/>
          </a:xfrm>
        </p:grpSpPr>
        <p:pic>
          <p:nvPicPr>
            <p:cNvPr id="284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26118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22"/>
            <p:cNvSpPr/>
            <p:nvPr/>
          </p:nvSpPr>
          <p:spPr>
            <a:xfrm>
              <a:off x="1024200" y="25574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23"/>
          <p:cNvGrpSpPr/>
          <p:nvPr/>
        </p:nvGrpSpPr>
        <p:grpSpPr>
          <a:xfrm>
            <a:off x="681120" y="4199040"/>
            <a:ext cx="1670040" cy="459720"/>
            <a:chOff x="681120" y="4199040"/>
            <a:chExt cx="1670040" cy="459720"/>
          </a:xfrm>
        </p:grpSpPr>
        <p:pic>
          <p:nvPicPr>
            <p:cNvPr id="287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253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25"/>
            <p:cNvSpPr/>
            <p:nvPr/>
          </p:nvSpPr>
          <p:spPr>
            <a:xfrm>
              <a:off x="1024200" y="4199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" descr="屏幕剪辑"/>
          <p:cNvPicPr/>
          <p:nvPr/>
        </p:nvPicPr>
        <p:blipFill>
          <a:blip r:embed="rId2"/>
          <a:stretch/>
        </p:blipFill>
        <p:spPr>
          <a:xfrm>
            <a:off x="1584360" y="2414520"/>
            <a:ext cx="6230880" cy="284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1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73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井冈翠竹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75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文本框 13"/>
              <p:cNvSpPr/>
              <p:nvPr/>
            </p:nvSpPr>
            <p:spPr>
              <a:xfrm>
                <a:off x="240588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"/>
          <p:cNvSpPr/>
          <p:nvPr/>
        </p:nvSpPr>
        <p:spPr>
          <a:xfrm>
            <a:off x="887400" y="22287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 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毛竹的神采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了井冈翠竹的外形特征与“神采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革命的竹子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井冈翠竹在革命时期的“神勇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奉献的竹子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井冈翠竹在社会主义建设时期所表现出来的奉献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组合 11"/>
          <p:cNvGrpSpPr/>
          <p:nvPr/>
        </p:nvGrpSpPr>
        <p:grpSpPr>
          <a:xfrm>
            <a:off x="804960" y="1200240"/>
            <a:ext cx="3792600" cy="717480"/>
            <a:chOff x="804960" y="1200240"/>
            <a:chExt cx="3792600" cy="717480"/>
          </a:xfrm>
        </p:grpSpPr>
        <p:grpSp>
          <p:nvGrpSpPr>
            <p:cNvPr id="291" name="圆角矩形 4"/>
            <p:cNvGrpSpPr/>
            <p:nvPr/>
          </p:nvGrpSpPr>
          <p:grpSpPr>
            <a:xfrm>
              <a:off x="804960" y="1208880"/>
              <a:ext cx="1032120" cy="530640"/>
              <a:chOff x="804960" y="1208880"/>
              <a:chExt cx="1032120" cy="530640"/>
            </a:xfrm>
          </p:grpSpPr>
          <p:pic>
            <p:nvPicPr>
              <p:cNvPr id="292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960" y="1208880"/>
                <a:ext cx="1032120" cy="5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850680" y="1242000"/>
                <a:ext cx="94068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4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1612800" y="1200240"/>
              <a:ext cx="298476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7"/>
          <p:cNvSpPr/>
          <p:nvPr/>
        </p:nvSpPr>
        <p:spPr>
          <a:xfrm>
            <a:off x="758880" y="1928880"/>
            <a:ext cx="778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它做过武器杀伤敌人，做过竹筒盛饭，做过红军的扁担挑着中国革命从井冈山走到延安，走到北京。新中国成立后，竹子又被派上了建设社会主义的新用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5"/>
          <p:cNvSpPr/>
          <p:nvPr/>
        </p:nvSpPr>
        <p:spPr>
          <a:xfrm>
            <a:off x="736560" y="118728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学们，你们知道井冈翠竹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98" name="矩形 11"/>
          <p:cNvSpPr/>
          <p:nvPr/>
        </p:nvSpPr>
        <p:spPr>
          <a:xfrm>
            <a:off x="1017720" y="24526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竹子外形写到功绩，先总后分，结尾总结点题。写竹之外形，按远近顺序，写竹之功绩，按过去到现在的时间顺序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849240" y="28749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城市和农村都在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地等待着你们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它当罐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é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水，当碗蒸过饭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眼望不到边的毛竹，成年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ě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è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地藏在深坳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1" name="矩形 17"/>
          <p:cNvSpPr/>
          <p:nvPr/>
        </p:nvSpPr>
        <p:spPr>
          <a:xfrm>
            <a:off x="758880" y="18018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出加点字的正确读音，在下面画线，并用另一个读音组词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4"/>
          <p:cNvSpPr/>
          <p:nvPr/>
        </p:nvSpPr>
        <p:spPr>
          <a:xfrm>
            <a:off x="3773520" y="3421080"/>
            <a:ext cx="693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直接连接符 20"/>
          <p:cNvSpPr/>
          <p:nvPr/>
        </p:nvSpPr>
        <p:spPr>
          <a:xfrm>
            <a:off x="2948040" y="4535640"/>
            <a:ext cx="920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直接连接符 21"/>
          <p:cNvSpPr/>
          <p:nvPr/>
        </p:nvSpPr>
        <p:spPr>
          <a:xfrm>
            <a:off x="5389560" y="5634000"/>
            <a:ext cx="460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1839600" y="349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殷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8"/>
          <p:cNvSpPr/>
          <p:nvPr/>
        </p:nvSpPr>
        <p:spPr>
          <a:xfrm>
            <a:off x="1776240" y="465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丰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2414160" y="56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劳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3693960" y="2824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922480" y="3951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797120" y="2824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023840" y="3951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矩形 21"/>
          <p:cNvSpPr/>
          <p:nvPr/>
        </p:nvSpPr>
        <p:spPr>
          <a:xfrm>
            <a:off x="803160" y="23385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ēng   suǒ         yán  guàn        liá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s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ě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án        pà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lái          yá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hàn           yīn   qi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2"/>
          <p:cNvSpPr/>
          <p:nvPr/>
        </p:nvSpPr>
        <p:spPr>
          <a:xfrm>
            <a:off x="2026800" y="2879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封 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8"/>
          <p:cNvSpPr/>
          <p:nvPr/>
        </p:nvSpPr>
        <p:spPr>
          <a:xfrm>
            <a:off x="1241280" y="3994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委 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29"/>
          <p:cNvSpPr/>
          <p:nvPr/>
        </p:nvSpPr>
        <p:spPr>
          <a:xfrm>
            <a:off x="3922560" y="28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盐 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30"/>
          <p:cNvSpPr/>
          <p:nvPr/>
        </p:nvSpPr>
        <p:spPr>
          <a:xfrm>
            <a:off x="3147840" y="3978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派 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17"/>
          <p:cNvSpPr/>
          <p:nvPr/>
        </p:nvSpPr>
        <p:spPr>
          <a:xfrm>
            <a:off x="758880" y="162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645160" y="2819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871880" y="39466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矩形 34"/>
          <p:cNvSpPr/>
          <p:nvPr/>
        </p:nvSpPr>
        <p:spPr>
          <a:xfrm>
            <a:off x="5873400" y="286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粮 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35"/>
          <p:cNvSpPr/>
          <p:nvPr/>
        </p:nvSpPr>
        <p:spPr>
          <a:xfrm>
            <a:off x="5097240" y="3973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摇 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743880" y="39416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矩形 37"/>
          <p:cNvSpPr/>
          <p:nvPr/>
        </p:nvSpPr>
        <p:spPr>
          <a:xfrm>
            <a:off x="6968880" y="39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殷 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7"/>
          <p:cNvSpPr/>
          <p:nvPr/>
        </p:nvSpPr>
        <p:spPr>
          <a:xfrm>
            <a:off x="736560" y="141120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1224000" y="2516040"/>
            <a:ext cx="70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锁（　　　　）  撼（　　　）  稠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琐（　　　　）  憾（　　　）  调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左大括号 2"/>
          <p:cNvSpPr/>
          <p:nvPr/>
        </p:nvSpPr>
        <p:spPr>
          <a:xfrm>
            <a:off x="1119240" y="2868480"/>
            <a:ext cx="198360" cy="97812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8120"/>
              <a:gd name="textAreaBottom" fmla="*/ 97308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左大括号 17"/>
          <p:cNvSpPr/>
          <p:nvPr/>
        </p:nvSpPr>
        <p:spPr>
          <a:xfrm>
            <a:off x="3541680" y="2879640"/>
            <a:ext cx="198360" cy="97812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8120"/>
              <a:gd name="textAreaBottom" fmla="*/ 97308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左大括号 18"/>
          <p:cNvSpPr/>
          <p:nvPr/>
        </p:nvSpPr>
        <p:spPr>
          <a:xfrm>
            <a:off x="6242040" y="2890800"/>
            <a:ext cx="198360" cy="97632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6320"/>
              <a:gd name="textAreaBottom" fmla="*/ 971280 h 97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6"/>
                </a:cubicBezTo>
                <a:lnTo>
                  <a:pt x="10800" y="10434"/>
                </a:lnTo>
                <a:cubicBezTo>
                  <a:pt x="10800" y="10617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6"/>
                </a:cubicBezTo>
                <a:lnTo>
                  <a:pt x="10800" y="21234"/>
                </a:lnTo>
                <a:cubicBezTo>
                  <a:pt x="10800" y="214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2242800" y="277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封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4"/>
          <p:cNvSpPr/>
          <p:nvPr/>
        </p:nvSpPr>
        <p:spPr>
          <a:xfrm>
            <a:off x="2242800" y="353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琐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5"/>
          <p:cNvSpPr/>
          <p:nvPr/>
        </p:nvSpPr>
        <p:spPr>
          <a:xfrm>
            <a:off x="4714560" y="277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震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6"/>
          <p:cNvSpPr/>
          <p:nvPr/>
        </p:nvSpPr>
        <p:spPr>
          <a:xfrm>
            <a:off x="4714560" y="353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遗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9"/>
          <p:cNvSpPr/>
          <p:nvPr/>
        </p:nvSpPr>
        <p:spPr>
          <a:xfrm>
            <a:off x="7146720" y="277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稠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0"/>
          <p:cNvSpPr/>
          <p:nvPr/>
        </p:nvSpPr>
        <p:spPr>
          <a:xfrm>
            <a:off x="7146720" y="348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调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888840" y="1603440"/>
            <a:ext cx="73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加点词的反义词填到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993600" y="2560680"/>
            <a:ext cx="72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表们冲过封锁线冒着生命危险送粮食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看那毛竹做的扁担，多么坚韧，多么结实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"/>
          <p:cNvSpPr/>
          <p:nvPr/>
        </p:nvSpPr>
        <p:spPr>
          <a:xfrm>
            <a:off x="2084040" y="319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安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2115720" y="429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脆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820800" y="874800"/>
            <a:ext cx="739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年毛委员和朱军长带领队伍下山去挑粮食，不就是用这样的扁担么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军每天每顿只能用南瓜充饥，但是同志们仍然意气风发地唱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加点的词语造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们在竹林里送走了几百个白天和黑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2147760" y="450360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1511280" y="448956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    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7850160" y="3951360"/>
            <a:ext cx="2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1325520" y="588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他们送走白天和黑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2"/>
          <p:cNvSpPr/>
          <p:nvPr/>
        </p:nvSpPr>
        <p:spPr>
          <a:xfrm>
            <a:off x="1325520" y="2492280"/>
            <a:ext cx="68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年毛委员和朱军长带领队伍下山去挑粮食，就是用这样的扁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3"/>
          <p:cNvSpPr/>
          <p:nvPr/>
        </p:nvSpPr>
        <p:spPr>
          <a:xfrm>
            <a:off x="1341360" y="4800600"/>
            <a:ext cx="68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春天到了，同学们都意气风发地在校园里学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摇撼、殷切、血雨腥风”等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3325680" y="1657440"/>
            <a:ext cx="53928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袁鹰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原名田钟洛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92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生，江苏淮安县人。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年代中期开始文学创作，以散文影响最大。他的散文集、儿童文学作品多次获全国性的优秀文学奖。袁鹰的散文题材广泛，感情激越，思想深邃，作品中描述的一人一事、一景一物，都反映了社会的人情风貌，跳动着时代脉搏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秋水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红河南北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寄到汤姆河去的诗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丁丁游历北京城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花朝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1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2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图片 2" descr="屏幕剪辑"/>
          <p:cNvPicPr/>
          <p:nvPr/>
        </p:nvPicPr>
        <p:blipFill>
          <a:blip r:embed="rId3"/>
          <a:stretch/>
        </p:blipFill>
        <p:spPr>
          <a:xfrm>
            <a:off x="646200" y="2554200"/>
            <a:ext cx="25542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1038240" y="1747800"/>
            <a:ext cx="766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井冈山　井冈山地处湘东一赣西边界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万洋山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为罗霄山脉中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北支。井冈山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以其辉煌灿烂的革命历史，铸就了蜚声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外的“红色摇篮”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世纪二十年代末，毛泽东、朱德等老一辈无产阶级革命家率领中国工农红军来到这里，开展了艰苦卓绝的井冈山斗争，创建了中国第一个农村革命根据地，点燃了中国革命的星星之火，开辟了“农村包围城市，武装夺取政权”，具有中国特色的革命道路。中国革命从这里走向胜利，孕育了伟大的井冈山精神，激励无数英雄儿女前赴后继。从此，鲜为人知的井冈山被载入中国革命历史的光辉史册，被誉为“中国革命的摇篮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8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图片 8" descr="屏幕剪辑"/>
          <p:cNvPicPr/>
          <p:nvPr/>
        </p:nvPicPr>
        <p:blipFill>
          <a:blip r:embed="rId2"/>
          <a:stretch/>
        </p:blipFill>
        <p:spPr>
          <a:xfrm>
            <a:off x="5840280" y="1736640"/>
            <a:ext cx="27068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0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等宽。右部末笔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3"/>
          <p:cNvSpPr/>
          <p:nvPr/>
        </p:nvSpPr>
        <p:spPr>
          <a:xfrm>
            <a:off x="2124000" y="186840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u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36"/>
          <p:cNvSpPr/>
          <p:nvPr/>
        </p:nvSpPr>
        <p:spPr>
          <a:xfrm>
            <a:off x="5595840" y="2863800"/>
            <a:ext cx="847800" cy="1165320"/>
          </a:xfrm>
          <a:custGeom>
            <a:avLst/>
            <a:gdLst/>
            <a:ahLst/>
            <a:rect l="l" t="t" r="r" b="b"/>
            <a:pathLst>
              <a:path w="1070" h="1466">
                <a:moveTo>
                  <a:pt x="2" y="1462"/>
                </a:moveTo>
                <a:lnTo>
                  <a:pt x="0" y="1460"/>
                </a:lnTo>
                <a:lnTo>
                  <a:pt x="0" y="1455"/>
                </a:lnTo>
                <a:lnTo>
                  <a:pt x="2" y="1449"/>
                </a:lnTo>
                <a:lnTo>
                  <a:pt x="6" y="1443"/>
                </a:lnTo>
                <a:lnTo>
                  <a:pt x="12" y="1433"/>
                </a:lnTo>
                <a:lnTo>
                  <a:pt x="20" y="1424"/>
                </a:lnTo>
                <a:lnTo>
                  <a:pt x="27" y="1412"/>
                </a:lnTo>
                <a:lnTo>
                  <a:pt x="39" y="1399"/>
                </a:lnTo>
                <a:lnTo>
                  <a:pt x="50" y="1386"/>
                </a:lnTo>
                <a:lnTo>
                  <a:pt x="64" y="1370"/>
                </a:lnTo>
                <a:lnTo>
                  <a:pt x="79" y="1353"/>
                </a:lnTo>
                <a:lnTo>
                  <a:pt x="96" y="1334"/>
                </a:lnTo>
                <a:lnTo>
                  <a:pt x="114" y="1313"/>
                </a:lnTo>
                <a:lnTo>
                  <a:pt x="135" y="1291"/>
                </a:lnTo>
                <a:lnTo>
                  <a:pt x="156" y="1268"/>
                </a:lnTo>
                <a:lnTo>
                  <a:pt x="179" y="1244"/>
                </a:lnTo>
                <a:lnTo>
                  <a:pt x="227" y="1194"/>
                </a:lnTo>
                <a:lnTo>
                  <a:pt x="273" y="1142"/>
                </a:lnTo>
                <a:lnTo>
                  <a:pt x="317" y="1088"/>
                </a:lnTo>
                <a:lnTo>
                  <a:pt x="361" y="1034"/>
                </a:lnTo>
                <a:lnTo>
                  <a:pt x="382" y="1006"/>
                </a:lnTo>
                <a:lnTo>
                  <a:pt x="402" y="977"/>
                </a:lnTo>
                <a:lnTo>
                  <a:pt x="423" y="948"/>
                </a:lnTo>
                <a:lnTo>
                  <a:pt x="444" y="919"/>
                </a:lnTo>
                <a:lnTo>
                  <a:pt x="463" y="888"/>
                </a:lnTo>
                <a:lnTo>
                  <a:pt x="484" y="858"/>
                </a:lnTo>
                <a:lnTo>
                  <a:pt x="503" y="827"/>
                </a:lnTo>
                <a:lnTo>
                  <a:pt x="524" y="796"/>
                </a:lnTo>
                <a:lnTo>
                  <a:pt x="544" y="764"/>
                </a:lnTo>
                <a:lnTo>
                  <a:pt x="563" y="733"/>
                </a:lnTo>
                <a:lnTo>
                  <a:pt x="580" y="700"/>
                </a:lnTo>
                <a:lnTo>
                  <a:pt x="599" y="670"/>
                </a:lnTo>
                <a:lnTo>
                  <a:pt x="617" y="639"/>
                </a:lnTo>
                <a:lnTo>
                  <a:pt x="634" y="610"/>
                </a:lnTo>
                <a:lnTo>
                  <a:pt x="649" y="580"/>
                </a:lnTo>
                <a:lnTo>
                  <a:pt x="667" y="551"/>
                </a:lnTo>
                <a:lnTo>
                  <a:pt x="682" y="520"/>
                </a:lnTo>
                <a:lnTo>
                  <a:pt x="695" y="491"/>
                </a:lnTo>
                <a:lnTo>
                  <a:pt x="711" y="462"/>
                </a:lnTo>
                <a:lnTo>
                  <a:pt x="724" y="434"/>
                </a:lnTo>
                <a:lnTo>
                  <a:pt x="738" y="407"/>
                </a:lnTo>
                <a:lnTo>
                  <a:pt x="749" y="378"/>
                </a:lnTo>
                <a:lnTo>
                  <a:pt x="761" y="351"/>
                </a:lnTo>
                <a:lnTo>
                  <a:pt x="772" y="322"/>
                </a:lnTo>
                <a:lnTo>
                  <a:pt x="784" y="299"/>
                </a:lnTo>
                <a:lnTo>
                  <a:pt x="793" y="274"/>
                </a:lnTo>
                <a:lnTo>
                  <a:pt x="801" y="253"/>
                </a:lnTo>
                <a:lnTo>
                  <a:pt x="809" y="232"/>
                </a:lnTo>
                <a:lnTo>
                  <a:pt x="814" y="213"/>
                </a:lnTo>
                <a:lnTo>
                  <a:pt x="820" y="194"/>
                </a:lnTo>
                <a:lnTo>
                  <a:pt x="824" y="176"/>
                </a:lnTo>
                <a:lnTo>
                  <a:pt x="828" y="159"/>
                </a:lnTo>
                <a:lnTo>
                  <a:pt x="832" y="144"/>
                </a:lnTo>
                <a:lnTo>
                  <a:pt x="834" y="130"/>
                </a:lnTo>
                <a:lnTo>
                  <a:pt x="835" y="117"/>
                </a:lnTo>
                <a:lnTo>
                  <a:pt x="835" y="105"/>
                </a:lnTo>
                <a:lnTo>
                  <a:pt x="835" y="94"/>
                </a:lnTo>
                <a:lnTo>
                  <a:pt x="835" y="84"/>
                </a:lnTo>
                <a:lnTo>
                  <a:pt x="834" y="77"/>
                </a:lnTo>
                <a:lnTo>
                  <a:pt x="832" y="69"/>
                </a:lnTo>
                <a:lnTo>
                  <a:pt x="828" y="63"/>
                </a:lnTo>
                <a:lnTo>
                  <a:pt x="824" y="59"/>
                </a:lnTo>
                <a:lnTo>
                  <a:pt x="822" y="56"/>
                </a:lnTo>
                <a:lnTo>
                  <a:pt x="818" y="50"/>
                </a:lnTo>
                <a:lnTo>
                  <a:pt x="816" y="46"/>
                </a:lnTo>
                <a:lnTo>
                  <a:pt x="816" y="42"/>
                </a:lnTo>
                <a:lnTo>
                  <a:pt x="814" y="38"/>
                </a:lnTo>
                <a:lnTo>
                  <a:pt x="814" y="33"/>
                </a:lnTo>
                <a:lnTo>
                  <a:pt x="814" y="29"/>
                </a:lnTo>
                <a:lnTo>
                  <a:pt x="816" y="25"/>
                </a:lnTo>
                <a:lnTo>
                  <a:pt x="816" y="23"/>
                </a:lnTo>
                <a:lnTo>
                  <a:pt x="818" y="19"/>
                </a:lnTo>
                <a:lnTo>
                  <a:pt x="822" y="15"/>
                </a:lnTo>
                <a:lnTo>
                  <a:pt x="824" y="13"/>
                </a:lnTo>
                <a:lnTo>
                  <a:pt x="828" y="10"/>
                </a:lnTo>
                <a:lnTo>
                  <a:pt x="832" y="8"/>
                </a:lnTo>
                <a:lnTo>
                  <a:pt x="835" y="6"/>
                </a:lnTo>
                <a:lnTo>
                  <a:pt x="837" y="4"/>
                </a:lnTo>
                <a:lnTo>
                  <a:pt x="843" y="2"/>
                </a:lnTo>
                <a:lnTo>
                  <a:pt x="847" y="2"/>
                </a:lnTo>
                <a:lnTo>
                  <a:pt x="853" y="0"/>
                </a:lnTo>
                <a:lnTo>
                  <a:pt x="860" y="0"/>
                </a:lnTo>
                <a:lnTo>
                  <a:pt x="866" y="0"/>
                </a:lnTo>
                <a:lnTo>
                  <a:pt x="876" y="2"/>
                </a:lnTo>
                <a:lnTo>
                  <a:pt x="883" y="4"/>
                </a:lnTo>
                <a:lnTo>
                  <a:pt x="893" y="6"/>
                </a:lnTo>
                <a:lnTo>
                  <a:pt x="903" y="8"/>
                </a:lnTo>
                <a:lnTo>
                  <a:pt x="914" y="11"/>
                </a:lnTo>
                <a:lnTo>
                  <a:pt x="926" y="15"/>
                </a:lnTo>
                <a:lnTo>
                  <a:pt x="937" y="19"/>
                </a:lnTo>
                <a:lnTo>
                  <a:pt x="949" y="25"/>
                </a:lnTo>
                <a:lnTo>
                  <a:pt x="962" y="33"/>
                </a:lnTo>
                <a:lnTo>
                  <a:pt x="974" y="38"/>
                </a:lnTo>
                <a:lnTo>
                  <a:pt x="983" y="46"/>
                </a:lnTo>
                <a:lnTo>
                  <a:pt x="993" y="52"/>
                </a:lnTo>
                <a:lnTo>
                  <a:pt x="1002" y="58"/>
                </a:lnTo>
                <a:lnTo>
                  <a:pt x="1010" y="63"/>
                </a:lnTo>
                <a:lnTo>
                  <a:pt x="1020" y="69"/>
                </a:lnTo>
                <a:lnTo>
                  <a:pt x="1027" y="75"/>
                </a:lnTo>
                <a:lnTo>
                  <a:pt x="1033" y="81"/>
                </a:lnTo>
                <a:lnTo>
                  <a:pt x="1041" y="86"/>
                </a:lnTo>
                <a:lnTo>
                  <a:pt x="1047" y="92"/>
                </a:lnTo>
                <a:lnTo>
                  <a:pt x="1050" y="98"/>
                </a:lnTo>
                <a:lnTo>
                  <a:pt x="1056" y="104"/>
                </a:lnTo>
                <a:lnTo>
                  <a:pt x="1060" y="109"/>
                </a:lnTo>
                <a:lnTo>
                  <a:pt x="1064" y="115"/>
                </a:lnTo>
                <a:lnTo>
                  <a:pt x="1066" y="123"/>
                </a:lnTo>
                <a:lnTo>
                  <a:pt x="1070" y="129"/>
                </a:lnTo>
                <a:lnTo>
                  <a:pt x="1068" y="142"/>
                </a:lnTo>
                <a:lnTo>
                  <a:pt x="1066" y="155"/>
                </a:lnTo>
                <a:lnTo>
                  <a:pt x="1064" y="171"/>
                </a:lnTo>
                <a:lnTo>
                  <a:pt x="1058" y="184"/>
                </a:lnTo>
                <a:lnTo>
                  <a:pt x="1052" y="200"/>
                </a:lnTo>
                <a:lnTo>
                  <a:pt x="1045" y="215"/>
                </a:lnTo>
                <a:lnTo>
                  <a:pt x="1039" y="224"/>
                </a:lnTo>
                <a:lnTo>
                  <a:pt x="1033" y="232"/>
                </a:lnTo>
                <a:lnTo>
                  <a:pt x="1027" y="242"/>
                </a:lnTo>
                <a:lnTo>
                  <a:pt x="1022" y="249"/>
                </a:lnTo>
                <a:lnTo>
                  <a:pt x="1008" y="269"/>
                </a:lnTo>
                <a:lnTo>
                  <a:pt x="995" y="290"/>
                </a:lnTo>
                <a:lnTo>
                  <a:pt x="981" y="311"/>
                </a:lnTo>
                <a:lnTo>
                  <a:pt x="968" y="334"/>
                </a:lnTo>
                <a:lnTo>
                  <a:pt x="954" y="359"/>
                </a:lnTo>
                <a:lnTo>
                  <a:pt x="949" y="372"/>
                </a:lnTo>
                <a:lnTo>
                  <a:pt x="941" y="386"/>
                </a:lnTo>
                <a:lnTo>
                  <a:pt x="935" y="399"/>
                </a:lnTo>
                <a:lnTo>
                  <a:pt x="928" y="413"/>
                </a:lnTo>
                <a:lnTo>
                  <a:pt x="922" y="428"/>
                </a:lnTo>
                <a:lnTo>
                  <a:pt x="914" y="445"/>
                </a:lnTo>
                <a:lnTo>
                  <a:pt x="906" y="461"/>
                </a:lnTo>
                <a:lnTo>
                  <a:pt x="897" y="478"/>
                </a:lnTo>
                <a:lnTo>
                  <a:pt x="885" y="495"/>
                </a:lnTo>
                <a:lnTo>
                  <a:pt x="874" y="514"/>
                </a:lnTo>
                <a:lnTo>
                  <a:pt x="862" y="533"/>
                </a:lnTo>
                <a:lnTo>
                  <a:pt x="851" y="555"/>
                </a:lnTo>
                <a:lnTo>
                  <a:pt x="837" y="576"/>
                </a:lnTo>
                <a:lnTo>
                  <a:pt x="824" y="599"/>
                </a:lnTo>
                <a:lnTo>
                  <a:pt x="811" y="622"/>
                </a:lnTo>
                <a:lnTo>
                  <a:pt x="795" y="645"/>
                </a:lnTo>
                <a:lnTo>
                  <a:pt x="780" y="670"/>
                </a:lnTo>
                <a:lnTo>
                  <a:pt x="763" y="697"/>
                </a:lnTo>
                <a:lnTo>
                  <a:pt x="745" y="723"/>
                </a:lnTo>
                <a:lnTo>
                  <a:pt x="728" y="750"/>
                </a:lnTo>
                <a:lnTo>
                  <a:pt x="709" y="779"/>
                </a:lnTo>
                <a:lnTo>
                  <a:pt x="690" y="808"/>
                </a:lnTo>
                <a:lnTo>
                  <a:pt x="670" y="837"/>
                </a:lnTo>
                <a:lnTo>
                  <a:pt x="651" y="865"/>
                </a:lnTo>
                <a:lnTo>
                  <a:pt x="632" y="892"/>
                </a:lnTo>
                <a:lnTo>
                  <a:pt x="613" y="919"/>
                </a:lnTo>
                <a:lnTo>
                  <a:pt x="594" y="946"/>
                </a:lnTo>
                <a:lnTo>
                  <a:pt x="574" y="971"/>
                </a:lnTo>
                <a:lnTo>
                  <a:pt x="557" y="994"/>
                </a:lnTo>
                <a:lnTo>
                  <a:pt x="538" y="1017"/>
                </a:lnTo>
                <a:lnTo>
                  <a:pt x="521" y="1040"/>
                </a:lnTo>
                <a:lnTo>
                  <a:pt x="503" y="1061"/>
                </a:lnTo>
                <a:lnTo>
                  <a:pt x="486" y="1080"/>
                </a:lnTo>
                <a:lnTo>
                  <a:pt x="469" y="1101"/>
                </a:lnTo>
                <a:lnTo>
                  <a:pt x="453" y="1121"/>
                </a:lnTo>
                <a:lnTo>
                  <a:pt x="436" y="1138"/>
                </a:lnTo>
                <a:lnTo>
                  <a:pt x="421" y="1155"/>
                </a:lnTo>
                <a:lnTo>
                  <a:pt x="405" y="1173"/>
                </a:lnTo>
                <a:lnTo>
                  <a:pt x="371" y="1203"/>
                </a:lnTo>
                <a:lnTo>
                  <a:pt x="336" y="1234"/>
                </a:lnTo>
                <a:lnTo>
                  <a:pt x="304" y="1263"/>
                </a:lnTo>
                <a:lnTo>
                  <a:pt x="271" y="1290"/>
                </a:lnTo>
                <a:lnTo>
                  <a:pt x="238" y="1316"/>
                </a:lnTo>
                <a:lnTo>
                  <a:pt x="206" y="1341"/>
                </a:lnTo>
                <a:lnTo>
                  <a:pt x="175" y="1366"/>
                </a:lnTo>
                <a:lnTo>
                  <a:pt x="144" y="1389"/>
                </a:lnTo>
                <a:lnTo>
                  <a:pt x="129" y="1401"/>
                </a:lnTo>
                <a:lnTo>
                  <a:pt x="116" y="1410"/>
                </a:lnTo>
                <a:lnTo>
                  <a:pt x="102" y="1420"/>
                </a:lnTo>
                <a:lnTo>
                  <a:pt x="89" y="1430"/>
                </a:lnTo>
                <a:lnTo>
                  <a:pt x="77" y="1437"/>
                </a:lnTo>
                <a:lnTo>
                  <a:pt x="66" y="1443"/>
                </a:lnTo>
                <a:lnTo>
                  <a:pt x="56" y="1449"/>
                </a:lnTo>
                <a:lnTo>
                  <a:pt x="46" y="1455"/>
                </a:lnTo>
                <a:lnTo>
                  <a:pt x="39" y="1458"/>
                </a:lnTo>
                <a:lnTo>
                  <a:pt x="31" y="1460"/>
                </a:lnTo>
                <a:lnTo>
                  <a:pt x="23" y="1464"/>
                </a:lnTo>
                <a:lnTo>
                  <a:pt x="18" y="1464"/>
                </a:lnTo>
                <a:lnTo>
                  <a:pt x="12" y="1466"/>
                </a:lnTo>
                <a:lnTo>
                  <a:pt x="8" y="1466"/>
                </a:lnTo>
                <a:lnTo>
                  <a:pt x="4" y="1464"/>
                </a:lnTo>
                <a:lnTo>
                  <a:pt x="2" y="14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37"/>
          <p:cNvSpPr/>
          <p:nvPr/>
        </p:nvSpPr>
        <p:spPr>
          <a:xfrm>
            <a:off x="6172200" y="3297240"/>
            <a:ext cx="479520" cy="150840"/>
          </a:xfrm>
          <a:custGeom>
            <a:avLst/>
            <a:gdLst/>
            <a:ahLst/>
            <a:rect l="l" t="t" r="r" b="b"/>
            <a:pathLst>
              <a:path w="605" h="190">
                <a:moveTo>
                  <a:pt x="438" y="153"/>
                </a:moveTo>
                <a:lnTo>
                  <a:pt x="419" y="157"/>
                </a:lnTo>
                <a:lnTo>
                  <a:pt x="396" y="163"/>
                </a:lnTo>
                <a:lnTo>
                  <a:pt x="374" y="167"/>
                </a:lnTo>
                <a:lnTo>
                  <a:pt x="351" y="169"/>
                </a:lnTo>
                <a:lnTo>
                  <a:pt x="326" y="173"/>
                </a:lnTo>
                <a:lnTo>
                  <a:pt x="301" y="177"/>
                </a:lnTo>
                <a:lnTo>
                  <a:pt x="276" y="178"/>
                </a:lnTo>
                <a:lnTo>
                  <a:pt x="250" y="180"/>
                </a:lnTo>
                <a:lnTo>
                  <a:pt x="223" y="182"/>
                </a:lnTo>
                <a:lnTo>
                  <a:pt x="194" y="184"/>
                </a:lnTo>
                <a:lnTo>
                  <a:pt x="163" y="186"/>
                </a:lnTo>
                <a:lnTo>
                  <a:pt x="133" y="188"/>
                </a:lnTo>
                <a:lnTo>
                  <a:pt x="102" y="188"/>
                </a:lnTo>
                <a:lnTo>
                  <a:pt x="69" y="190"/>
                </a:lnTo>
                <a:lnTo>
                  <a:pt x="35" y="190"/>
                </a:lnTo>
                <a:lnTo>
                  <a:pt x="0" y="190"/>
                </a:lnTo>
                <a:lnTo>
                  <a:pt x="0" y="136"/>
                </a:lnTo>
                <a:lnTo>
                  <a:pt x="0" y="81"/>
                </a:lnTo>
                <a:lnTo>
                  <a:pt x="12" y="81"/>
                </a:lnTo>
                <a:lnTo>
                  <a:pt x="23" y="81"/>
                </a:lnTo>
                <a:lnTo>
                  <a:pt x="37" y="81"/>
                </a:lnTo>
                <a:lnTo>
                  <a:pt x="50" y="79"/>
                </a:lnTo>
                <a:lnTo>
                  <a:pt x="65" y="77"/>
                </a:lnTo>
                <a:lnTo>
                  <a:pt x="81" y="75"/>
                </a:lnTo>
                <a:lnTo>
                  <a:pt x="98" y="73"/>
                </a:lnTo>
                <a:lnTo>
                  <a:pt x="115" y="71"/>
                </a:lnTo>
                <a:lnTo>
                  <a:pt x="133" y="67"/>
                </a:lnTo>
                <a:lnTo>
                  <a:pt x="152" y="63"/>
                </a:lnTo>
                <a:lnTo>
                  <a:pt x="173" y="59"/>
                </a:lnTo>
                <a:lnTo>
                  <a:pt x="192" y="56"/>
                </a:lnTo>
                <a:lnTo>
                  <a:pt x="215" y="50"/>
                </a:lnTo>
                <a:lnTo>
                  <a:pt x="236" y="46"/>
                </a:lnTo>
                <a:lnTo>
                  <a:pt x="259" y="38"/>
                </a:lnTo>
                <a:lnTo>
                  <a:pt x="284" y="33"/>
                </a:lnTo>
                <a:lnTo>
                  <a:pt x="307" y="27"/>
                </a:lnTo>
                <a:lnTo>
                  <a:pt x="330" y="21"/>
                </a:lnTo>
                <a:lnTo>
                  <a:pt x="351" y="15"/>
                </a:lnTo>
                <a:lnTo>
                  <a:pt x="372" y="11"/>
                </a:lnTo>
                <a:lnTo>
                  <a:pt x="392" y="8"/>
                </a:lnTo>
                <a:lnTo>
                  <a:pt x="411" y="6"/>
                </a:lnTo>
                <a:lnTo>
                  <a:pt x="428" y="4"/>
                </a:lnTo>
                <a:lnTo>
                  <a:pt x="445" y="2"/>
                </a:lnTo>
                <a:lnTo>
                  <a:pt x="461" y="2"/>
                </a:lnTo>
                <a:lnTo>
                  <a:pt x="476" y="0"/>
                </a:lnTo>
                <a:lnTo>
                  <a:pt x="490" y="2"/>
                </a:lnTo>
                <a:lnTo>
                  <a:pt x="503" y="2"/>
                </a:lnTo>
                <a:lnTo>
                  <a:pt x="515" y="2"/>
                </a:lnTo>
                <a:lnTo>
                  <a:pt x="526" y="4"/>
                </a:lnTo>
                <a:lnTo>
                  <a:pt x="536" y="6"/>
                </a:lnTo>
                <a:lnTo>
                  <a:pt x="545" y="8"/>
                </a:lnTo>
                <a:lnTo>
                  <a:pt x="557" y="17"/>
                </a:lnTo>
                <a:lnTo>
                  <a:pt x="568" y="27"/>
                </a:lnTo>
                <a:lnTo>
                  <a:pt x="580" y="35"/>
                </a:lnTo>
                <a:lnTo>
                  <a:pt x="587" y="44"/>
                </a:lnTo>
                <a:lnTo>
                  <a:pt x="595" y="52"/>
                </a:lnTo>
                <a:lnTo>
                  <a:pt x="597" y="54"/>
                </a:lnTo>
                <a:lnTo>
                  <a:pt x="599" y="58"/>
                </a:lnTo>
                <a:lnTo>
                  <a:pt x="601" y="61"/>
                </a:lnTo>
                <a:lnTo>
                  <a:pt x="603" y="63"/>
                </a:lnTo>
                <a:lnTo>
                  <a:pt x="605" y="67"/>
                </a:lnTo>
                <a:lnTo>
                  <a:pt x="605" y="69"/>
                </a:lnTo>
                <a:lnTo>
                  <a:pt x="603" y="73"/>
                </a:lnTo>
                <a:lnTo>
                  <a:pt x="601" y="79"/>
                </a:lnTo>
                <a:lnTo>
                  <a:pt x="597" y="82"/>
                </a:lnTo>
                <a:lnTo>
                  <a:pt x="593" y="86"/>
                </a:lnTo>
                <a:lnTo>
                  <a:pt x="587" y="92"/>
                </a:lnTo>
                <a:lnTo>
                  <a:pt x="580" y="96"/>
                </a:lnTo>
                <a:lnTo>
                  <a:pt x="570" y="102"/>
                </a:lnTo>
                <a:lnTo>
                  <a:pt x="561" y="107"/>
                </a:lnTo>
                <a:lnTo>
                  <a:pt x="549" y="111"/>
                </a:lnTo>
                <a:lnTo>
                  <a:pt x="538" y="117"/>
                </a:lnTo>
                <a:lnTo>
                  <a:pt x="524" y="123"/>
                </a:lnTo>
                <a:lnTo>
                  <a:pt x="509" y="129"/>
                </a:lnTo>
                <a:lnTo>
                  <a:pt x="493" y="134"/>
                </a:lnTo>
                <a:lnTo>
                  <a:pt x="476" y="140"/>
                </a:lnTo>
                <a:lnTo>
                  <a:pt x="457" y="148"/>
                </a:lnTo>
                <a:lnTo>
                  <a:pt x="438" y="1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38"/>
          <p:cNvSpPr/>
          <p:nvPr/>
        </p:nvSpPr>
        <p:spPr>
          <a:xfrm>
            <a:off x="6732720" y="3170160"/>
            <a:ext cx="241200" cy="268200"/>
          </a:xfrm>
          <a:custGeom>
            <a:avLst/>
            <a:gdLst/>
            <a:ahLst/>
            <a:rect l="l" t="t" r="r" b="b"/>
            <a:pathLst>
              <a:path w="305" h="337">
                <a:moveTo>
                  <a:pt x="3" y="9"/>
                </a:moveTo>
                <a:lnTo>
                  <a:pt x="7" y="7"/>
                </a:lnTo>
                <a:lnTo>
                  <a:pt x="9" y="5"/>
                </a:lnTo>
                <a:lnTo>
                  <a:pt x="13" y="4"/>
                </a:lnTo>
                <a:lnTo>
                  <a:pt x="17" y="4"/>
                </a:lnTo>
                <a:lnTo>
                  <a:pt x="23" y="2"/>
                </a:lnTo>
                <a:lnTo>
                  <a:pt x="28" y="2"/>
                </a:lnTo>
                <a:lnTo>
                  <a:pt x="34" y="0"/>
                </a:lnTo>
                <a:lnTo>
                  <a:pt x="42" y="0"/>
                </a:lnTo>
                <a:lnTo>
                  <a:pt x="49" y="0"/>
                </a:lnTo>
                <a:lnTo>
                  <a:pt x="57" y="2"/>
                </a:lnTo>
                <a:lnTo>
                  <a:pt x="67" y="2"/>
                </a:lnTo>
                <a:lnTo>
                  <a:pt x="76" y="4"/>
                </a:lnTo>
                <a:lnTo>
                  <a:pt x="86" y="4"/>
                </a:lnTo>
                <a:lnTo>
                  <a:pt x="97" y="5"/>
                </a:lnTo>
                <a:lnTo>
                  <a:pt x="109" y="7"/>
                </a:lnTo>
                <a:lnTo>
                  <a:pt x="122" y="9"/>
                </a:lnTo>
                <a:lnTo>
                  <a:pt x="134" y="13"/>
                </a:lnTo>
                <a:lnTo>
                  <a:pt x="145" y="15"/>
                </a:lnTo>
                <a:lnTo>
                  <a:pt x="155" y="19"/>
                </a:lnTo>
                <a:lnTo>
                  <a:pt x="167" y="23"/>
                </a:lnTo>
                <a:lnTo>
                  <a:pt x="178" y="28"/>
                </a:lnTo>
                <a:lnTo>
                  <a:pt x="188" y="34"/>
                </a:lnTo>
                <a:lnTo>
                  <a:pt x="199" y="40"/>
                </a:lnTo>
                <a:lnTo>
                  <a:pt x="209" y="46"/>
                </a:lnTo>
                <a:lnTo>
                  <a:pt x="218" y="53"/>
                </a:lnTo>
                <a:lnTo>
                  <a:pt x="228" y="61"/>
                </a:lnTo>
                <a:lnTo>
                  <a:pt x="238" y="69"/>
                </a:lnTo>
                <a:lnTo>
                  <a:pt x="245" y="78"/>
                </a:lnTo>
                <a:lnTo>
                  <a:pt x="255" y="88"/>
                </a:lnTo>
                <a:lnTo>
                  <a:pt x="263" y="98"/>
                </a:lnTo>
                <a:lnTo>
                  <a:pt x="270" y="107"/>
                </a:lnTo>
                <a:lnTo>
                  <a:pt x="276" y="119"/>
                </a:lnTo>
                <a:lnTo>
                  <a:pt x="284" y="130"/>
                </a:lnTo>
                <a:lnTo>
                  <a:pt x="287" y="142"/>
                </a:lnTo>
                <a:lnTo>
                  <a:pt x="293" y="153"/>
                </a:lnTo>
                <a:lnTo>
                  <a:pt x="297" y="165"/>
                </a:lnTo>
                <a:lnTo>
                  <a:pt x="299" y="174"/>
                </a:lnTo>
                <a:lnTo>
                  <a:pt x="303" y="186"/>
                </a:lnTo>
                <a:lnTo>
                  <a:pt x="303" y="197"/>
                </a:lnTo>
                <a:lnTo>
                  <a:pt x="305" y="207"/>
                </a:lnTo>
                <a:lnTo>
                  <a:pt x="305" y="217"/>
                </a:lnTo>
                <a:lnTo>
                  <a:pt x="305" y="226"/>
                </a:lnTo>
                <a:lnTo>
                  <a:pt x="303" y="236"/>
                </a:lnTo>
                <a:lnTo>
                  <a:pt x="301" y="245"/>
                </a:lnTo>
                <a:lnTo>
                  <a:pt x="299" y="253"/>
                </a:lnTo>
                <a:lnTo>
                  <a:pt x="297" y="263"/>
                </a:lnTo>
                <a:lnTo>
                  <a:pt x="293" y="270"/>
                </a:lnTo>
                <a:lnTo>
                  <a:pt x="289" y="276"/>
                </a:lnTo>
                <a:lnTo>
                  <a:pt x="282" y="284"/>
                </a:lnTo>
                <a:lnTo>
                  <a:pt x="276" y="289"/>
                </a:lnTo>
                <a:lnTo>
                  <a:pt x="266" y="301"/>
                </a:lnTo>
                <a:lnTo>
                  <a:pt x="257" y="312"/>
                </a:lnTo>
                <a:lnTo>
                  <a:pt x="251" y="320"/>
                </a:lnTo>
                <a:lnTo>
                  <a:pt x="243" y="328"/>
                </a:lnTo>
                <a:lnTo>
                  <a:pt x="241" y="330"/>
                </a:lnTo>
                <a:lnTo>
                  <a:pt x="239" y="334"/>
                </a:lnTo>
                <a:lnTo>
                  <a:pt x="236" y="336"/>
                </a:lnTo>
                <a:lnTo>
                  <a:pt x="234" y="336"/>
                </a:lnTo>
                <a:lnTo>
                  <a:pt x="232" y="337"/>
                </a:lnTo>
                <a:lnTo>
                  <a:pt x="230" y="337"/>
                </a:lnTo>
                <a:lnTo>
                  <a:pt x="226" y="337"/>
                </a:lnTo>
                <a:lnTo>
                  <a:pt x="224" y="336"/>
                </a:lnTo>
                <a:lnTo>
                  <a:pt x="220" y="334"/>
                </a:lnTo>
                <a:lnTo>
                  <a:pt x="216" y="330"/>
                </a:lnTo>
                <a:lnTo>
                  <a:pt x="211" y="328"/>
                </a:lnTo>
                <a:lnTo>
                  <a:pt x="207" y="322"/>
                </a:lnTo>
                <a:lnTo>
                  <a:pt x="201" y="318"/>
                </a:lnTo>
                <a:lnTo>
                  <a:pt x="195" y="311"/>
                </a:lnTo>
                <a:lnTo>
                  <a:pt x="188" y="305"/>
                </a:lnTo>
                <a:lnTo>
                  <a:pt x="182" y="297"/>
                </a:lnTo>
                <a:lnTo>
                  <a:pt x="174" y="289"/>
                </a:lnTo>
                <a:lnTo>
                  <a:pt x="167" y="282"/>
                </a:lnTo>
                <a:lnTo>
                  <a:pt x="159" y="272"/>
                </a:lnTo>
                <a:lnTo>
                  <a:pt x="151" y="263"/>
                </a:lnTo>
                <a:lnTo>
                  <a:pt x="144" y="251"/>
                </a:lnTo>
                <a:lnTo>
                  <a:pt x="134" y="240"/>
                </a:lnTo>
                <a:lnTo>
                  <a:pt x="117" y="218"/>
                </a:lnTo>
                <a:lnTo>
                  <a:pt x="101" y="197"/>
                </a:lnTo>
                <a:lnTo>
                  <a:pt x="86" y="176"/>
                </a:lnTo>
                <a:lnTo>
                  <a:pt x="72" y="157"/>
                </a:lnTo>
                <a:lnTo>
                  <a:pt x="59" y="138"/>
                </a:lnTo>
                <a:lnTo>
                  <a:pt x="48" y="119"/>
                </a:lnTo>
                <a:lnTo>
                  <a:pt x="38" y="101"/>
                </a:lnTo>
                <a:lnTo>
                  <a:pt x="28" y="82"/>
                </a:lnTo>
                <a:lnTo>
                  <a:pt x="19" y="69"/>
                </a:lnTo>
                <a:lnTo>
                  <a:pt x="13" y="57"/>
                </a:lnTo>
                <a:lnTo>
                  <a:pt x="7" y="46"/>
                </a:lnTo>
                <a:lnTo>
                  <a:pt x="3" y="36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1" y="15"/>
                </a:lnTo>
                <a:lnTo>
                  <a:pt x="1" y="11"/>
                </a:lnTo>
                <a:lnTo>
                  <a:pt x="3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39"/>
          <p:cNvSpPr/>
          <p:nvPr/>
        </p:nvSpPr>
        <p:spPr>
          <a:xfrm>
            <a:off x="7037280" y="2808360"/>
            <a:ext cx="212760" cy="784080"/>
          </a:xfrm>
          <a:custGeom>
            <a:avLst/>
            <a:gdLst/>
            <a:ahLst/>
            <a:rect l="l" t="t" r="r" b="b"/>
            <a:pathLst>
              <a:path w="269" h="988">
                <a:moveTo>
                  <a:pt x="202" y="977"/>
                </a:moveTo>
                <a:lnTo>
                  <a:pt x="95" y="988"/>
                </a:lnTo>
                <a:lnTo>
                  <a:pt x="95" y="948"/>
                </a:lnTo>
                <a:lnTo>
                  <a:pt x="95" y="908"/>
                </a:lnTo>
                <a:lnTo>
                  <a:pt x="95" y="869"/>
                </a:lnTo>
                <a:lnTo>
                  <a:pt x="95" y="833"/>
                </a:lnTo>
                <a:lnTo>
                  <a:pt x="95" y="796"/>
                </a:lnTo>
                <a:lnTo>
                  <a:pt x="95" y="762"/>
                </a:lnTo>
                <a:lnTo>
                  <a:pt x="95" y="727"/>
                </a:lnTo>
                <a:lnTo>
                  <a:pt x="93" y="695"/>
                </a:lnTo>
                <a:lnTo>
                  <a:pt x="93" y="662"/>
                </a:lnTo>
                <a:lnTo>
                  <a:pt x="93" y="631"/>
                </a:lnTo>
                <a:lnTo>
                  <a:pt x="91" y="603"/>
                </a:lnTo>
                <a:lnTo>
                  <a:pt x="91" y="574"/>
                </a:lnTo>
                <a:lnTo>
                  <a:pt x="91" y="545"/>
                </a:lnTo>
                <a:lnTo>
                  <a:pt x="89" y="518"/>
                </a:lnTo>
                <a:lnTo>
                  <a:pt x="89" y="493"/>
                </a:lnTo>
                <a:lnTo>
                  <a:pt x="89" y="468"/>
                </a:lnTo>
                <a:lnTo>
                  <a:pt x="87" y="445"/>
                </a:lnTo>
                <a:lnTo>
                  <a:pt x="87" y="422"/>
                </a:lnTo>
                <a:lnTo>
                  <a:pt x="85" y="401"/>
                </a:lnTo>
                <a:lnTo>
                  <a:pt x="85" y="380"/>
                </a:lnTo>
                <a:lnTo>
                  <a:pt x="83" y="361"/>
                </a:lnTo>
                <a:lnTo>
                  <a:pt x="83" y="342"/>
                </a:lnTo>
                <a:lnTo>
                  <a:pt x="81" y="324"/>
                </a:lnTo>
                <a:lnTo>
                  <a:pt x="81" y="307"/>
                </a:lnTo>
                <a:lnTo>
                  <a:pt x="79" y="292"/>
                </a:lnTo>
                <a:lnTo>
                  <a:pt x="79" y="278"/>
                </a:lnTo>
                <a:lnTo>
                  <a:pt x="77" y="265"/>
                </a:lnTo>
                <a:lnTo>
                  <a:pt x="75" y="251"/>
                </a:lnTo>
                <a:lnTo>
                  <a:pt x="75" y="240"/>
                </a:lnTo>
                <a:lnTo>
                  <a:pt x="73" y="230"/>
                </a:lnTo>
                <a:lnTo>
                  <a:pt x="73" y="221"/>
                </a:lnTo>
                <a:lnTo>
                  <a:pt x="72" y="213"/>
                </a:lnTo>
                <a:lnTo>
                  <a:pt x="70" y="200"/>
                </a:lnTo>
                <a:lnTo>
                  <a:pt x="68" y="186"/>
                </a:lnTo>
                <a:lnTo>
                  <a:pt x="64" y="175"/>
                </a:lnTo>
                <a:lnTo>
                  <a:pt x="62" y="163"/>
                </a:lnTo>
                <a:lnTo>
                  <a:pt x="58" y="152"/>
                </a:lnTo>
                <a:lnTo>
                  <a:pt x="54" y="142"/>
                </a:lnTo>
                <a:lnTo>
                  <a:pt x="52" y="132"/>
                </a:lnTo>
                <a:lnTo>
                  <a:pt x="48" y="123"/>
                </a:lnTo>
                <a:lnTo>
                  <a:pt x="45" y="115"/>
                </a:lnTo>
                <a:lnTo>
                  <a:pt x="41" y="107"/>
                </a:lnTo>
                <a:lnTo>
                  <a:pt x="39" y="100"/>
                </a:lnTo>
                <a:lnTo>
                  <a:pt x="35" y="94"/>
                </a:lnTo>
                <a:lnTo>
                  <a:pt x="31" y="90"/>
                </a:lnTo>
                <a:lnTo>
                  <a:pt x="29" y="84"/>
                </a:lnTo>
                <a:lnTo>
                  <a:pt x="27" y="81"/>
                </a:lnTo>
                <a:lnTo>
                  <a:pt x="24" y="79"/>
                </a:lnTo>
                <a:lnTo>
                  <a:pt x="20" y="73"/>
                </a:lnTo>
                <a:lnTo>
                  <a:pt x="16" y="67"/>
                </a:lnTo>
                <a:lnTo>
                  <a:pt x="12" y="61"/>
                </a:lnTo>
                <a:lnTo>
                  <a:pt x="8" y="54"/>
                </a:lnTo>
                <a:lnTo>
                  <a:pt x="4" y="44"/>
                </a:lnTo>
                <a:lnTo>
                  <a:pt x="2" y="36"/>
                </a:lnTo>
                <a:lnTo>
                  <a:pt x="0" y="27"/>
                </a:lnTo>
                <a:lnTo>
                  <a:pt x="0" y="17"/>
                </a:lnTo>
                <a:lnTo>
                  <a:pt x="0" y="13"/>
                </a:lnTo>
                <a:lnTo>
                  <a:pt x="2" y="10"/>
                </a:lnTo>
                <a:lnTo>
                  <a:pt x="4" y="8"/>
                </a:lnTo>
                <a:lnTo>
                  <a:pt x="8" y="4"/>
                </a:lnTo>
                <a:lnTo>
                  <a:pt x="12" y="2"/>
                </a:lnTo>
                <a:lnTo>
                  <a:pt x="16" y="2"/>
                </a:lnTo>
                <a:lnTo>
                  <a:pt x="22" y="0"/>
                </a:lnTo>
                <a:lnTo>
                  <a:pt x="29" y="0"/>
                </a:lnTo>
                <a:lnTo>
                  <a:pt x="37" y="0"/>
                </a:lnTo>
                <a:lnTo>
                  <a:pt x="45" y="0"/>
                </a:lnTo>
                <a:lnTo>
                  <a:pt x="54" y="2"/>
                </a:lnTo>
                <a:lnTo>
                  <a:pt x="66" y="4"/>
                </a:lnTo>
                <a:lnTo>
                  <a:pt x="77" y="8"/>
                </a:lnTo>
                <a:lnTo>
                  <a:pt x="91" y="10"/>
                </a:lnTo>
                <a:lnTo>
                  <a:pt x="104" y="13"/>
                </a:lnTo>
                <a:lnTo>
                  <a:pt x="120" y="17"/>
                </a:lnTo>
                <a:lnTo>
                  <a:pt x="135" y="23"/>
                </a:lnTo>
                <a:lnTo>
                  <a:pt x="148" y="27"/>
                </a:lnTo>
                <a:lnTo>
                  <a:pt x="162" y="33"/>
                </a:lnTo>
                <a:lnTo>
                  <a:pt x="175" y="36"/>
                </a:lnTo>
                <a:lnTo>
                  <a:pt x="187" y="40"/>
                </a:lnTo>
                <a:lnTo>
                  <a:pt x="198" y="44"/>
                </a:lnTo>
                <a:lnTo>
                  <a:pt x="208" y="50"/>
                </a:lnTo>
                <a:lnTo>
                  <a:pt x="217" y="54"/>
                </a:lnTo>
                <a:lnTo>
                  <a:pt x="225" y="58"/>
                </a:lnTo>
                <a:lnTo>
                  <a:pt x="233" y="61"/>
                </a:lnTo>
                <a:lnTo>
                  <a:pt x="240" y="63"/>
                </a:lnTo>
                <a:lnTo>
                  <a:pt x="246" y="67"/>
                </a:lnTo>
                <a:lnTo>
                  <a:pt x="252" y="71"/>
                </a:lnTo>
                <a:lnTo>
                  <a:pt x="256" y="73"/>
                </a:lnTo>
                <a:lnTo>
                  <a:pt x="260" y="77"/>
                </a:lnTo>
                <a:lnTo>
                  <a:pt x="262" y="79"/>
                </a:lnTo>
                <a:lnTo>
                  <a:pt x="265" y="88"/>
                </a:lnTo>
                <a:lnTo>
                  <a:pt x="267" y="98"/>
                </a:lnTo>
                <a:lnTo>
                  <a:pt x="269" y="107"/>
                </a:lnTo>
                <a:lnTo>
                  <a:pt x="269" y="117"/>
                </a:lnTo>
                <a:lnTo>
                  <a:pt x="269" y="127"/>
                </a:lnTo>
                <a:lnTo>
                  <a:pt x="267" y="138"/>
                </a:lnTo>
                <a:lnTo>
                  <a:pt x="265" y="150"/>
                </a:lnTo>
                <a:lnTo>
                  <a:pt x="262" y="163"/>
                </a:lnTo>
                <a:lnTo>
                  <a:pt x="260" y="167"/>
                </a:lnTo>
                <a:lnTo>
                  <a:pt x="260" y="173"/>
                </a:lnTo>
                <a:lnTo>
                  <a:pt x="258" y="180"/>
                </a:lnTo>
                <a:lnTo>
                  <a:pt x="256" y="188"/>
                </a:lnTo>
                <a:lnTo>
                  <a:pt x="256" y="198"/>
                </a:lnTo>
                <a:lnTo>
                  <a:pt x="254" y="209"/>
                </a:lnTo>
                <a:lnTo>
                  <a:pt x="252" y="221"/>
                </a:lnTo>
                <a:lnTo>
                  <a:pt x="250" y="234"/>
                </a:lnTo>
                <a:lnTo>
                  <a:pt x="248" y="249"/>
                </a:lnTo>
                <a:lnTo>
                  <a:pt x="248" y="265"/>
                </a:lnTo>
                <a:lnTo>
                  <a:pt x="246" y="284"/>
                </a:lnTo>
                <a:lnTo>
                  <a:pt x="244" y="303"/>
                </a:lnTo>
                <a:lnTo>
                  <a:pt x="242" y="322"/>
                </a:lnTo>
                <a:lnTo>
                  <a:pt x="240" y="345"/>
                </a:lnTo>
                <a:lnTo>
                  <a:pt x="239" y="368"/>
                </a:lnTo>
                <a:lnTo>
                  <a:pt x="237" y="393"/>
                </a:lnTo>
                <a:lnTo>
                  <a:pt x="235" y="418"/>
                </a:lnTo>
                <a:lnTo>
                  <a:pt x="233" y="445"/>
                </a:lnTo>
                <a:lnTo>
                  <a:pt x="231" y="474"/>
                </a:lnTo>
                <a:lnTo>
                  <a:pt x="229" y="505"/>
                </a:lnTo>
                <a:lnTo>
                  <a:pt x="225" y="535"/>
                </a:lnTo>
                <a:lnTo>
                  <a:pt x="223" y="570"/>
                </a:lnTo>
                <a:lnTo>
                  <a:pt x="221" y="604"/>
                </a:lnTo>
                <a:lnTo>
                  <a:pt x="219" y="639"/>
                </a:lnTo>
                <a:lnTo>
                  <a:pt x="217" y="677"/>
                </a:lnTo>
                <a:lnTo>
                  <a:pt x="215" y="716"/>
                </a:lnTo>
                <a:lnTo>
                  <a:pt x="214" y="754"/>
                </a:lnTo>
                <a:lnTo>
                  <a:pt x="212" y="796"/>
                </a:lnTo>
                <a:lnTo>
                  <a:pt x="208" y="839"/>
                </a:lnTo>
                <a:lnTo>
                  <a:pt x="206" y="883"/>
                </a:lnTo>
                <a:lnTo>
                  <a:pt x="204" y="929"/>
                </a:lnTo>
                <a:lnTo>
                  <a:pt x="202" y="9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40"/>
          <p:cNvSpPr/>
          <p:nvPr/>
        </p:nvSpPr>
        <p:spPr>
          <a:xfrm>
            <a:off x="7327800" y="2967120"/>
            <a:ext cx="406440" cy="415800"/>
          </a:xfrm>
          <a:custGeom>
            <a:avLst/>
            <a:gdLst/>
            <a:ahLst/>
            <a:rect l="l" t="t" r="r" b="b"/>
            <a:pathLst>
              <a:path w="513" h="523">
                <a:moveTo>
                  <a:pt x="405" y="280"/>
                </a:moveTo>
                <a:lnTo>
                  <a:pt x="376" y="297"/>
                </a:lnTo>
                <a:lnTo>
                  <a:pt x="350" y="316"/>
                </a:lnTo>
                <a:lnTo>
                  <a:pt x="319" y="333"/>
                </a:lnTo>
                <a:lnTo>
                  <a:pt x="288" y="353"/>
                </a:lnTo>
                <a:lnTo>
                  <a:pt x="257" y="372"/>
                </a:lnTo>
                <a:lnTo>
                  <a:pt x="225" y="393"/>
                </a:lnTo>
                <a:lnTo>
                  <a:pt x="190" y="414"/>
                </a:lnTo>
                <a:lnTo>
                  <a:pt x="156" y="437"/>
                </a:lnTo>
                <a:lnTo>
                  <a:pt x="138" y="449"/>
                </a:lnTo>
                <a:lnTo>
                  <a:pt x="123" y="458"/>
                </a:lnTo>
                <a:lnTo>
                  <a:pt x="108" y="468"/>
                </a:lnTo>
                <a:lnTo>
                  <a:pt x="92" y="477"/>
                </a:lnTo>
                <a:lnTo>
                  <a:pt x="81" y="485"/>
                </a:lnTo>
                <a:lnTo>
                  <a:pt x="67" y="493"/>
                </a:lnTo>
                <a:lnTo>
                  <a:pt x="58" y="500"/>
                </a:lnTo>
                <a:lnTo>
                  <a:pt x="48" y="506"/>
                </a:lnTo>
                <a:lnTo>
                  <a:pt x="39" y="512"/>
                </a:lnTo>
                <a:lnTo>
                  <a:pt x="31" y="516"/>
                </a:lnTo>
                <a:lnTo>
                  <a:pt x="23" y="520"/>
                </a:lnTo>
                <a:lnTo>
                  <a:pt x="17" y="522"/>
                </a:lnTo>
                <a:lnTo>
                  <a:pt x="12" y="523"/>
                </a:lnTo>
                <a:lnTo>
                  <a:pt x="8" y="523"/>
                </a:lnTo>
                <a:lnTo>
                  <a:pt x="4" y="523"/>
                </a:lnTo>
                <a:lnTo>
                  <a:pt x="2" y="522"/>
                </a:lnTo>
                <a:lnTo>
                  <a:pt x="0" y="518"/>
                </a:lnTo>
                <a:lnTo>
                  <a:pt x="0" y="516"/>
                </a:lnTo>
                <a:lnTo>
                  <a:pt x="0" y="510"/>
                </a:lnTo>
                <a:lnTo>
                  <a:pt x="4" y="506"/>
                </a:lnTo>
                <a:lnTo>
                  <a:pt x="8" y="498"/>
                </a:lnTo>
                <a:lnTo>
                  <a:pt x="12" y="493"/>
                </a:lnTo>
                <a:lnTo>
                  <a:pt x="17" y="483"/>
                </a:lnTo>
                <a:lnTo>
                  <a:pt x="25" y="475"/>
                </a:lnTo>
                <a:lnTo>
                  <a:pt x="35" y="464"/>
                </a:lnTo>
                <a:lnTo>
                  <a:pt x="42" y="452"/>
                </a:lnTo>
                <a:lnTo>
                  <a:pt x="54" y="441"/>
                </a:lnTo>
                <a:lnTo>
                  <a:pt x="65" y="427"/>
                </a:lnTo>
                <a:lnTo>
                  <a:pt x="77" y="414"/>
                </a:lnTo>
                <a:lnTo>
                  <a:pt x="90" y="399"/>
                </a:lnTo>
                <a:lnTo>
                  <a:pt x="106" y="381"/>
                </a:lnTo>
                <a:lnTo>
                  <a:pt x="119" y="364"/>
                </a:lnTo>
                <a:lnTo>
                  <a:pt x="135" y="347"/>
                </a:lnTo>
                <a:lnTo>
                  <a:pt x="150" y="332"/>
                </a:lnTo>
                <a:lnTo>
                  <a:pt x="163" y="316"/>
                </a:lnTo>
                <a:lnTo>
                  <a:pt x="175" y="303"/>
                </a:lnTo>
                <a:lnTo>
                  <a:pt x="188" y="287"/>
                </a:lnTo>
                <a:lnTo>
                  <a:pt x="200" y="274"/>
                </a:lnTo>
                <a:lnTo>
                  <a:pt x="209" y="261"/>
                </a:lnTo>
                <a:lnTo>
                  <a:pt x="221" y="247"/>
                </a:lnTo>
                <a:lnTo>
                  <a:pt x="231" y="234"/>
                </a:lnTo>
                <a:lnTo>
                  <a:pt x="240" y="222"/>
                </a:lnTo>
                <a:lnTo>
                  <a:pt x="248" y="211"/>
                </a:lnTo>
                <a:lnTo>
                  <a:pt x="257" y="199"/>
                </a:lnTo>
                <a:lnTo>
                  <a:pt x="265" y="188"/>
                </a:lnTo>
                <a:lnTo>
                  <a:pt x="273" y="176"/>
                </a:lnTo>
                <a:lnTo>
                  <a:pt x="279" y="166"/>
                </a:lnTo>
                <a:lnTo>
                  <a:pt x="286" y="157"/>
                </a:lnTo>
                <a:lnTo>
                  <a:pt x="290" y="149"/>
                </a:lnTo>
                <a:lnTo>
                  <a:pt x="294" y="140"/>
                </a:lnTo>
                <a:lnTo>
                  <a:pt x="296" y="132"/>
                </a:lnTo>
                <a:lnTo>
                  <a:pt x="300" y="124"/>
                </a:lnTo>
                <a:lnTo>
                  <a:pt x="303" y="109"/>
                </a:lnTo>
                <a:lnTo>
                  <a:pt x="305" y="94"/>
                </a:lnTo>
                <a:lnTo>
                  <a:pt x="305" y="80"/>
                </a:lnTo>
                <a:lnTo>
                  <a:pt x="303" y="69"/>
                </a:lnTo>
                <a:lnTo>
                  <a:pt x="302" y="59"/>
                </a:lnTo>
                <a:lnTo>
                  <a:pt x="298" y="49"/>
                </a:lnTo>
                <a:lnTo>
                  <a:pt x="294" y="40"/>
                </a:lnTo>
                <a:lnTo>
                  <a:pt x="292" y="32"/>
                </a:lnTo>
                <a:lnTo>
                  <a:pt x="290" y="28"/>
                </a:lnTo>
                <a:lnTo>
                  <a:pt x="290" y="26"/>
                </a:lnTo>
                <a:lnTo>
                  <a:pt x="292" y="23"/>
                </a:lnTo>
                <a:lnTo>
                  <a:pt x="292" y="21"/>
                </a:lnTo>
                <a:lnTo>
                  <a:pt x="294" y="17"/>
                </a:lnTo>
                <a:lnTo>
                  <a:pt x="296" y="15"/>
                </a:lnTo>
                <a:lnTo>
                  <a:pt x="298" y="11"/>
                </a:lnTo>
                <a:lnTo>
                  <a:pt x="302" y="9"/>
                </a:lnTo>
                <a:lnTo>
                  <a:pt x="305" y="7"/>
                </a:lnTo>
                <a:lnTo>
                  <a:pt x="309" y="5"/>
                </a:lnTo>
                <a:lnTo>
                  <a:pt x="315" y="1"/>
                </a:lnTo>
                <a:lnTo>
                  <a:pt x="321" y="0"/>
                </a:lnTo>
                <a:lnTo>
                  <a:pt x="330" y="0"/>
                </a:lnTo>
                <a:lnTo>
                  <a:pt x="342" y="1"/>
                </a:lnTo>
                <a:lnTo>
                  <a:pt x="353" y="5"/>
                </a:lnTo>
                <a:lnTo>
                  <a:pt x="367" y="11"/>
                </a:lnTo>
                <a:lnTo>
                  <a:pt x="380" y="17"/>
                </a:lnTo>
                <a:lnTo>
                  <a:pt x="388" y="21"/>
                </a:lnTo>
                <a:lnTo>
                  <a:pt x="396" y="24"/>
                </a:lnTo>
                <a:lnTo>
                  <a:pt x="403" y="30"/>
                </a:lnTo>
                <a:lnTo>
                  <a:pt x="411" y="36"/>
                </a:lnTo>
                <a:lnTo>
                  <a:pt x="419" y="42"/>
                </a:lnTo>
                <a:lnTo>
                  <a:pt x="428" y="49"/>
                </a:lnTo>
                <a:lnTo>
                  <a:pt x="436" y="55"/>
                </a:lnTo>
                <a:lnTo>
                  <a:pt x="446" y="63"/>
                </a:lnTo>
                <a:lnTo>
                  <a:pt x="453" y="69"/>
                </a:lnTo>
                <a:lnTo>
                  <a:pt x="459" y="76"/>
                </a:lnTo>
                <a:lnTo>
                  <a:pt x="472" y="90"/>
                </a:lnTo>
                <a:lnTo>
                  <a:pt x="484" y="101"/>
                </a:lnTo>
                <a:lnTo>
                  <a:pt x="492" y="115"/>
                </a:lnTo>
                <a:lnTo>
                  <a:pt x="499" y="126"/>
                </a:lnTo>
                <a:lnTo>
                  <a:pt x="507" y="136"/>
                </a:lnTo>
                <a:lnTo>
                  <a:pt x="511" y="145"/>
                </a:lnTo>
                <a:lnTo>
                  <a:pt x="513" y="153"/>
                </a:lnTo>
                <a:lnTo>
                  <a:pt x="513" y="159"/>
                </a:lnTo>
                <a:lnTo>
                  <a:pt x="513" y="166"/>
                </a:lnTo>
                <a:lnTo>
                  <a:pt x="511" y="172"/>
                </a:lnTo>
                <a:lnTo>
                  <a:pt x="509" y="180"/>
                </a:lnTo>
                <a:lnTo>
                  <a:pt x="505" y="188"/>
                </a:lnTo>
                <a:lnTo>
                  <a:pt x="499" y="195"/>
                </a:lnTo>
                <a:lnTo>
                  <a:pt x="494" y="203"/>
                </a:lnTo>
                <a:lnTo>
                  <a:pt x="486" y="211"/>
                </a:lnTo>
                <a:lnTo>
                  <a:pt x="478" y="220"/>
                </a:lnTo>
                <a:lnTo>
                  <a:pt x="469" y="228"/>
                </a:lnTo>
                <a:lnTo>
                  <a:pt x="457" y="237"/>
                </a:lnTo>
                <a:lnTo>
                  <a:pt x="446" y="247"/>
                </a:lnTo>
                <a:lnTo>
                  <a:pt x="434" y="257"/>
                </a:lnTo>
                <a:lnTo>
                  <a:pt x="419" y="268"/>
                </a:lnTo>
                <a:lnTo>
                  <a:pt x="405" y="2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41"/>
          <p:cNvSpPr/>
          <p:nvPr/>
        </p:nvSpPr>
        <p:spPr>
          <a:xfrm>
            <a:off x="6756480" y="3578400"/>
            <a:ext cx="137880" cy="907920"/>
          </a:xfrm>
          <a:custGeom>
            <a:avLst/>
            <a:gdLst/>
            <a:ahLst/>
            <a:rect l="l" t="t" r="r" b="b"/>
            <a:pathLst>
              <a:path w="175" h="1144">
                <a:moveTo>
                  <a:pt x="10" y="113"/>
                </a:moveTo>
                <a:lnTo>
                  <a:pt x="8" y="104"/>
                </a:lnTo>
                <a:lnTo>
                  <a:pt x="6" y="92"/>
                </a:lnTo>
                <a:lnTo>
                  <a:pt x="4" y="83"/>
                </a:lnTo>
                <a:lnTo>
                  <a:pt x="2" y="73"/>
                </a:lnTo>
                <a:lnTo>
                  <a:pt x="2" y="65"/>
                </a:lnTo>
                <a:lnTo>
                  <a:pt x="2" y="56"/>
                </a:lnTo>
                <a:lnTo>
                  <a:pt x="0" y="48"/>
                </a:lnTo>
                <a:lnTo>
                  <a:pt x="0" y="42"/>
                </a:lnTo>
                <a:lnTo>
                  <a:pt x="0" y="35"/>
                </a:lnTo>
                <a:lnTo>
                  <a:pt x="2" y="29"/>
                </a:lnTo>
                <a:lnTo>
                  <a:pt x="2" y="23"/>
                </a:lnTo>
                <a:lnTo>
                  <a:pt x="2" y="19"/>
                </a:lnTo>
                <a:lnTo>
                  <a:pt x="4" y="15"/>
                </a:lnTo>
                <a:lnTo>
                  <a:pt x="6" y="12"/>
                </a:lnTo>
                <a:lnTo>
                  <a:pt x="8" y="8"/>
                </a:lnTo>
                <a:lnTo>
                  <a:pt x="10" y="6"/>
                </a:lnTo>
                <a:lnTo>
                  <a:pt x="12" y="4"/>
                </a:lnTo>
                <a:lnTo>
                  <a:pt x="16" y="2"/>
                </a:lnTo>
                <a:lnTo>
                  <a:pt x="21" y="0"/>
                </a:lnTo>
                <a:lnTo>
                  <a:pt x="27" y="0"/>
                </a:lnTo>
                <a:lnTo>
                  <a:pt x="35" y="0"/>
                </a:lnTo>
                <a:lnTo>
                  <a:pt x="42" y="0"/>
                </a:lnTo>
                <a:lnTo>
                  <a:pt x="52" y="0"/>
                </a:lnTo>
                <a:lnTo>
                  <a:pt x="62" y="2"/>
                </a:lnTo>
                <a:lnTo>
                  <a:pt x="73" y="4"/>
                </a:lnTo>
                <a:lnTo>
                  <a:pt x="85" y="4"/>
                </a:lnTo>
                <a:lnTo>
                  <a:pt x="98" y="6"/>
                </a:lnTo>
                <a:lnTo>
                  <a:pt x="112" y="8"/>
                </a:lnTo>
                <a:lnTo>
                  <a:pt x="125" y="10"/>
                </a:lnTo>
                <a:lnTo>
                  <a:pt x="142" y="12"/>
                </a:lnTo>
                <a:lnTo>
                  <a:pt x="158" y="15"/>
                </a:lnTo>
                <a:lnTo>
                  <a:pt x="175" y="17"/>
                </a:lnTo>
                <a:lnTo>
                  <a:pt x="175" y="50"/>
                </a:lnTo>
                <a:lnTo>
                  <a:pt x="175" y="81"/>
                </a:lnTo>
                <a:lnTo>
                  <a:pt x="175" y="111"/>
                </a:lnTo>
                <a:lnTo>
                  <a:pt x="175" y="142"/>
                </a:lnTo>
                <a:lnTo>
                  <a:pt x="175" y="173"/>
                </a:lnTo>
                <a:lnTo>
                  <a:pt x="175" y="201"/>
                </a:lnTo>
                <a:lnTo>
                  <a:pt x="175" y="232"/>
                </a:lnTo>
                <a:lnTo>
                  <a:pt x="175" y="261"/>
                </a:lnTo>
                <a:lnTo>
                  <a:pt x="175" y="288"/>
                </a:lnTo>
                <a:lnTo>
                  <a:pt x="175" y="317"/>
                </a:lnTo>
                <a:lnTo>
                  <a:pt x="175" y="344"/>
                </a:lnTo>
                <a:lnTo>
                  <a:pt x="175" y="370"/>
                </a:lnTo>
                <a:lnTo>
                  <a:pt x="175" y="395"/>
                </a:lnTo>
                <a:lnTo>
                  <a:pt x="175" y="422"/>
                </a:lnTo>
                <a:lnTo>
                  <a:pt x="175" y="447"/>
                </a:lnTo>
                <a:lnTo>
                  <a:pt x="175" y="472"/>
                </a:lnTo>
                <a:lnTo>
                  <a:pt x="175" y="497"/>
                </a:lnTo>
                <a:lnTo>
                  <a:pt x="175" y="520"/>
                </a:lnTo>
                <a:lnTo>
                  <a:pt x="175" y="543"/>
                </a:lnTo>
                <a:lnTo>
                  <a:pt x="175" y="566"/>
                </a:lnTo>
                <a:lnTo>
                  <a:pt x="175" y="589"/>
                </a:lnTo>
                <a:lnTo>
                  <a:pt x="175" y="610"/>
                </a:lnTo>
                <a:lnTo>
                  <a:pt x="175" y="631"/>
                </a:lnTo>
                <a:lnTo>
                  <a:pt x="175" y="652"/>
                </a:lnTo>
                <a:lnTo>
                  <a:pt x="175" y="674"/>
                </a:lnTo>
                <a:lnTo>
                  <a:pt x="175" y="693"/>
                </a:lnTo>
                <a:lnTo>
                  <a:pt x="175" y="712"/>
                </a:lnTo>
                <a:lnTo>
                  <a:pt x="175" y="731"/>
                </a:lnTo>
                <a:lnTo>
                  <a:pt x="175" y="750"/>
                </a:lnTo>
                <a:lnTo>
                  <a:pt x="175" y="768"/>
                </a:lnTo>
                <a:lnTo>
                  <a:pt x="175" y="785"/>
                </a:lnTo>
                <a:lnTo>
                  <a:pt x="173" y="802"/>
                </a:lnTo>
                <a:lnTo>
                  <a:pt x="173" y="835"/>
                </a:lnTo>
                <a:lnTo>
                  <a:pt x="173" y="866"/>
                </a:lnTo>
                <a:lnTo>
                  <a:pt x="173" y="894"/>
                </a:lnTo>
                <a:lnTo>
                  <a:pt x="173" y="921"/>
                </a:lnTo>
                <a:lnTo>
                  <a:pt x="173" y="946"/>
                </a:lnTo>
                <a:lnTo>
                  <a:pt x="171" y="969"/>
                </a:lnTo>
                <a:lnTo>
                  <a:pt x="171" y="990"/>
                </a:lnTo>
                <a:lnTo>
                  <a:pt x="171" y="1009"/>
                </a:lnTo>
                <a:lnTo>
                  <a:pt x="169" y="1027"/>
                </a:lnTo>
                <a:lnTo>
                  <a:pt x="169" y="1042"/>
                </a:lnTo>
                <a:lnTo>
                  <a:pt x="169" y="1055"/>
                </a:lnTo>
                <a:lnTo>
                  <a:pt x="167" y="1067"/>
                </a:lnTo>
                <a:lnTo>
                  <a:pt x="167" y="1077"/>
                </a:lnTo>
                <a:lnTo>
                  <a:pt x="165" y="1086"/>
                </a:lnTo>
                <a:lnTo>
                  <a:pt x="165" y="1092"/>
                </a:lnTo>
                <a:lnTo>
                  <a:pt x="163" y="1096"/>
                </a:lnTo>
                <a:lnTo>
                  <a:pt x="162" y="1103"/>
                </a:lnTo>
                <a:lnTo>
                  <a:pt x="160" y="1109"/>
                </a:lnTo>
                <a:lnTo>
                  <a:pt x="156" y="1115"/>
                </a:lnTo>
                <a:lnTo>
                  <a:pt x="154" y="1119"/>
                </a:lnTo>
                <a:lnTo>
                  <a:pt x="150" y="1123"/>
                </a:lnTo>
                <a:lnTo>
                  <a:pt x="146" y="1126"/>
                </a:lnTo>
                <a:lnTo>
                  <a:pt x="140" y="1134"/>
                </a:lnTo>
                <a:lnTo>
                  <a:pt x="133" y="1138"/>
                </a:lnTo>
                <a:lnTo>
                  <a:pt x="127" y="1142"/>
                </a:lnTo>
                <a:lnTo>
                  <a:pt x="121" y="1144"/>
                </a:lnTo>
                <a:lnTo>
                  <a:pt x="117" y="1144"/>
                </a:lnTo>
                <a:lnTo>
                  <a:pt x="114" y="1144"/>
                </a:lnTo>
                <a:lnTo>
                  <a:pt x="112" y="1144"/>
                </a:lnTo>
                <a:lnTo>
                  <a:pt x="108" y="1142"/>
                </a:lnTo>
                <a:lnTo>
                  <a:pt x="106" y="1140"/>
                </a:lnTo>
                <a:lnTo>
                  <a:pt x="102" y="1138"/>
                </a:lnTo>
                <a:lnTo>
                  <a:pt x="98" y="1134"/>
                </a:lnTo>
                <a:lnTo>
                  <a:pt x="94" y="1130"/>
                </a:lnTo>
                <a:lnTo>
                  <a:pt x="90" y="1126"/>
                </a:lnTo>
                <a:lnTo>
                  <a:pt x="87" y="1121"/>
                </a:lnTo>
                <a:lnTo>
                  <a:pt x="83" y="1117"/>
                </a:lnTo>
                <a:lnTo>
                  <a:pt x="79" y="1109"/>
                </a:lnTo>
                <a:lnTo>
                  <a:pt x="75" y="1103"/>
                </a:lnTo>
                <a:lnTo>
                  <a:pt x="69" y="1096"/>
                </a:lnTo>
                <a:lnTo>
                  <a:pt x="66" y="1088"/>
                </a:lnTo>
                <a:lnTo>
                  <a:pt x="62" y="1080"/>
                </a:lnTo>
                <a:lnTo>
                  <a:pt x="58" y="1071"/>
                </a:lnTo>
                <a:lnTo>
                  <a:pt x="50" y="1063"/>
                </a:lnTo>
                <a:lnTo>
                  <a:pt x="46" y="1054"/>
                </a:lnTo>
                <a:lnTo>
                  <a:pt x="41" y="1042"/>
                </a:lnTo>
                <a:lnTo>
                  <a:pt x="37" y="1032"/>
                </a:lnTo>
                <a:lnTo>
                  <a:pt x="33" y="1023"/>
                </a:lnTo>
                <a:lnTo>
                  <a:pt x="31" y="1011"/>
                </a:lnTo>
                <a:lnTo>
                  <a:pt x="29" y="1002"/>
                </a:lnTo>
                <a:lnTo>
                  <a:pt x="27" y="990"/>
                </a:lnTo>
                <a:lnTo>
                  <a:pt x="27" y="979"/>
                </a:lnTo>
                <a:lnTo>
                  <a:pt x="27" y="967"/>
                </a:lnTo>
                <a:lnTo>
                  <a:pt x="27" y="954"/>
                </a:lnTo>
                <a:lnTo>
                  <a:pt x="27" y="942"/>
                </a:lnTo>
                <a:lnTo>
                  <a:pt x="29" y="917"/>
                </a:lnTo>
                <a:lnTo>
                  <a:pt x="33" y="890"/>
                </a:lnTo>
                <a:lnTo>
                  <a:pt x="35" y="875"/>
                </a:lnTo>
                <a:lnTo>
                  <a:pt x="37" y="860"/>
                </a:lnTo>
                <a:lnTo>
                  <a:pt x="39" y="842"/>
                </a:lnTo>
                <a:lnTo>
                  <a:pt x="41" y="823"/>
                </a:lnTo>
                <a:lnTo>
                  <a:pt x="41" y="804"/>
                </a:lnTo>
                <a:lnTo>
                  <a:pt x="42" y="783"/>
                </a:lnTo>
                <a:lnTo>
                  <a:pt x="42" y="760"/>
                </a:lnTo>
                <a:lnTo>
                  <a:pt x="44" y="735"/>
                </a:lnTo>
                <a:lnTo>
                  <a:pt x="44" y="710"/>
                </a:lnTo>
                <a:lnTo>
                  <a:pt x="44" y="683"/>
                </a:lnTo>
                <a:lnTo>
                  <a:pt x="44" y="654"/>
                </a:lnTo>
                <a:lnTo>
                  <a:pt x="44" y="624"/>
                </a:lnTo>
                <a:lnTo>
                  <a:pt x="44" y="593"/>
                </a:lnTo>
                <a:lnTo>
                  <a:pt x="44" y="560"/>
                </a:lnTo>
                <a:lnTo>
                  <a:pt x="44" y="526"/>
                </a:lnTo>
                <a:lnTo>
                  <a:pt x="44" y="489"/>
                </a:lnTo>
                <a:lnTo>
                  <a:pt x="44" y="455"/>
                </a:lnTo>
                <a:lnTo>
                  <a:pt x="44" y="420"/>
                </a:lnTo>
                <a:lnTo>
                  <a:pt x="44" y="388"/>
                </a:lnTo>
                <a:lnTo>
                  <a:pt x="42" y="357"/>
                </a:lnTo>
                <a:lnTo>
                  <a:pt x="42" y="328"/>
                </a:lnTo>
                <a:lnTo>
                  <a:pt x="41" y="301"/>
                </a:lnTo>
                <a:lnTo>
                  <a:pt x="39" y="276"/>
                </a:lnTo>
                <a:lnTo>
                  <a:pt x="37" y="251"/>
                </a:lnTo>
                <a:lnTo>
                  <a:pt x="33" y="230"/>
                </a:lnTo>
                <a:lnTo>
                  <a:pt x="31" y="209"/>
                </a:lnTo>
                <a:lnTo>
                  <a:pt x="29" y="190"/>
                </a:lnTo>
                <a:lnTo>
                  <a:pt x="25" y="171"/>
                </a:lnTo>
                <a:lnTo>
                  <a:pt x="21" y="155"/>
                </a:lnTo>
                <a:lnTo>
                  <a:pt x="18" y="140"/>
                </a:lnTo>
                <a:lnTo>
                  <a:pt x="14" y="127"/>
                </a:lnTo>
                <a:lnTo>
                  <a:pt x="10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42"/>
          <p:cNvSpPr/>
          <p:nvPr/>
        </p:nvSpPr>
        <p:spPr>
          <a:xfrm>
            <a:off x="6564240" y="3781440"/>
            <a:ext cx="706680" cy="1198440"/>
          </a:xfrm>
          <a:custGeom>
            <a:avLst/>
            <a:gdLst/>
            <a:ahLst/>
            <a:rect l="l" t="t" r="r" b="b"/>
            <a:pathLst>
              <a:path w="889" h="1511">
                <a:moveTo>
                  <a:pt x="229" y="1411"/>
                </a:moveTo>
                <a:lnTo>
                  <a:pt x="204" y="1424"/>
                </a:lnTo>
                <a:lnTo>
                  <a:pt x="181" y="1438"/>
                </a:lnTo>
                <a:lnTo>
                  <a:pt x="160" y="1449"/>
                </a:lnTo>
                <a:lnTo>
                  <a:pt x="139" y="1459"/>
                </a:lnTo>
                <a:lnTo>
                  <a:pt x="121" y="1468"/>
                </a:lnTo>
                <a:lnTo>
                  <a:pt x="102" y="1478"/>
                </a:lnTo>
                <a:lnTo>
                  <a:pt x="87" y="1486"/>
                </a:lnTo>
                <a:lnTo>
                  <a:pt x="71" y="1491"/>
                </a:lnTo>
                <a:lnTo>
                  <a:pt x="58" y="1497"/>
                </a:lnTo>
                <a:lnTo>
                  <a:pt x="44" y="1503"/>
                </a:lnTo>
                <a:lnTo>
                  <a:pt x="33" y="1505"/>
                </a:lnTo>
                <a:lnTo>
                  <a:pt x="23" y="1509"/>
                </a:lnTo>
                <a:lnTo>
                  <a:pt x="16" y="1511"/>
                </a:lnTo>
                <a:lnTo>
                  <a:pt x="10" y="1511"/>
                </a:lnTo>
                <a:lnTo>
                  <a:pt x="6" y="1511"/>
                </a:lnTo>
                <a:lnTo>
                  <a:pt x="2" y="1509"/>
                </a:lnTo>
                <a:lnTo>
                  <a:pt x="0" y="1505"/>
                </a:lnTo>
                <a:lnTo>
                  <a:pt x="0" y="1503"/>
                </a:lnTo>
                <a:lnTo>
                  <a:pt x="0" y="1499"/>
                </a:lnTo>
                <a:lnTo>
                  <a:pt x="2" y="1495"/>
                </a:lnTo>
                <a:lnTo>
                  <a:pt x="6" y="1489"/>
                </a:lnTo>
                <a:lnTo>
                  <a:pt x="10" y="1484"/>
                </a:lnTo>
                <a:lnTo>
                  <a:pt x="16" y="1478"/>
                </a:lnTo>
                <a:lnTo>
                  <a:pt x="21" y="1472"/>
                </a:lnTo>
                <a:lnTo>
                  <a:pt x="29" y="1464"/>
                </a:lnTo>
                <a:lnTo>
                  <a:pt x="39" y="1457"/>
                </a:lnTo>
                <a:lnTo>
                  <a:pt x="50" y="1449"/>
                </a:lnTo>
                <a:lnTo>
                  <a:pt x="62" y="1440"/>
                </a:lnTo>
                <a:lnTo>
                  <a:pt x="73" y="1430"/>
                </a:lnTo>
                <a:lnTo>
                  <a:pt x="89" y="1420"/>
                </a:lnTo>
                <a:lnTo>
                  <a:pt x="104" y="1411"/>
                </a:lnTo>
                <a:lnTo>
                  <a:pt x="121" y="1399"/>
                </a:lnTo>
                <a:lnTo>
                  <a:pt x="139" y="1386"/>
                </a:lnTo>
                <a:lnTo>
                  <a:pt x="158" y="1374"/>
                </a:lnTo>
                <a:lnTo>
                  <a:pt x="175" y="1361"/>
                </a:lnTo>
                <a:lnTo>
                  <a:pt x="194" y="1346"/>
                </a:lnTo>
                <a:lnTo>
                  <a:pt x="213" y="1332"/>
                </a:lnTo>
                <a:lnTo>
                  <a:pt x="233" y="1315"/>
                </a:lnTo>
                <a:lnTo>
                  <a:pt x="252" y="1299"/>
                </a:lnTo>
                <a:lnTo>
                  <a:pt x="271" y="1282"/>
                </a:lnTo>
                <a:lnTo>
                  <a:pt x="290" y="1265"/>
                </a:lnTo>
                <a:lnTo>
                  <a:pt x="311" y="1246"/>
                </a:lnTo>
                <a:lnTo>
                  <a:pt x="331" y="1227"/>
                </a:lnTo>
                <a:lnTo>
                  <a:pt x="350" y="1205"/>
                </a:lnTo>
                <a:lnTo>
                  <a:pt x="369" y="1186"/>
                </a:lnTo>
                <a:lnTo>
                  <a:pt x="390" y="1165"/>
                </a:lnTo>
                <a:lnTo>
                  <a:pt x="409" y="1142"/>
                </a:lnTo>
                <a:lnTo>
                  <a:pt x="430" y="1119"/>
                </a:lnTo>
                <a:lnTo>
                  <a:pt x="450" y="1096"/>
                </a:lnTo>
                <a:lnTo>
                  <a:pt x="467" y="1073"/>
                </a:lnTo>
                <a:lnTo>
                  <a:pt x="484" y="1052"/>
                </a:lnTo>
                <a:lnTo>
                  <a:pt x="501" y="1029"/>
                </a:lnTo>
                <a:lnTo>
                  <a:pt x="517" y="1006"/>
                </a:lnTo>
                <a:lnTo>
                  <a:pt x="530" y="983"/>
                </a:lnTo>
                <a:lnTo>
                  <a:pt x="544" y="960"/>
                </a:lnTo>
                <a:lnTo>
                  <a:pt x="557" y="937"/>
                </a:lnTo>
                <a:lnTo>
                  <a:pt x="569" y="916"/>
                </a:lnTo>
                <a:lnTo>
                  <a:pt x="580" y="893"/>
                </a:lnTo>
                <a:lnTo>
                  <a:pt x="590" y="870"/>
                </a:lnTo>
                <a:lnTo>
                  <a:pt x="599" y="847"/>
                </a:lnTo>
                <a:lnTo>
                  <a:pt x="609" y="824"/>
                </a:lnTo>
                <a:lnTo>
                  <a:pt x="617" y="800"/>
                </a:lnTo>
                <a:lnTo>
                  <a:pt x="624" y="779"/>
                </a:lnTo>
                <a:lnTo>
                  <a:pt x="632" y="756"/>
                </a:lnTo>
                <a:lnTo>
                  <a:pt x="638" y="733"/>
                </a:lnTo>
                <a:lnTo>
                  <a:pt x="643" y="710"/>
                </a:lnTo>
                <a:lnTo>
                  <a:pt x="649" y="685"/>
                </a:lnTo>
                <a:lnTo>
                  <a:pt x="653" y="660"/>
                </a:lnTo>
                <a:lnTo>
                  <a:pt x="659" y="635"/>
                </a:lnTo>
                <a:lnTo>
                  <a:pt x="663" y="611"/>
                </a:lnTo>
                <a:lnTo>
                  <a:pt x="670" y="557"/>
                </a:lnTo>
                <a:lnTo>
                  <a:pt x="676" y="503"/>
                </a:lnTo>
                <a:lnTo>
                  <a:pt x="682" y="447"/>
                </a:lnTo>
                <a:lnTo>
                  <a:pt x="686" y="390"/>
                </a:lnTo>
                <a:lnTo>
                  <a:pt x="690" y="332"/>
                </a:lnTo>
                <a:lnTo>
                  <a:pt x="691" y="303"/>
                </a:lnTo>
                <a:lnTo>
                  <a:pt x="693" y="277"/>
                </a:lnTo>
                <a:lnTo>
                  <a:pt x="695" y="250"/>
                </a:lnTo>
                <a:lnTo>
                  <a:pt x="695" y="227"/>
                </a:lnTo>
                <a:lnTo>
                  <a:pt x="695" y="206"/>
                </a:lnTo>
                <a:lnTo>
                  <a:pt x="695" y="184"/>
                </a:lnTo>
                <a:lnTo>
                  <a:pt x="693" y="165"/>
                </a:lnTo>
                <a:lnTo>
                  <a:pt x="693" y="148"/>
                </a:lnTo>
                <a:lnTo>
                  <a:pt x="691" y="133"/>
                </a:lnTo>
                <a:lnTo>
                  <a:pt x="691" y="119"/>
                </a:lnTo>
                <a:lnTo>
                  <a:pt x="690" y="106"/>
                </a:lnTo>
                <a:lnTo>
                  <a:pt x="688" y="94"/>
                </a:lnTo>
                <a:lnTo>
                  <a:pt x="686" y="85"/>
                </a:lnTo>
                <a:lnTo>
                  <a:pt x="684" y="77"/>
                </a:lnTo>
                <a:lnTo>
                  <a:pt x="682" y="71"/>
                </a:lnTo>
                <a:lnTo>
                  <a:pt x="678" y="65"/>
                </a:lnTo>
                <a:lnTo>
                  <a:pt x="674" y="60"/>
                </a:lnTo>
                <a:lnTo>
                  <a:pt x="670" y="56"/>
                </a:lnTo>
                <a:lnTo>
                  <a:pt x="668" y="52"/>
                </a:lnTo>
                <a:lnTo>
                  <a:pt x="665" y="46"/>
                </a:lnTo>
                <a:lnTo>
                  <a:pt x="663" y="42"/>
                </a:lnTo>
                <a:lnTo>
                  <a:pt x="661" y="39"/>
                </a:lnTo>
                <a:lnTo>
                  <a:pt x="659" y="31"/>
                </a:lnTo>
                <a:lnTo>
                  <a:pt x="659" y="23"/>
                </a:lnTo>
                <a:lnTo>
                  <a:pt x="661" y="16"/>
                </a:lnTo>
                <a:lnTo>
                  <a:pt x="663" y="10"/>
                </a:lnTo>
                <a:lnTo>
                  <a:pt x="667" y="4"/>
                </a:lnTo>
                <a:lnTo>
                  <a:pt x="668" y="2"/>
                </a:lnTo>
                <a:lnTo>
                  <a:pt x="672" y="0"/>
                </a:lnTo>
                <a:lnTo>
                  <a:pt x="676" y="0"/>
                </a:lnTo>
                <a:lnTo>
                  <a:pt x="680" y="0"/>
                </a:lnTo>
                <a:lnTo>
                  <a:pt x="684" y="0"/>
                </a:lnTo>
                <a:lnTo>
                  <a:pt x="690" y="0"/>
                </a:lnTo>
                <a:lnTo>
                  <a:pt x="695" y="0"/>
                </a:lnTo>
                <a:lnTo>
                  <a:pt x="703" y="2"/>
                </a:lnTo>
                <a:lnTo>
                  <a:pt x="709" y="2"/>
                </a:lnTo>
                <a:lnTo>
                  <a:pt x="716" y="4"/>
                </a:lnTo>
                <a:lnTo>
                  <a:pt x="724" y="6"/>
                </a:lnTo>
                <a:lnTo>
                  <a:pt x="734" y="8"/>
                </a:lnTo>
                <a:lnTo>
                  <a:pt x="743" y="10"/>
                </a:lnTo>
                <a:lnTo>
                  <a:pt x="753" y="12"/>
                </a:lnTo>
                <a:lnTo>
                  <a:pt x="763" y="14"/>
                </a:lnTo>
                <a:lnTo>
                  <a:pt x="774" y="18"/>
                </a:lnTo>
                <a:lnTo>
                  <a:pt x="784" y="21"/>
                </a:lnTo>
                <a:lnTo>
                  <a:pt x="795" y="25"/>
                </a:lnTo>
                <a:lnTo>
                  <a:pt x="805" y="31"/>
                </a:lnTo>
                <a:lnTo>
                  <a:pt x="814" y="35"/>
                </a:lnTo>
                <a:lnTo>
                  <a:pt x="822" y="39"/>
                </a:lnTo>
                <a:lnTo>
                  <a:pt x="830" y="44"/>
                </a:lnTo>
                <a:lnTo>
                  <a:pt x="837" y="48"/>
                </a:lnTo>
                <a:lnTo>
                  <a:pt x="845" y="54"/>
                </a:lnTo>
                <a:lnTo>
                  <a:pt x="851" y="58"/>
                </a:lnTo>
                <a:lnTo>
                  <a:pt x="857" y="62"/>
                </a:lnTo>
                <a:lnTo>
                  <a:pt x="862" y="67"/>
                </a:lnTo>
                <a:lnTo>
                  <a:pt x="866" y="71"/>
                </a:lnTo>
                <a:lnTo>
                  <a:pt x="872" y="75"/>
                </a:lnTo>
                <a:lnTo>
                  <a:pt x="876" y="81"/>
                </a:lnTo>
                <a:lnTo>
                  <a:pt x="878" y="85"/>
                </a:lnTo>
                <a:lnTo>
                  <a:pt x="880" y="89"/>
                </a:lnTo>
                <a:lnTo>
                  <a:pt x="883" y="98"/>
                </a:lnTo>
                <a:lnTo>
                  <a:pt x="887" y="108"/>
                </a:lnTo>
                <a:lnTo>
                  <a:pt x="889" y="117"/>
                </a:lnTo>
                <a:lnTo>
                  <a:pt x="889" y="127"/>
                </a:lnTo>
                <a:lnTo>
                  <a:pt x="889" y="138"/>
                </a:lnTo>
                <a:lnTo>
                  <a:pt x="887" y="150"/>
                </a:lnTo>
                <a:lnTo>
                  <a:pt x="883" y="161"/>
                </a:lnTo>
                <a:lnTo>
                  <a:pt x="880" y="175"/>
                </a:lnTo>
                <a:lnTo>
                  <a:pt x="876" y="188"/>
                </a:lnTo>
                <a:lnTo>
                  <a:pt x="872" y="204"/>
                </a:lnTo>
                <a:lnTo>
                  <a:pt x="870" y="213"/>
                </a:lnTo>
                <a:lnTo>
                  <a:pt x="868" y="221"/>
                </a:lnTo>
                <a:lnTo>
                  <a:pt x="866" y="231"/>
                </a:lnTo>
                <a:lnTo>
                  <a:pt x="864" y="240"/>
                </a:lnTo>
                <a:lnTo>
                  <a:pt x="862" y="252"/>
                </a:lnTo>
                <a:lnTo>
                  <a:pt x="860" y="263"/>
                </a:lnTo>
                <a:lnTo>
                  <a:pt x="860" y="275"/>
                </a:lnTo>
                <a:lnTo>
                  <a:pt x="858" y="286"/>
                </a:lnTo>
                <a:lnTo>
                  <a:pt x="858" y="300"/>
                </a:lnTo>
                <a:lnTo>
                  <a:pt x="857" y="313"/>
                </a:lnTo>
                <a:lnTo>
                  <a:pt x="857" y="328"/>
                </a:lnTo>
                <a:lnTo>
                  <a:pt x="857" y="344"/>
                </a:lnTo>
                <a:lnTo>
                  <a:pt x="855" y="361"/>
                </a:lnTo>
                <a:lnTo>
                  <a:pt x="853" y="376"/>
                </a:lnTo>
                <a:lnTo>
                  <a:pt x="849" y="396"/>
                </a:lnTo>
                <a:lnTo>
                  <a:pt x="847" y="415"/>
                </a:lnTo>
                <a:lnTo>
                  <a:pt x="845" y="434"/>
                </a:lnTo>
                <a:lnTo>
                  <a:pt x="841" y="455"/>
                </a:lnTo>
                <a:lnTo>
                  <a:pt x="839" y="476"/>
                </a:lnTo>
                <a:lnTo>
                  <a:pt x="835" y="499"/>
                </a:lnTo>
                <a:lnTo>
                  <a:pt x="832" y="522"/>
                </a:lnTo>
                <a:lnTo>
                  <a:pt x="828" y="545"/>
                </a:lnTo>
                <a:lnTo>
                  <a:pt x="824" y="570"/>
                </a:lnTo>
                <a:lnTo>
                  <a:pt x="820" y="597"/>
                </a:lnTo>
                <a:lnTo>
                  <a:pt x="814" y="622"/>
                </a:lnTo>
                <a:lnTo>
                  <a:pt x="809" y="651"/>
                </a:lnTo>
                <a:lnTo>
                  <a:pt x="803" y="678"/>
                </a:lnTo>
                <a:lnTo>
                  <a:pt x="797" y="708"/>
                </a:lnTo>
                <a:lnTo>
                  <a:pt x="789" y="737"/>
                </a:lnTo>
                <a:lnTo>
                  <a:pt x="784" y="766"/>
                </a:lnTo>
                <a:lnTo>
                  <a:pt x="774" y="795"/>
                </a:lnTo>
                <a:lnTo>
                  <a:pt x="766" y="824"/>
                </a:lnTo>
                <a:lnTo>
                  <a:pt x="757" y="850"/>
                </a:lnTo>
                <a:lnTo>
                  <a:pt x="745" y="879"/>
                </a:lnTo>
                <a:lnTo>
                  <a:pt x="736" y="906"/>
                </a:lnTo>
                <a:lnTo>
                  <a:pt x="722" y="931"/>
                </a:lnTo>
                <a:lnTo>
                  <a:pt x="711" y="958"/>
                </a:lnTo>
                <a:lnTo>
                  <a:pt x="697" y="983"/>
                </a:lnTo>
                <a:lnTo>
                  <a:pt x="682" y="1008"/>
                </a:lnTo>
                <a:lnTo>
                  <a:pt x="667" y="1031"/>
                </a:lnTo>
                <a:lnTo>
                  <a:pt x="651" y="1054"/>
                </a:lnTo>
                <a:lnTo>
                  <a:pt x="634" y="1077"/>
                </a:lnTo>
                <a:lnTo>
                  <a:pt x="615" y="1098"/>
                </a:lnTo>
                <a:lnTo>
                  <a:pt x="595" y="1119"/>
                </a:lnTo>
                <a:lnTo>
                  <a:pt x="576" y="1142"/>
                </a:lnTo>
                <a:lnTo>
                  <a:pt x="555" y="1165"/>
                </a:lnTo>
                <a:lnTo>
                  <a:pt x="534" y="1186"/>
                </a:lnTo>
                <a:lnTo>
                  <a:pt x="513" y="1207"/>
                </a:lnTo>
                <a:lnTo>
                  <a:pt x="492" y="1227"/>
                </a:lnTo>
                <a:lnTo>
                  <a:pt x="471" y="1246"/>
                </a:lnTo>
                <a:lnTo>
                  <a:pt x="448" y="1265"/>
                </a:lnTo>
                <a:lnTo>
                  <a:pt x="425" y="1284"/>
                </a:lnTo>
                <a:lnTo>
                  <a:pt x="402" y="1301"/>
                </a:lnTo>
                <a:lnTo>
                  <a:pt x="379" y="1319"/>
                </a:lnTo>
                <a:lnTo>
                  <a:pt x="356" y="1336"/>
                </a:lnTo>
                <a:lnTo>
                  <a:pt x="331" y="1351"/>
                </a:lnTo>
                <a:lnTo>
                  <a:pt x="306" y="1367"/>
                </a:lnTo>
                <a:lnTo>
                  <a:pt x="281" y="1382"/>
                </a:lnTo>
                <a:lnTo>
                  <a:pt x="254" y="1397"/>
                </a:lnTo>
                <a:lnTo>
                  <a:pt x="229" y="14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43"/>
          <p:cNvSpPr/>
          <p:nvPr/>
        </p:nvSpPr>
        <p:spPr>
          <a:xfrm>
            <a:off x="7243920" y="4483080"/>
            <a:ext cx="450720" cy="438120"/>
          </a:xfrm>
          <a:custGeom>
            <a:avLst/>
            <a:gdLst/>
            <a:ahLst/>
            <a:rect l="l" t="t" r="r" b="b"/>
            <a:pathLst>
              <a:path w="568" h="551">
                <a:moveTo>
                  <a:pt x="426" y="200"/>
                </a:moveTo>
                <a:lnTo>
                  <a:pt x="443" y="213"/>
                </a:lnTo>
                <a:lnTo>
                  <a:pt x="460" y="226"/>
                </a:lnTo>
                <a:lnTo>
                  <a:pt x="474" y="240"/>
                </a:lnTo>
                <a:lnTo>
                  <a:pt x="489" y="253"/>
                </a:lnTo>
                <a:lnTo>
                  <a:pt x="501" y="267"/>
                </a:lnTo>
                <a:lnTo>
                  <a:pt x="512" y="280"/>
                </a:lnTo>
                <a:lnTo>
                  <a:pt x="524" y="294"/>
                </a:lnTo>
                <a:lnTo>
                  <a:pt x="533" y="307"/>
                </a:lnTo>
                <a:lnTo>
                  <a:pt x="541" y="322"/>
                </a:lnTo>
                <a:lnTo>
                  <a:pt x="549" y="336"/>
                </a:lnTo>
                <a:lnTo>
                  <a:pt x="554" y="349"/>
                </a:lnTo>
                <a:lnTo>
                  <a:pt x="560" y="363"/>
                </a:lnTo>
                <a:lnTo>
                  <a:pt x="564" y="376"/>
                </a:lnTo>
                <a:lnTo>
                  <a:pt x="566" y="390"/>
                </a:lnTo>
                <a:lnTo>
                  <a:pt x="568" y="403"/>
                </a:lnTo>
                <a:lnTo>
                  <a:pt x="568" y="416"/>
                </a:lnTo>
                <a:lnTo>
                  <a:pt x="568" y="430"/>
                </a:lnTo>
                <a:lnTo>
                  <a:pt x="568" y="443"/>
                </a:lnTo>
                <a:lnTo>
                  <a:pt x="568" y="455"/>
                </a:lnTo>
                <a:lnTo>
                  <a:pt x="568" y="466"/>
                </a:lnTo>
                <a:lnTo>
                  <a:pt x="568" y="478"/>
                </a:lnTo>
                <a:lnTo>
                  <a:pt x="568" y="487"/>
                </a:lnTo>
                <a:lnTo>
                  <a:pt x="568" y="497"/>
                </a:lnTo>
                <a:lnTo>
                  <a:pt x="568" y="507"/>
                </a:lnTo>
                <a:lnTo>
                  <a:pt x="566" y="514"/>
                </a:lnTo>
                <a:lnTo>
                  <a:pt x="566" y="522"/>
                </a:lnTo>
                <a:lnTo>
                  <a:pt x="564" y="528"/>
                </a:lnTo>
                <a:lnTo>
                  <a:pt x="564" y="533"/>
                </a:lnTo>
                <a:lnTo>
                  <a:pt x="562" y="539"/>
                </a:lnTo>
                <a:lnTo>
                  <a:pt x="560" y="543"/>
                </a:lnTo>
                <a:lnTo>
                  <a:pt x="558" y="547"/>
                </a:lnTo>
                <a:lnTo>
                  <a:pt x="556" y="551"/>
                </a:lnTo>
                <a:lnTo>
                  <a:pt x="554" y="551"/>
                </a:lnTo>
                <a:lnTo>
                  <a:pt x="551" y="551"/>
                </a:lnTo>
                <a:lnTo>
                  <a:pt x="549" y="551"/>
                </a:lnTo>
                <a:lnTo>
                  <a:pt x="545" y="549"/>
                </a:lnTo>
                <a:lnTo>
                  <a:pt x="541" y="547"/>
                </a:lnTo>
                <a:lnTo>
                  <a:pt x="537" y="545"/>
                </a:lnTo>
                <a:lnTo>
                  <a:pt x="531" y="541"/>
                </a:lnTo>
                <a:lnTo>
                  <a:pt x="528" y="537"/>
                </a:lnTo>
                <a:lnTo>
                  <a:pt x="522" y="533"/>
                </a:lnTo>
                <a:lnTo>
                  <a:pt x="514" y="530"/>
                </a:lnTo>
                <a:lnTo>
                  <a:pt x="508" y="524"/>
                </a:lnTo>
                <a:lnTo>
                  <a:pt x="501" y="518"/>
                </a:lnTo>
                <a:lnTo>
                  <a:pt x="493" y="512"/>
                </a:lnTo>
                <a:lnTo>
                  <a:pt x="485" y="505"/>
                </a:lnTo>
                <a:lnTo>
                  <a:pt x="476" y="497"/>
                </a:lnTo>
                <a:lnTo>
                  <a:pt x="466" y="489"/>
                </a:lnTo>
                <a:lnTo>
                  <a:pt x="456" y="482"/>
                </a:lnTo>
                <a:lnTo>
                  <a:pt x="447" y="472"/>
                </a:lnTo>
                <a:lnTo>
                  <a:pt x="437" y="462"/>
                </a:lnTo>
                <a:lnTo>
                  <a:pt x="426" y="453"/>
                </a:lnTo>
                <a:lnTo>
                  <a:pt x="414" y="441"/>
                </a:lnTo>
                <a:lnTo>
                  <a:pt x="403" y="432"/>
                </a:lnTo>
                <a:lnTo>
                  <a:pt x="389" y="420"/>
                </a:lnTo>
                <a:lnTo>
                  <a:pt x="376" y="407"/>
                </a:lnTo>
                <a:lnTo>
                  <a:pt x="362" y="395"/>
                </a:lnTo>
                <a:lnTo>
                  <a:pt x="349" y="382"/>
                </a:lnTo>
                <a:lnTo>
                  <a:pt x="334" y="368"/>
                </a:lnTo>
                <a:lnTo>
                  <a:pt x="320" y="353"/>
                </a:lnTo>
                <a:lnTo>
                  <a:pt x="305" y="338"/>
                </a:lnTo>
                <a:lnTo>
                  <a:pt x="289" y="324"/>
                </a:lnTo>
                <a:lnTo>
                  <a:pt x="272" y="307"/>
                </a:lnTo>
                <a:lnTo>
                  <a:pt x="240" y="276"/>
                </a:lnTo>
                <a:lnTo>
                  <a:pt x="211" y="247"/>
                </a:lnTo>
                <a:lnTo>
                  <a:pt x="195" y="232"/>
                </a:lnTo>
                <a:lnTo>
                  <a:pt x="182" y="219"/>
                </a:lnTo>
                <a:lnTo>
                  <a:pt x="169" y="205"/>
                </a:lnTo>
                <a:lnTo>
                  <a:pt x="155" y="194"/>
                </a:lnTo>
                <a:lnTo>
                  <a:pt x="144" y="180"/>
                </a:lnTo>
                <a:lnTo>
                  <a:pt x="130" y="169"/>
                </a:lnTo>
                <a:lnTo>
                  <a:pt x="119" y="157"/>
                </a:lnTo>
                <a:lnTo>
                  <a:pt x="109" y="146"/>
                </a:lnTo>
                <a:lnTo>
                  <a:pt x="97" y="136"/>
                </a:lnTo>
                <a:lnTo>
                  <a:pt x="88" y="127"/>
                </a:lnTo>
                <a:lnTo>
                  <a:pt x="78" y="117"/>
                </a:lnTo>
                <a:lnTo>
                  <a:pt x="71" y="107"/>
                </a:lnTo>
                <a:lnTo>
                  <a:pt x="61" y="98"/>
                </a:lnTo>
                <a:lnTo>
                  <a:pt x="53" y="90"/>
                </a:lnTo>
                <a:lnTo>
                  <a:pt x="46" y="82"/>
                </a:lnTo>
                <a:lnTo>
                  <a:pt x="40" y="75"/>
                </a:lnTo>
                <a:lnTo>
                  <a:pt x="32" y="67"/>
                </a:lnTo>
                <a:lnTo>
                  <a:pt x="26" y="61"/>
                </a:lnTo>
                <a:lnTo>
                  <a:pt x="23" y="54"/>
                </a:lnTo>
                <a:lnTo>
                  <a:pt x="17" y="48"/>
                </a:lnTo>
                <a:lnTo>
                  <a:pt x="13" y="42"/>
                </a:lnTo>
                <a:lnTo>
                  <a:pt x="9" y="38"/>
                </a:lnTo>
                <a:lnTo>
                  <a:pt x="7" y="33"/>
                </a:lnTo>
                <a:lnTo>
                  <a:pt x="3" y="29"/>
                </a:lnTo>
                <a:lnTo>
                  <a:pt x="1" y="25"/>
                </a:lnTo>
                <a:lnTo>
                  <a:pt x="0" y="23"/>
                </a:ln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1" y="10"/>
                </a:lnTo>
                <a:lnTo>
                  <a:pt x="5" y="6"/>
                </a:lnTo>
                <a:lnTo>
                  <a:pt x="9" y="4"/>
                </a:lnTo>
                <a:lnTo>
                  <a:pt x="13" y="2"/>
                </a:lnTo>
                <a:lnTo>
                  <a:pt x="21" y="0"/>
                </a:lnTo>
                <a:lnTo>
                  <a:pt x="28" y="0"/>
                </a:lnTo>
                <a:lnTo>
                  <a:pt x="36" y="0"/>
                </a:lnTo>
                <a:lnTo>
                  <a:pt x="48" y="0"/>
                </a:lnTo>
                <a:lnTo>
                  <a:pt x="57" y="2"/>
                </a:lnTo>
                <a:lnTo>
                  <a:pt x="71" y="4"/>
                </a:lnTo>
                <a:lnTo>
                  <a:pt x="84" y="8"/>
                </a:lnTo>
                <a:lnTo>
                  <a:pt x="99" y="11"/>
                </a:lnTo>
                <a:lnTo>
                  <a:pt x="117" y="17"/>
                </a:lnTo>
                <a:lnTo>
                  <a:pt x="134" y="23"/>
                </a:lnTo>
                <a:lnTo>
                  <a:pt x="153" y="29"/>
                </a:lnTo>
                <a:lnTo>
                  <a:pt x="190" y="42"/>
                </a:lnTo>
                <a:lnTo>
                  <a:pt x="224" y="59"/>
                </a:lnTo>
                <a:lnTo>
                  <a:pt x="241" y="67"/>
                </a:lnTo>
                <a:lnTo>
                  <a:pt x="261" y="77"/>
                </a:lnTo>
                <a:lnTo>
                  <a:pt x="278" y="86"/>
                </a:lnTo>
                <a:lnTo>
                  <a:pt x="295" y="96"/>
                </a:lnTo>
                <a:lnTo>
                  <a:pt x="312" y="105"/>
                </a:lnTo>
                <a:lnTo>
                  <a:pt x="330" y="117"/>
                </a:lnTo>
                <a:lnTo>
                  <a:pt x="345" y="129"/>
                </a:lnTo>
                <a:lnTo>
                  <a:pt x="362" y="142"/>
                </a:lnTo>
                <a:lnTo>
                  <a:pt x="380" y="153"/>
                </a:lnTo>
                <a:lnTo>
                  <a:pt x="395" y="169"/>
                </a:lnTo>
                <a:lnTo>
                  <a:pt x="410" y="182"/>
                </a:lnTo>
                <a:lnTo>
                  <a:pt x="426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44"/>
          <p:cNvSpPr/>
          <p:nvPr/>
        </p:nvSpPr>
        <p:spPr>
          <a:xfrm>
            <a:off x="6850080" y="3486240"/>
            <a:ext cx="790560" cy="976320"/>
          </a:xfrm>
          <a:custGeom>
            <a:avLst/>
            <a:gdLst/>
            <a:ahLst/>
            <a:rect l="l" t="t" r="r" b="b"/>
            <a:pathLst>
              <a:path w="997" h="1230">
                <a:moveTo>
                  <a:pt x="937" y="668"/>
                </a:moveTo>
                <a:lnTo>
                  <a:pt x="937" y="693"/>
                </a:lnTo>
                <a:lnTo>
                  <a:pt x="939" y="716"/>
                </a:lnTo>
                <a:lnTo>
                  <a:pt x="939" y="739"/>
                </a:lnTo>
                <a:lnTo>
                  <a:pt x="941" y="762"/>
                </a:lnTo>
                <a:lnTo>
                  <a:pt x="941" y="785"/>
                </a:lnTo>
                <a:lnTo>
                  <a:pt x="941" y="806"/>
                </a:lnTo>
                <a:lnTo>
                  <a:pt x="943" y="827"/>
                </a:lnTo>
                <a:lnTo>
                  <a:pt x="943" y="846"/>
                </a:lnTo>
                <a:lnTo>
                  <a:pt x="943" y="867"/>
                </a:lnTo>
                <a:lnTo>
                  <a:pt x="943" y="885"/>
                </a:lnTo>
                <a:lnTo>
                  <a:pt x="945" y="904"/>
                </a:lnTo>
                <a:lnTo>
                  <a:pt x="945" y="921"/>
                </a:lnTo>
                <a:lnTo>
                  <a:pt x="945" y="938"/>
                </a:lnTo>
                <a:lnTo>
                  <a:pt x="945" y="956"/>
                </a:lnTo>
                <a:lnTo>
                  <a:pt x="945" y="971"/>
                </a:lnTo>
                <a:lnTo>
                  <a:pt x="945" y="986"/>
                </a:lnTo>
                <a:lnTo>
                  <a:pt x="945" y="1000"/>
                </a:lnTo>
                <a:lnTo>
                  <a:pt x="945" y="1013"/>
                </a:lnTo>
                <a:lnTo>
                  <a:pt x="945" y="1027"/>
                </a:lnTo>
                <a:lnTo>
                  <a:pt x="945" y="1040"/>
                </a:lnTo>
                <a:lnTo>
                  <a:pt x="945" y="1052"/>
                </a:lnTo>
                <a:lnTo>
                  <a:pt x="943" y="1063"/>
                </a:lnTo>
                <a:lnTo>
                  <a:pt x="943" y="1073"/>
                </a:lnTo>
                <a:lnTo>
                  <a:pt x="943" y="1082"/>
                </a:lnTo>
                <a:lnTo>
                  <a:pt x="943" y="1092"/>
                </a:lnTo>
                <a:lnTo>
                  <a:pt x="941" y="1101"/>
                </a:lnTo>
                <a:lnTo>
                  <a:pt x="941" y="1109"/>
                </a:lnTo>
                <a:lnTo>
                  <a:pt x="941" y="1117"/>
                </a:lnTo>
                <a:lnTo>
                  <a:pt x="939" y="1125"/>
                </a:lnTo>
                <a:lnTo>
                  <a:pt x="939" y="1130"/>
                </a:lnTo>
                <a:lnTo>
                  <a:pt x="937" y="1136"/>
                </a:lnTo>
                <a:lnTo>
                  <a:pt x="937" y="1140"/>
                </a:lnTo>
                <a:lnTo>
                  <a:pt x="933" y="1149"/>
                </a:lnTo>
                <a:lnTo>
                  <a:pt x="931" y="1157"/>
                </a:lnTo>
                <a:lnTo>
                  <a:pt x="930" y="1165"/>
                </a:lnTo>
                <a:lnTo>
                  <a:pt x="926" y="1172"/>
                </a:lnTo>
                <a:lnTo>
                  <a:pt x="922" y="1178"/>
                </a:lnTo>
                <a:lnTo>
                  <a:pt x="920" y="1186"/>
                </a:lnTo>
                <a:lnTo>
                  <a:pt x="912" y="1196"/>
                </a:lnTo>
                <a:lnTo>
                  <a:pt x="906" y="1205"/>
                </a:lnTo>
                <a:lnTo>
                  <a:pt x="899" y="1213"/>
                </a:lnTo>
                <a:lnTo>
                  <a:pt x="893" y="1220"/>
                </a:lnTo>
                <a:lnTo>
                  <a:pt x="889" y="1224"/>
                </a:lnTo>
                <a:lnTo>
                  <a:pt x="887" y="1226"/>
                </a:lnTo>
                <a:lnTo>
                  <a:pt x="883" y="1228"/>
                </a:lnTo>
                <a:lnTo>
                  <a:pt x="882" y="1230"/>
                </a:lnTo>
                <a:lnTo>
                  <a:pt x="878" y="1230"/>
                </a:lnTo>
                <a:lnTo>
                  <a:pt x="874" y="1228"/>
                </a:lnTo>
                <a:lnTo>
                  <a:pt x="870" y="1228"/>
                </a:lnTo>
                <a:lnTo>
                  <a:pt x="866" y="1224"/>
                </a:lnTo>
                <a:lnTo>
                  <a:pt x="862" y="1222"/>
                </a:lnTo>
                <a:lnTo>
                  <a:pt x="857" y="1219"/>
                </a:lnTo>
                <a:lnTo>
                  <a:pt x="853" y="1213"/>
                </a:lnTo>
                <a:lnTo>
                  <a:pt x="847" y="1207"/>
                </a:lnTo>
                <a:lnTo>
                  <a:pt x="841" y="1201"/>
                </a:lnTo>
                <a:lnTo>
                  <a:pt x="835" y="1194"/>
                </a:lnTo>
                <a:lnTo>
                  <a:pt x="830" y="1186"/>
                </a:lnTo>
                <a:lnTo>
                  <a:pt x="824" y="1174"/>
                </a:lnTo>
                <a:lnTo>
                  <a:pt x="818" y="1165"/>
                </a:lnTo>
                <a:lnTo>
                  <a:pt x="810" y="1153"/>
                </a:lnTo>
                <a:lnTo>
                  <a:pt x="805" y="1142"/>
                </a:lnTo>
                <a:lnTo>
                  <a:pt x="801" y="1132"/>
                </a:lnTo>
                <a:lnTo>
                  <a:pt x="795" y="1121"/>
                </a:lnTo>
                <a:lnTo>
                  <a:pt x="791" y="1111"/>
                </a:lnTo>
                <a:lnTo>
                  <a:pt x="787" y="1101"/>
                </a:lnTo>
                <a:lnTo>
                  <a:pt x="786" y="1090"/>
                </a:lnTo>
                <a:lnTo>
                  <a:pt x="782" y="1080"/>
                </a:lnTo>
                <a:lnTo>
                  <a:pt x="780" y="1071"/>
                </a:lnTo>
                <a:lnTo>
                  <a:pt x="780" y="1061"/>
                </a:lnTo>
                <a:lnTo>
                  <a:pt x="778" y="1054"/>
                </a:lnTo>
                <a:lnTo>
                  <a:pt x="778" y="1044"/>
                </a:lnTo>
                <a:lnTo>
                  <a:pt x="778" y="1034"/>
                </a:lnTo>
                <a:lnTo>
                  <a:pt x="780" y="1025"/>
                </a:lnTo>
                <a:lnTo>
                  <a:pt x="780" y="1015"/>
                </a:lnTo>
                <a:lnTo>
                  <a:pt x="782" y="1007"/>
                </a:lnTo>
                <a:lnTo>
                  <a:pt x="784" y="1000"/>
                </a:lnTo>
                <a:lnTo>
                  <a:pt x="786" y="990"/>
                </a:lnTo>
                <a:lnTo>
                  <a:pt x="787" y="981"/>
                </a:lnTo>
                <a:lnTo>
                  <a:pt x="789" y="969"/>
                </a:lnTo>
                <a:lnTo>
                  <a:pt x="789" y="956"/>
                </a:lnTo>
                <a:lnTo>
                  <a:pt x="791" y="942"/>
                </a:lnTo>
                <a:lnTo>
                  <a:pt x="791" y="927"/>
                </a:lnTo>
                <a:lnTo>
                  <a:pt x="793" y="910"/>
                </a:lnTo>
                <a:lnTo>
                  <a:pt x="793" y="892"/>
                </a:lnTo>
                <a:lnTo>
                  <a:pt x="793" y="873"/>
                </a:lnTo>
                <a:lnTo>
                  <a:pt x="793" y="854"/>
                </a:lnTo>
                <a:lnTo>
                  <a:pt x="793" y="833"/>
                </a:lnTo>
                <a:lnTo>
                  <a:pt x="793" y="812"/>
                </a:lnTo>
                <a:lnTo>
                  <a:pt x="793" y="789"/>
                </a:lnTo>
                <a:lnTo>
                  <a:pt x="795" y="764"/>
                </a:lnTo>
                <a:lnTo>
                  <a:pt x="795" y="741"/>
                </a:lnTo>
                <a:lnTo>
                  <a:pt x="793" y="691"/>
                </a:lnTo>
                <a:lnTo>
                  <a:pt x="793" y="643"/>
                </a:lnTo>
                <a:lnTo>
                  <a:pt x="793" y="595"/>
                </a:lnTo>
                <a:lnTo>
                  <a:pt x="793" y="547"/>
                </a:lnTo>
                <a:lnTo>
                  <a:pt x="791" y="501"/>
                </a:lnTo>
                <a:lnTo>
                  <a:pt x="789" y="455"/>
                </a:lnTo>
                <a:lnTo>
                  <a:pt x="786" y="411"/>
                </a:lnTo>
                <a:lnTo>
                  <a:pt x="782" y="365"/>
                </a:lnTo>
                <a:lnTo>
                  <a:pt x="780" y="342"/>
                </a:lnTo>
                <a:lnTo>
                  <a:pt x="778" y="320"/>
                </a:lnTo>
                <a:lnTo>
                  <a:pt x="774" y="301"/>
                </a:lnTo>
                <a:lnTo>
                  <a:pt x="770" y="282"/>
                </a:lnTo>
                <a:lnTo>
                  <a:pt x="768" y="265"/>
                </a:lnTo>
                <a:lnTo>
                  <a:pt x="763" y="249"/>
                </a:lnTo>
                <a:lnTo>
                  <a:pt x="759" y="234"/>
                </a:lnTo>
                <a:lnTo>
                  <a:pt x="755" y="221"/>
                </a:lnTo>
                <a:lnTo>
                  <a:pt x="749" y="207"/>
                </a:lnTo>
                <a:lnTo>
                  <a:pt x="743" y="198"/>
                </a:lnTo>
                <a:lnTo>
                  <a:pt x="738" y="188"/>
                </a:lnTo>
                <a:lnTo>
                  <a:pt x="730" y="178"/>
                </a:lnTo>
                <a:lnTo>
                  <a:pt x="724" y="171"/>
                </a:lnTo>
                <a:lnTo>
                  <a:pt x="716" y="165"/>
                </a:lnTo>
                <a:lnTo>
                  <a:pt x="707" y="161"/>
                </a:lnTo>
                <a:lnTo>
                  <a:pt x="699" y="157"/>
                </a:lnTo>
                <a:lnTo>
                  <a:pt x="690" y="155"/>
                </a:lnTo>
                <a:lnTo>
                  <a:pt x="680" y="155"/>
                </a:lnTo>
                <a:lnTo>
                  <a:pt x="670" y="153"/>
                </a:lnTo>
                <a:lnTo>
                  <a:pt x="659" y="153"/>
                </a:lnTo>
                <a:lnTo>
                  <a:pt x="647" y="153"/>
                </a:lnTo>
                <a:lnTo>
                  <a:pt x="636" y="153"/>
                </a:lnTo>
                <a:lnTo>
                  <a:pt x="611" y="155"/>
                </a:lnTo>
                <a:lnTo>
                  <a:pt x="586" y="157"/>
                </a:lnTo>
                <a:lnTo>
                  <a:pt x="557" y="161"/>
                </a:lnTo>
                <a:lnTo>
                  <a:pt x="528" y="165"/>
                </a:lnTo>
                <a:lnTo>
                  <a:pt x="498" y="171"/>
                </a:lnTo>
                <a:lnTo>
                  <a:pt x="490" y="171"/>
                </a:lnTo>
                <a:lnTo>
                  <a:pt x="480" y="173"/>
                </a:lnTo>
                <a:lnTo>
                  <a:pt x="473" y="175"/>
                </a:lnTo>
                <a:lnTo>
                  <a:pt x="463" y="175"/>
                </a:lnTo>
                <a:lnTo>
                  <a:pt x="453" y="176"/>
                </a:lnTo>
                <a:lnTo>
                  <a:pt x="442" y="178"/>
                </a:lnTo>
                <a:lnTo>
                  <a:pt x="430" y="180"/>
                </a:lnTo>
                <a:lnTo>
                  <a:pt x="419" y="182"/>
                </a:lnTo>
                <a:lnTo>
                  <a:pt x="407" y="184"/>
                </a:lnTo>
                <a:lnTo>
                  <a:pt x="396" y="186"/>
                </a:lnTo>
                <a:lnTo>
                  <a:pt x="382" y="186"/>
                </a:lnTo>
                <a:lnTo>
                  <a:pt x="369" y="188"/>
                </a:lnTo>
                <a:lnTo>
                  <a:pt x="356" y="192"/>
                </a:lnTo>
                <a:lnTo>
                  <a:pt x="340" y="194"/>
                </a:lnTo>
                <a:lnTo>
                  <a:pt x="327" y="196"/>
                </a:lnTo>
                <a:lnTo>
                  <a:pt x="311" y="198"/>
                </a:lnTo>
                <a:lnTo>
                  <a:pt x="294" y="200"/>
                </a:lnTo>
                <a:lnTo>
                  <a:pt x="279" y="201"/>
                </a:lnTo>
                <a:lnTo>
                  <a:pt x="261" y="205"/>
                </a:lnTo>
                <a:lnTo>
                  <a:pt x="244" y="207"/>
                </a:lnTo>
                <a:lnTo>
                  <a:pt x="227" y="209"/>
                </a:lnTo>
                <a:lnTo>
                  <a:pt x="208" y="213"/>
                </a:lnTo>
                <a:lnTo>
                  <a:pt x="190" y="215"/>
                </a:lnTo>
                <a:lnTo>
                  <a:pt x="171" y="219"/>
                </a:lnTo>
                <a:lnTo>
                  <a:pt x="150" y="221"/>
                </a:lnTo>
                <a:lnTo>
                  <a:pt x="131" y="224"/>
                </a:lnTo>
                <a:lnTo>
                  <a:pt x="110" y="226"/>
                </a:lnTo>
                <a:lnTo>
                  <a:pt x="89" y="230"/>
                </a:lnTo>
                <a:lnTo>
                  <a:pt x="68" y="234"/>
                </a:lnTo>
                <a:lnTo>
                  <a:pt x="45" y="236"/>
                </a:lnTo>
                <a:lnTo>
                  <a:pt x="23" y="240"/>
                </a:lnTo>
                <a:lnTo>
                  <a:pt x="0" y="244"/>
                </a:lnTo>
                <a:lnTo>
                  <a:pt x="0" y="134"/>
                </a:lnTo>
                <a:lnTo>
                  <a:pt x="20" y="134"/>
                </a:lnTo>
                <a:lnTo>
                  <a:pt x="41" y="132"/>
                </a:lnTo>
                <a:lnTo>
                  <a:pt x="62" y="132"/>
                </a:lnTo>
                <a:lnTo>
                  <a:pt x="85" y="132"/>
                </a:lnTo>
                <a:lnTo>
                  <a:pt x="108" y="130"/>
                </a:lnTo>
                <a:lnTo>
                  <a:pt x="131" y="129"/>
                </a:lnTo>
                <a:lnTo>
                  <a:pt x="156" y="127"/>
                </a:lnTo>
                <a:lnTo>
                  <a:pt x="181" y="123"/>
                </a:lnTo>
                <a:lnTo>
                  <a:pt x="206" y="121"/>
                </a:lnTo>
                <a:lnTo>
                  <a:pt x="233" y="117"/>
                </a:lnTo>
                <a:lnTo>
                  <a:pt x="261" y="113"/>
                </a:lnTo>
                <a:lnTo>
                  <a:pt x="290" y="109"/>
                </a:lnTo>
                <a:lnTo>
                  <a:pt x="319" y="104"/>
                </a:lnTo>
                <a:lnTo>
                  <a:pt x="350" y="98"/>
                </a:lnTo>
                <a:lnTo>
                  <a:pt x="382" y="92"/>
                </a:lnTo>
                <a:lnTo>
                  <a:pt x="415" y="86"/>
                </a:lnTo>
                <a:lnTo>
                  <a:pt x="446" y="81"/>
                </a:lnTo>
                <a:lnTo>
                  <a:pt x="473" y="77"/>
                </a:lnTo>
                <a:lnTo>
                  <a:pt x="499" y="71"/>
                </a:lnTo>
                <a:lnTo>
                  <a:pt x="526" y="67"/>
                </a:lnTo>
                <a:lnTo>
                  <a:pt x="549" y="63"/>
                </a:lnTo>
                <a:lnTo>
                  <a:pt x="571" y="59"/>
                </a:lnTo>
                <a:lnTo>
                  <a:pt x="592" y="54"/>
                </a:lnTo>
                <a:lnTo>
                  <a:pt x="611" y="50"/>
                </a:lnTo>
                <a:lnTo>
                  <a:pt x="626" y="46"/>
                </a:lnTo>
                <a:lnTo>
                  <a:pt x="642" y="42"/>
                </a:lnTo>
                <a:lnTo>
                  <a:pt x="657" y="40"/>
                </a:lnTo>
                <a:lnTo>
                  <a:pt x="668" y="36"/>
                </a:lnTo>
                <a:lnTo>
                  <a:pt x="678" y="33"/>
                </a:lnTo>
                <a:lnTo>
                  <a:pt x="688" y="31"/>
                </a:lnTo>
                <a:lnTo>
                  <a:pt x="693" y="27"/>
                </a:lnTo>
                <a:lnTo>
                  <a:pt x="699" y="25"/>
                </a:lnTo>
                <a:lnTo>
                  <a:pt x="705" y="21"/>
                </a:lnTo>
                <a:lnTo>
                  <a:pt x="711" y="15"/>
                </a:lnTo>
                <a:lnTo>
                  <a:pt x="716" y="11"/>
                </a:lnTo>
                <a:lnTo>
                  <a:pt x="724" y="8"/>
                </a:lnTo>
                <a:lnTo>
                  <a:pt x="732" y="6"/>
                </a:lnTo>
                <a:lnTo>
                  <a:pt x="741" y="2"/>
                </a:lnTo>
                <a:lnTo>
                  <a:pt x="749" y="2"/>
                </a:lnTo>
                <a:lnTo>
                  <a:pt x="759" y="0"/>
                </a:lnTo>
                <a:lnTo>
                  <a:pt x="761" y="2"/>
                </a:lnTo>
                <a:lnTo>
                  <a:pt x="764" y="2"/>
                </a:lnTo>
                <a:lnTo>
                  <a:pt x="768" y="4"/>
                </a:lnTo>
                <a:lnTo>
                  <a:pt x="774" y="6"/>
                </a:lnTo>
                <a:lnTo>
                  <a:pt x="780" y="8"/>
                </a:lnTo>
                <a:lnTo>
                  <a:pt x="786" y="10"/>
                </a:lnTo>
                <a:lnTo>
                  <a:pt x="793" y="13"/>
                </a:lnTo>
                <a:lnTo>
                  <a:pt x="801" y="17"/>
                </a:lnTo>
                <a:lnTo>
                  <a:pt x="810" y="21"/>
                </a:lnTo>
                <a:lnTo>
                  <a:pt x="820" y="25"/>
                </a:lnTo>
                <a:lnTo>
                  <a:pt x="830" y="31"/>
                </a:lnTo>
                <a:lnTo>
                  <a:pt x="841" y="36"/>
                </a:lnTo>
                <a:lnTo>
                  <a:pt x="851" y="42"/>
                </a:lnTo>
                <a:lnTo>
                  <a:pt x="864" y="48"/>
                </a:lnTo>
                <a:lnTo>
                  <a:pt x="876" y="54"/>
                </a:lnTo>
                <a:lnTo>
                  <a:pt x="889" y="61"/>
                </a:lnTo>
                <a:lnTo>
                  <a:pt x="899" y="71"/>
                </a:lnTo>
                <a:lnTo>
                  <a:pt x="910" y="79"/>
                </a:lnTo>
                <a:lnTo>
                  <a:pt x="920" y="88"/>
                </a:lnTo>
                <a:lnTo>
                  <a:pt x="930" y="96"/>
                </a:lnTo>
                <a:lnTo>
                  <a:pt x="937" y="104"/>
                </a:lnTo>
                <a:lnTo>
                  <a:pt x="945" y="109"/>
                </a:lnTo>
                <a:lnTo>
                  <a:pt x="953" y="117"/>
                </a:lnTo>
                <a:lnTo>
                  <a:pt x="960" y="123"/>
                </a:lnTo>
                <a:lnTo>
                  <a:pt x="966" y="129"/>
                </a:lnTo>
                <a:lnTo>
                  <a:pt x="972" y="134"/>
                </a:lnTo>
                <a:lnTo>
                  <a:pt x="978" y="140"/>
                </a:lnTo>
                <a:lnTo>
                  <a:pt x="981" y="144"/>
                </a:lnTo>
                <a:lnTo>
                  <a:pt x="987" y="150"/>
                </a:lnTo>
                <a:lnTo>
                  <a:pt x="991" y="152"/>
                </a:lnTo>
                <a:lnTo>
                  <a:pt x="993" y="155"/>
                </a:lnTo>
                <a:lnTo>
                  <a:pt x="997" y="157"/>
                </a:lnTo>
                <a:lnTo>
                  <a:pt x="995" y="167"/>
                </a:lnTo>
                <a:lnTo>
                  <a:pt x="993" y="176"/>
                </a:lnTo>
                <a:lnTo>
                  <a:pt x="991" y="186"/>
                </a:lnTo>
                <a:lnTo>
                  <a:pt x="987" y="194"/>
                </a:lnTo>
                <a:lnTo>
                  <a:pt x="981" y="203"/>
                </a:lnTo>
                <a:lnTo>
                  <a:pt x="976" y="213"/>
                </a:lnTo>
                <a:lnTo>
                  <a:pt x="968" y="223"/>
                </a:lnTo>
                <a:lnTo>
                  <a:pt x="960" y="230"/>
                </a:lnTo>
                <a:lnTo>
                  <a:pt x="958" y="234"/>
                </a:lnTo>
                <a:lnTo>
                  <a:pt x="956" y="238"/>
                </a:lnTo>
                <a:lnTo>
                  <a:pt x="954" y="242"/>
                </a:lnTo>
                <a:lnTo>
                  <a:pt x="953" y="246"/>
                </a:lnTo>
                <a:lnTo>
                  <a:pt x="951" y="251"/>
                </a:lnTo>
                <a:lnTo>
                  <a:pt x="949" y="257"/>
                </a:lnTo>
                <a:lnTo>
                  <a:pt x="947" y="265"/>
                </a:lnTo>
                <a:lnTo>
                  <a:pt x="945" y="272"/>
                </a:lnTo>
                <a:lnTo>
                  <a:pt x="943" y="280"/>
                </a:lnTo>
                <a:lnTo>
                  <a:pt x="941" y="290"/>
                </a:lnTo>
                <a:lnTo>
                  <a:pt x="941" y="299"/>
                </a:lnTo>
                <a:lnTo>
                  <a:pt x="939" y="309"/>
                </a:lnTo>
                <a:lnTo>
                  <a:pt x="937" y="320"/>
                </a:lnTo>
                <a:lnTo>
                  <a:pt x="937" y="332"/>
                </a:lnTo>
                <a:lnTo>
                  <a:pt x="935" y="345"/>
                </a:lnTo>
                <a:lnTo>
                  <a:pt x="935" y="359"/>
                </a:lnTo>
                <a:lnTo>
                  <a:pt x="933" y="372"/>
                </a:lnTo>
                <a:lnTo>
                  <a:pt x="933" y="388"/>
                </a:lnTo>
                <a:lnTo>
                  <a:pt x="933" y="403"/>
                </a:lnTo>
                <a:lnTo>
                  <a:pt x="933" y="418"/>
                </a:lnTo>
                <a:lnTo>
                  <a:pt x="931" y="436"/>
                </a:lnTo>
                <a:lnTo>
                  <a:pt x="931" y="453"/>
                </a:lnTo>
                <a:lnTo>
                  <a:pt x="931" y="472"/>
                </a:lnTo>
                <a:lnTo>
                  <a:pt x="931" y="489"/>
                </a:lnTo>
                <a:lnTo>
                  <a:pt x="931" y="510"/>
                </a:lnTo>
                <a:lnTo>
                  <a:pt x="931" y="530"/>
                </a:lnTo>
                <a:lnTo>
                  <a:pt x="933" y="551"/>
                </a:lnTo>
                <a:lnTo>
                  <a:pt x="933" y="574"/>
                </a:lnTo>
                <a:lnTo>
                  <a:pt x="933" y="595"/>
                </a:lnTo>
                <a:lnTo>
                  <a:pt x="935" y="620"/>
                </a:lnTo>
                <a:lnTo>
                  <a:pt x="935" y="643"/>
                </a:lnTo>
                <a:lnTo>
                  <a:pt x="937" y="6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45"/>
          <p:cNvSpPr/>
          <p:nvPr/>
        </p:nvSpPr>
        <p:spPr>
          <a:xfrm>
            <a:off x="6019920" y="3630600"/>
            <a:ext cx="574560" cy="174600"/>
          </a:xfrm>
          <a:custGeom>
            <a:avLst/>
            <a:gdLst/>
            <a:ahLst/>
            <a:rect l="l" t="t" r="r" b="b"/>
            <a:pathLst>
              <a:path w="724" h="219">
                <a:moveTo>
                  <a:pt x="0" y="121"/>
                </a:moveTo>
                <a:lnTo>
                  <a:pt x="31" y="113"/>
                </a:lnTo>
                <a:lnTo>
                  <a:pt x="61" y="106"/>
                </a:lnTo>
                <a:lnTo>
                  <a:pt x="92" y="98"/>
                </a:lnTo>
                <a:lnTo>
                  <a:pt x="121" y="92"/>
                </a:lnTo>
                <a:lnTo>
                  <a:pt x="150" y="85"/>
                </a:lnTo>
                <a:lnTo>
                  <a:pt x="177" y="79"/>
                </a:lnTo>
                <a:lnTo>
                  <a:pt x="203" y="73"/>
                </a:lnTo>
                <a:lnTo>
                  <a:pt x="228" y="65"/>
                </a:lnTo>
                <a:lnTo>
                  <a:pt x="253" y="60"/>
                </a:lnTo>
                <a:lnTo>
                  <a:pt x="276" y="56"/>
                </a:lnTo>
                <a:lnTo>
                  <a:pt x="299" y="50"/>
                </a:lnTo>
                <a:lnTo>
                  <a:pt x="321" y="44"/>
                </a:lnTo>
                <a:lnTo>
                  <a:pt x="342" y="41"/>
                </a:lnTo>
                <a:lnTo>
                  <a:pt x="363" y="37"/>
                </a:lnTo>
                <a:lnTo>
                  <a:pt x="382" y="33"/>
                </a:lnTo>
                <a:lnTo>
                  <a:pt x="399" y="29"/>
                </a:lnTo>
                <a:lnTo>
                  <a:pt x="417" y="25"/>
                </a:lnTo>
                <a:lnTo>
                  <a:pt x="434" y="21"/>
                </a:lnTo>
                <a:lnTo>
                  <a:pt x="449" y="19"/>
                </a:lnTo>
                <a:lnTo>
                  <a:pt x="465" y="16"/>
                </a:lnTo>
                <a:lnTo>
                  <a:pt x="478" y="14"/>
                </a:lnTo>
                <a:lnTo>
                  <a:pt x="490" y="12"/>
                </a:lnTo>
                <a:lnTo>
                  <a:pt x="503" y="10"/>
                </a:lnTo>
                <a:lnTo>
                  <a:pt x="513" y="8"/>
                </a:lnTo>
                <a:lnTo>
                  <a:pt x="524" y="6"/>
                </a:lnTo>
                <a:lnTo>
                  <a:pt x="532" y="4"/>
                </a:lnTo>
                <a:lnTo>
                  <a:pt x="541" y="2"/>
                </a:lnTo>
                <a:lnTo>
                  <a:pt x="549" y="2"/>
                </a:lnTo>
                <a:lnTo>
                  <a:pt x="555" y="2"/>
                </a:lnTo>
                <a:lnTo>
                  <a:pt x="561" y="0"/>
                </a:lnTo>
                <a:lnTo>
                  <a:pt x="564" y="0"/>
                </a:lnTo>
                <a:lnTo>
                  <a:pt x="568" y="0"/>
                </a:lnTo>
                <a:lnTo>
                  <a:pt x="582" y="0"/>
                </a:lnTo>
                <a:lnTo>
                  <a:pt x="595" y="2"/>
                </a:lnTo>
                <a:lnTo>
                  <a:pt x="609" y="4"/>
                </a:lnTo>
                <a:lnTo>
                  <a:pt x="622" y="8"/>
                </a:lnTo>
                <a:lnTo>
                  <a:pt x="635" y="12"/>
                </a:lnTo>
                <a:lnTo>
                  <a:pt x="649" y="16"/>
                </a:lnTo>
                <a:lnTo>
                  <a:pt x="676" y="25"/>
                </a:lnTo>
                <a:lnTo>
                  <a:pt x="682" y="27"/>
                </a:lnTo>
                <a:lnTo>
                  <a:pt x="687" y="29"/>
                </a:lnTo>
                <a:lnTo>
                  <a:pt x="693" y="31"/>
                </a:lnTo>
                <a:lnTo>
                  <a:pt x="699" y="35"/>
                </a:lnTo>
                <a:lnTo>
                  <a:pt x="703" y="37"/>
                </a:lnTo>
                <a:lnTo>
                  <a:pt x="706" y="39"/>
                </a:lnTo>
                <a:lnTo>
                  <a:pt x="712" y="42"/>
                </a:lnTo>
                <a:lnTo>
                  <a:pt x="718" y="48"/>
                </a:lnTo>
                <a:lnTo>
                  <a:pt x="720" y="52"/>
                </a:lnTo>
                <a:lnTo>
                  <a:pt x="722" y="56"/>
                </a:lnTo>
                <a:lnTo>
                  <a:pt x="724" y="62"/>
                </a:lnTo>
                <a:lnTo>
                  <a:pt x="722" y="65"/>
                </a:lnTo>
                <a:lnTo>
                  <a:pt x="720" y="71"/>
                </a:lnTo>
                <a:lnTo>
                  <a:pt x="718" y="75"/>
                </a:lnTo>
                <a:lnTo>
                  <a:pt x="712" y="81"/>
                </a:lnTo>
                <a:lnTo>
                  <a:pt x="706" y="87"/>
                </a:lnTo>
                <a:lnTo>
                  <a:pt x="703" y="90"/>
                </a:lnTo>
                <a:lnTo>
                  <a:pt x="697" y="94"/>
                </a:lnTo>
                <a:lnTo>
                  <a:pt x="693" y="96"/>
                </a:lnTo>
                <a:lnTo>
                  <a:pt x="687" y="102"/>
                </a:lnTo>
                <a:lnTo>
                  <a:pt x="682" y="106"/>
                </a:lnTo>
                <a:lnTo>
                  <a:pt x="676" y="110"/>
                </a:lnTo>
                <a:lnTo>
                  <a:pt x="668" y="113"/>
                </a:lnTo>
                <a:lnTo>
                  <a:pt x="660" y="117"/>
                </a:lnTo>
                <a:lnTo>
                  <a:pt x="653" y="123"/>
                </a:lnTo>
                <a:lnTo>
                  <a:pt x="645" y="125"/>
                </a:lnTo>
                <a:lnTo>
                  <a:pt x="635" y="129"/>
                </a:lnTo>
                <a:lnTo>
                  <a:pt x="626" y="133"/>
                </a:lnTo>
                <a:lnTo>
                  <a:pt x="614" y="135"/>
                </a:lnTo>
                <a:lnTo>
                  <a:pt x="605" y="138"/>
                </a:lnTo>
                <a:lnTo>
                  <a:pt x="593" y="140"/>
                </a:lnTo>
                <a:lnTo>
                  <a:pt x="582" y="144"/>
                </a:lnTo>
                <a:lnTo>
                  <a:pt x="568" y="146"/>
                </a:lnTo>
                <a:lnTo>
                  <a:pt x="555" y="148"/>
                </a:lnTo>
                <a:lnTo>
                  <a:pt x="541" y="152"/>
                </a:lnTo>
                <a:lnTo>
                  <a:pt x="528" y="154"/>
                </a:lnTo>
                <a:lnTo>
                  <a:pt x="513" y="156"/>
                </a:lnTo>
                <a:lnTo>
                  <a:pt x="497" y="158"/>
                </a:lnTo>
                <a:lnTo>
                  <a:pt x="466" y="163"/>
                </a:lnTo>
                <a:lnTo>
                  <a:pt x="438" y="167"/>
                </a:lnTo>
                <a:lnTo>
                  <a:pt x="409" y="171"/>
                </a:lnTo>
                <a:lnTo>
                  <a:pt x="382" y="177"/>
                </a:lnTo>
                <a:lnTo>
                  <a:pt x="355" y="181"/>
                </a:lnTo>
                <a:lnTo>
                  <a:pt x="330" y="184"/>
                </a:lnTo>
                <a:lnTo>
                  <a:pt x="307" y="190"/>
                </a:lnTo>
                <a:lnTo>
                  <a:pt x="284" y="194"/>
                </a:lnTo>
                <a:lnTo>
                  <a:pt x="263" y="200"/>
                </a:lnTo>
                <a:lnTo>
                  <a:pt x="242" y="204"/>
                </a:lnTo>
                <a:lnTo>
                  <a:pt x="223" y="208"/>
                </a:lnTo>
                <a:lnTo>
                  <a:pt x="205" y="211"/>
                </a:lnTo>
                <a:lnTo>
                  <a:pt x="190" y="215"/>
                </a:lnTo>
                <a:lnTo>
                  <a:pt x="182" y="215"/>
                </a:lnTo>
                <a:lnTo>
                  <a:pt x="177" y="217"/>
                </a:lnTo>
                <a:lnTo>
                  <a:pt x="169" y="217"/>
                </a:lnTo>
                <a:lnTo>
                  <a:pt x="163" y="219"/>
                </a:lnTo>
                <a:lnTo>
                  <a:pt x="157" y="219"/>
                </a:lnTo>
                <a:lnTo>
                  <a:pt x="154" y="219"/>
                </a:lnTo>
                <a:lnTo>
                  <a:pt x="144" y="217"/>
                </a:lnTo>
                <a:lnTo>
                  <a:pt x="136" y="217"/>
                </a:lnTo>
                <a:lnTo>
                  <a:pt x="127" y="213"/>
                </a:lnTo>
                <a:lnTo>
                  <a:pt x="117" y="209"/>
                </a:lnTo>
                <a:lnTo>
                  <a:pt x="106" y="206"/>
                </a:lnTo>
                <a:lnTo>
                  <a:pt x="96" y="198"/>
                </a:lnTo>
                <a:lnTo>
                  <a:pt x="83" y="190"/>
                </a:lnTo>
                <a:lnTo>
                  <a:pt x="71" y="183"/>
                </a:lnTo>
                <a:lnTo>
                  <a:pt x="58" y="177"/>
                </a:lnTo>
                <a:lnTo>
                  <a:pt x="46" y="171"/>
                </a:lnTo>
                <a:lnTo>
                  <a:pt x="36" y="163"/>
                </a:lnTo>
                <a:lnTo>
                  <a:pt x="27" y="156"/>
                </a:lnTo>
                <a:lnTo>
                  <a:pt x="17" y="148"/>
                </a:lnTo>
                <a:lnTo>
                  <a:pt x="10" y="140"/>
                </a:lnTo>
                <a:lnTo>
                  <a:pt x="4" y="131"/>
                </a:lnTo>
                <a:lnTo>
                  <a:pt x="0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46"/>
          <p:cNvSpPr/>
          <p:nvPr/>
        </p:nvSpPr>
        <p:spPr>
          <a:xfrm>
            <a:off x="6100920" y="3746520"/>
            <a:ext cx="541080" cy="1076400"/>
          </a:xfrm>
          <a:custGeom>
            <a:avLst/>
            <a:gdLst/>
            <a:ahLst/>
            <a:rect l="l" t="t" r="r" b="b"/>
            <a:pathLst>
              <a:path w="681" h="1357">
                <a:moveTo>
                  <a:pt x="182" y="1286"/>
                </a:moveTo>
                <a:lnTo>
                  <a:pt x="178" y="1294"/>
                </a:lnTo>
                <a:lnTo>
                  <a:pt x="173" y="1301"/>
                </a:lnTo>
                <a:lnTo>
                  <a:pt x="169" y="1309"/>
                </a:lnTo>
                <a:lnTo>
                  <a:pt x="165" y="1317"/>
                </a:lnTo>
                <a:lnTo>
                  <a:pt x="161" y="1324"/>
                </a:lnTo>
                <a:lnTo>
                  <a:pt x="157" y="1330"/>
                </a:lnTo>
                <a:lnTo>
                  <a:pt x="151" y="1334"/>
                </a:lnTo>
                <a:lnTo>
                  <a:pt x="148" y="1340"/>
                </a:lnTo>
                <a:lnTo>
                  <a:pt x="144" y="1343"/>
                </a:lnTo>
                <a:lnTo>
                  <a:pt x="140" y="1347"/>
                </a:lnTo>
                <a:lnTo>
                  <a:pt x="138" y="1351"/>
                </a:lnTo>
                <a:lnTo>
                  <a:pt x="134" y="1353"/>
                </a:lnTo>
                <a:lnTo>
                  <a:pt x="130" y="1355"/>
                </a:lnTo>
                <a:lnTo>
                  <a:pt x="128" y="1357"/>
                </a:lnTo>
                <a:lnTo>
                  <a:pt x="125" y="1357"/>
                </a:lnTo>
                <a:lnTo>
                  <a:pt x="123" y="1357"/>
                </a:lnTo>
                <a:lnTo>
                  <a:pt x="119" y="1357"/>
                </a:lnTo>
                <a:lnTo>
                  <a:pt x="111" y="1355"/>
                </a:lnTo>
                <a:lnTo>
                  <a:pt x="105" y="1353"/>
                </a:lnTo>
                <a:lnTo>
                  <a:pt x="98" y="1349"/>
                </a:lnTo>
                <a:lnTo>
                  <a:pt x="90" y="1343"/>
                </a:lnTo>
                <a:lnTo>
                  <a:pt x="80" y="1338"/>
                </a:lnTo>
                <a:lnTo>
                  <a:pt x="73" y="1330"/>
                </a:lnTo>
                <a:lnTo>
                  <a:pt x="63" y="1322"/>
                </a:lnTo>
                <a:lnTo>
                  <a:pt x="57" y="1315"/>
                </a:lnTo>
                <a:lnTo>
                  <a:pt x="52" y="1307"/>
                </a:lnTo>
                <a:lnTo>
                  <a:pt x="40" y="1294"/>
                </a:lnTo>
                <a:lnTo>
                  <a:pt x="32" y="1280"/>
                </a:lnTo>
                <a:lnTo>
                  <a:pt x="25" y="1267"/>
                </a:lnTo>
                <a:lnTo>
                  <a:pt x="19" y="1253"/>
                </a:lnTo>
                <a:lnTo>
                  <a:pt x="13" y="1240"/>
                </a:lnTo>
                <a:lnTo>
                  <a:pt x="9" y="1226"/>
                </a:lnTo>
                <a:lnTo>
                  <a:pt x="4" y="1213"/>
                </a:lnTo>
                <a:lnTo>
                  <a:pt x="2" y="1205"/>
                </a:lnTo>
                <a:lnTo>
                  <a:pt x="2" y="1200"/>
                </a:lnTo>
                <a:lnTo>
                  <a:pt x="0" y="1192"/>
                </a:lnTo>
                <a:lnTo>
                  <a:pt x="0" y="1184"/>
                </a:lnTo>
                <a:lnTo>
                  <a:pt x="0" y="1178"/>
                </a:lnTo>
                <a:lnTo>
                  <a:pt x="2" y="1171"/>
                </a:lnTo>
                <a:lnTo>
                  <a:pt x="2" y="1165"/>
                </a:lnTo>
                <a:lnTo>
                  <a:pt x="4" y="1157"/>
                </a:lnTo>
                <a:lnTo>
                  <a:pt x="7" y="1152"/>
                </a:lnTo>
                <a:lnTo>
                  <a:pt x="9" y="1144"/>
                </a:lnTo>
                <a:lnTo>
                  <a:pt x="13" y="1138"/>
                </a:lnTo>
                <a:lnTo>
                  <a:pt x="17" y="1130"/>
                </a:lnTo>
                <a:lnTo>
                  <a:pt x="23" y="1123"/>
                </a:lnTo>
                <a:lnTo>
                  <a:pt x="29" y="1117"/>
                </a:lnTo>
                <a:lnTo>
                  <a:pt x="34" y="1109"/>
                </a:lnTo>
                <a:lnTo>
                  <a:pt x="40" y="1104"/>
                </a:lnTo>
                <a:lnTo>
                  <a:pt x="46" y="1096"/>
                </a:lnTo>
                <a:lnTo>
                  <a:pt x="53" y="1086"/>
                </a:lnTo>
                <a:lnTo>
                  <a:pt x="59" y="1077"/>
                </a:lnTo>
                <a:lnTo>
                  <a:pt x="67" y="1067"/>
                </a:lnTo>
                <a:lnTo>
                  <a:pt x="73" y="1054"/>
                </a:lnTo>
                <a:lnTo>
                  <a:pt x="78" y="1040"/>
                </a:lnTo>
                <a:lnTo>
                  <a:pt x="86" y="1027"/>
                </a:lnTo>
                <a:lnTo>
                  <a:pt x="92" y="1011"/>
                </a:lnTo>
                <a:lnTo>
                  <a:pt x="98" y="994"/>
                </a:lnTo>
                <a:lnTo>
                  <a:pt x="103" y="975"/>
                </a:lnTo>
                <a:lnTo>
                  <a:pt x="109" y="956"/>
                </a:lnTo>
                <a:lnTo>
                  <a:pt x="115" y="935"/>
                </a:lnTo>
                <a:lnTo>
                  <a:pt x="121" y="912"/>
                </a:lnTo>
                <a:lnTo>
                  <a:pt x="125" y="889"/>
                </a:lnTo>
                <a:lnTo>
                  <a:pt x="130" y="864"/>
                </a:lnTo>
                <a:lnTo>
                  <a:pt x="134" y="837"/>
                </a:lnTo>
                <a:lnTo>
                  <a:pt x="140" y="783"/>
                </a:lnTo>
                <a:lnTo>
                  <a:pt x="144" y="729"/>
                </a:lnTo>
                <a:lnTo>
                  <a:pt x="148" y="679"/>
                </a:lnTo>
                <a:lnTo>
                  <a:pt x="153" y="630"/>
                </a:lnTo>
                <a:lnTo>
                  <a:pt x="157" y="582"/>
                </a:lnTo>
                <a:lnTo>
                  <a:pt x="159" y="559"/>
                </a:lnTo>
                <a:lnTo>
                  <a:pt x="161" y="536"/>
                </a:lnTo>
                <a:lnTo>
                  <a:pt x="163" y="512"/>
                </a:lnTo>
                <a:lnTo>
                  <a:pt x="167" y="491"/>
                </a:lnTo>
                <a:lnTo>
                  <a:pt x="169" y="468"/>
                </a:lnTo>
                <a:lnTo>
                  <a:pt x="171" y="449"/>
                </a:lnTo>
                <a:lnTo>
                  <a:pt x="171" y="428"/>
                </a:lnTo>
                <a:lnTo>
                  <a:pt x="169" y="405"/>
                </a:lnTo>
                <a:lnTo>
                  <a:pt x="169" y="384"/>
                </a:lnTo>
                <a:lnTo>
                  <a:pt x="169" y="359"/>
                </a:lnTo>
                <a:lnTo>
                  <a:pt x="167" y="336"/>
                </a:lnTo>
                <a:lnTo>
                  <a:pt x="167" y="309"/>
                </a:lnTo>
                <a:lnTo>
                  <a:pt x="165" y="284"/>
                </a:lnTo>
                <a:lnTo>
                  <a:pt x="163" y="255"/>
                </a:lnTo>
                <a:lnTo>
                  <a:pt x="161" y="228"/>
                </a:lnTo>
                <a:lnTo>
                  <a:pt x="159" y="198"/>
                </a:lnTo>
                <a:lnTo>
                  <a:pt x="157" y="167"/>
                </a:lnTo>
                <a:lnTo>
                  <a:pt x="155" y="136"/>
                </a:lnTo>
                <a:lnTo>
                  <a:pt x="153" y="104"/>
                </a:lnTo>
                <a:lnTo>
                  <a:pt x="151" y="71"/>
                </a:lnTo>
                <a:lnTo>
                  <a:pt x="149" y="37"/>
                </a:lnTo>
                <a:lnTo>
                  <a:pt x="148" y="0"/>
                </a:lnTo>
                <a:lnTo>
                  <a:pt x="313" y="0"/>
                </a:lnTo>
                <a:lnTo>
                  <a:pt x="311" y="33"/>
                </a:lnTo>
                <a:lnTo>
                  <a:pt x="311" y="65"/>
                </a:lnTo>
                <a:lnTo>
                  <a:pt x="309" y="96"/>
                </a:lnTo>
                <a:lnTo>
                  <a:pt x="309" y="127"/>
                </a:lnTo>
                <a:lnTo>
                  <a:pt x="307" y="157"/>
                </a:lnTo>
                <a:lnTo>
                  <a:pt x="305" y="186"/>
                </a:lnTo>
                <a:lnTo>
                  <a:pt x="305" y="215"/>
                </a:lnTo>
                <a:lnTo>
                  <a:pt x="303" y="244"/>
                </a:lnTo>
                <a:lnTo>
                  <a:pt x="303" y="271"/>
                </a:lnTo>
                <a:lnTo>
                  <a:pt x="301" y="298"/>
                </a:lnTo>
                <a:lnTo>
                  <a:pt x="301" y="324"/>
                </a:lnTo>
                <a:lnTo>
                  <a:pt x="299" y="349"/>
                </a:lnTo>
                <a:lnTo>
                  <a:pt x="297" y="374"/>
                </a:lnTo>
                <a:lnTo>
                  <a:pt x="297" y="399"/>
                </a:lnTo>
                <a:lnTo>
                  <a:pt x="295" y="422"/>
                </a:lnTo>
                <a:lnTo>
                  <a:pt x="295" y="445"/>
                </a:lnTo>
                <a:lnTo>
                  <a:pt x="293" y="468"/>
                </a:lnTo>
                <a:lnTo>
                  <a:pt x="293" y="489"/>
                </a:lnTo>
                <a:lnTo>
                  <a:pt x="292" y="511"/>
                </a:lnTo>
                <a:lnTo>
                  <a:pt x="290" y="532"/>
                </a:lnTo>
                <a:lnTo>
                  <a:pt x="290" y="551"/>
                </a:lnTo>
                <a:lnTo>
                  <a:pt x="288" y="570"/>
                </a:lnTo>
                <a:lnTo>
                  <a:pt x="288" y="589"/>
                </a:lnTo>
                <a:lnTo>
                  <a:pt x="286" y="607"/>
                </a:lnTo>
                <a:lnTo>
                  <a:pt x="284" y="624"/>
                </a:lnTo>
                <a:lnTo>
                  <a:pt x="284" y="641"/>
                </a:lnTo>
                <a:lnTo>
                  <a:pt x="282" y="656"/>
                </a:lnTo>
                <a:lnTo>
                  <a:pt x="282" y="672"/>
                </a:lnTo>
                <a:lnTo>
                  <a:pt x="280" y="687"/>
                </a:lnTo>
                <a:lnTo>
                  <a:pt x="280" y="701"/>
                </a:lnTo>
                <a:lnTo>
                  <a:pt x="278" y="714"/>
                </a:lnTo>
                <a:lnTo>
                  <a:pt x="276" y="727"/>
                </a:lnTo>
                <a:lnTo>
                  <a:pt x="274" y="752"/>
                </a:lnTo>
                <a:lnTo>
                  <a:pt x="272" y="775"/>
                </a:lnTo>
                <a:lnTo>
                  <a:pt x="272" y="797"/>
                </a:lnTo>
                <a:lnTo>
                  <a:pt x="270" y="816"/>
                </a:lnTo>
                <a:lnTo>
                  <a:pt x="270" y="835"/>
                </a:lnTo>
                <a:lnTo>
                  <a:pt x="268" y="852"/>
                </a:lnTo>
                <a:lnTo>
                  <a:pt x="268" y="868"/>
                </a:lnTo>
                <a:lnTo>
                  <a:pt x="268" y="883"/>
                </a:lnTo>
                <a:lnTo>
                  <a:pt x="268" y="894"/>
                </a:lnTo>
                <a:lnTo>
                  <a:pt x="268" y="906"/>
                </a:lnTo>
                <a:lnTo>
                  <a:pt x="270" y="917"/>
                </a:lnTo>
                <a:lnTo>
                  <a:pt x="270" y="925"/>
                </a:lnTo>
                <a:lnTo>
                  <a:pt x="272" y="933"/>
                </a:lnTo>
                <a:lnTo>
                  <a:pt x="272" y="939"/>
                </a:lnTo>
                <a:lnTo>
                  <a:pt x="274" y="942"/>
                </a:lnTo>
                <a:lnTo>
                  <a:pt x="276" y="946"/>
                </a:lnTo>
                <a:lnTo>
                  <a:pt x="280" y="948"/>
                </a:lnTo>
                <a:lnTo>
                  <a:pt x="284" y="948"/>
                </a:lnTo>
                <a:lnTo>
                  <a:pt x="290" y="948"/>
                </a:lnTo>
                <a:lnTo>
                  <a:pt x="295" y="948"/>
                </a:lnTo>
                <a:lnTo>
                  <a:pt x="303" y="946"/>
                </a:lnTo>
                <a:lnTo>
                  <a:pt x="311" y="944"/>
                </a:lnTo>
                <a:lnTo>
                  <a:pt x="322" y="940"/>
                </a:lnTo>
                <a:lnTo>
                  <a:pt x="334" y="937"/>
                </a:lnTo>
                <a:lnTo>
                  <a:pt x="347" y="933"/>
                </a:lnTo>
                <a:lnTo>
                  <a:pt x="361" y="927"/>
                </a:lnTo>
                <a:lnTo>
                  <a:pt x="376" y="919"/>
                </a:lnTo>
                <a:lnTo>
                  <a:pt x="393" y="912"/>
                </a:lnTo>
                <a:lnTo>
                  <a:pt x="412" y="904"/>
                </a:lnTo>
                <a:lnTo>
                  <a:pt x="434" y="894"/>
                </a:lnTo>
                <a:lnTo>
                  <a:pt x="455" y="885"/>
                </a:lnTo>
                <a:lnTo>
                  <a:pt x="478" y="873"/>
                </a:lnTo>
                <a:lnTo>
                  <a:pt x="503" y="862"/>
                </a:lnTo>
                <a:lnTo>
                  <a:pt x="524" y="852"/>
                </a:lnTo>
                <a:lnTo>
                  <a:pt x="545" y="843"/>
                </a:lnTo>
                <a:lnTo>
                  <a:pt x="564" y="835"/>
                </a:lnTo>
                <a:lnTo>
                  <a:pt x="581" y="829"/>
                </a:lnTo>
                <a:lnTo>
                  <a:pt x="597" y="823"/>
                </a:lnTo>
                <a:lnTo>
                  <a:pt x="610" y="820"/>
                </a:lnTo>
                <a:lnTo>
                  <a:pt x="624" y="816"/>
                </a:lnTo>
                <a:lnTo>
                  <a:pt x="635" y="812"/>
                </a:lnTo>
                <a:lnTo>
                  <a:pt x="645" y="810"/>
                </a:lnTo>
                <a:lnTo>
                  <a:pt x="654" y="808"/>
                </a:lnTo>
                <a:lnTo>
                  <a:pt x="662" y="808"/>
                </a:lnTo>
                <a:lnTo>
                  <a:pt x="668" y="808"/>
                </a:lnTo>
                <a:lnTo>
                  <a:pt x="674" y="808"/>
                </a:lnTo>
                <a:lnTo>
                  <a:pt x="677" y="810"/>
                </a:lnTo>
                <a:lnTo>
                  <a:pt x="679" y="812"/>
                </a:lnTo>
                <a:lnTo>
                  <a:pt x="681" y="814"/>
                </a:lnTo>
                <a:lnTo>
                  <a:pt x="681" y="816"/>
                </a:lnTo>
                <a:lnTo>
                  <a:pt x="681" y="818"/>
                </a:lnTo>
                <a:lnTo>
                  <a:pt x="679" y="820"/>
                </a:lnTo>
                <a:lnTo>
                  <a:pt x="679" y="821"/>
                </a:lnTo>
                <a:lnTo>
                  <a:pt x="677" y="825"/>
                </a:lnTo>
                <a:lnTo>
                  <a:pt x="674" y="829"/>
                </a:lnTo>
                <a:lnTo>
                  <a:pt x="672" y="833"/>
                </a:lnTo>
                <a:lnTo>
                  <a:pt x="668" y="837"/>
                </a:lnTo>
                <a:lnTo>
                  <a:pt x="664" y="841"/>
                </a:lnTo>
                <a:lnTo>
                  <a:pt x="660" y="844"/>
                </a:lnTo>
                <a:lnTo>
                  <a:pt x="654" y="850"/>
                </a:lnTo>
                <a:lnTo>
                  <a:pt x="649" y="856"/>
                </a:lnTo>
                <a:lnTo>
                  <a:pt x="643" y="862"/>
                </a:lnTo>
                <a:lnTo>
                  <a:pt x="637" y="868"/>
                </a:lnTo>
                <a:lnTo>
                  <a:pt x="629" y="873"/>
                </a:lnTo>
                <a:lnTo>
                  <a:pt x="622" y="881"/>
                </a:lnTo>
                <a:lnTo>
                  <a:pt x="614" y="887"/>
                </a:lnTo>
                <a:lnTo>
                  <a:pt x="597" y="902"/>
                </a:lnTo>
                <a:lnTo>
                  <a:pt x="578" y="919"/>
                </a:lnTo>
                <a:lnTo>
                  <a:pt x="556" y="937"/>
                </a:lnTo>
                <a:lnTo>
                  <a:pt x="533" y="954"/>
                </a:lnTo>
                <a:lnTo>
                  <a:pt x="508" y="975"/>
                </a:lnTo>
                <a:lnTo>
                  <a:pt x="484" y="996"/>
                </a:lnTo>
                <a:lnTo>
                  <a:pt x="455" y="1019"/>
                </a:lnTo>
                <a:lnTo>
                  <a:pt x="428" y="1042"/>
                </a:lnTo>
                <a:lnTo>
                  <a:pt x="401" y="1067"/>
                </a:lnTo>
                <a:lnTo>
                  <a:pt x="376" y="1088"/>
                </a:lnTo>
                <a:lnTo>
                  <a:pt x="351" y="1109"/>
                </a:lnTo>
                <a:lnTo>
                  <a:pt x="328" y="1130"/>
                </a:lnTo>
                <a:lnTo>
                  <a:pt x="307" y="1150"/>
                </a:lnTo>
                <a:lnTo>
                  <a:pt x="288" y="1167"/>
                </a:lnTo>
                <a:lnTo>
                  <a:pt x="270" y="1184"/>
                </a:lnTo>
                <a:lnTo>
                  <a:pt x="253" y="1200"/>
                </a:lnTo>
                <a:lnTo>
                  <a:pt x="238" y="1215"/>
                </a:lnTo>
                <a:lnTo>
                  <a:pt x="224" y="1228"/>
                </a:lnTo>
                <a:lnTo>
                  <a:pt x="213" y="1242"/>
                </a:lnTo>
                <a:lnTo>
                  <a:pt x="203" y="1253"/>
                </a:lnTo>
                <a:lnTo>
                  <a:pt x="194" y="1265"/>
                </a:lnTo>
                <a:lnTo>
                  <a:pt x="188" y="1276"/>
                </a:lnTo>
                <a:lnTo>
                  <a:pt x="182" y="12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47"/>
          <p:cNvSpPr/>
          <p:nvPr/>
        </p:nvSpPr>
        <p:spPr>
          <a:xfrm>
            <a:off x="5840280" y="3978360"/>
            <a:ext cx="782640" cy="214200"/>
          </a:xfrm>
          <a:custGeom>
            <a:avLst/>
            <a:gdLst/>
            <a:ahLst/>
            <a:rect l="l" t="t" r="r" b="b"/>
            <a:pathLst>
              <a:path w="985" h="270">
                <a:moveTo>
                  <a:pt x="463" y="230"/>
                </a:moveTo>
                <a:lnTo>
                  <a:pt x="446" y="232"/>
                </a:lnTo>
                <a:lnTo>
                  <a:pt x="427" y="236"/>
                </a:lnTo>
                <a:lnTo>
                  <a:pt x="409" y="240"/>
                </a:lnTo>
                <a:lnTo>
                  <a:pt x="392" y="242"/>
                </a:lnTo>
                <a:lnTo>
                  <a:pt x="377" y="245"/>
                </a:lnTo>
                <a:lnTo>
                  <a:pt x="359" y="247"/>
                </a:lnTo>
                <a:lnTo>
                  <a:pt x="344" y="249"/>
                </a:lnTo>
                <a:lnTo>
                  <a:pt x="331" y="253"/>
                </a:lnTo>
                <a:lnTo>
                  <a:pt x="315" y="255"/>
                </a:lnTo>
                <a:lnTo>
                  <a:pt x="302" y="257"/>
                </a:lnTo>
                <a:lnTo>
                  <a:pt x="288" y="259"/>
                </a:lnTo>
                <a:lnTo>
                  <a:pt x="277" y="261"/>
                </a:lnTo>
                <a:lnTo>
                  <a:pt x="265" y="263"/>
                </a:lnTo>
                <a:lnTo>
                  <a:pt x="254" y="263"/>
                </a:lnTo>
                <a:lnTo>
                  <a:pt x="242" y="265"/>
                </a:lnTo>
                <a:lnTo>
                  <a:pt x="233" y="267"/>
                </a:lnTo>
                <a:lnTo>
                  <a:pt x="223" y="267"/>
                </a:lnTo>
                <a:lnTo>
                  <a:pt x="214" y="268"/>
                </a:lnTo>
                <a:lnTo>
                  <a:pt x="204" y="268"/>
                </a:lnTo>
                <a:lnTo>
                  <a:pt x="196" y="268"/>
                </a:lnTo>
                <a:lnTo>
                  <a:pt x="189" y="270"/>
                </a:lnTo>
                <a:lnTo>
                  <a:pt x="183" y="270"/>
                </a:lnTo>
                <a:lnTo>
                  <a:pt x="175" y="270"/>
                </a:lnTo>
                <a:lnTo>
                  <a:pt x="169" y="270"/>
                </a:lnTo>
                <a:lnTo>
                  <a:pt x="166" y="270"/>
                </a:lnTo>
                <a:lnTo>
                  <a:pt x="160" y="270"/>
                </a:lnTo>
                <a:lnTo>
                  <a:pt x="156" y="270"/>
                </a:lnTo>
                <a:lnTo>
                  <a:pt x="152" y="268"/>
                </a:lnTo>
                <a:lnTo>
                  <a:pt x="150" y="268"/>
                </a:lnTo>
                <a:lnTo>
                  <a:pt x="146" y="267"/>
                </a:lnTo>
                <a:lnTo>
                  <a:pt x="144" y="267"/>
                </a:lnTo>
                <a:lnTo>
                  <a:pt x="144" y="265"/>
                </a:lnTo>
                <a:lnTo>
                  <a:pt x="135" y="265"/>
                </a:lnTo>
                <a:lnTo>
                  <a:pt x="125" y="263"/>
                </a:lnTo>
                <a:lnTo>
                  <a:pt x="118" y="261"/>
                </a:lnTo>
                <a:lnTo>
                  <a:pt x="108" y="259"/>
                </a:lnTo>
                <a:lnTo>
                  <a:pt x="98" y="255"/>
                </a:lnTo>
                <a:lnTo>
                  <a:pt x="91" y="251"/>
                </a:lnTo>
                <a:lnTo>
                  <a:pt x="71" y="242"/>
                </a:lnTo>
                <a:lnTo>
                  <a:pt x="60" y="236"/>
                </a:lnTo>
                <a:lnTo>
                  <a:pt x="48" y="230"/>
                </a:lnTo>
                <a:lnTo>
                  <a:pt x="37" y="222"/>
                </a:lnTo>
                <a:lnTo>
                  <a:pt x="27" y="215"/>
                </a:lnTo>
                <a:lnTo>
                  <a:pt x="20" y="207"/>
                </a:lnTo>
                <a:lnTo>
                  <a:pt x="12" y="199"/>
                </a:lnTo>
                <a:lnTo>
                  <a:pt x="6" y="190"/>
                </a:lnTo>
                <a:lnTo>
                  <a:pt x="0" y="180"/>
                </a:lnTo>
                <a:lnTo>
                  <a:pt x="22" y="176"/>
                </a:lnTo>
                <a:lnTo>
                  <a:pt x="43" y="171"/>
                </a:lnTo>
                <a:lnTo>
                  <a:pt x="66" y="165"/>
                </a:lnTo>
                <a:lnTo>
                  <a:pt x="91" y="161"/>
                </a:lnTo>
                <a:lnTo>
                  <a:pt x="116" y="155"/>
                </a:lnTo>
                <a:lnTo>
                  <a:pt x="143" y="148"/>
                </a:lnTo>
                <a:lnTo>
                  <a:pt x="169" y="142"/>
                </a:lnTo>
                <a:lnTo>
                  <a:pt x="198" y="136"/>
                </a:lnTo>
                <a:lnTo>
                  <a:pt x="229" y="128"/>
                </a:lnTo>
                <a:lnTo>
                  <a:pt x="260" y="121"/>
                </a:lnTo>
                <a:lnTo>
                  <a:pt x="292" y="113"/>
                </a:lnTo>
                <a:lnTo>
                  <a:pt x="327" y="105"/>
                </a:lnTo>
                <a:lnTo>
                  <a:pt x="361" y="98"/>
                </a:lnTo>
                <a:lnTo>
                  <a:pt x="398" y="90"/>
                </a:lnTo>
                <a:lnTo>
                  <a:pt x="436" y="80"/>
                </a:lnTo>
                <a:lnTo>
                  <a:pt x="477" y="73"/>
                </a:lnTo>
                <a:lnTo>
                  <a:pt x="496" y="69"/>
                </a:lnTo>
                <a:lnTo>
                  <a:pt x="515" y="65"/>
                </a:lnTo>
                <a:lnTo>
                  <a:pt x="532" y="61"/>
                </a:lnTo>
                <a:lnTo>
                  <a:pt x="551" y="59"/>
                </a:lnTo>
                <a:lnTo>
                  <a:pt x="569" y="55"/>
                </a:lnTo>
                <a:lnTo>
                  <a:pt x="586" y="52"/>
                </a:lnTo>
                <a:lnTo>
                  <a:pt x="601" y="50"/>
                </a:lnTo>
                <a:lnTo>
                  <a:pt x="619" y="46"/>
                </a:lnTo>
                <a:lnTo>
                  <a:pt x="634" y="44"/>
                </a:lnTo>
                <a:lnTo>
                  <a:pt x="647" y="40"/>
                </a:lnTo>
                <a:lnTo>
                  <a:pt x="663" y="38"/>
                </a:lnTo>
                <a:lnTo>
                  <a:pt x="676" y="36"/>
                </a:lnTo>
                <a:lnTo>
                  <a:pt x="690" y="32"/>
                </a:lnTo>
                <a:lnTo>
                  <a:pt x="703" y="30"/>
                </a:lnTo>
                <a:lnTo>
                  <a:pt x="715" y="29"/>
                </a:lnTo>
                <a:lnTo>
                  <a:pt x="726" y="27"/>
                </a:lnTo>
                <a:lnTo>
                  <a:pt x="738" y="25"/>
                </a:lnTo>
                <a:lnTo>
                  <a:pt x="747" y="21"/>
                </a:lnTo>
                <a:lnTo>
                  <a:pt x="759" y="19"/>
                </a:lnTo>
                <a:lnTo>
                  <a:pt x="768" y="17"/>
                </a:lnTo>
                <a:lnTo>
                  <a:pt x="776" y="15"/>
                </a:lnTo>
                <a:lnTo>
                  <a:pt x="786" y="13"/>
                </a:lnTo>
                <a:lnTo>
                  <a:pt x="793" y="11"/>
                </a:lnTo>
                <a:lnTo>
                  <a:pt x="801" y="9"/>
                </a:lnTo>
                <a:lnTo>
                  <a:pt x="809" y="9"/>
                </a:lnTo>
                <a:lnTo>
                  <a:pt x="814" y="7"/>
                </a:lnTo>
                <a:lnTo>
                  <a:pt x="820" y="6"/>
                </a:lnTo>
                <a:lnTo>
                  <a:pt x="826" y="4"/>
                </a:lnTo>
                <a:lnTo>
                  <a:pt x="832" y="2"/>
                </a:lnTo>
                <a:lnTo>
                  <a:pt x="836" y="2"/>
                </a:lnTo>
                <a:lnTo>
                  <a:pt x="839" y="0"/>
                </a:lnTo>
                <a:lnTo>
                  <a:pt x="843" y="0"/>
                </a:lnTo>
                <a:lnTo>
                  <a:pt x="857" y="0"/>
                </a:lnTo>
                <a:lnTo>
                  <a:pt x="868" y="2"/>
                </a:lnTo>
                <a:lnTo>
                  <a:pt x="880" y="4"/>
                </a:lnTo>
                <a:lnTo>
                  <a:pt x="891" y="6"/>
                </a:lnTo>
                <a:lnTo>
                  <a:pt x="903" y="9"/>
                </a:lnTo>
                <a:lnTo>
                  <a:pt x="914" y="13"/>
                </a:lnTo>
                <a:lnTo>
                  <a:pt x="926" y="19"/>
                </a:lnTo>
                <a:lnTo>
                  <a:pt x="939" y="23"/>
                </a:lnTo>
                <a:lnTo>
                  <a:pt x="945" y="25"/>
                </a:lnTo>
                <a:lnTo>
                  <a:pt x="951" y="29"/>
                </a:lnTo>
                <a:lnTo>
                  <a:pt x="956" y="30"/>
                </a:lnTo>
                <a:lnTo>
                  <a:pt x="960" y="34"/>
                </a:lnTo>
                <a:lnTo>
                  <a:pt x="968" y="40"/>
                </a:lnTo>
                <a:lnTo>
                  <a:pt x="976" y="48"/>
                </a:lnTo>
                <a:lnTo>
                  <a:pt x="980" y="54"/>
                </a:lnTo>
                <a:lnTo>
                  <a:pt x="983" y="61"/>
                </a:lnTo>
                <a:lnTo>
                  <a:pt x="985" y="67"/>
                </a:lnTo>
                <a:lnTo>
                  <a:pt x="985" y="73"/>
                </a:lnTo>
                <a:lnTo>
                  <a:pt x="985" y="75"/>
                </a:lnTo>
                <a:lnTo>
                  <a:pt x="983" y="77"/>
                </a:lnTo>
                <a:lnTo>
                  <a:pt x="981" y="80"/>
                </a:lnTo>
                <a:lnTo>
                  <a:pt x="980" y="82"/>
                </a:lnTo>
                <a:lnTo>
                  <a:pt x="976" y="86"/>
                </a:lnTo>
                <a:lnTo>
                  <a:pt x="970" y="90"/>
                </a:lnTo>
                <a:lnTo>
                  <a:pt x="964" y="94"/>
                </a:lnTo>
                <a:lnTo>
                  <a:pt x="958" y="98"/>
                </a:lnTo>
                <a:lnTo>
                  <a:pt x="953" y="102"/>
                </a:lnTo>
                <a:lnTo>
                  <a:pt x="943" y="105"/>
                </a:lnTo>
                <a:lnTo>
                  <a:pt x="935" y="109"/>
                </a:lnTo>
                <a:lnTo>
                  <a:pt x="926" y="115"/>
                </a:lnTo>
                <a:lnTo>
                  <a:pt x="914" y="119"/>
                </a:lnTo>
                <a:lnTo>
                  <a:pt x="905" y="123"/>
                </a:lnTo>
                <a:lnTo>
                  <a:pt x="891" y="128"/>
                </a:lnTo>
                <a:lnTo>
                  <a:pt x="880" y="132"/>
                </a:lnTo>
                <a:lnTo>
                  <a:pt x="862" y="136"/>
                </a:lnTo>
                <a:lnTo>
                  <a:pt x="845" y="142"/>
                </a:lnTo>
                <a:lnTo>
                  <a:pt x="828" y="148"/>
                </a:lnTo>
                <a:lnTo>
                  <a:pt x="807" y="153"/>
                </a:lnTo>
                <a:lnTo>
                  <a:pt x="786" y="159"/>
                </a:lnTo>
                <a:lnTo>
                  <a:pt x="765" y="165"/>
                </a:lnTo>
                <a:lnTo>
                  <a:pt x="741" y="171"/>
                </a:lnTo>
                <a:lnTo>
                  <a:pt x="717" y="176"/>
                </a:lnTo>
                <a:lnTo>
                  <a:pt x="690" y="182"/>
                </a:lnTo>
                <a:lnTo>
                  <a:pt x="661" y="190"/>
                </a:lnTo>
                <a:lnTo>
                  <a:pt x="632" y="196"/>
                </a:lnTo>
                <a:lnTo>
                  <a:pt x="601" y="201"/>
                </a:lnTo>
                <a:lnTo>
                  <a:pt x="571" y="209"/>
                </a:lnTo>
                <a:lnTo>
                  <a:pt x="536" y="215"/>
                </a:lnTo>
                <a:lnTo>
                  <a:pt x="502" y="222"/>
                </a:lnTo>
                <a:lnTo>
                  <a:pt x="463" y="2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组合 8"/>
          <p:cNvGrpSpPr/>
          <p:nvPr/>
        </p:nvGrpSpPr>
        <p:grpSpPr>
          <a:xfrm>
            <a:off x="1274760" y="3975120"/>
            <a:ext cx="2840040" cy="1621440"/>
            <a:chOff x="1274760" y="3975120"/>
            <a:chExt cx="2840040" cy="1621440"/>
          </a:xfrm>
        </p:grpSpPr>
        <p:pic>
          <p:nvPicPr>
            <p:cNvPr id="118" name="图示 4" descr=""/>
            <p:cNvPicPr/>
            <p:nvPr/>
          </p:nvPicPr>
          <p:blipFill>
            <a:blip r:embed="rId1"/>
            <a:stretch/>
          </p:blipFill>
          <p:spPr>
            <a:xfrm>
              <a:off x="127476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2"/>
            <p:cNvSpPr/>
            <p:nvPr/>
          </p:nvSpPr>
          <p:spPr>
            <a:xfrm>
              <a:off x="132192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缶”偏上，右部两“口”小，右下横画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1935000" y="1868400"/>
            <a:ext cx="15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42"/>
          <p:cNvSpPr/>
          <p:nvPr/>
        </p:nvSpPr>
        <p:spPr>
          <a:xfrm>
            <a:off x="5686560" y="2865600"/>
            <a:ext cx="493560" cy="841320"/>
          </a:xfrm>
          <a:custGeom>
            <a:avLst/>
            <a:gdLst/>
            <a:ahLst/>
            <a:rect l="l" t="t" r="r" b="b"/>
            <a:pathLst>
              <a:path w="622" h="1062">
                <a:moveTo>
                  <a:pt x="382" y="6"/>
                </a:moveTo>
                <a:lnTo>
                  <a:pt x="390" y="4"/>
                </a:lnTo>
                <a:lnTo>
                  <a:pt x="398" y="2"/>
                </a:lnTo>
                <a:lnTo>
                  <a:pt x="403" y="2"/>
                </a:lnTo>
                <a:lnTo>
                  <a:pt x="411" y="0"/>
                </a:lnTo>
                <a:lnTo>
                  <a:pt x="421" y="2"/>
                </a:lnTo>
                <a:lnTo>
                  <a:pt x="428" y="2"/>
                </a:lnTo>
                <a:lnTo>
                  <a:pt x="438" y="4"/>
                </a:lnTo>
                <a:lnTo>
                  <a:pt x="447" y="6"/>
                </a:lnTo>
                <a:lnTo>
                  <a:pt x="457" y="10"/>
                </a:lnTo>
                <a:lnTo>
                  <a:pt x="467" y="14"/>
                </a:lnTo>
                <a:lnTo>
                  <a:pt x="476" y="20"/>
                </a:lnTo>
                <a:lnTo>
                  <a:pt x="488" y="23"/>
                </a:lnTo>
                <a:lnTo>
                  <a:pt x="499" y="31"/>
                </a:lnTo>
                <a:lnTo>
                  <a:pt x="511" y="37"/>
                </a:lnTo>
                <a:lnTo>
                  <a:pt x="524" y="44"/>
                </a:lnTo>
                <a:lnTo>
                  <a:pt x="538" y="54"/>
                </a:lnTo>
                <a:lnTo>
                  <a:pt x="549" y="64"/>
                </a:lnTo>
                <a:lnTo>
                  <a:pt x="561" y="73"/>
                </a:lnTo>
                <a:lnTo>
                  <a:pt x="572" y="81"/>
                </a:lnTo>
                <a:lnTo>
                  <a:pt x="582" y="91"/>
                </a:lnTo>
                <a:lnTo>
                  <a:pt x="589" y="100"/>
                </a:lnTo>
                <a:lnTo>
                  <a:pt x="597" y="108"/>
                </a:lnTo>
                <a:lnTo>
                  <a:pt x="603" y="117"/>
                </a:lnTo>
                <a:lnTo>
                  <a:pt x="609" y="125"/>
                </a:lnTo>
                <a:lnTo>
                  <a:pt x="614" y="135"/>
                </a:lnTo>
                <a:lnTo>
                  <a:pt x="618" y="142"/>
                </a:lnTo>
                <a:lnTo>
                  <a:pt x="620" y="150"/>
                </a:lnTo>
                <a:lnTo>
                  <a:pt x="622" y="158"/>
                </a:lnTo>
                <a:lnTo>
                  <a:pt x="622" y="165"/>
                </a:lnTo>
                <a:lnTo>
                  <a:pt x="622" y="173"/>
                </a:lnTo>
                <a:lnTo>
                  <a:pt x="622" y="181"/>
                </a:lnTo>
                <a:lnTo>
                  <a:pt x="620" y="188"/>
                </a:lnTo>
                <a:lnTo>
                  <a:pt x="614" y="194"/>
                </a:lnTo>
                <a:lnTo>
                  <a:pt x="611" y="204"/>
                </a:lnTo>
                <a:lnTo>
                  <a:pt x="603" y="215"/>
                </a:lnTo>
                <a:lnTo>
                  <a:pt x="597" y="227"/>
                </a:lnTo>
                <a:lnTo>
                  <a:pt x="589" y="240"/>
                </a:lnTo>
                <a:lnTo>
                  <a:pt x="582" y="254"/>
                </a:lnTo>
                <a:lnTo>
                  <a:pt x="574" y="269"/>
                </a:lnTo>
                <a:lnTo>
                  <a:pt x="565" y="288"/>
                </a:lnTo>
                <a:lnTo>
                  <a:pt x="555" y="305"/>
                </a:lnTo>
                <a:lnTo>
                  <a:pt x="543" y="327"/>
                </a:lnTo>
                <a:lnTo>
                  <a:pt x="532" y="348"/>
                </a:lnTo>
                <a:lnTo>
                  <a:pt x="520" y="371"/>
                </a:lnTo>
                <a:lnTo>
                  <a:pt x="509" y="396"/>
                </a:lnTo>
                <a:lnTo>
                  <a:pt x="495" y="423"/>
                </a:lnTo>
                <a:lnTo>
                  <a:pt x="480" y="449"/>
                </a:lnTo>
                <a:lnTo>
                  <a:pt x="467" y="478"/>
                </a:lnTo>
                <a:lnTo>
                  <a:pt x="434" y="538"/>
                </a:lnTo>
                <a:lnTo>
                  <a:pt x="401" y="595"/>
                </a:lnTo>
                <a:lnTo>
                  <a:pt x="367" y="651"/>
                </a:lnTo>
                <a:lnTo>
                  <a:pt x="332" y="705"/>
                </a:lnTo>
                <a:lnTo>
                  <a:pt x="296" y="756"/>
                </a:lnTo>
                <a:lnTo>
                  <a:pt x="259" y="806"/>
                </a:lnTo>
                <a:lnTo>
                  <a:pt x="221" y="856"/>
                </a:lnTo>
                <a:lnTo>
                  <a:pt x="200" y="879"/>
                </a:lnTo>
                <a:lnTo>
                  <a:pt x="181" y="902"/>
                </a:lnTo>
                <a:lnTo>
                  <a:pt x="161" y="925"/>
                </a:lnTo>
                <a:lnTo>
                  <a:pt x="144" y="945"/>
                </a:lnTo>
                <a:lnTo>
                  <a:pt x="127" y="964"/>
                </a:lnTo>
                <a:lnTo>
                  <a:pt x="110" y="981"/>
                </a:lnTo>
                <a:lnTo>
                  <a:pt x="96" y="996"/>
                </a:lnTo>
                <a:lnTo>
                  <a:pt x="81" y="1010"/>
                </a:lnTo>
                <a:lnTo>
                  <a:pt x="69" y="1021"/>
                </a:lnTo>
                <a:lnTo>
                  <a:pt x="58" y="1033"/>
                </a:lnTo>
                <a:lnTo>
                  <a:pt x="46" y="1040"/>
                </a:lnTo>
                <a:lnTo>
                  <a:pt x="37" y="1048"/>
                </a:lnTo>
                <a:lnTo>
                  <a:pt x="29" y="1054"/>
                </a:lnTo>
                <a:lnTo>
                  <a:pt x="21" y="1058"/>
                </a:lnTo>
                <a:lnTo>
                  <a:pt x="15" y="1062"/>
                </a:lnTo>
                <a:lnTo>
                  <a:pt x="10" y="1062"/>
                </a:lnTo>
                <a:lnTo>
                  <a:pt x="6" y="1062"/>
                </a:lnTo>
                <a:lnTo>
                  <a:pt x="4" y="1062"/>
                </a:lnTo>
                <a:lnTo>
                  <a:pt x="2" y="1058"/>
                </a:lnTo>
                <a:lnTo>
                  <a:pt x="0" y="1054"/>
                </a:lnTo>
                <a:lnTo>
                  <a:pt x="2" y="1048"/>
                </a:lnTo>
                <a:lnTo>
                  <a:pt x="4" y="1040"/>
                </a:lnTo>
                <a:lnTo>
                  <a:pt x="6" y="1031"/>
                </a:lnTo>
                <a:lnTo>
                  <a:pt x="10" y="1021"/>
                </a:lnTo>
                <a:lnTo>
                  <a:pt x="15" y="1012"/>
                </a:lnTo>
                <a:lnTo>
                  <a:pt x="21" y="998"/>
                </a:lnTo>
                <a:lnTo>
                  <a:pt x="29" y="985"/>
                </a:lnTo>
                <a:lnTo>
                  <a:pt x="37" y="969"/>
                </a:lnTo>
                <a:lnTo>
                  <a:pt x="46" y="954"/>
                </a:lnTo>
                <a:lnTo>
                  <a:pt x="58" y="937"/>
                </a:lnTo>
                <a:lnTo>
                  <a:pt x="69" y="918"/>
                </a:lnTo>
                <a:lnTo>
                  <a:pt x="81" y="898"/>
                </a:lnTo>
                <a:lnTo>
                  <a:pt x="94" y="877"/>
                </a:lnTo>
                <a:lnTo>
                  <a:pt x="110" y="854"/>
                </a:lnTo>
                <a:lnTo>
                  <a:pt x="125" y="831"/>
                </a:lnTo>
                <a:lnTo>
                  <a:pt x="140" y="806"/>
                </a:lnTo>
                <a:lnTo>
                  <a:pt x="156" y="781"/>
                </a:lnTo>
                <a:lnTo>
                  <a:pt x="169" y="756"/>
                </a:lnTo>
                <a:lnTo>
                  <a:pt x="184" y="730"/>
                </a:lnTo>
                <a:lnTo>
                  <a:pt x="198" y="703"/>
                </a:lnTo>
                <a:lnTo>
                  <a:pt x="211" y="676"/>
                </a:lnTo>
                <a:lnTo>
                  <a:pt x="225" y="647"/>
                </a:lnTo>
                <a:lnTo>
                  <a:pt x="238" y="618"/>
                </a:lnTo>
                <a:lnTo>
                  <a:pt x="252" y="588"/>
                </a:lnTo>
                <a:lnTo>
                  <a:pt x="265" y="557"/>
                </a:lnTo>
                <a:lnTo>
                  <a:pt x="277" y="526"/>
                </a:lnTo>
                <a:lnTo>
                  <a:pt x="288" y="494"/>
                </a:lnTo>
                <a:lnTo>
                  <a:pt x="302" y="461"/>
                </a:lnTo>
                <a:lnTo>
                  <a:pt x="313" y="428"/>
                </a:lnTo>
                <a:lnTo>
                  <a:pt x="323" y="394"/>
                </a:lnTo>
                <a:lnTo>
                  <a:pt x="334" y="361"/>
                </a:lnTo>
                <a:lnTo>
                  <a:pt x="344" y="329"/>
                </a:lnTo>
                <a:lnTo>
                  <a:pt x="353" y="300"/>
                </a:lnTo>
                <a:lnTo>
                  <a:pt x="361" y="271"/>
                </a:lnTo>
                <a:lnTo>
                  <a:pt x="367" y="244"/>
                </a:lnTo>
                <a:lnTo>
                  <a:pt x="374" y="219"/>
                </a:lnTo>
                <a:lnTo>
                  <a:pt x="380" y="196"/>
                </a:lnTo>
                <a:lnTo>
                  <a:pt x="384" y="175"/>
                </a:lnTo>
                <a:lnTo>
                  <a:pt x="388" y="156"/>
                </a:lnTo>
                <a:lnTo>
                  <a:pt x="390" y="139"/>
                </a:lnTo>
                <a:lnTo>
                  <a:pt x="392" y="121"/>
                </a:lnTo>
                <a:lnTo>
                  <a:pt x="392" y="108"/>
                </a:lnTo>
                <a:lnTo>
                  <a:pt x="392" y="94"/>
                </a:lnTo>
                <a:lnTo>
                  <a:pt x="390" y="83"/>
                </a:lnTo>
                <a:lnTo>
                  <a:pt x="386" y="75"/>
                </a:lnTo>
                <a:lnTo>
                  <a:pt x="382" y="68"/>
                </a:lnTo>
                <a:lnTo>
                  <a:pt x="376" y="60"/>
                </a:lnTo>
                <a:lnTo>
                  <a:pt x="371" y="54"/>
                </a:lnTo>
                <a:lnTo>
                  <a:pt x="367" y="48"/>
                </a:lnTo>
                <a:lnTo>
                  <a:pt x="363" y="43"/>
                </a:lnTo>
                <a:lnTo>
                  <a:pt x="359" y="39"/>
                </a:lnTo>
                <a:lnTo>
                  <a:pt x="357" y="35"/>
                </a:lnTo>
                <a:lnTo>
                  <a:pt x="357" y="31"/>
                </a:lnTo>
                <a:lnTo>
                  <a:pt x="355" y="27"/>
                </a:lnTo>
                <a:lnTo>
                  <a:pt x="357" y="23"/>
                </a:lnTo>
                <a:lnTo>
                  <a:pt x="357" y="21"/>
                </a:lnTo>
                <a:lnTo>
                  <a:pt x="359" y="18"/>
                </a:lnTo>
                <a:lnTo>
                  <a:pt x="363" y="16"/>
                </a:lnTo>
                <a:lnTo>
                  <a:pt x="367" y="12"/>
                </a:lnTo>
                <a:lnTo>
                  <a:pt x="371" y="10"/>
                </a:lnTo>
                <a:lnTo>
                  <a:pt x="376" y="8"/>
                </a:lnTo>
                <a:lnTo>
                  <a:pt x="382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43"/>
          <p:cNvSpPr/>
          <p:nvPr/>
        </p:nvSpPr>
        <p:spPr>
          <a:xfrm>
            <a:off x="5479920" y="3706920"/>
            <a:ext cx="1000080" cy="279360"/>
          </a:xfrm>
          <a:custGeom>
            <a:avLst/>
            <a:gdLst/>
            <a:ahLst/>
            <a:rect l="l" t="t" r="r" b="b"/>
            <a:pathLst>
              <a:path w="1259" h="351">
                <a:moveTo>
                  <a:pt x="178" y="351"/>
                </a:moveTo>
                <a:lnTo>
                  <a:pt x="169" y="349"/>
                </a:lnTo>
                <a:lnTo>
                  <a:pt x="159" y="347"/>
                </a:lnTo>
                <a:lnTo>
                  <a:pt x="148" y="345"/>
                </a:lnTo>
                <a:lnTo>
                  <a:pt x="134" y="341"/>
                </a:lnTo>
                <a:lnTo>
                  <a:pt x="121" y="335"/>
                </a:lnTo>
                <a:lnTo>
                  <a:pt x="106" y="330"/>
                </a:lnTo>
                <a:lnTo>
                  <a:pt x="90" y="322"/>
                </a:lnTo>
                <a:lnTo>
                  <a:pt x="73" y="314"/>
                </a:lnTo>
                <a:lnTo>
                  <a:pt x="63" y="310"/>
                </a:lnTo>
                <a:lnTo>
                  <a:pt x="56" y="309"/>
                </a:lnTo>
                <a:lnTo>
                  <a:pt x="48" y="305"/>
                </a:lnTo>
                <a:lnTo>
                  <a:pt x="42" y="303"/>
                </a:lnTo>
                <a:lnTo>
                  <a:pt x="35" y="299"/>
                </a:lnTo>
                <a:lnTo>
                  <a:pt x="29" y="295"/>
                </a:lnTo>
                <a:lnTo>
                  <a:pt x="23" y="291"/>
                </a:lnTo>
                <a:lnTo>
                  <a:pt x="19" y="287"/>
                </a:lnTo>
                <a:lnTo>
                  <a:pt x="15" y="284"/>
                </a:lnTo>
                <a:lnTo>
                  <a:pt x="11" y="280"/>
                </a:lnTo>
                <a:lnTo>
                  <a:pt x="8" y="276"/>
                </a:lnTo>
                <a:lnTo>
                  <a:pt x="6" y="270"/>
                </a:lnTo>
                <a:lnTo>
                  <a:pt x="4" y="266"/>
                </a:lnTo>
                <a:lnTo>
                  <a:pt x="2" y="263"/>
                </a:lnTo>
                <a:lnTo>
                  <a:pt x="2" y="257"/>
                </a:lnTo>
                <a:lnTo>
                  <a:pt x="2" y="253"/>
                </a:lnTo>
                <a:lnTo>
                  <a:pt x="0" y="251"/>
                </a:lnTo>
                <a:lnTo>
                  <a:pt x="0" y="247"/>
                </a:lnTo>
                <a:lnTo>
                  <a:pt x="2" y="245"/>
                </a:lnTo>
                <a:lnTo>
                  <a:pt x="6" y="241"/>
                </a:lnTo>
                <a:lnTo>
                  <a:pt x="11" y="238"/>
                </a:lnTo>
                <a:lnTo>
                  <a:pt x="17" y="236"/>
                </a:lnTo>
                <a:lnTo>
                  <a:pt x="27" y="232"/>
                </a:lnTo>
                <a:lnTo>
                  <a:pt x="36" y="228"/>
                </a:lnTo>
                <a:lnTo>
                  <a:pt x="48" y="224"/>
                </a:lnTo>
                <a:lnTo>
                  <a:pt x="63" y="218"/>
                </a:lnTo>
                <a:lnTo>
                  <a:pt x="79" y="215"/>
                </a:lnTo>
                <a:lnTo>
                  <a:pt x="94" y="211"/>
                </a:lnTo>
                <a:lnTo>
                  <a:pt x="113" y="207"/>
                </a:lnTo>
                <a:lnTo>
                  <a:pt x="134" y="201"/>
                </a:lnTo>
                <a:lnTo>
                  <a:pt x="155" y="197"/>
                </a:lnTo>
                <a:lnTo>
                  <a:pt x="178" y="193"/>
                </a:lnTo>
                <a:lnTo>
                  <a:pt x="203" y="188"/>
                </a:lnTo>
                <a:lnTo>
                  <a:pt x="230" y="182"/>
                </a:lnTo>
                <a:lnTo>
                  <a:pt x="255" y="178"/>
                </a:lnTo>
                <a:lnTo>
                  <a:pt x="284" y="172"/>
                </a:lnTo>
                <a:lnTo>
                  <a:pt x="311" y="167"/>
                </a:lnTo>
                <a:lnTo>
                  <a:pt x="342" y="159"/>
                </a:lnTo>
                <a:lnTo>
                  <a:pt x="370" y="153"/>
                </a:lnTo>
                <a:lnTo>
                  <a:pt x="401" y="145"/>
                </a:lnTo>
                <a:lnTo>
                  <a:pt x="434" y="138"/>
                </a:lnTo>
                <a:lnTo>
                  <a:pt x="465" y="130"/>
                </a:lnTo>
                <a:lnTo>
                  <a:pt x="499" y="122"/>
                </a:lnTo>
                <a:lnTo>
                  <a:pt x="532" y="113"/>
                </a:lnTo>
                <a:lnTo>
                  <a:pt x="568" y="103"/>
                </a:lnTo>
                <a:lnTo>
                  <a:pt x="603" y="94"/>
                </a:lnTo>
                <a:lnTo>
                  <a:pt x="639" y="82"/>
                </a:lnTo>
                <a:lnTo>
                  <a:pt x="678" y="71"/>
                </a:lnTo>
                <a:lnTo>
                  <a:pt x="714" y="63"/>
                </a:lnTo>
                <a:lnTo>
                  <a:pt x="751" y="53"/>
                </a:lnTo>
                <a:lnTo>
                  <a:pt x="785" y="46"/>
                </a:lnTo>
                <a:lnTo>
                  <a:pt x="818" y="40"/>
                </a:lnTo>
                <a:lnTo>
                  <a:pt x="848" y="32"/>
                </a:lnTo>
                <a:lnTo>
                  <a:pt x="879" y="26"/>
                </a:lnTo>
                <a:lnTo>
                  <a:pt x="908" y="21"/>
                </a:lnTo>
                <a:lnTo>
                  <a:pt x="937" y="17"/>
                </a:lnTo>
                <a:lnTo>
                  <a:pt x="964" y="13"/>
                </a:lnTo>
                <a:lnTo>
                  <a:pt x="989" y="9"/>
                </a:lnTo>
                <a:lnTo>
                  <a:pt x="1014" y="5"/>
                </a:lnTo>
                <a:lnTo>
                  <a:pt x="1037" y="3"/>
                </a:lnTo>
                <a:lnTo>
                  <a:pt x="1058" y="2"/>
                </a:lnTo>
                <a:lnTo>
                  <a:pt x="1079" y="0"/>
                </a:lnTo>
                <a:lnTo>
                  <a:pt x="1098" y="0"/>
                </a:lnTo>
                <a:lnTo>
                  <a:pt x="1115" y="0"/>
                </a:lnTo>
                <a:lnTo>
                  <a:pt x="1133" y="0"/>
                </a:lnTo>
                <a:lnTo>
                  <a:pt x="1150" y="0"/>
                </a:lnTo>
                <a:lnTo>
                  <a:pt x="1165" y="0"/>
                </a:lnTo>
                <a:lnTo>
                  <a:pt x="1179" y="2"/>
                </a:lnTo>
                <a:lnTo>
                  <a:pt x="1190" y="2"/>
                </a:lnTo>
                <a:lnTo>
                  <a:pt x="1204" y="3"/>
                </a:lnTo>
                <a:lnTo>
                  <a:pt x="1213" y="5"/>
                </a:lnTo>
                <a:lnTo>
                  <a:pt x="1223" y="5"/>
                </a:lnTo>
                <a:lnTo>
                  <a:pt x="1231" y="7"/>
                </a:lnTo>
                <a:lnTo>
                  <a:pt x="1238" y="9"/>
                </a:lnTo>
                <a:lnTo>
                  <a:pt x="1244" y="11"/>
                </a:lnTo>
                <a:lnTo>
                  <a:pt x="1250" y="13"/>
                </a:lnTo>
                <a:lnTo>
                  <a:pt x="1254" y="17"/>
                </a:lnTo>
                <a:lnTo>
                  <a:pt x="1255" y="19"/>
                </a:lnTo>
                <a:lnTo>
                  <a:pt x="1257" y="21"/>
                </a:lnTo>
                <a:lnTo>
                  <a:pt x="1259" y="23"/>
                </a:lnTo>
                <a:lnTo>
                  <a:pt x="1257" y="30"/>
                </a:lnTo>
                <a:lnTo>
                  <a:pt x="1255" y="38"/>
                </a:lnTo>
                <a:lnTo>
                  <a:pt x="1254" y="46"/>
                </a:lnTo>
                <a:lnTo>
                  <a:pt x="1250" y="51"/>
                </a:lnTo>
                <a:lnTo>
                  <a:pt x="1244" y="57"/>
                </a:lnTo>
                <a:lnTo>
                  <a:pt x="1238" y="61"/>
                </a:lnTo>
                <a:lnTo>
                  <a:pt x="1231" y="67"/>
                </a:lnTo>
                <a:lnTo>
                  <a:pt x="1223" y="71"/>
                </a:lnTo>
                <a:lnTo>
                  <a:pt x="1221" y="73"/>
                </a:lnTo>
                <a:lnTo>
                  <a:pt x="1217" y="74"/>
                </a:lnTo>
                <a:lnTo>
                  <a:pt x="1213" y="74"/>
                </a:lnTo>
                <a:lnTo>
                  <a:pt x="1209" y="76"/>
                </a:lnTo>
                <a:lnTo>
                  <a:pt x="1206" y="78"/>
                </a:lnTo>
                <a:lnTo>
                  <a:pt x="1202" y="80"/>
                </a:lnTo>
                <a:lnTo>
                  <a:pt x="1196" y="82"/>
                </a:lnTo>
                <a:lnTo>
                  <a:pt x="1190" y="84"/>
                </a:lnTo>
                <a:lnTo>
                  <a:pt x="1183" y="86"/>
                </a:lnTo>
                <a:lnTo>
                  <a:pt x="1177" y="90"/>
                </a:lnTo>
                <a:lnTo>
                  <a:pt x="1169" y="92"/>
                </a:lnTo>
                <a:lnTo>
                  <a:pt x="1161" y="94"/>
                </a:lnTo>
                <a:lnTo>
                  <a:pt x="1154" y="96"/>
                </a:lnTo>
                <a:lnTo>
                  <a:pt x="1144" y="99"/>
                </a:lnTo>
                <a:lnTo>
                  <a:pt x="1135" y="101"/>
                </a:lnTo>
                <a:lnTo>
                  <a:pt x="1125" y="105"/>
                </a:lnTo>
                <a:lnTo>
                  <a:pt x="1115" y="107"/>
                </a:lnTo>
                <a:lnTo>
                  <a:pt x="1104" y="111"/>
                </a:lnTo>
                <a:lnTo>
                  <a:pt x="1092" y="113"/>
                </a:lnTo>
                <a:lnTo>
                  <a:pt x="1081" y="117"/>
                </a:lnTo>
                <a:lnTo>
                  <a:pt x="1069" y="119"/>
                </a:lnTo>
                <a:lnTo>
                  <a:pt x="1056" y="122"/>
                </a:lnTo>
                <a:lnTo>
                  <a:pt x="1042" y="126"/>
                </a:lnTo>
                <a:lnTo>
                  <a:pt x="1029" y="128"/>
                </a:lnTo>
                <a:lnTo>
                  <a:pt x="1016" y="132"/>
                </a:lnTo>
                <a:lnTo>
                  <a:pt x="1000" y="136"/>
                </a:lnTo>
                <a:lnTo>
                  <a:pt x="985" y="140"/>
                </a:lnTo>
                <a:lnTo>
                  <a:pt x="969" y="142"/>
                </a:lnTo>
                <a:lnTo>
                  <a:pt x="954" y="145"/>
                </a:lnTo>
                <a:lnTo>
                  <a:pt x="937" y="149"/>
                </a:lnTo>
                <a:lnTo>
                  <a:pt x="920" y="153"/>
                </a:lnTo>
                <a:lnTo>
                  <a:pt x="902" y="157"/>
                </a:lnTo>
                <a:lnTo>
                  <a:pt x="868" y="165"/>
                </a:lnTo>
                <a:lnTo>
                  <a:pt x="833" y="174"/>
                </a:lnTo>
                <a:lnTo>
                  <a:pt x="799" y="184"/>
                </a:lnTo>
                <a:lnTo>
                  <a:pt x="764" y="193"/>
                </a:lnTo>
                <a:lnTo>
                  <a:pt x="731" y="201"/>
                </a:lnTo>
                <a:lnTo>
                  <a:pt x="699" y="211"/>
                </a:lnTo>
                <a:lnTo>
                  <a:pt x="668" y="218"/>
                </a:lnTo>
                <a:lnTo>
                  <a:pt x="637" y="228"/>
                </a:lnTo>
                <a:lnTo>
                  <a:pt x="607" y="236"/>
                </a:lnTo>
                <a:lnTo>
                  <a:pt x="578" y="243"/>
                </a:lnTo>
                <a:lnTo>
                  <a:pt x="549" y="253"/>
                </a:lnTo>
                <a:lnTo>
                  <a:pt x="520" y="261"/>
                </a:lnTo>
                <a:lnTo>
                  <a:pt x="493" y="268"/>
                </a:lnTo>
                <a:lnTo>
                  <a:pt x="466" y="276"/>
                </a:lnTo>
                <a:lnTo>
                  <a:pt x="442" y="282"/>
                </a:lnTo>
                <a:lnTo>
                  <a:pt x="417" y="289"/>
                </a:lnTo>
                <a:lnTo>
                  <a:pt x="392" y="297"/>
                </a:lnTo>
                <a:lnTo>
                  <a:pt x="369" y="303"/>
                </a:lnTo>
                <a:lnTo>
                  <a:pt x="347" y="309"/>
                </a:lnTo>
                <a:lnTo>
                  <a:pt x="328" y="314"/>
                </a:lnTo>
                <a:lnTo>
                  <a:pt x="307" y="320"/>
                </a:lnTo>
                <a:lnTo>
                  <a:pt x="290" y="324"/>
                </a:lnTo>
                <a:lnTo>
                  <a:pt x="273" y="330"/>
                </a:lnTo>
                <a:lnTo>
                  <a:pt x="257" y="334"/>
                </a:lnTo>
                <a:lnTo>
                  <a:pt x="244" y="337"/>
                </a:lnTo>
                <a:lnTo>
                  <a:pt x="230" y="341"/>
                </a:lnTo>
                <a:lnTo>
                  <a:pt x="219" y="343"/>
                </a:lnTo>
                <a:lnTo>
                  <a:pt x="207" y="345"/>
                </a:lnTo>
                <a:lnTo>
                  <a:pt x="198" y="347"/>
                </a:lnTo>
                <a:lnTo>
                  <a:pt x="190" y="349"/>
                </a:lnTo>
                <a:lnTo>
                  <a:pt x="184" y="349"/>
                </a:lnTo>
                <a:lnTo>
                  <a:pt x="178" y="3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44"/>
          <p:cNvSpPr/>
          <p:nvPr/>
        </p:nvSpPr>
        <p:spPr>
          <a:xfrm>
            <a:off x="5670720" y="4062240"/>
            <a:ext cx="723600" cy="455760"/>
          </a:xfrm>
          <a:custGeom>
            <a:avLst/>
            <a:gdLst/>
            <a:ahLst/>
            <a:rect l="l" t="t" r="r" b="b"/>
            <a:pathLst>
              <a:path w="914" h="574">
                <a:moveTo>
                  <a:pt x="273" y="316"/>
                </a:moveTo>
                <a:lnTo>
                  <a:pt x="276" y="314"/>
                </a:lnTo>
                <a:lnTo>
                  <a:pt x="282" y="313"/>
                </a:lnTo>
                <a:lnTo>
                  <a:pt x="288" y="311"/>
                </a:lnTo>
                <a:lnTo>
                  <a:pt x="296" y="309"/>
                </a:lnTo>
                <a:lnTo>
                  <a:pt x="303" y="305"/>
                </a:lnTo>
                <a:lnTo>
                  <a:pt x="311" y="303"/>
                </a:lnTo>
                <a:lnTo>
                  <a:pt x="323" y="299"/>
                </a:lnTo>
                <a:lnTo>
                  <a:pt x="334" y="295"/>
                </a:lnTo>
                <a:lnTo>
                  <a:pt x="346" y="291"/>
                </a:lnTo>
                <a:lnTo>
                  <a:pt x="359" y="288"/>
                </a:lnTo>
                <a:lnTo>
                  <a:pt x="372" y="282"/>
                </a:lnTo>
                <a:lnTo>
                  <a:pt x="388" y="278"/>
                </a:lnTo>
                <a:lnTo>
                  <a:pt x="405" y="272"/>
                </a:lnTo>
                <a:lnTo>
                  <a:pt x="422" y="267"/>
                </a:lnTo>
                <a:lnTo>
                  <a:pt x="442" y="261"/>
                </a:lnTo>
                <a:lnTo>
                  <a:pt x="461" y="255"/>
                </a:lnTo>
                <a:lnTo>
                  <a:pt x="480" y="249"/>
                </a:lnTo>
                <a:lnTo>
                  <a:pt x="503" y="242"/>
                </a:lnTo>
                <a:lnTo>
                  <a:pt x="524" y="236"/>
                </a:lnTo>
                <a:lnTo>
                  <a:pt x="549" y="228"/>
                </a:lnTo>
                <a:lnTo>
                  <a:pt x="574" y="220"/>
                </a:lnTo>
                <a:lnTo>
                  <a:pt x="599" y="213"/>
                </a:lnTo>
                <a:lnTo>
                  <a:pt x="626" y="205"/>
                </a:lnTo>
                <a:lnTo>
                  <a:pt x="655" y="197"/>
                </a:lnTo>
                <a:lnTo>
                  <a:pt x="683" y="188"/>
                </a:lnTo>
                <a:lnTo>
                  <a:pt x="712" y="180"/>
                </a:lnTo>
                <a:lnTo>
                  <a:pt x="743" y="171"/>
                </a:lnTo>
                <a:lnTo>
                  <a:pt x="776" y="161"/>
                </a:lnTo>
                <a:lnTo>
                  <a:pt x="808" y="151"/>
                </a:lnTo>
                <a:lnTo>
                  <a:pt x="843" y="142"/>
                </a:lnTo>
                <a:lnTo>
                  <a:pt x="877" y="132"/>
                </a:lnTo>
                <a:lnTo>
                  <a:pt x="914" y="121"/>
                </a:lnTo>
                <a:lnTo>
                  <a:pt x="914" y="207"/>
                </a:lnTo>
                <a:lnTo>
                  <a:pt x="889" y="215"/>
                </a:lnTo>
                <a:lnTo>
                  <a:pt x="864" y="222"/>
                </a:lnTo>
                <a:lnTo>
                  <a:pt x="839" y="230"/>
                </a:lnTo>
                <a:lnTo>
                  <a:pt x="816" y="238"/>
                </a:lnTo>
                <a:lnTo>
                  <a:pt x="793" y="245"/>
                </a:lnTo>
                <a:lnTo>
                  <a:pt x="770" y="253"/>
                </a:lnTo>
                <a:lnTo>
                  <a:pt x="749" y="261"/>
                </a:lnTo>
                <a:lnTo>
                  <a:pt x="728" y="268"/>
                </a:lnTo>
                <a:lnTo>
                  <a:pt x="706" y="274"/>
                </a:lnTo>
                <a:lnTo>
                  <a:pt x="685" y="282"/>
                </a:lnTo>
                <a:lnTo>
                  <a:pt x="666" y="290"/>
                </a:lnTo>
                <a:lnTo>
                  <a:pt x="647" y="295"/>
                </a:lnTo>
                <a:lnTo>
                  <a:pt x="628" y="303"/>
                </a:lnTo>
                <a:lnTo>
                  <a:pt x="610" y="309"/>
                </a:lnTo>
                <a:lnTo>
                  <a:pt x="593" y="314"/>
                </a:lnTo>
                <a:lnTo>
                  <a:pt x="576" y="322"/>
                </a:lnTo>
                <a:lnTo>
                  <a:pt x="559" y="328"/>
                </a:lnTo>
                <a:lnTo>
                  <a:pt x="543" y="334"/>
                </a:lnTo>
                <a:lnTo>
                  <a:pt x="528" y="339"/>
                </a:lnTo>
                <a:lnTo>
                  <a:pt x="513" y="345"/>
                </a:lnTo>
                <a:lnTo>
                  <a:pt x="499" y="351"/>
                </a:lnTo>
                <a:lnTo>
                  <a:pt x="486" y="357"/>
                </a:lnTo>
                <a:lnTo>
                  <a:pt x="472" y="361"/>
                </a:lnTo>
                <a:lnTo>
                  <a:pt x="461" y="366"/>
                </a:lnTo>
                <a:lnTo>
                  <a:pt x="447" y="370"/>
                </a:lnTo>
                <a:lnTo>
                  <a:pt x="436" y="376"/>
                </a:lnTo>
                <a:lnTo>
                  <a:pt x="426" y="380"/>
                </a:lnTo>
                <a:lnTo>
                  <a:pt x="415" y="384"/>
                </a:lnTo>
                <a:lnTo>
                  <a:pt x="405" y="389"/>
                </a:lnTo>
                <a:lnTo>
                  <a:pt x="397" y="393"/>
                </a:lnTo>
                <a:lnTo>
                  <a:pt x="388" y="397"/>
                </a:lnTo>
                <a:lnTo>
                  <a:pt x="380" y="401"/>
                </a:lnTo>
                <a:lnTo>
                  <a:pt x="363" y="409"/>
                </a:lnTo>
                <a:lnTo>
                  <a:pt x="346" y="418"/>
                </a:lnTo>
                <a:lnTo>
                  <a:pt x="330" y="426"/>
                </a:lnTo>
                <a:lnTo>
                  <a:pt x="315" y="433"/>
                </a:lnTo>
                <a:lnTo>
                  <a:pt x="301" y="443"/>
                </a:lnTo>
                <a:lnTo>
                  <a:pt x="288" y="451"/>
                </a:lnTo>
                <a:lnTo>
                  <a:pt x="276" y="456"/>
                </a:lnTo>
                <a:lnTo>
                  <a:pt x="265" y="464"/>
                </a:lnTo>
                <a:lnTo>
                  <a:pt x="253" y="470"/>
                </a:lnTo>
                <a:lnTo>
                  <a:pt x="244" y="478"/>
                </a:lnTo>
                <a:lnTo>
                  <a:pt x="234" y="483"/>
                </a:lnTo>
                <a:lnTo>
                  <a:pt x="227" y="489"/>
                </a:lnTo>
                <a:lnTo>
                  <a:pt x="219" y="495"/>
                </a:lnTo>
                <a:lnTo>
                  <a:pt x="213" y="499"/>
                </a:lnTo>
                <a:lnTo>
                  <a:pt x="207" y="504"/>
                </a:lnTo>
                <a:lnTo>
                  <a:pt x="202" y="510"/>
                </a:lnTo>
                <a:lnTo>
                  <a:pt x="196" y="516"/>
                </a:lnTo>
                <a:lnTo>
                  <a:pt x="190" y="522"/>
                </a:lnTo>
                <a:lnTo>
                  <a:pt x="182" y="527"/>
                </a:lnTo>
                <a:lnTo>
                  <a:pt x="179" y="533"/>
                </a:lnTo>
                <a:lnTo>
                  <a:pt x="167" y="541"/>
                </a:lnTo>
                <a:lnTo>
                  <a:pt x="157" y="549"/>
                </a:lnTo>
                <a:lnTo>
                  <a:pt x="150" y="554"/>
                </a:lnTo>
                <a:lnTo>
                  <a:pt x="142" y="560"/>
                </a:lnTo>
                <a:lnTo>
                  <a:pt x="136" y="566"/>
                </a:lnTo>
                <a:lnTo>
                  <a:pt x="131" y="570"/>
                </a:lnTo>
                <a:lnTo>
                  <a:pt x="127" y="572"/>
                </a:lnTo>
                <a:lnTo>
                  <a:pt x="121" y="574"/>
                </a:lnTo>
                <a:lnTo>
                  <a:pt x="117" y="574"/>
                </a:lnTo>
                <a:lnTo>
                  <a:pt x="113" y="572"/>
                </a:lnTo>
                <a:lnTo>
                  <a:pt x="108" y="572"/>
                </a:lnTo>
                <a:lnTo>
                  <a:pt x="104" y="568"/>
                </a:lnTo>
                <a:lnTo>
                  <a:pt x="98" y="566"/>
                </a:lnTo>
                <a:lnTo>
                  <a:pt x="94" y="560"/>
                </a:lnTo>
                <a:lnTo>
                  <a:pt x="88" y="556"/>
                </a:lnTo>
                <a:lnTo>
                  <a:pt x="83" y="551"/>
                </a:lnTo>
                <a:lnTo>
                  <a:pt x="79" y="543"/>
                </a:lnTo>
                <a:lnTo>
                  <a:pt x="73" y="535"/>
                </a:lnTo>
                <a:lnTo>
                  <a:pt x="67" y="527"/>
                </a:lnTo>
                <a:lnTo>
                  <a:pt x="60" y="518"/>
                </a:lnTo>
                <a:lnTo>
                  <a:pt x="54" y="508"/>
                </a:lnTo>
                <a:lnTo>
                  <a:pt x="48" y="497"/>
                </a:lnTo>
                <a:lnTo>
                  <a:pt x="40" y="489"/>
                </a:lnTo>
                <a:lnTo>
                  <a:pt x="35" y="480"/>
                </a:lnTo>
                <a:lnTo>
                  <a:pt x="31" y="472"/>
                </a:lnTo>
                <a:lnTo>
                  <a:pt x="25" y="462"/>
                </a:lnTo>
                <a:lnTo>
                  <a:pt x="17" y="449"/>
                </a:lnTo>
                <a:lnTo>
                  <a:pt x="12" y="435"/>
                </a:lnTo>
                <a:lnTo>
                  <a:pt x="6" y="424"/>
                </a:lnTo>
                <a:lnTo>
                  <a:pt x="4" y="418"/>
                </a:lnTo>
                <a:lnTo>
                  <a:pt x="4" y="414"/>
                </a:lnTo>
                <a:lnTo>
                  <a:pt x="2" y="409"/>
                </a:lnTo>
                <a:lnTo>
                  <a:pt x="2" y="405"/>
                </a:lnTo>
                <a:lnTo>
                  <a:pt x="0" y="403"/>
                </a:lnTo>
                <a:lnTo>
                  <a:pt x="0" y="401"/>
                </a:lnTo>
                <a:lnTo>
                  <a:pt x="2" y="395"/>
                </a:lnTo>
                <a:lnTo>
                  <a:pt x="4" y="391"/>
                </a:lnTo>
                <a:lnTo>
                  <a:pt x="6" y="385"/>
                </a:lnTo>
                <a:lnTo>
                  <a:pt x="12" y="380"/>
                </a:lnTo>
                <a:lnTo>
                  <a:pt x="17" y="372"/>
                </a:lnTo>
                <a:lnTo>
                  <a:pt x="25" y="362"/>
                </a:lnTo>
                <a:lnTo>
                  <a:pt x="31" y="359"/>
                </a:lnTo>
                <a:lnTo>
                  <a:pt x="35" y="353"/>
                </a:lnTo>
                <a:lnTo>
                  <a:pt x="40" y="345"/>
                </a:lnTo>
                <a:lnTo>
                  <a:pt x="48" y="339"/>
                </a:lnTo>
                <a:lnTo>
                  <a:pt x="54" y="332"/>
                </a:lnTo>
                <a:lnTo>
                  <a:pt x="60" y="324"/>
                </a:lnTo>
                <a:lnTo>
                  <a:pt x="65" y="316"/>
                </a:lnTo>
                <a:lnTo>
                  <a:pt x="71" y="307"/>
                </a:lnTo>
                <a:lnTo>
                  <a:pt x="75" y="297"/>
                </a:lnTo>
                <a:lnTo>
                  <a:pt x="79" y="288"/>
                </a:lnTo>
                <a:lnTo>
                  <a:pt x="83" y="276"/>
                </a:lnTo>
                <a:lnTo>
                  <a:pt x="86" y="265"/>
                </a:lnTo>
                <a:lnTo>
                  <a:pt x="90" y="253"/>
                </a:lnTo>
                <a:lnTo>
                  <a:pt x="92" y="240"/>
                </a:lnTo>
                <a:lnTo>
                  <a:pt x="96" y="226"/>
                </a:lnTo>
                <a:lnTo>
                  <a:pt x="98" y="211"/>
                </a:lnTo>
                <a:lnTo>
                  <a:pt x="100" y="195"/>
                </a:lnTo>
                <a:lnTo>
                  <a:pt x="102" y="180"/>
                </a:lnTo>
                <a:lnTo>
                  <a:pt x="106" y="163"/>
                </a:lnTo>
                <a:lnTo>
                  <a:pt x="108" y="146"/>
                </a:lnTo>
                <a:lnTo>
                  <a:pt x="109" y="128"/>
                </a:lnTo>
                <a:lnTo>
                  <a:pt x="111" y="111"/>
                </a:lnTo>
                <a:lnTo>
                  <a:pt x="113" y="96"/>
                </a:lnTo>
                <a:lnTo>
                  <a:pt x="115" y="82"/>
                </a:lnTo>
                <a:lnTo>
                  <a:pt x="117" y="69"/>
                </a:lnTo>
                <a:lnTo>
                  <a:pt x="121" y="57"/>
                </a:lnTo>
                <a:lnTo>
                  <a:pt x="123" y="46"/>
                </a:lnTo>
                <a:lnTo>
                  <a:pt x="125" y="36"/>
                </a:lnTo>
                <a:lnTo>
                  <a:pt x="127" y="29"/>
                </a:lnTo>
                <a:lnTo>
                  <a:pt x="129" y="21"/>
                </a:lnTo>
                <a:lnTo>
                  <a:pt x="131" y="13"/>
                </a:lnTo>
                <a:lnTo>
                  <a:pt x="134" y="9"/>
                </a:lnTo>
                <a:lnTo>
                  <a:pt x="136" y="6"/>
                </a:lnTo>
                <a:lnTo>
                  <a:pt x="138" y="2"/>
                </a:lnTo>
                <a:lnTo>
                  <a:pt x="140" y="0"/>
                </a:lnTo>
                <a:lnTo>
                  <a:pt x="142" y="0"/>
                </a:lnTo>
                <a:lnTo>
                  <a:pt x="148" y="0"/>
                </a:lnTo>
                <a:lnTo>
                  <a:pt x="152" y="2"/>
                </a:lnTo>
                <a:lnTo>
                  <a:pt x="157" y="6"/>
                </a:lnTo>
                <a:lnTo>
                  <a:pt x="163" y="9"/>
                </a:lnTo>
                <a:lnTo>
                  <a:pt x="171" y="13"/>
                </a:lnTo>
                <a:lnTo>
                  <a:pt x="180" y="21"/>
                </a:lnTo>
                <a:lnTo>
                  <a:pt x="184" y="25"/>
                </a:lnTo>
                <a:lnTo>
                  <a:pt x="190" y="29"/>
                </a:lnTo>
                <a:lnTo>
                  <a:pt x="196" y="32"/>
                </a:lnTo>
                <a:lnTo>
                  <a:pt x="202" y="36"/>
                </a:lnTo>
                <a:lnTo>
                  <a:pt x="211" y="50"/>
                </a:lnTo>
                <a:lnTo>
                  <a:pt x="217" y="61"/>
                </a:lnTo>
                <a:lnTo>
                  <a:pt x="223" y="73"/>
                </a:lnTo>
                <a:lnTo>
                  <a:pt x="228" y="82"/>
                </a:lnTo>
                <a:lnTo>
                  <a:pt x="232" y="90"/>
                </a:lnTo>
                <a:lnTo>
                  <a:pt x="236" y="98"/>
                </a:lnTo>
                <a:lnTo>
                  <a:pt x="236" y="103"/>
                </a:lnTo>
                <a:lnTo>
                  <a:pt x="238" y="109"/>
                </a:lnTo>
                <a:lnTo>
                  <a:pt x="236" y="119"/>
                </a:lnTo>
                <a:lnTo>
                  <a:pt x="236" y="130"/>
                </a:lnTo>
                <a:lnTo>
                  <a:pt x="232" y="142"/>
                </a:lnTo>
                <a:lnTo>
                  <a:pt x="230" y="155"/>
                </a:lnTo>
                <a:lnTo>
                  <a:pt x="227" y="169"/>
                </a:lnTo>
                <a:lnTo>
                  <a:pt x="223" y="184"/>
                </a:lnTo>
                <a:lnTo>
                  <a:pt x="219" y="201"/>
                </a:lnTo>
                <a:lnTo>
                  <a:pt x="215" y="219"/>
                </a:lnTo>
                <a:lnTo>
                  <a:pt x="211" y="230"/>
                </a:lnTo>
                <a:lnTo>
                  <a:pt x="209" y="240"/>
                </a:lnTo>
                <a:lnTo>
                  <a:pt x="209" y="249"/>
                </a:lnTo>
                <a:lnTo>
                  <a:pt x="207" y="257"/>
                </a:lnTo>
                <a:lnTo>
                  <a:pt x="205" y="265"/>
                </a:lnTo>
                <a:lnTo>
                  <a:pt x="205" y="272"/>
                </a:lnTo>
                <a:lnTo>
                  <a:pt x="205" y="278"/>
                </a:lnTo>
                <a:lnTo>
                  <a:pt x="205" y="286"/>
                </a:lnTo>
                <a:lnTo>
                  <a:pt x="205" y="290"/>
                </a:lnTo>
                <a:lnTo>
                  <a:pt x="205" y="295"/>
                </a:lnTo>
                <a:lnTo>
                  <a:pt x="205" y="299"/>
                </a:lnTo>
                <a:lnTo>
                  <a:pt x="207" y="303"/>
                </a:lnTo>
                <a:lnTo>
                  <a:pt x="209" y="311"/>
                </a:lnTo>
                <a:lnTo>
                  <a:pt x="215" y="316"/>
                </a:lnTo>
                <a:lnTo>
                  <a:pt x="219" y="320"/>
                </a:lnTo>
                <a:lnTo>
                  <a:pt x="223" y="322"/>
                </a:lnTo>
                <a:lnTo>
                  <a:pt x="228" y="324"/>
                </a:lnTo>
                <a:lnTo>
                  <a:pt x="234" y="324"/>
                </a:lnTo>
                <a:lnTo>
                  <a:pt x="242" y="324"/>
                </a:lnTo>
                <a:lnTo>
                  <a:pt x="251" y="322"/>
                </a:lnTo>
                <a:lnTo>
                  <a:pt x="255" y="320"/>
                </a:lnTo>
                <a:lnTo>
                  <a:pt x="261" y="320"/>
                </a:lnTo>
                <a:lnTo>
                  <a:pt x="267" y="318"/>
                </a:lnTo>
                <a:lnTo>
                  <a:pt x="273" y="3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45"/>
          <p:cNvSpPr/>
          <p:nvPr/>
        </p:nvSpPr>
        <p:spPr>
          <a:xfrm>
            <a:off x="6307200" y="3962520"/>
            <a:ext cx="160200" cy="455400"/>
          </a:xfrm>
          <a:custGeom>
            <a:avLst/>
            <a:gdLst/>
            <a:ahLst/>
            <a:rect l="l" t="t" r="r" b="b"/>
            <a:pathLst>
              <a:path w="204" h="576">
                <a:moveTo>
                  <a:pt x="18" y="79"/>
                </a:moveTo>
                <a:lnTo>
                  <a:pt x="12" y="65"/>
                </a:lnTo>
                <a:lnTo>
                  <a:pt x="8" y="54"/>
                </a:lnTo>
                <a:lnTo>
                  <a:pt x="4" y="42"/>
                </a:lnTo>
                <a:lnTo>
                  <a:pt x="2" y="33"/>
                </a:lnTo>
                <a:lnTo>
                  <a:pt x="0" y="25"/>
                </a:lnTo>
                <a:lnTo>
                  <a:pt x="0" y="17"/>
                </a:lnTo>
                <a:lnTo>
                  <a:pt x="2" y="12"/>
                </a:lnTo>
                <a:lnTo>
                  <a:pt x="2" y="8"/>
                </a:lnTo>
                <a:lnTo>
                  <a:pt x="4" y="6"/>
                </a:lnTo>
                <a:lnTo>
                  <a:pt x="8" y="4"/>
                </a:lnTo>
                <a:lnTo>
                  <a:pt x="10" y="2"/>
                </a:lnTo>
                <a:lnTo>
                  <a:pt x="14" y="2"/>
                </a:lnTo>
                <a:lnTo>
                  <a:pt x="16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5" y="2"/>
                </a:lnTo>
                <a:lnTo>
                  <a:pt x="41" y="4"/>
                </a:lnTo>
                <a:lnTo>
                  <a:pt x="47" y="6"/>
                </a:lnTo>
                <a:lnTo>
                  <a:pt x="54" y="8"/>
                </a:lnTo>
                <a:lnTo>
                  <a:pt x="62" y="10"/>
                </a:lnTo>
                <a:lnTo>
                  <a:pt x="70" y="12"/>
                </a:lnTo>
                <a:lnTo>
                  <a:pt x="79" y="14"/>
                </a:lnTo>
                <a:lnTo>
                  <a:pt x="89" y="15"/>
                </a:lnTo>
                <a:lnTo>
                  <a:pt x="100" y="17"/>
                </a:lnTo>
                <a:lnTo>
                  <a:pt x="110" y="23"/>
                </a:lnTo>
                <a:lnTo>
                  <a:pt x="120" y="27"/>
                </a:lnTo>
                <a:lnTo>
                  <a:pt x="129" y="31"/>
                </a:lnTo>
                <a:lnTo>
                  <a:pt x="139" y="37"/>
                </a:lnTo>
                <a:lnTo>
                  <a:pt x="146" y="40"/>
                </a:lnTo>
                <a:lnTo>
                  <a:pt x="152" y="44"/>
                </a:lnTo>
                <a:lnTo>
                  <a:pt x="160" y="48"/>
                </a:lnTo>
                <a:lnTo>
                  <a:pt x="166" y="52"/>
                </a:lnTo>
                <a:lnTo>
                  <a:pt x="169" y="58"/>
                </a:lnTo>
                <a:lnTo>
                  <a:pt x="175" y="60"/>
                </a:lnTo>
                <a:lnTo>
                  <a:pt x="179" y="63"/>
                </a:lnTo>
                <a:lnTo>
                  <a:pt x="183" y="67"/>
                </a:lnTo>
                <a:lnTo>
                  <a:pt x="191" y="73"/>
                </a:lnTo>
                <a:lnTo>
                  <a:pt x="194" y="79"/>
                </a:lnTo>
                <a:lnTo>
                  <a:pt x="196" y="81"/>
                </a:lnTo>
                <a:lnTo>
                  <a:pt x="198" y="85"/>
                </a:lnTo>
                <a:lnTo>
                  <a:pt x="200" y="88"/>
                </a:lnTo>
                <a:lnTo>
                  <a:pt x="202" y="92"/>
                </a:lnTo>
                <a:lnTo>
                  <a:pt x="202" y="96"/>
                </a:lnTo>
                <a:lnTo>
                  <a:pt x="202" y="102"/>
                </a:lnTo>
                <a:lnTo>
                  <a:pt x="204" y="113"/>
                </a:lnTo>
                <a:lnTo>
                  <a:pt x="202" y="127"/>
                </a:lnTo>
                <a:lnTo>
                  <a:pt x="202" y="142"/>
                </a:lnTo>
                <a:lnTo>
                  <a:pt x="198" y="157"/>
                </a:lnTo>
                <a:lnTo>
                  <a:pt x="194" y="175"/>
                </a:lnTo>
                <a:lnTo>
                  <a:pt x="192" y="184"/>
                </a:lnTo>
                <a:lnTo>
                  <a:pt x="191" y="194"/>
                </a:lnTo>
                <a:lnTo>
                  <a:pt x="189" y="205"/>
                </a:lnTo>
                <a:lnTo>
                  <a:pt x="187" y="217"/>
                </a:lnTo>
                <a:lnTo>
                  <a:pt x="183" y="228"/>
                </a:lnTo>
                <a:lnTo>
                  <a:pt x="181" y="240"/>
                </a:lnTo>
                <a:lnTo>
                  <a:pt x="179" y="253"/>
                </a:lnTo>
                <a:lnTo>
                  <a:pt x="177" y="269"/>
                </a:lnTo>
                <a:lnTo>
                  <a:pt x="175" y="282"/>
                </a:lnTo>
                <a:lnTo>
                  <a:pt x="173" y="298"/>
                </a:lnTo>
                <a:lnTo>
                  <a:pt x="169" y="315"/>
                </a:lnTo>
                <a:lnTo>
                  <a:pt x="167" y="330"/>
                </a:lnTo>
                <a:lnTo>
                  <a:pt x="166" y="347"/>
                </a:lnTo>
                <a:lnTo>
                  <a:pt x="164" y="367"/>
                </a:lnTo>
                <a:lnTo>
                  <a:pt x="162" y="386"/>
                </a:lnTo>
                <a:lnTo>
                  <a:pt x="160" y="407"/>
                </a:lnTo>
                <a:lnTo>
                  <a:pt x="154" y="426"/>
                </a:lnTo>
                <a:lnTo>
                  <a:pt x="150" y="445"/>
                </a:lnTo>
                <a:lnTo>
                  <a:pt x="146" y="463"/>
                </a:lnTo>
                <a:lnTo>
                  <a:pt x="143" y="478"/>
                </a:lnTo>
                <a:lnTo>
                  <a:pt x="137" y="493"/>
                </a:lnTo>
                <a:lnTo>
                  <a:pt x="133" y="507"/>
                </a:lnTo>
                <a:lnTo>
                  <a:pt x="129" y="520"/>
                </a:lnTo>
                <a:lnTo>
                  <a:pt x="123" y="532"/>
                </a:lnTo>
                <a:lnTo>
                  <a:pt x="120" y="541"/>
                </a:lnTo>
                <a:lnTo>
                  <a:pt x="116" y="551"/>
                </a:lnTo>
                <a:lnTo>
                  <a:pt x="110" y="559"/>
                </a:lnTo>
                <a:lnTo>
                  <a:pt x="106" y="564"/>
                </a:lnTo>
                <a:lnTo>
                  <a:pt x="102" y="570"/>
                </a:lnTo>
                <a:lnTo>
                  <a:pt x="96" y="572"/>
                </a:lnTo>
                <a:lnTo>
                  <a:pt x="93" y="574"/>
                </a:lnTo>
                <a:lnTo>
                  <a:pt x="89" y="576"/>
                </a:lnTo>
                <a:lnTo>
                  <a:pt x="81" y="574"/>
                </a:lnTo>
                <a:lnTo>
                  <a:pt x="75" y="572"/>
                </a:lnTo>
                <a:lnTo>
                  <a:pt x="70" y="568"/>
                </a:lnTo>
                <a:lnTo>
                  <a:pt x="66" y="562"/>
                </a:lnTo>
                <a:lnTo>
                  <a:pt x="62" y="555"/>
                </a:lnTo>
                <a:lnTo>
                  <a:pt x="58" y="543"/>
                </a:lnTo>
                <a:lnTo>
                  <a:pt x="54" y="534"/>
                </a:lnTo>
                <a:lnTo>
                  <a:pt x="50" y="520"/>
                </a:lnTo>
                <a:lnTo>
                  <a:pt x="48" y="505"/>
                </a:lnTo>
                <a:lnTo>
                  <a:pt x="47" y="488"/>
                </a:lnTo>
                <a:lnTo>
                  <a:pt x="45" y="468"/>
                </a:lnTo>
                <a:lnTo>
                  <a:pt x="43" y="459"/>
                </a:lnTo>
                <a:lnTo>
                  <a:pt x="43" y="447"/>
                </a:lnTo>
                <a:lnTo>
                  <a:pt x="43" y="436"/>
                </a:lnTo>
                <a:lnTo>
                  <a:pt x="41" y="424"/>
                </a:lnTo>
                <a:lnTo>
                  <a:pt x="41" y="413"/>
                </a:lnTo>
                <a:lnTo>
                  <a:pt x="41" y="401"/>
                </a:lnTo>
                <a:lnTo>
                  <a:pt x="41" y="388"/>
                </a:lnTo>
                <a:lnTo>
                  <a:pt x="41" y="374"/>
                </a:lnTo>
                <a:lnTo>
                  <a:pt x="41" y="359"/>
                </a:lnTo>
                <a:lnTo>
                  <a:pt x="41" y="346"/>
                </a:lnTo>
                <a:lnTo>
                  <a:pt x="41" y="317"/>
                </a:lnTo>
                <a:lnTo>
                  <a:pt x="39" y="290"/>
                </a:lnTo>
                <a:lnTo>
                  <a:pt x="39" y="265"/>
                </a:lnTo>
                <a:lnTo>
                  <a:pt x="39" y="240"/>
                </a:lnTo>
                <a:lnTo>
                  <a:pt x="37" y="219"/>
                </a:lnTo>
                <a:lnTo>
                  <a:pt x="35" y="198"/>
                </a:lnTo>
                <a:lnTo>
                  <a:pt x="35" y="179"/>
                </a:lnTo>
                <a:lnTo>
                  <a:pt x="33" y="161"/>
                </a:lnTo>
                <a:lnTo>
                  <a:pt x="31" y="146"/>
                </a:lnTo>
                <a:lnTo>
                  <a:pt x="29" y="133"/>
                </a:lnTo>
                <a:lnTo>
                  <a:pt x="27" y="119"/>
                </a:lnTo>
                <a:lnTo>
                  <a:pt x="25" y="108"/>
                </a:lnTo>
                <a:lnTo>
                  <a:pt x="24" y="98"/>
                </a:lnTo>
                <a:lnTo>
                  <a:pt x="22" y="90"/>
                </a:lnTo>
                <a:lnTo>
                  <a:pt x="20" y="85"/>
                </a:lnTo>
                <a:lnTo>
                  <a:pt x="18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6"/>
          <p:cNvSpPr/>
          <p:nvPr/>
        </p:nvSpPr>
        <p:spPr>
          <a:xfrm>
            <a:off x="5896080" y="3311640"/>
            <a:ext cx="528480" cy="163440"/>
          </a:xfrm>
          <a:custGeom>
            <a:avLst/>
            <a:gdLst/>
            <a:ahLst/>
            <a:rect l="l" t="t" r="r" b="b"/>
            <a:pathLst>
              <a:path w="666" h="207">
                <a:moveTo>
                  <a:pt x="309" y="50"/>
                </a:moveTo>
                <a:lnTo>
                  <a:pt x="328" y="42"/>
                </a:lnTo>
                <a:lnTo>
                  <a:pt x="348" y="36"/>
                </a:lnTo>
                <a:lnTo>
                  <a:pt x="365" y="30"/>
                </a:lnTo>
                <a:lnTo>
                  <a:pt x="382" y="27"/>
                </a:lnTo>
                <a:lnTo>
                  <a:pt x="399" y="21"/>
                </a:lnTo>
                <a:lnTo>
                  <a:pt x="415" y="17"/>
                </a:lnTo>
                <a:lnTo>
                  <a:pt x="428" y="13"/>
                </a:lnTo>
                <a:lnTo>
                  <a:pt x="444" y="11"/>
                </a:lnTo>
                <a:lnTo>
                  <a:pt x="455" y="7"/>
                </a:lnTo>
                <a:lnTo>
                  <a:pt x="469" y="5"/>
                </a:lnTo>
                <a:lnTo>
                  <a:pt x="478" y="3"/>
                </a:lnTo>
                <a:lnTo>
                  <a:pt x="490" y="3"/>
                </a:lnTo>
                <a:lnTo>
                  <a:pt x="499" y="2"/>
                </a:lnTo>
                <a:lnTo>
                  <a:pt x="507" y="2"/>
                </a:lnTo>
                <a:lnTo>
                  <a:pt x="517" y="0"/>
                </a:lnTo>
                <a:lnTo>
                  <a:pt x="522" y="0"/>
                </a:lnTo>
                <a:lnTo>
                  <a:pt x="536" y="2"/>
                </a:lnTo>
                <a:lnTo>
                  <a:pt x="547" y="2"/>
                </a:lnTo>
                <a:lnTo>
                  <a:pt x="559" y="5"/>
                </a:lnTo>
                <a:lnTo>
                  <a:pt x="570" y="7"/>
                </a:lnTo>
                <a:lnTo>
                  <a:pt x="582" y="11"/>
                </a:lnTo>
                <a:lnTo>
                  <a:pt x="593" y="15"/>
                </a:lnTo>
                <a:lnTo>
                  <a:pt x="605" y="21"/>
                </a:lnTo>
                <a:lnTo>
                  <a:pt x="618" y="25"/>
                </a:lnTo>
                <a:lnTo>
                  <a:pt x="624" y="27"/>
                </a:lnTo>
                <a:lnTo>
                  <a:pt x="630" y="30"/>
                </a:lnTo>
                <a:lnTo>
                  <a:pt x="636" y="32"/>
                </a:lnTo>
                <a:lnTo>
                  <a:pt x="639" y="36"/>
                </a:lnTo>
                <a:lnTo>
                  <a:pt x="645" y="38"/>
                </a:lnTo>
                <a:lnTo>
                  <a:pt x="649" y="42"/>
                </a:lnTo>
                <a:lnTo>
                  <a:pt x="655" y="50"/>
                </a:lnTo>
                <a:lnTo>
                  <a:pt x="661" y="55"/>
                </a:lnTo>
                <a:lnTo>
                  <a:pt x="662" y="63"/>
                </a:lnTo>
                <a:lnTo>
                  <a:pt x="664" y="69"/>
                </a:lnTo>
                <a:lnTo>
                  <a:pt x="666" y="73"/>
                </a:lnTo>
                <a:lnTo>
                  <a:pt x="664" y="78"/>
                </a:lnTo>
                <a:lnTo>
                  <a:pt x="664" y="82"/>
                </a:lnTo>
                <a:lnTo>
                  <a:pt x="662" y="86"/>
                </a:lnTo>
                <a:lnTo>
                  <a:pt x="659" y="92"/>
                </a:lnTo>
                <a:lnTo>
                  <a:pt x="655" y="96"/>
                </a:lnTo>
                <a:lnTo>
                  <a:pt x="649" y="99"/>
                </a:lnTo>
                <a:lnTo>
                  <a:pt x="643" y="103"/>
                </a:lnTo>
                <a:lnTo>
                  <a:pt x="638" y="107"/>
                </a:lnTo>
                <a:lnTo>
                  <a:pt x="630" y="113"/>
                </a:lnTo>
                <a:lnTo>
                  <a:pt x="620" y="115"/>
                </a:lnTo>
                <a:lnTo>
                  <a:pt x="611" y="119"/>
                </a:lnTo>
                <a:lnTo>
                  <a:pt x="599" y="122"/>
                </a:lnTo>
                <a:lnTo>
                  <a:pt x="588" y="126"/>
                </a:lnTo>
                <a:lnTo>
                  <a:pt x="576" y="128"/>
                </a:lnTo>
                <a:lnTo>
                  <a:pt x="561" y="132"/>
                </a:lnTo>
                <a:lnTo>
                  <a:pt x="547" y="134"/>
                </a:lnTo>
                <a:lnTo>
                  <a:pt x="538" y="136"/>
                </a:lnTo>
                <a:lnTo>
                  <a:pt x="530" y="136"/>
                </a:lnTo>
                <a:lnTo>
                  <a:pt x="520" y="138"/>
                </a:lnTo>
                <a:lnTo>
                  <a:pt x="511" y="140"/>
                </a:lnTo>
                <a:lnTo>
                  <a:pt x="499" y="140"/>
                </a:lnTo>
                <a:lnTo>
                  <a:pt x="490" y="142"/>
                </a:lnTo>
                <a:lnTo>
                  <a:pt x="476" y="144"/>
                </a:lnTo>
                <a:lnTo>
                  <a:pt x="465" y="145"/>
                </a:lnTo>
                <a:lnTo>
                  <a:pt x="451" y="147"/>
                </a:lnTo>
                <a:lnTo>
                  <a:pt x="438" y="149"/>
                </a:lnTo>
                <a:lnTo>
                  <a:pt x="424" y="151"/>
                </a:lnTo>
                <a:lnTo>
                  <a:pt x="409" y="153"/>
                </a:lnTo>
                <a:lnTo>
                  <a:pt x="394" y="155"/>
                </a:lnTo>
                <a:lnTo>
                  <a:pt x="378" y="157"/>
                </a:lnTo>
                <a:lnTo>
                  <a:pt x="361" y="159"/>
                </a:lnTo>
                <a:lnTo>
                  <a:pt x="346" y="161"/>
                </a:lnTo>
                <a:lnTo>
                  <a:pt x="326" y="163"/>
                </a:lnTo>
                <a:lnTo>
                  <a:pt x="309" y="165"/>
                </a:lnTo>
                <a:lnTo>
                  <a:pt x="290" y="169"/>
                </a:lnTo>
                <a:lnTo>
                  <a:pt x="271" y="170"/>
                </a:lnTo>
                <a:lnTo>
                  <a:pt x="252" y="172"/>
                </a:lnTo>
                <a:lnTo>
                  <a:pt x="232" y="176"/>
                </a:lnTo>
                <a:lnTo>
                  <a:pt x="211" y="178"/>
                </a:lnTo>
                <a:lnTo>
                  <a:pt x="190" y="182"/>
                </a:lnTo>
                <a:lnTo>
                  <a:pt x="167" y="184"/>
                </a:lnTo>
                <a:lnTo>
                  <a:pt x="146" y="188"/>
                </a:lnTo>
                <a:lnTo>
                  <a:pt x="123" y="190"/>
                </a:lnTo>
                <a:lnTo>
                  <a:pt x="100" y="193"/>
                </a:lnTo>
                <a:lnTo>
                  <a:pt x="75" y="197"/>
                </a:lnTo>
                <a:lnTo>
                  <a:pt x="50" y="199"/>
                </a:lnTo>
                <a:lnTo>
                  <a:pt x="25" y="203"/>
                </a:lnTo>
                <a:lnTo>
                  <a:pt x="0" y="207"/>
                </a:lnTo>
                <a:lnTo>
                  <a:pt x="0" y="159"/>
                </a:lnTo>
                <a:lnTo>
                  <a:pt x="0" y="109"/>
                </a:lnTo>
                <a:lnTo>
                  <a:pt x="40" y="105"/>
                </a:lnTo>
                <a:lnTo>
                  <a:pt x="79" y="98"/>
                </a:lnTo>
                <a:lnTo>
                  <a:pt x="117" y="92"/>
                </a:lnTo>
                <a:lnTo>
                  <a:pt x="156" y="84"/>
                </a:lnTo>
                <a:lnTo>
                  <a:pt x="194" y="76"/>
                </a:lnTo>
                <a:lnTo>
                  <a:pt x="231" y="67"/>
                </a:lnTo>
                <a:lnTo>
                  <a:pt x="271" y="59"/>
                </a:lnTo>
                <a:lnTo>
                  <a:pt x="309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7"/>
          <p:cNvSpPr/>
          <p:nvPr/>
        </p:nvSpPr>
        <p:spPr>
          <a:xfrm>
            <a:off x="6692760" y="2824200"/>
            <a:ext cx="192240" cy="439560"/>
          </a:xfrm>
          <a:custGeom>
            <a:avLst/>
            <a:gdLst/>
            <a:ahLst/>
            <a:rect l="l" t="t" r="r" b="b"/>
            <a:pathLst>
              <a:path w="242" h="554">
                <a:moveTo>
                  <a:pt x="17" y="9"/>
                </a:moveTo>
                <a:lnTo>
                  <a:pt x="21" y="5"/>
                </a:lnTo>
                <a:lnTo>
                  <a:pt x="27" y="3"/>
                </a:lnTo>
                <a:lnTo>
                  <a:pt x="33" y="3"/>
                </a:lnTo>
                <a:lnTo>
                  <a:pt x="39" y="1"/>
                </a:lnTo>
                <a:lnTo>
                  <a:pt x="46" y="1"/>
                </a:lnTo>
                <a:lnTo>
                  <a:pt x="54" y="0"/>
                </a:lnTo>
                <a:lnTo>
                  <a:pt x="69" y="0"/>
                </a:lnTo>
                <a:lnTo>
                  <a:pt x="87" y="1"/>
                </a:lnTo>
                <a:lnTo>
                  <a:pt x="96" y="3"/>
                </a:lnTo>
                <a:lnTo>
                  <a:pt x="106" y="7"/>
                </a:lnTo>
                <a:lnTo>
                  <a:pt x="115" y="9"/>
                </a:lnTo>
                <a:lnTo>
                  <a:pt x="127" y="13"/>
                </a:lnTo>
                <a:lnTo>
                  <a:pt x="136" y="17"/>
                </a:lnTo>
                <a:lnTo>
                  <a:pt x="148" y="21"/>
                </a:lnTo>
                <a:lnTo>
                  <a:pt x="158" y="24"/>
                </a:lnTo>
                <a:lnTo>
                  <a:pt x="169" y="30"/>
                </a:lnTo>
                <a:lnTo>
                  <a:pt x="179" y="34"/>
                </a:lnTo>
                <a:lnTo>
                  <a:pt x="186" y="38"/>
                </a:lnTo>
                <a:lnTo>
                  <a:pt x="196" y="44"/>
                </a:lnTo>
                <a:lnTo>
                  <a:pt x="204" y="48"/>
                </a:lnTo>
                <a:lnTo>
                  <a:pt x="211" y="51"/>
                </a:lnTo>
                <a:lnTo>
                  <a:pt x="217" y="55"/>
                </a:lnTo>
                <a:lnTo>
                  <a:pt x="223" y="59"/>
                </a:lnTo>
                <a:lnTo>
                  <a:pt x="229" y="63"/>
                </a:lnTo>
                <a:lnTo>
                  <a:pt x="232" y="67"/>
                </a:lnTo>
                <a:lnTo>
                  <a:pt x="236" y="71"/>
                </a:lnTo>
                <a:lnTo>
                  <a:pt x="238" y="72"/>
                </a:lnTo>
                <a:lnTo>
                  <a:pt x="240" y="76"/>
                </a:lnTo>
                <a:lnTo>
                  <a:pt x="242" y="78"/>
                </a:lnTo>
                <a:lnTo>
                  <a:pt x="242" y="82"/>
                </a:lnTo>
                <a:lnTo>
                  <a:pt x="242" y="86"/>
                </a:lnTo>
                <a:lnTo>
                  <a:pt x="242" y="94"/>
                </a:lnTo>
                <a:lnTo>
                  <a:pt x="242" y="101"/>
                </a:lnTo>
                <a:lnTo>
                  <a:pt x="242" y="111"/>
                </a:lnTo>
                <a:lnTo>
                  <a:pt x="242" y="120"/>
                </a:lnTo>
                <a:lnTo>
                  <a:pt x="242" y="134"/>
                </a:lnTo>
                <a:lnTo>
                  <a:pt x="242" y="147"/>
                </a:lnTo>
                <a:lnTo>
                  <a:pt x="242" y="161"/>
                </a:lnTo>
                <a:lnTo>
                  <a:pt x="242" y="178"/>
                </a:lnTo>
                <a:lnTo>
                  <a:pt x="242" y="195"/>
                </a:lnTo>
                <a:lnTo>
                  <a:pt x="242" y="213"/>
                </a:lnTo>
                <a:lnTo>
                  <a:pt x="242" y="232"/>
                </a:lnTo>
                <a:lnTo>
                  <a:pt x="242" y="253"/>
                </a:lnTo>
                <a:lnTo>
                  <a:pt x="242" y="276"/>
                </a:lnTo>
                <a:lnTo>
                  <a:pt x="242" y="299"/>
                </a:lnTo>
                <a:lnTo>
                  <a:pt x="242" y="324"/>
                </a:lnTo>
                <a:lnTo>
                  <a:pt x="242" y="347"/>
                </a:lnTo>
                <a:lnTo>
                  <a:pt x="242" y="370"/>
                </a:lnTo>
                <a:lnTo>
                  <a:pt x="242" y="393"/>
                </a:lnTo>
                <a:lnTo>
                  <a:pt x="242" y="412"/>
                </a:lnTo>
                <a:lnTo>
                  <a:pt x="242" y="431"/>
                </a:lnTo>
                <a:lnTo>
                  <a:pt x="242" y="449"/>
                </a:lnTo>
                <a:lnTo>
                  <a:pt x="242" y="464"/>
                </a:lnTo>
                <a:lnTo>
                  <a:pt x="240" y="477"/>
                </a:lnTo>
                <a:lnTo>
                  <a:pt x="240" y="491"/>
                </a:lnTo>
                <a:lnTo>
                  <a:pt x="240" y="502"/>
                </a:lnTo>
                <a:lnTo>
                  <a:pt x="238" y="512"/>
                </a:lnTo>
                <a:lnTo>
                  <a:pt x="238" y="522"/>
                </a:lnTo>
                <a:lnTo>
                  <a:pt x="236" y="529"/>
                </a:lnTo>
                <a:lnTo>
                  <a:pt x="234" y="535"/>
                </a:lnTo>
                <a:lnTo>
                  <a:pt x="232" y="539"/>
                </a:lnTo>
                <a:lnTo>
                  <a:pt x="231" y="543"/>
                </a:lnTo>
                <a:lnTo>
                  <a:pt x="227" y="546"/>
                </a:lnTo>
                <a:lnTo>
                  <a:pt x="221" y="548"/>
                </a:lnTo>
                <a:lnTo>
                  <a:pt x="217" y="550"/>
                </a:lnTo>
                <a:lnTo>
                  <a:pt x="213" y="552"/>
                </a:lnTo>
                <a:lnTo>
                  <a:pt x="209" y="554"/>
                </a:lnTo>
                <a:lnTo>
                  <a:pt x="204" y="554"/>
                </a:lnTo>
                <a:lnTo>
                  <a:pt x="196" y="554"/>
                </a:lnTo>
                <a:lnTo>
                  <a:pt x="192" y="552"/>
                </a:lnTo>
                <a:lnTo>
                  <a:pt x="190" y="552"/>
                </a:lnTo>
                <a:lnTo>
                  <a:pt x="186" y="548"/>
                </a:lnTo>
                <a:lnTo>
                  <a:pt x="184" y="545"/>
                </a:lnTo>
                <a:lnTo>
                  <a:pt x="181" y="541"/>
                </a:lnTo>
                <a:lnTo>
                  <a:pt x="179" y="533"/>
                </a:lnTo>
                <a:lnTo>
                  <a:pt x="175" y="527"/>
                </a:lnTo>
                <a:lnTo>
                  <a:pt x="171" y="520"/>
                </a:lnTo>
                <a:lnTo>
                  <a:pt x="167" y="510"/>
                </a:lnTo>
                <a:lnTo>
                  <a:pt x="165" y="500"/>
                </a:lnTo>
                <a:lnTo>
                  <a:pt x="161" y="489"/>
                </a:lnTo>
                <a:lnTo>
                  <a:pt x="158" y="477"/>
                </a:lnTo>
                <a:lnTo>
                  <a:pt x="156" y="464"/>
                </a:lnTo>
                <a:lnTo>
                  <a:pt x="152" y="451"/>
                </a:lnTo>
                <a:lnTo>
                  <a:pt x="150" y="435"/>
                </a:lnTo>
                <a:lnTo>
                  <a:pt x="148" y="420"/>
                </a:lnTo>
                <a:lnTo>
                  <a:pt x="138" y="389"/>
                </a:lnTo>
                <a:lnTo>
                  <a:pt x="131" y="358"/>
                </a:lnTo>
                <a:lnTo>
                  <a:pt x="121" y="330"/>
                </a:lnTo>
                <a:lnTo>
                  <a:pt x="113" y="303"/>
                </a:lnTo>
                <a:lnTo>
                  <a:pt x="106" y="276"/>
                </a:lnTo>
                <a:lnTo>
                  <a:pt x="100" y="249"/>
                </a:lnTo>
                <a:lnTo>
                  <a:pt x="94" y="226"/>
                </a:lnTo>
                <a:lnTo>
                  <a:pt x="88" y="203"/>
                </a:lnTo>
                <a:lnTo>
                  <a:pt x="83" y="180"/>
                </a:lnTo>
                <a:lnTo>
                  <a:pt x="77" y="159"/>
                </a:lnTo>
                <a:lnTo>
                  <a:pt x="71" y="140"/>
                </a:lnTo>
                <a:lnTo>
                  <a:pt x="64" y="122"/>
                </a:lnTo>
                <a:lnTo>
                  <a:pt x="56" y="105"/>
                </a:lnTo>
                <a:lnTo>
                  <a:pt x="50" y="97"/>
                </a:lnTo>
                <a:lnTo>
                  <a:pt x="46" y="92"/>
                </a:lnTo>
                <a:lnTo>
                  <a:pt x="42" y="84"/>
                </a:lnTo>
                <a:lnTo>
                  <a:pt x="39" y="78"/>
                </a:lnTo>
                <a:lnTo>
                  <a:pt x="33" y="74"/>
                </a:lnTo>
                <a:lnTo>
                  <a:pt x="29" y="69"/>
                </a:lnTo>
                <a:lnTo>
                  <a:pt x="23" y="65"/>
                </a:lnTo>
                <a:lnTo>
                  <a:pt x="17" y="59"/>
                </a:lnTo>
                <a:lnTo>
                  <a:pt x="14" y="55"/>
                </a:lnTo>
                <a:lnTo>
                  <a:pt x="10" y="51"/>
                </a:lnTo>
                <a:lnTo>
                  <a:pt x="6" y="46"/>
                </a:lnTo>
                <a:lnTo>
                  <a:pt x="4" y="42"/>
                </a:lnTo>
                <a:lnTo>
                  <a:pt x="2" y="38"/>
                </a:lnTo>
                <a:lnTo>
                  <a:pt x="0" y="34"/>
                </a:lnTo>
                <a:lnTo>
                  <a:pt x="0" y="30"/>
                </a:lnTo>
                <a:lnTo>
                  <a:pt x="0" y="26"/>
                </a:lnTo>
                <a:lnTo>
                  <a:pt x="2" y="23"/>
                </a:lnTo>
                <a:lnTo>
                  <a:pt x="4" y="19"/>
                </a:lnTo>
                <a:lnTo>
                  <a:pt x="6" y="17"/>
                </a:lnTo>
                <a:lnTo>
                  <a:pt x="10" y="13"/>
                </a:lnTo>
                <a:lnTo>
                  <a:pt x="14" y="11"/>
                </a:lnTo>
                <a:lnTo>
                  <a:pt x="17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8"/>
          <p:cNvSpPr/>
          <p:nvPr/>
        </p:nvSpPr>
        <p:spPr>
          <a:xfrm>
            <a:off x="7129440" y="2706840"/>
            <a:ext cx="247680" cy="568080"/>
          </a:xfrm>
          <a:custGeom>
            <a:avLst/>
            <a:gdLst/>
            <a:ahLst/>
            <a:rect l="l" t="t" r="r" b="b"/>
            <a:pathLst>
              <a:path w="311" h="716">
                <a:moveTo>
                  <a:pt x="71" y="96"/>
                </a:moveTo>
                <a:lnTo>
                  <a:pt x="64" y="86"/>
                </a:lnTo>
                <a:lnTo>
                  <a:pt x="56" y="77"/>
                </a:lnTo>
                <a:lnTo>
                  <a:pt x="50" y="69"/>
                </a:lnTo>
                <a:lnTo>
                  <a:pt x="46" y="59"/>
                </a:lnTo>
                <a:lnTo>
                  <a:pt x="44" y="50"/>
                </a:lnTo>
                <a:lnTo>
                  <a:pt x="42" y="46"/>
                </a:lnTo>
                <a:lnTo>
                  <a:pt x="42" y="42"/>
                </a:lnTo>
                <a:lnTo>
                  <a:pt x="42" y="36"/>
                </a:lnTo>
                <a:lnTo>
                  <a:pt x="44" y="32"/>
                </a:lnTo>
                <a:lnTo>
                  <a:pt x="46" y="27"/>
                </a:lnTo>
                <a:lnTo>
                  <a:pt x="48" y="23"/>
                </a:lnTo>
                <a:lnTo>
                  <a:pt x="52" y="19"/>
                </a:lnTo>
                <a:lnTo>
                  <a:pt x="58" y="13"/>
                </a:lnTo>
                <a:lnTo>
                  <a:pt x="65" y="9"/>
                </a:lnTo>
                <a:lnTo>
                  <a:pt x="75" y="6"/>
                </a:lnTo>
                <a:lnTo>
                  <a:pt x="85" y="4"/>
                </a:lnTo>
                <a:lnTo>
                  <a:pt x="94" y="2"/>
                </a:lnTo>
                <a:lnTo>
                  <a:pt x="106" y="0"/>
                </a:lnTo>
                <a:lnTo>
                  <a:pt x="119" y="0"/>
                </a:lnTo>
                <a:lnTo>
                  <a:pt x="133" y="4"/>
                </a:lnTo>
                <a:lnTo>
                  <a:pt x="148" y="7"/>
                </a:lnTo>
                <a:lnTo>
                  <a:pt x="161" y="13"/>
                </a:lnTo>
                <a:lnTo>
                  <a:pt x="179" y="17"/>
                </a:lnTo>
                <a:lnTo>
                  <a:pt x="194" y="21"/>
                </a:lnTo>
                <a:lnTo>
                  <a:pt x="209" y="27"/>
                </a:lnTo>
                <a:lnTo>
                  <a:pt x="223" y="30"/>
                </a:lnTo>
                <a:lnTo>
                  <a:pt x="238" y="34"/>
                </a:lnTo>
                <a:lnTo>
                  <a:pt x="250" y="44"/>
                </a:lnTo>
                <a:lnTo>
                  <a:pt x="261" y="53"/>
                </a:lnTo>
                <a:lnTo>
                  <a:pt x="273" y="61"/>
                </a:lnTo>
                <a:lnTo>
                  <a:pt x="282" y="71"/>
                </a:lnTo>
                <a:lnTo>
                  <a:pt x="290" y="78"/>
                </a:lnTo>
                <a:lnTo>
                  <a:pt x="298" y="84"/>
                </a:lnTo>
                <a:lnTo>
                  <a:pt x="303" y="90"/>
                </a:lnTo>
                <a:lnTo>
                  <a:pt x="309" y="96"/>
                </a:lnTo>
                <a:lnTo>
                  <a:pt x="309" y="101"/>
                </a:lnTo>
                <a:lnTo>
                  <a:pt x="311" y="107"/>
                </a:lnTo>
                <a:lnTo>
                  <a:pt x="311" y="115"/>
                </a:lnTo>
                <a:lnTo>
                  <a:pt x="311" y="123"/>
                </a:lnTo>
                <a:lnTo>
                  <a:pt x="309" y="132"/>
                </a:lnTo>
                <a:lnTo>
                  <a:pt x="307" y="144"/>
                </a:lnTo>
                <a:lnTo>
                  <a:pt x="305" y="155"/>
                </a:lnTo>
                <a:lnTo>
                  <a:pt x="302" y="167"/>
                </a:lnTo>
                <a:lnTo>
                  <a:pt x="298" y="180"/>
                </a:lnTo>
                <a:lnTo>
                  <a:pt x="294" y="196"/>
                </a:lnTo>
                <a:lnTo>
                  <a:pt x="290" y="211"/>
                </a:lnTo>
                <a:lnTo>
                  <a:pt x="284" y="226"/>
                </a:lnTo>
                <a:lnTo>
                  <a:pt x="279" y="243"/>
                </a:lnTo>
                <a:lnTo>
                  <a:pt x="273" y="263"/>
                </a:lnTo>
                <a:lnTo>
                  <a:pt x="267" y="282"/>
                </a:lnTo>
                <a:lnTo>
                  <a:pt x="261" y="301"/>
                </a:lnTo>
                <a:lnTo>
                  <a:pt x="252" y="324"/>
                </a:lnTo>
                <a:lnTo>
                  <a:pt x="244" y="345"/>
                </a:lnTo>
                <a:lnTo>
                  <a:pt x="234" y="368"/>
                </a:lnTo>
                <a:lnTo>
                  <a:pt x="225" y="387"/>
                </a:lnTo>
                <a:lnTo>
                  <a:pt x="217" y="409"/>
                </a:lnTo>
                <a:lnTo>
                  <a:pt x="208" y="428"/>
                </a:lnTo>
                <a:lnTo>
                  <a:pt x="190" y="466"/>
                </a:lnTo>
                <a:lnTo>
                  <a:pt x="171" y="503"/>
                </a:lnTo>
                <a:lnTo>
                  <a:pt x="154" y="539"/>
                </a:lnTo>
                <a:lnTo>
                  <a:pt x="136" y="572"/>
                </a:lnTo>
                <a:lnTo>
                  <a:pt x="119" y="604"/>
                </a:lnTo>
                <a:lnTo>
                  <a:pt x="110" y="620"/>
                </a:lnTo>
                <a:lnTo>
                  <a:pt x="102" y="635"/>
                </a:lnTo>
                <a:lnTo>
                  <a:pt x="94" y="648"/>
                </a:lnTo>
                <a:lnTo>
                  <a:pt x="85" y="660"/>
                </a:lnTo>
                <a:lnTo>
                  <a:pt x="77" y="670"/>
                </a:lnTo>
                <a:lnTo>
                  <a:pt x="69" y="681"/>
                </a:lnTo>
                <a:lnTo>
                  <a:pt x="62" y="689"/>
                </a:lnTo>
                <a:lnTo>
                  <a:pt x="56" y="696"/>
                </a:lnTo>
                <a:lnTo>
                  <a:pt x="48" y="702"/>
                </a:lnTo>
                <a:lnTo>
                  <a:pt x="40" y="708"/>
                </a:lnTo>
                <a:lnTo>
                  <a:pt x="33" y="712"/>
                </a:lnTo>
                <a:lnTo>
                  <a:pt x="27" y="714"/>
                </a:lnTo>
                <a:lnTo>
                  <a:pt x="19" y="716"/>
                </a:lnTo>
                <a:lnTo>
                  <a:pt x="14" y="716"/>
                </a:lnTo>
                <a:lnTo>
                  <a:pt x="6" y="716"/>
                </a:lnTo>
                <a:lnTo>
                  <a:pt x="0" y="714"/>
                </a:lnTo>
                <a:lnTo>
                  <a:pt x="6" y="689"/>
                </a:lnTo>
                <a:lnTo>
                  <a:pt x="10" y="664"/>
                </a:lnTo>
                <a:lnTo>
                  <a:pt x="16" y="639"/>
                </a:lnTo>
                <a:lnTo>
                  <a:pt x="21" y="614"/>
                </a:lnTo>
                <a:lnTo>
                  <a:pt x="25" y="591"/>
                </a:lnTo>
                <a:lnTo>
                  <a:pt x="31" y="568"/>
                </a:lnTo>
                <a:lnTo>
                  <a:pt x="35" y="547"/>
                </a:lnTo>
                <a:lnTo>
                  <a:pt x="39" y="526"/>
                </a:lnTo>
                <a:lnTo>
                  <a:pt x="44" y="504"/>
                </a:lnTo>
                <a:lnTo>
                  <a:pt x="48" y="485"/>
                </a:lnTo>
                <a:lnTo>
                  <a:pt x="52" y="464"/>
                </a:lnTo>
                <a:lnTo>
                  <a:pt x="56" y="447"/>
                </a:lnTo>
                <a:lnTo>
                  <a:pt x="60" y="428"/>
                </a:lnTo>
                <a:lnTo>
                  <a:pt x="64" y="410"/>
                </a:lnTo>
                <a:lnTo>
                  <a:pt x="67" y="393"/>
                </a:lnTo>
                <a:lnTo>
                  <a:pt x="71" y="378"/>
                </a:lnTo>
                <a:lnTo>
                  <a:pt x="73" y="362"/>
                </a:lnTo>
                <a:lnTo>
                  <a:pt x="77" y="347"/>
                </a:lnTo>
                <a:lnTo>
                  <a:pt x="81" y="332"/>
                </a:lnTo>
                <a:lnTo>
                  <a:pt x="83" y="318"/>
                </a:lnTo>
                <a:lnTo>
                  <a:pt x="87" y="307"/>
                </a:lnTo>
                <a:lnTo>
                  <a:pt x="88" y="293"/>
                </a:lnTo>
                <a:lnTo>
                  <a:pt x="90" y="282"/>
                </a:lnTo>
                <a:lnTo>
                  <a:pt x="92" y="270"/>
                </a:lnTo>
                <a:lnTo>
                  <a:pt x="96" y="261"/>
                </a:lnTo>
                <a:lnTo>
                  <a:pt x="98" y="251"/>
                </a:lnTo>
                <a:lnTo>
                  <a:pt x="100" y="242"/>
                </a:lnTo>
                <a:lnTo>
                  <a:pt x="102" y="232"/>
                </a:lnTo>
                <a:lnTo>
                  <a:pt x="102" y="224"/>
                </a:lnTo>
                <a:lnTo>
                  <a:pt x="104" y="217"/>
                </a:lnTo>
                <a:lnTo>
                  <a:pt x="106" y="211"/>
                </a:lnTo>
                <a:lnTo>
                  <a:pt x="108" y="205"/>
                </a:lnTo>
                <a:lnTo>
                  <a:pt x="106" y="194"/>
                </a:lnTo>
                <a:lnTo>
                  <a:pt x="106" y="184"/>
                </a:lnTo>
                <a:lnTo>
                  <a:pt x="106" y="172"/>
                </a:lnTo>
                <a:lnTo>
                  <a:pt x="104" y="165"/>
                </a:lnTo>
                <a:lnTo>
                  <a:pt x="104" y="155"/>
                </a:lnTo>
                <a:lnTo>
                  <a:pt x="102" y="148"/>
                </a:lnTo>
                <a:lnTo>
                  <a:pt x="100" y="140"/>
                </a:lnTo>
                <a:lnTo>
                  <a:pt x="98" y="132"/>
                </a:lnTo>
                <a:lnTo>
                  <a:pt x="96" y="126"/>
                </a:lnTo>
                <a:lnTo>
                  <a:pt x="92" y="121"/>
                </a:lnTo>
                <a:lnTo>
                  <a:pt x="90" y="115"/>
                </a:lnTo>
                <a:lnTo>
                  <a:pt x="87" y="109"/>
                </a:lnTo>
                <a:lnTo>
                  <a:pt x="83" y="105"/>
                </a:lnTo>
                <a:lnTo>
                  <a:pt x="79" y="101"/>
                </a:lnTo>
                <a:lnTo>
                  <a:pt x="75" y="98"/>
                </a:lnTo>
                <a:lnTo>
                  <a:pt x="71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9"/>
          <p:cNvSpPr/>
          <p:nvPr/>
        </p:nvSpPr>
        <p:spPr>
          <a:xfrm>
            <a:off x="6458040" y="2936880"/>
            <a:ext cx="1226880" cy="260280"/>
          </a:xfrm>
          <a:custGeom>
            <a:avLst/>
            <a:gdLst/>
            <a:ahLst/>
            <a:rect l="l" t="t" r="r" b="b"/>
            <a:pathLst>
              <a:path w="1547" h="328">
                <a:moveTo>
                  <a:pt x="159" y="207"/>
                </a:moveTo>
                <a:lnTo>
                  <a:pt x="178" y="203"/>
                </a:lnTo>
                <a:lnTo>
                  <a:pt x="199" y="201"/>
                </a:lnTo>
                <a:lnTo>
                  <a:pt x="220" y="197"/>
                </a:lnTo>
                <a:lnTo>
                  <a:pt x="241" y="195"/>
                </a:lnTo>
                <a:lnTo>
                  <a:pt x="264" y="191"/>
                </a:lnTo>
                <a:lnTo>
                  <a:pt x="288" y="188"/>
                </a:lnTo>
                <a:lnTo>
                  <a:pt x="312" y="184"/>
                </a:lnTo>
                <a:lnTo>
                  <a:pt x="336" y="180"/>
                </a:lnTo>
                <a:lnTo>
                  <a:pt x="360" y="176"/>
                </a:lnTo>
                <a:lnTo>
                  <a:pt x="385" y="172"/>
                </a:lnTo>
                <a:lnTo>
                  <a:pt x="412" y="168"/>
                </a:lnTo>
                <a:lnTo>
                  <a:pt x="437" y="163"/>
                </a:lnTo>
                <a:lnTo>
                  <a:pt x="466" y="159"/>
                </a:lnTo>
                <a:lnTo>
                  <a:pt x="493" y="155"/>
                </a:lnTo>
                <a:lnTo>
                  <a:pt x="522" y="149"/>
                </a:lnTo>
                <a:lnTo>
                  <a:pt x="551" y="145"/>
                </a:lnTo>
                <a:lnTo>
                  <a:pt x="608" y="136"/>
                </a:lnTo>
                <a:lnTo>
                  <a:pt x="666" y="124"/>
                </a:lnTo>
                <a:lnTo>
                  <a:pt x="723" y="113"/>
                </a:lnTo>
                <a:lnTo>
                  <a:pt x="783" y="101"/>
                </a:lnTo>
                <a:lnTo>
                  <a:pt x="844" y="88"/>
                </a:lnTo>
                <a:lnTo>
                  <a:pt x="906" y="74"/>
                </a:lnTo>
                <a:lnTo>
                  <a:pt x="938" y="69"/>
                </a:lnTo>
                <a:lnTo>
                  <a:pt x="971" y="61"/>
                </a:lnTo>
                <a:lnTo>
                  <a:pt x="1004" y="55"/>
                </a:lnTo>
                <a:lnTo>
                  <a:pt x="1036" y="48"/>
                </a:lnTo>
                <a:lnTo>
                  <a:pt x="1067" y="42"/>
                </a:lnTo>
                <a:lnTo>
                  <a:pt x="1096" y="36"/>
                </a:lnTo>
                <a:lnTo>
                  <a:pt x="1123" y="30"/>
                </a:lnTo>
                <a:lnTo>
                  <a:pt x="1149" y="24"/>
                </a:lnTo>
                <a:lnTo>
                  <a:pt x="1174" y="21"/>
                </a:lnTo>
                <a:lnTo>
                  <a:pt x="1197" y="17"/>
                </a:lnTo>
                <a:lnTo>
                  <a:pt x="1221" y="13"/>
                </a:lnTo>
                <a:lnTo>
                  <a:pt x="1242" y="9"/>
                </a:lnTo>
                <a:lnTo>
                  <a:pt x="1261" y="7"/>
                </a:lnTo>
                <a:lnTo>
                  <a:pt x="1280" y="5"/>
                </a:lnTo>
                <a:lnTo>
                  <a:pt x="1297" y="3"/>
                </a:lnTo>
                <a:lnTo>
                  <a:pt x="1315" y="1"/>
                </a:lnTo>
                <a:lnTo>
                  <a:pt x="1330" y="1"/>
                </a:lnTo>
                <a:lnTo>
                  <a:pt x="1343" y="0"/>
                </a:lnTo>
                <a:lnTo>
                  <a:pt x="1357" y="0"/>
                </a:lnTo>
                <a:lnTo>
                  <a:pt x="1368" y="0"/>
                </a:lnTo>
                <a:lnTo>
                  <a:pt x="1378" y="0"/>
                </a:lnTo>
                <a:lnTo>
                  <a:pt x="1389" y="0"/>
                </a:lnTo>
                <a:lnTo>
                  <a:pt x="1409" y="1"/>
                </a:lnTo>
                <a:lnTo>
                  <a:pt x="1426" y="5"/>
                </a:lnTo>
                <a:lnTo>
                  <a:pt x="1441" y="9"/>
                </a:lnTo>
                <a:lnTo>
                  <a:pt x="1457" y="13"/>
                </a:lnTo>
                <a:lnTo>
                  <a:pt x="1472" y="21"/>
                </a:lnTo>
                <a:lnTo>
                  <a:pt x="1485" y="26"/>
                </a:lnTo>
                <a:lnTo>
                  <a:pt x="1499" y="36"/>
                </a:lnTo>
                <a:lnTo>
                  <a:pt x="1507" y="46"/>
                </a:lnTo>
                <a:lnTo>
                  <a:pt x="1514" y="53"/>
                </a:lnTo>
                <a:lnTo>
                  <a:pt x="1520" y="63"/>
                </a:lnTo>
                <a:lnTo>
                  <a:pt x="1526" y="71"/>
                </a:lnTo>
                <a:lnTo>
                  <a:pt x="1532" y="78"/>
                </a:lnTo>
                <a:lnTo>
                  <a:pt x="1537" y="86"/>
                </a:lnTo>
                <a:lnTo>
                  <a:pt x="1541" y="92"/>
                </a:lnTo>
                <a:lnTo>
                  <a:pt x="1547" y="97"/>
                </a:lnTo>
                <a:lnTo>
                  <a:pt x="1545" y="105"/>
                </a:lnTo>
                <a:lnTo>
                  <a:pt x="1543" y="113"/>
                </a:lnTo>
                <a:lnTo>
                  <a:pt x="1541" y="119"/>
                </a:lnTo>
                <a:lnTo>
                  <a:pt x="1535" y="124"/>
                </a:lnTo>
                <a:lnTo>
                  <a:pt x="1530" y="128"/>
                </a:lnTo>
                <a:lnTo>
                  <a:pt x="1526" y="130"/>
                </a:lnTo>
                <a:lnTo>
                  <a:pt x="1520" y="130"/>
                </a:lnTo>
                <a:lnTo>
                  <a:pt x="1516" y="132"/>
                </a:lnTo>
                <a:lnTo>
                  <a:pt x="1510" y="132"/>
                </a:lnTo>
                <a:lnTo>
                  <a:pt x="1505" y="132"/>
                </a:lnTo>
                <a:lnTo>
                  <a:pt x="1499" y="134"/>
                </a:lnTo>
                <a:lnTo>
                  <a:pt x="1495" y="134"/>
                </a:lnTo>
                <a:lnTo>
                  <a:pt x="1491" y="134"/>
                </a:lnTo>
                <a:lnTo>
                  <a:pt x="1485" y="134"/>
                </a:lnTo>
                <a:lnTo>
                  <a:pt x="1482" y="134"/>
                </a:lnTo>
                <a:lnTo>
                  <a:pt x="1476" y="134"/>
                </a:lnTo>
                <a:lnTo>
                  <a:pt x="1470" y="134"/>
                </a:lnTo>
                <a:lnTo>
                  <a:pt x="1462" y="134"/>
                </a:lnTo>
                <a:lnTo>
                  <a:pt x="1457" y="136"/>
                </a:lnTo>
                <a:lnTo>
                  <a:pt x="1449" y="136"/>
                </a:lnTo>
                <a:lnTo>
                  <a:pt x="1439" y="136"/>
                </a:lnTo>
                <a:lnTo>
                  <a:pt x="1432" y="136"/>
                </a:lnTo>
                <a:lnTo>
                  <a:pt x="1422" y="138"/>
                </a:lnTo>
                <a:lnTo>
                  <a:pt x="1413" y="138"/>
                </a:lnTo>
                <a:lnTo>
                  <a:pt x="1403" y="140"/>
                </a:lnTo>
                <a:lnTo>
                  <a:pt x="1391" y="140"/>
                </a:lnTo>
                <a:lnTo>
                  <a:pt x="1380" y="140"/>
                </a:lnTo>
                <a:lnTo>
                  <a:pt x="1368" y="142"/>
                </a:lnTo>
                <a:lnTo>
                  <a:pt x="1355" y="142"/>
                </a:lnTo>
                <a:lnTo>
                  <a:pt x="1341" y="143"/>
                </a:lnTo>
                <a:lnTo>
                  <a:pt x="1328" y="143"/>
                </a:lnTo>
                <a:lnTo>
                  <a:pt x="1315" y="145"/>
                </a:lnTo>
                <a:lnTo>
                  <a:pt x="1299" y="145"/>
                </a:lnTo>
                <a:lnTo>
                  <a:pt x="1284" y="147"/>
                </a:lnTo>
                <a:lnTo>
                  <a:pt x="1269" y="149"/>
                </a:lnTo>
                <a:lnTo>
                  <a:pt x="1251" y="149"/>
                </a:lnTo>
                <a:lnTo>
                  <a:pt x="1234" y="151"/>
                </a:lnTo>
                <a:lnTo>
                  <a:pt x="1217" y="151"/>
                </a:lnTo>
                <a:lnTo>
                  <a:pt x="1197" y="153"/>
                </a:lnTo>
                <a:lnTo>
                  <a:pt x="1180" y="153"/>
                </a:lnTo>
                <a:lnTo>
                  <a:pt x="1159" y="155"/>
                </a:lnTo>
                <a:lnTo>
                  <a:pt x="1140" y="157"/>
                </a:lnTo>
                <a:lnTo>
                  <a:pt x="1119" y="157"/>
                </a:lnTo>
                <a:lnTo>
                  <a:pt x="1034" y="167"/>
                </a:lnTo>
                <a:lnTo>
                  <a:pt x="952" y="178"/>
                </a:lnTo>
                <a:lnTo>
                  <a:pt x="869" y="190"/>
                </a:lnTo>
                <a:lnTo>
                  <a:pt x="789" y="201"/>
                </a:lnTo>
                <a:lnTo>
                  <a:pt x="708" y="214"/>
                </a:lnTo>
                <a:lnTo>
                  <a:pt x="627" y="226"/>
                </a:lnTo>
                <a:lnTo>
                  <a:pt x="466" y="255"/>
                </a:lnTo>
                <a:lnTo>
                  <a:pt x="447" y="259"/>
                </a:lnTo>
                <a:lnTo>
                  <a:pt x="428" y="262"/>
                </a:lnTo>
                <a:lnTo>
                  <a:pt x="408" y="266"/>
                </a:lnTo>
                <a:lnTo>
                  <a:pt x="391" y="272"/>
                </a:lnTo>
                <a:lnTo>
                  <a:pt x="374" y="276"/>
                </a:lnTo>
                <a:lnTo>
                  <a:pt x="357" y="280"/>
                </a:lnTo>
                <a:lnTo>
                  <a:pt x="339" y="284"/>
                </a:lnTo>
                <a:lnTo>
                  <a:pt x="324" y="285"/>
                </a:lnTo>
                <a:lnTo>
                  <a:pt x="309" y="289"/>
                </a:lnTo>
                <a:lnTo>
                  <a:pt x="293" y="293"/>
                </a:lnTo>
                <a:lnTo>
                  <a:pt x="280" y="295"/>
                </a:lnTo>
                <a:lnTo>
                  <a:pt x="266" y="299"/>
                </a:lnTo>
                <a:lnTo>
                  <a:pt x="253" y="301"/>
                </a:lnTo>
                <a:lnTo>
                  <a:pt x="241" y="305"/>
                </a:lnTo>
                <a:lnTo>
                  <a:pt x="228" y="307"/>
                </a:lnTo>
                <a:lnTo>
                  <a:pt x="216" y="309"/>
                </a:lnTo>
                <a:lnTo>
                  <a:pt x="207" y="310"/>
                </a:lnTo>
                <a:lnTo>
                  <a:pt x="195" y="312"/>
                </a:lnTo>
                <a:lnTo>
                  <a:pt x="186" y="314"/>
                </a:lnTo>
                <a:lnTo>
                  <a:pt x="178" y="316"/>
                </a:lnTo>
                <a:lnTo>
                  <a:pt x="168" y="318"/>
                </a:lnTo>
                <a:lnTo>
                  <a:pt x="161" y="320"/>
                </a:lnTo>
                <a:lnTo>
                  <a:pt x="153" y="322"/>
                </a:lnTo>
                <a:lnTo>
                  <a:pt x="145" y="322"/>
                </a:lnTo>
                <a:lnTo>
                  <a:pt x="140" y="324"/>
                </a:lnTo>
                <a:lnTo>
                  <a:pt x="134" y="324"/>
                </a:lnTo>
                <a:lnTo>
                  <a:pt x="128" y="326"/>
                </a:lnTo>
                <a:lnTo>
                  <a:pt x="124" y="326"/>
                </a:lnTo>
                <a:lnTo>
                  <a:pt x="120" y="326"/>
                </a:lnTo>
                <a:lnTo>
                  <a:pt x="117" y="326"/>
                </a:lnTo>
                <a:lnTo>
                  <a:pt x="113" y="326"/>
                </a:lnTo>
                <a:lnTo>
                  <a:pt x="111" y="328"/>
                </a:lnTo>
                <a:lnTo>
                  <a:pt x="101" y="326"/>
                </a:lnTo>
                <a:lnTo>
                  <a:pt x="92" y="324"/>
                </a:lnTo>
                <a:lnTo>
                  <a:pt x="84" y="322"/>
                </a:lnTo>
                <a:lnTo>
                  <a:pt x="74" y="316"/>
                </a:lnTo>
                <a:lnTo>
                  <a:pt x="67" y="310"/>
                </a:lnTo>
                <a:lnTo>
                  <a:pt x="61" y="307"/>
                </a:lnTo>
                <a:lnTo>
                  <a:pt x="57" y="301"/>
                </a:lnTo>
                <a:lnTo>
                  <a:pt x="53" y="297"/>
                </a:lnTo>
                <a:lnTo>
                  <a:pt x="48" y="291"/>
                </a:lnTo>
                <a:lnTo>
                  <a:pt x="44" y="285"/>
                </a:lnTo>
                <a:lnTo>
                  <a:pt x="40" y="278"/>
                </a:lnTo>
                <a:lnTo>
                  <a:pt x="32" y="272"/>
                </a:lnTo>
                <a:lnTo>
                  <a:pt x="26" y="266"/>
                </a:lnTo>
                <a:lnTo>
                  <a:pt x="23" y="261"/>
                </a:lnTo>
                <a:lnTo>
                  <a:pt x="17" y="255"/>
                </a:lnTo>
                <a:lnTo>
                  <a:pt x="13" y="251"/>
                </a:lnTo>
                <a:lnTo>
                  <a:pt x="9" y="247"/>
                </a:lnTo>
                <a:lnTo>
                  <a:pt x="7" y="243"/>
                </a:lnTo>
                <a:lnTo>
                  <a:pt x="3" y="239"/>
                </a:lnTo>
                <a:lnTo>
                  <a:pt x="1" y="236"/>
                </a:lnTo>
                <a:lnTo>
                  <a:pt x="0" y="234"/>
                </a:lnTo>
                <a:lnTo>
                  <a:pt x="0" y="230"/>
                </a:lnTo>
                <a:lnTo>
                  <a:pt x="0" y="228"/>
                </a:lnTo>
                <a:lnTo>
                  <a:pt x="0" y="224"/>
                </a:lnTo>
                <a:lnTo>
                  <a:pt x="1" y="222"/>
                </a:lnTo>
                <a:lnTo>
                  <a:pt x="1" y="220"/>
                </a:lnTo>
                <a:lnTo>
                  <a:pt x="3" y="218"/>
                </a:lnTo>
                <a:lnTo>
                  <a:pt x="7" y="218"/>
                </a:lnTo>
                <a:lnTo>
                  <a:pt x="9" y="218"/>
                </a:lnTo>
                <a:lnTo>
                  <a:pt x="15" y="218"/>
                </a:lnTo>
                <a:lnTo>
                  <a:pt x="19" y="218"/>
                </a:lnTo>
                <a:lnTo>
                  <a:pt x="26" y="218"/>
                </a:lnTo>
                <a:lnTo>
                  <a:pt x="32" y="216"/>
                </a:lnTo>
                <a:lnTo>
                  <a:pt x="40" y="216"/>
                </a:lnTo>
                <a:lnTo>
                  <a:pt x="49" y="216"/>
                </a:lnTo>
                <a:lnTo>
                  <a:pt x="59" y="216"/>
                </a:lnTo>
                <a:lnTo>
                  <a:pt x="71" y="214"/>
                </a:lnTo>
                <a:lnTo>
                  <a:pt x="82" y="214"/>
                </a:lnTo>
                <a:lnTo>
                  <a:pt x="96" y="213"/>
                </a:lnTo>
                <a:lnTo>
                  <a:pt x="109" y="211"/>
                </a:lnTo>
                <a:lnTo>
                  <a:pt x="124" y="211"/>
                </a:lnTo>
                <a:lnTo>
                  <a:pt x="142" y="209"/>
                </a:lnTo>
                <a:lnTo>
                  <a:pt x="159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50"/>
          <p:cNvSpPr/>
          <p:nvPr/>
        </p:nvSpPr>
        <p:spPr>
          <a:xfrm>
            <a:off x="6513480" y="3368520"/>
            <a:ext cx="144360" cy="338400"/>
          </a:xfrm>
          <a:custGeom>
            <a:avLst/>
            <a:gdLst/>
            <a:ahLst/>
            <a:rect l="l" t="t" r="r" b="b"/>
            <a:pathLst>
              <a:path w="182" h="426">
                <a:moveTo>
                  <a:pt x="28" y="109"/>
                </a:moveTo>
                <a:lnTo>
                  <a:pt x="19" y="96"/>
                </a:lnTo>
                <a:lnTo>
                  <a:pt x="13" y="84"/>
                </a:lnTo>
                <a:lnTo>
                  <a:pt x="7" y="72"/>
                </a:lnTo>
                <a:lnTo>
                  <a:pt x="3" y="63"/>
                </a:lnTo>
                <a:lnTo>
                  <a:pt x="0" y="53"/>
                </a:lnTo>
                <a:lnTo>
                  <a:pt x="0" y="48"/>
                </a:lnTo>
                <a:lnTo>
                  <a:pt x="0" y="44"/>
                </a:lnTo>
                <a:lnTo>
                  <a:pt x="0" y="38"/>
                </a:lnTo>
                <a:lnTo>
                  <a:pt x="1" y="34"/>
                </a:lnTo>
                <a:lnTo>
                  <a:pt x="1" y="28"/>
                </a:lnTo>
                <a:lnTo>
                  <a:pt x="3" y="25"/>
                </a:lnTo>
                <a:lnTo>
                  <a:pt x="9" y="21"/>
                </a:lnTo>
                <a:lnTo>
                  <a:pt x="15" y="15"/>
                </a:lnTo>
                <a:lnTo>
                  <a:pt x="23" y="11"/>
                </a:lnTo>
                <a:lnTo>
                  <a:pt x="32" y="7"/>
                </a:lnTo>
                <a:lnTo>
                  <a:pt x="44" y="5"/>
                </a:lnTo>
                <a:lnTo>
                  <a:pt x="49" y="3"/>
                </a:lnTo>
                <a:lnTo>
                  <a:pt x="55" y="1"/>
                </a:lnTo>
                <a:lnTo>
                  <a:pt x="63" y="1"/>
                </a:lnTo>
                <a:lnTo>
                  <a:pt x="71" y="1"/>
                </a:lnTo>
                <a:lnTo>
                  <a:pt x="78" y="0"/>
                </a:lnTo>
                <a:lnTo>
                  <a:pt x="88" y="0"/>
                </a:lnTo>
                <a:lnTo>
                  <a:pt x="96" y="0"/>
                </a:lnTo>
                <a:lnTo>
                  <a:pt x="103" y="1"/>
                </a:lnTo>
                <a:lnTo>
                  <a:pt x="111" y="1"/>
                </a:lnTo>
                <a:lnTo>
                  <a:pt x="119" y="3"/>
                </a:lnTo>
                <a:lnTo>
                  <a:pt x="124" y="3"/>
                </a:lnTo>
                <a:lnTo>
                  <a:pt x="130" y="5"/>
                </a:lnTo>
                <a:lnTo>
                  <a:pt x="136" y="7"/>
                </a:lnTo>
                <a:lnTo>
                  <a:pt x="140" y="11"/>
                </a:lnTo>
                <a:lnTo>
                  <a:pt x="144" y="13"/>
                </a:lnTo>
                <a:lnTo>
                  <a:pt x="147" y="17"/>
                </a:lnTo>
                <a:lnTo>
                  <a:pt x="151" y="21"/>
                </a:lnTo>
                <a:lnTo>
                  <a:pt x="153" y="26"/>
                </a:lnTo>
                <a:lnTo>
                  <a:pt x="155" y="30"/>
                </a:lnTo>
                <a:lnTo>
                  <a:pt x="157" y="36"/>
                </a:lnTo>
                <a:lnTo>
                  <a:pt x="157" y="42"/>
                </a:lnTo>
                <a:lnTo>
                  <a:pt x="159" y="49"/>
                </a:lnTo>
                <a:lnTo>
                  <a:pt x="159" y="63"/>
                </a:lnTo>
                <a:lnTo>
                  <a:pt x="159" y="78"/>
                </a:lnTo>
                <a:lnTo>
                  <a:pt x="159" y="96"/>
                </a:lnTo>
                <a:lnTo>
                  <a:pt x="159" y="115"/>
                </a:lnTo>
                <a:lnTo>
                  <a:pt x="161" y="134"/>
                </a:lnTo>
                <a:lnTo>
                  <a:pt x="163" y="145"/>
                </a:lnTo>
                <a:lnTo>
                  <a:pt x="163" y="157"/>
                </a:lnTo>
                <a:lnTo>
                  <a:pt x="165" y="168"/>
                </a:lnTo>
                <a:lnTo>
                  <a:pt x="167" y="180"/>
                </a:lnTo>
                <a:lnTo>
                  <a:pt x="169" y="193"/>
                </a:lnTo>
                <a:lnTo>
                  <a:pt x="170" y="207"/>
                </a:lnTo>
                <a:lnTo>
                  <a:pt x="172" y="222"/>
                </a:lnTo>
                <a:lnTo>
                  <a:pt x="174" y="236"/>
                </a:lnTo>
                <a:lnTo>
                  <a:pt x="176" y="251"/>
                </a:lnTo>
                <a:lnTo>
                  <a:pt x="176" y="262"/>
                </a:lnTo>
                <a:lnTo>
                  <a:pt x="178" y="276"/>
                </a:lnTo>
                <a:lnTo>
                  <a:pt x="178" y="286"/>
                </a:lnTo>
                <a:lnTo>
                  <a:pt x="180" y="297"/>
                </a:lnTo>
                <a:lnTo>
                  <a:pt x="180" y="307"/>
                </a:lnTo>
                <a:lnTo>
                  <a:pt x="180" y="314"/>
                </a:lnTo>
                <a:lnTo>
                  <a:pt x="180" y="322"/>
                </a:lnTo>
                <a:lnTo>
                  <a:pt x="182" y="330"/>
                </a:lnTo>
                <a:lnTo>
                  <a:pt x="182" y="335"/>
                </a:lnTo>
                <a:lnTo>
                  <a:pt x="182" y="341"/>
                </a:lnTo>
                <a:lnTo>
                  <a:pt x="182" y="345"/>
                </a:lnTo>
                <a:lnTo>
                  <a:pt x="182" y="349"/>
                </a:lnTo>
                <a:lnTo>
                  <a:pt x="182" y="353"/>
                </a:lnTo>
                <a:lnTo>
                  <a:pt x="182" y="360"/>
                </a:lnTo>
                <a:lnTo>
                  <a:pt x="182" y="368"/>
                </a:lnTo>
                <a:lnTo>
                  <a:pt x="180" y="374"/>
                </a:lnTo>
                <a:lnTo>
                  <a:pt x="180" y="380"/>
                </a:lnTo>
                <a:lnTo>
                  <a:pt x="178" y="385"/>
                </a:lnTo>
                <a:lnTo>
                  <a:pt x="176" y="391"/>
                </a:lnTo>
                <a:lnTo>
                  <a:pt x="174" y="395"/>
                </a:lnTo>
                <a:lnTo>
                  <a:pt x="170" y="401"/>
                </a:lnTo>
                <a:lnTo>
                  <a:pt x="161" y="410"/>
                </a:lnTo>
                <a:lnTo>
                  <a:pt x="157" y="414"/>
                </a:lnTo>
                <a:lnTo>
                  <a:pt x="151" y="418"/>
                </a:lnTo>
                <a:lnTo>
                  <a:pt x="147" y="420"/>
                </a:lnTo>
                <a:lnTo>
                  <a:pt x="144" y="422"/>
                </a:lnTo>
                <a:lnTo>
                  <a:pt x="140" y="424"/>
                </a:lnTo>
                <a:lnTo>
                  <a:pt x="134" y="426"/>
                </a:lnTo>
                <a:lnTo>
                  <a:pt x="132" y="424"/>
                </a:lnTo>
                <a:lnTo>
                  <a:pt x="130" y="422"/>
                </a:lnTo>
                <a:lnTo>
                  <a:pt x="126" y="420"/>
                </a:lnTo>
                <a:lnTo>
                  <a:pt x="124" y="416"/>
                </a:lnTo>
                <a:lnTo>
                  <a:pt x="121" y="410"/>
                </a:lnTo>
                <a:lnTo>
                  <a:pt x="117" y="404"/>
                </a:lnTo>
                <a:lnTo>
                  <a:pt x="115" y="397"/>
                </a:lnTo>
                <a:lnTo>
                  <a:pt x="111" y="389"/>
                </a:lnTo>
                <a:lnTo>
                  <a:pt x="107" y="380"/>
                </a:lnTo>
                <a:lnTo>
                  <a:pt x="103" y="368"/>
                </a:lnTo>
                <a:lnTo>
                  <a:pt x="101" y="357"/>
                </a:lnTo>
                <a:lnTo>
                  <a:pt x="97" y="343"/>
                </a:lnTo>
                <a:lnTo>
                  <a:pt x="94" y="330"/>
                </a:lnTo>
                <a:lnTo>
                  <a:pt x="92" y="314"/>
                </a:lnTo>
                <a:lnTo>
                  <a:pt x="90" y="297"/>
                </a:lnTo>
                <a:lnTo>
                  <a:pt x="88" y="280"/>
                </a:lnTo>
                <a:lnTo>
                  <a:pt x="84" y="264"/>
                </a:lnTo>
                <a:lnTo>
                  <a:pt x="82" y="249"/>
                </a:lnTo>
                <a:lnTo>
                  <a:pt x="78" y="234"/>
                </a:lnTo>
                <a:lnTo>
                  <a:pt x="76" y="220"/>
                </a:lnTo>
                <a:lnTo>
                  <a:pt x="73" y="207"/>
                </a:lnTo>
                <a:lnTo>
                  <a:pt x="69" y="193"/>
                </a:lnTo>
                <a:lnTo>
                  <a:pt x="65" y="182"/>
                </a:lnTo>
                <a:lnTo>
                  <a:pt x="61" y="170"/>
                </a:lnTo>
                <a:lnTo>
                  <a:pt x="57" y="161"/>
                </a:lnTo>
                <a:lnTo>
                  <a:pt x="53" y="151"/>
                </a:lnTo>
                <a:lnTo>
                  <a:pt x="49" y="142"/>
                </a:lnTo>
                <a:lnTo>
                  <a:pt x="46" y="134"/>
                </a:lnTo>
                <a:lnTo>
                  <a:pt x="40" y="126"/>
                </a:lnTo>
                <a:lnTo>
                  <a:pt x="36" y="120"/>
                </a:lnTo>
                <a:lnTo>
                  <a:pt x="32" y="115"/>
                </a:lnTo>
                <a:lnTo>
                  <a:pt x="28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1"/>
          <p:cNvSpPr/>
          <p:nvPr/>
        </p:nvSpPr>
        <p:spPr>
          <a:xfrm>
            <a:off x="6573960" y="3322800"/>
            <a:ext cx="423720" cy="277560"/>
          </a:xfrm>
          <a:custGeom>
            <a:avLst/>
            <a:gdLst/>
            <a:ahLst/>
            <a:rect l="l" t="t" r="r" b="b"/>
            <a:pathLst>
              <a:path w="534" h="351">
                <a:moveTo>
                  <a:pt x="417" y="351"/>
                </a:moveTo>
                <a:lnTo>
                  <a:pt x="381" y="351"/>
                </a:lnTo>
                <a:lnTo>
                  <a:pt x="346" y="351"/>
                </a:lnTo>
                <a:lnTo>
                  <a:pt x="346" y="326"/>
                </a:lnTo>
                <a:lnTo>
                  <a:pt x="344" y="303"/>
                </a:lnTo>
                <a:lnTo>
                  <a:pt x="344" y="282"/>
                </a:lnTo>
                <a:lnTo>
                  <a:pt x="344" y="261"/>
                </a:lnTo>
                <a:lnTo>
                  <a:pt x="344" y="242"/>
                </a:lnTo>
                <a:lnTo>
                  <a:pt x="344" y="223"/>
                </a:lnTo>
                <a:lnTo>
                  <a:pt x="344" y="205"/>
                </a:lnTo>
                <a:lnTo>
                  <a:pt x="344" y="190"/>
                </a:lnTo>
                <a:lnTo>
                  <a:pt x="342" y="177"/>
                </a:lnTo>
                <a:lnTo>
                  <a:pt x="342" y="163"/>
                </a:lnTo>
                <a:lnTo>
                  <a:pt x="340" y="154"/>
                </a:lnTo>
                <a:lnTo>
                  <a:pt x="340" y="144"/>
                </a:lnTo>
                <a:lnTo>
                  <a:pt x="338" y="134"/>
                </a:lnTo>
                <a:lnTo>
                  <a:pt x="336" y="129"/>
                </a:lnTo>
                <a:lnTo>
                  <a:pt x="334" y="125"/>
                </a:lnTo>
                <a:lnTo>
                  <a:pt x="333" y="121"/>
                </a:lnTo>
                <a:lnTo>
                  <a:pt x="333" y="119"/>
                </a:lnTo>
                <a:lnTo>
                  <a:pt x="331" y="119"/>
                </a:lnTo>
                <a:lnTo>
                  <a:pt x="327" y="119"/>
                </a:lnTo>
                <a:lnTo>
                  <a:pt x="325" y="117"/>
                </a:lnTo>
                <a:lnTo>
                  <a:pt x="321" y="117"/>
                </a:lnTo>
                <a:lnTo>
                  <a:pt x="317" y="117"/>
                </a:lnTo>
                <a:lnTo>
                  <a:pt x="311" y="117"/>
                </a:lnTo>
                <a:lnTo>
                  <a:pt x="306" y="117"/>
                </a:lnTo>
                <a:lnTo>
                  <a:pt x="300" y="117"/>
                </a:lnTo>
                <a:lnTo>
                  <a:pt x="294" y="117"/>
                </a:lnTo>
                <a:lnTo>
                  <a:pt x="286" y="117"/>
                </a:lnTo>
                <a:lnTo>
                  <a:pt x="279" y="117"/>
                </a:lnTo>
                <a:lnTo>
                  <a:pt x="271" y="117"/>
                </a:lnTo>
                <a:lnTo>
                  <a:pt x="262" y="119"/>
                </a:lnTo>
                <a:lnTo>
                  <a:pt x="252" y="119"/>
                </a:lnTo>
                <a:lnTo>
                  <a:pt x="242" y="121"/>
                </a:lnTo>
                <a:lnTo>
                  <a:pt x="233" y="121"/>
                </a:lnTo>
                <a:lnTo>
                  <a:pt x="221" y="123"/>
                </a:lnTo>
                <a:lnTo>
                  <a:pt x="210" y="125"/>
                </a:lnTo>
                <a:lnTo>
                  <a:pt x="196" y="127"/>
                </a:lnTo>
                <a:lnTo>
                  <a:pt x="185" y="129"/>
                </a:lnTo>
                <a:lnTo>
                  <a:pt x="169" y="131"/>
                </a:lnTo>
                <a:lnTo>
                  <a:pt x="156" y="132"/>
                </a:lnTo>
                <a:lnTo>
                  <a:pt x="141" y="134"/>
                </a:lnTo>
                <a:lnTo>
                  <a:pt x="125" y="136"/>
                </a:lnTo>
                <a:lnTo>
                  <a:pt x="110" y="138"/>
                </a:lnTo>
                <a:lnTo>
                  <a:pt x="93" y="142"/>
                </a:lnTo>
                <a:lnTo>
                  <a:pt x="75" y="144"/>
                </a:lnTo>
                <a:lnTo>
                  <a:pt x="58" y="148"/>
                </a:lnTo>
                <a:lnTo>
                  <a:pt x="39" y="152"/>
                </a:lnTo>
                <a:lnTo>
                  <a:pt x="22" y="154"/>
                </a:lnTo>
                <a:lnTo>
                  <a:pt x="0" y="157"/>
                </a:lnTo>
                <a:lnTo>
                  <a:pt x="0" y="121"/>
                </a:lnTo>
                <a:lnTo>
                  <a:pt x="0" y="85"/>
                </a:lnTo>
                <a:lnTo>
                  <a:pt x="22" y="79"/>
                </a:lnTo>
                <a:lnTo>
                  <a:pt x="41" y="73"/>
                </a:lnTo>
                <a:lnTo>
                  <a:pt x="58" y="67"/>
                </a:lnTo>
                <a:lnTo>
                  <a:pt x="77" y="63"/>
                </a:lnTo>
                <a:lnTo>
                  <a:pt x="95" y="58"/>
                </a:lnTo>
                <a:lnTo>
                  <a:pt x="112" y="54"/>
                </a:lnTo>
                <a:lnTo>
                  <a:pt x="127" y="50"/>
                </a:lnTo>
                <a:lnTo>
                  <a:pt x="143" y="46"/>
                </a:lnTo>
                <a:lnTo>
                  <a:pt x="158" y="40"/>
                </a:lnTo>
                <a:lnTo>
                  <a:pt x="173" y="37"/>
                </a:lnTo>
                <a:lnTo>
                  <a:pt x="187" y="35"/>
                </a:lnTo>
                <a:lnTo>
                  <a:pt x="200" y="31"/>
                </a:lnTo>
                <a:lnTo>
                  <a:pt x="214" y="27"/>
                </a:lnTo>
                <a:lnTo>
                  <a:pt x="227" y="25"/>
                </a:lnTo>
                <a:lnTo>
                  <a:pt x="238" y="21"/>
                </a:lnTo>
                <a:lnTo>
                  <a:pt x="250" y="19"/>
                </a:lnTo>
                <a:lnTo>
                  <a:pt x="262" y="17"/>
                </a:lnTo>
                <a:lnTo>
                  <a:pt x="271" y="14"/>
                </a:lnTo>
                <a:lnTo>
                  <a:pt x="281" y="12"/>
                </a:lnTo>
                <a:lnTo>
                  <a:pt x="290" y="10"/>
                </a:lnTo>
                <a:lnTo>
                  <a:pt x="298" y="8"/>
                </a:lnTo>
                <a:lnTo>
                  <a:pt x="308" y="8"/>
                </a:lnTo>
                <a:lnTo>
                  <a:pt x="313" y="6"/>
                </a:lnTo>
                <a:lnTo>
                  <a:pt x="321" y="4"/>
                </a:lnTo>
                <a:lnTo>
                  <a:pt x="327" y="4"/>
                </a:lnTo>
                <a:lnTo>
                  <a:pt x="334" y="2"/>
                </a:lnTo>
                <a:lnTo>
                  <a:pt x="338" y="2"/>
                </a:lnTo>
                <a:lnTo>
                  <a:pt x="344" y="0"/>
                </a:lnTo>
                <a:lnTo>
                  <a:pt x="348" y="0"/>
                </a:lnTo>
                <a:lnTo>
                  <a:pt x="352" y="0"/>
                </a:lnTo>
                <a:lnTo>
                  <a:pt x="354" y="0"/>
                </a:lnTo>
                <a:lnTo>
                  <a:pt x="358" y="0"/>
                </a:lnTo>
                <a:lnTo>
                  <a:pt x="359" y="0"/>
                </a:lnTo>
                <a:lnTo>
                  <a:pt x="363" y="0"/>
                </a:lnTo>
                <a:lnTo>
                  <a:pt x="365" y="0"/>
                </a:lnTo>
                <a:lnTo>
                  <a:pt x="371" y="2"/>
                </a:lnTo>
                <a:lnTo>
                  <a:pt x="375" y="2"/>
                </a:lnTo>
                <a:lnTo>
                  <a:pt x="381" y="4"/>
                </a:lnTo>
                <a:lnTo>
                  <a:pt x="386" y="6"/>
                </a:lnTo>
                <a:lnTo>
                  <a:pt x="392" y="8"/>
                </a:lnTo>
                <a:lnTo>
                  <a:pt x="400" y="10"/>
                </a:lnTo>
                <a:lnTo>
                  <a:pt x="407" y="12"/>
                </a:lnTo>
                <a:lnTo>
                  <a:pt x="415" y="14"/>
                </a:lnTo>
                <a:lnTo>
                  <a:pt x="423" y="15"/>
                </a:lnTo>
                <a:lnTo>
                  <a:pt x="432" y="17"/>
                </a:lnTo>
                <a:lnTo>
                  <a:pt x="442" y="19"/>
                </a:lnTo>
                <a:lnTo>
                  <a:pt x="454" y="21"/>
                </a:lnTo>
                <a:lnTo>
                  <a:pt x="463" y="23"/>
                </a:lnTo>
                <a:lnTo>
                  <a:pt x="473" y="29"/>
                </a:lnTo>
                <a:lnTo>
                  <a:pt x="480" y="33"/>
                </a:lnTo>
                <a:lnTo>
                  <a:pt x="488" y="37"/>
                </a:lnTo>
                <a:lnTo>
                  <a:pt x="494" y="42"/>
                </a:lnTo>
                <a:lnTo>
                  <a:pt x="502" y="46"/>
                </a:lnTo>
                <a:lnTo>
                  <a:pt x="507" y="50"/>
                </a:lnTo>
                <a:lnTo>
                  <a:pt x="511" y="54"/>
                </a:lnTo>
                <a:lnTo>
                  <a:pt x="517" y="58"/>
                </a:lnTo>
                <a:lnTo>
                  <a:pt x="521" y="63"/>
                </a:lnTo>
                <a:lnTo>
                  <a:pt x="525" y="65"/>
                </a:lnTo>
                <a:lnTo>
                  <a:pt x="528" y="69"/>
                </a:lnTo>
                <a:lnTo>
                  <a:pt x="530" y="73"/>
                </a:lnTo>
                <a:lnTo>
                  <a:pt x="532" y="77"/>
                </a:lnTo>
                <a:lnTo>
                  <a:pt x="534" y="79"/>
                </a:lnTo>
                <a:lnTo>
                  <a:pt x="534" y="83"/>
                </a:lnTo>
                <a:lnTo>
                  <a:pt x="534" y="85"/>
                </a:lnTo>
                <a:lnTo>
                  <a:pt x="534" y="90"/>
                </a:lnTo>
                <a:lnTo>
                  <a:pt x="532" y="96"/>
                </a:lnTo>
                <a:lnTo>
                  <a:pt x="530" y="102"/>
                </a:lnTo>
                <a:lnTo>
                  <a:pt x="526" y="109"/>
                </a:lnTo>
                <a:lnTo>
                  <a:pt x="525" y="115"/>
                </a:lnTo>
                <a:lnTo>
                  <a:pt x="519" y="121"/>
                </a:lnTo>
                <a:lnTo>
                  <a:pt x="515" y="127"/>
                </a:lnTo>
                <a:lnTo>
                  <a:pt x="511" y="132"/>
                </a:lnTo>
                <a:lnTo>
                  <a:pt x="507" y="138"/>
                </a:lnTo>
                <a:lnTo>
                  <a:pt x="502" y="144"/>
                </a:lnTo>
                <a:lnTo>
                  <a:pt x="496" y="152"/>
                </a:lnTo>
                <a:lnTo>
                  <a:pt x="492" y="159"/>
                </a:lnTo>
                <a:lnTo>
                  <a:pt x="486" y="169"/>
                </a:lnTo>
                <a:lnTo>
                  <a:pt x="480" y="180"/>
                </a:lnTo>
                <a:lnTo>
                  <a:pt x="475" y="192"/>
                </a:lnTo>
                <a:lnTo>
                  <a:pt x="469" y="205"/>
                </a:lnTo>
                <a:lnTo>
                  <a:pt x="461" y="221"/>
                </a:lnTo>
                <a:lnTo>
                  <a:pt x="455" y="236"/>
                </a:lnTo>
                <a:lnTo>
                  <a:pt x="450" y="251"/>
                </a:lnTo>
                <a:lnTo>
                  <a:pt x="442" y="269"/>
                </a:lnTo>
                <a:lnTo>
                  <a:pt x="436" y="288"/>
                </a:lnTo>
                <a:lnTo>
                  <a:pt x="429" y="307"/>
                </a:lnTo>
                <a:lnTo>
                  <a:pt x="423" y="328"/>
                </a:lnTo>
                <a:lnTo>
                  <a:pt x="417" y="3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>
            <a:off x="6611760" y="3571920"/>
            <a:ext cx="319320" cy="87120"/>
          </a:xfrm>
          <a:custGeom>
            <a:avLst/>
            <a:gdLst/>
            <a:ahLst/>
            <a:rect l="l" t="t" r="r" b="b"/>
            <a:pathLst>
              <a:path w="404" h="109">
                <a:moveTo>
                  <a:pt x="0" y="36"/>
                </a:moveTo>
                <a:lnTo>
                  <a:pt x="45" y="27"/>
                </a:lnTo>
                <a:lnTo>
                  <a:pt x="93" y="19"/>
                </a:lnTo>
                <a:lnTo>
                  <a:pt x="139" y="13"/>
                </a:lnTo>
                <a:lnTo>
                  <a:pt x="189" y="7"/>
                </a:lnTo>
                <a:lnTo>
                  <a:pt x="240" y="4"/>
                </a:lnTo>
                <a:lnTo>
                  <a:pt x="265" y="4"/>
                </a:lnTo>
                <a:lnTo>
                  <a:pt x="292" y="2"/>
                </a:lnTo>
                <a:lnTo>
                  <a:pt x="319" y="0"/>
                </a:lnTo>
                <a:lnTo>
                  <a:pt x="346" y="0"/>
                </a:lnTo>
                <a:lnTo>
                  <a:pt x="375" y="0"/>
                </a:lnTo>
                <a:lnTo>
                  <a:pt x="404" y="0"/>
                </a:lnTo>
                <a:lnTo>
                  <a:pt x="404" y="31"/>
                </a:lnTo>
                <a:lnTo>
                  <a:pt x="404" y="61"/>
                </a:lnTo>
                <a:lnTo>
                  <a:pt x="310" y="73"/>
                </a:lnTo>
                <a:lnTo>
                  <a:pt x="214" y="84"/>
                </a:lnTo>
                <a:lnTo>
                  <a:pt x="23" y="109"/>
                </a:lnTo>
                <a:lnTo>
                  <a:pt x="12" y="73"/>
                </a:lnTo>
                <a:lnTo>
                  <a:pt x="0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>
            <a:off x="7078680" y="3322800"/>
            <a:ext cx="154080" cy="282240"/>
          </a:xfrm>
          <a:custGeom>
            <a:avLst/>
            <a:gdLst/>
            <a:ahLst/>
            <a:rect l="l" t="t" r="r" b="b"/>
            <a:pathLst>
              <a:path w="194" h="357">
                <a:moveTo>
                  <a:pt x="111" y="0"/>
                </a:moveTo>
                <a:lnTo>
                  <a:pt x="117" y="25"/>
                </a:lnTo>
                <a:lnTo>
                  <a:pt x="123" y="48"/>
                </a:lnTo>
                <a:lnTo>
                  <a:pt x="130" y="73"/>
                </a:lnTo>
                <a:lnTo>
                  <a:pt x="136" y="96"/>
                </a:lnTo>
                <a:lnTo>
                  <a:pt x="150" y="140"/>
                </a:lnTo>
                <a:lnTo>
                  <a:pt x="161" y="184"/>
                </a:lnTo>
                <a:lnTo>
                  <a:pt x="171" y="227"/>
                </a:lnTo>
                <a:lnTo>
                  <a:pt x="180" y="269"/>
                </a:lnTo>
                <a:lnTo>
                  <a:pt x="184" y="290"/>
                </a:lnTo>
                <a:lnTo>
                  <a:pt x="188" y="309"/>
                </a:lnTo>
                <a:lnTo>
                  <a:pt x="190" y="330"/>
                </a:lnTo>
                <a:lnTo>
                  <a:pt x="194" y="351"/>
                </a:lnTo>
                <a:lnTo>
                  <a:pt x="186" y="355"/>
                </a:lnTo>
                <a:lnTo>
                  <a:pt x="180" y="357"/>
                </a:lnTo>
                <a:lnTo>
                  <a:pt x="173" y="357"/>
                </a:lnTo>
                <a:lnTo>
                  <a:pt x="165" y="355"/>
                </a:lnTo>
                <a:lnTo>
                  <a:pt x="157" y="353"/>
                </a:lnTo>
                <a:lnTo>
                  <a:pt x="150" y="349"/>
                </a:lnTo>
                <a:lnTo>
                  <a:pt x="140" y="342"/>
                </a:lnTo>
                <a:lnTo>
                  <a:pt x="132" y="334"/>
                </a:lnTo>
                <a:lnTo>
                  <a:pt x="125" y="326"/>
                </a:lnTo>
                <a:lnTo>
                  <a:pt x="115" y="315"/>
                </a:lnTo>
                <a:lnTo>
                  <a:pt x="107" y="301"/>
                </a:lnTo>
                <a:lnTo>
                  <a:pt x="98" y="288"/>
                </a:lnTo>
                <a:lnTo>
                  <a:pt x="90" y="273"/>
                </a:lnTo>
                <a:lnTo>
                  <a:pt x="80" y="255"/>
                </a:lnTo>
                <a:lnTo>
                  <a:pt x="71" y="238"/>
                </a:lnTo>
                <a:lnTo>
                  <a:pt x="63" y="219"/>
                </a:lnTo>
                <a:lnTo>
                  <a:pt x="54" y="198"/>
                </a:lnTo>
                <a:lnTo>
                  <a:pt x="46" y="179"/>
                </a:lnTo>
                <a:lnTo>
                  <a:pt x="38" y="159"/>
                </a:lnTo>
                <a:lnTo>
                  <a:pt x="32" y="142"/>
                </a:lnTo>
                <a:lnTo>
                  <a:pt x="27" y="127"/>
                </a:lnTo>
                <a:lnTo>
                  <a:pt x="21" y="111"/>
                </a:lnTo>
                <a:lnTo>
                  <a:pt x="15" y="98"/>
                </a:lnTo>
                <a:lnTo>
                  <a:pt x="11" y="85"/>
                </a:lnTo>
                <a:lnTo>
                  <a:pt x="7" y="73"/>
                </a:lnTo>
                <a:lnTo>
                  <a:pt x="6" y="61"/>
                </a:lnTo>
                <a:lnTo>
                  <a:pt x="2" y="52"/>
                </a:lnTo>
                <a:lnTo>
                  <a:pt x="2" y="44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4" y="21"/>
                </a:lnTo>
                <a:lnTo>
                  <a:pt x="6" y="19"/>
                </a:lnTo>
                <a:lnTo>
                  <a:pt x="7" y="17"/>
                </a:lnTo>
                <a:lnTo>
                  <a:pt x="9" y="15"/>
                </a:lnTo>
                <a:lnTo>
                  <a:pt x="13" y="14"/>
                </a:lnTo>
                <a:lnTo>
                  <a:pt x="19" y="12"/>
                </a:lnTo>
                <a:lnTo>
                  <a:pt x="25" y="10"/>
                </a:lnTo>
                <a:lnTo>
                  <a:pt x="31" y="8"/>
                </a:lnTo>
                <a:lnTo>
                  <a:pt x="38" y="6"/>
                </a:lnTo>
                <a:lnTo>
                  <a:pt x="46" y="4"/>
                </a:lnTo>
                <a:lnTo>
                  <a:pt x="54" y="2"/>
                </a:lnTo>
                <a:lnTo>
                  <a:pt x="63" y="2"/>
                </a:lnTo>
                <a:lnTo>
                  <a:pt x="75" y="0"/>
                </a:lnTo>
                <a:lnTo>
                  <a:pt x="86" y="0"/>
                </a:lnTo>
                <a:lnTo>
                  <a:pt x="98" y="0"/>
                </a:lnTo>
                <a:lnTo>
                  <a:pt x="11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54"/>
          <p:cNvSpPr/>
          <p:nvPr/>
        </p:nvSpPr>
        <p:spPr>
          <a:xfrm>
            <a:off x="7129440" y="3230640"/>
            <a:ext cx="444600" cy="291960"/>
          </a:xfrm>
          <a:custGeom>
            <a:avLst/>
            <a:gdLst/>
            <a:ahLst/>
            <a:rect l="l" t="t" r="r" b="b"/>
            <a:pathLst>
              <a:path w="561" h="368">
                <a:moveTo>
                  <a:pt x="440" y="368"/>
                </a:moveTo>
                <a:lnTo>
                  <a:pt x="344" y="368"/>
                </a:lnTo>
                <a:lnTo>
                  <a:pt x="346" y="345"/>
                </a:lnTo>
                <a:lnTo>
                  <a:pt x="348" y="322"/>
                </a:lnTo>
                <a:lnTo>
                  <a:pt x="350" y="301"/>
                </a:lnTo>
                <a:lnTo>
                  <a:pt x="351" y="280"/>
                </a:lnTo>
                <a:lnTo>
                  <a:pt x="353" y="263"/>
                </a:lnTo>
                <a:lnTo>
                  <a:pt x="355" y="246"/>
                </a:lnTo>
                <a:lnTo>
                  <a:pt x="357" y="228"/>
                </a:lnTo>
                <a:lnTo>
                  <a:pt x="359" y="215"/>
                </a:lnTo>
                <a:lnTo>
                  <a:pt x="359" y="201"/>
                </a:lnTo>
                <a:lnTo>
                  <a:pt x="359" y="190"/>
                </a:lnTo>
                <a:lnTo>
                  <a:pt x="361" y="180"/>
                </a:lnTo>
                <a:lnTo>
                  <a:pt x="361" y="171"/>
                </a:lnTo>
                <a:lnTo>
                  <a:pt x="359" y="165"/>
                </a:lnTo>
                <a:lnTo>
                  <a:pt x="359" y="159"/>
                </a:lnTo>
                <a:lnTo>
                  <a:pt x="357" y="153"/>
                </a:lnTo>
                <a:lnTo>
                  <a:pt x="355" y="152"/>
                </a:lnTo>
                <a:lnTo>
                  <a:pt x="353" y="150"/>
                </a:lnTo>
                <a:lnTo>
                  <a:pt x="351" y="150"/>
                </a:lnTo>
                <a:lnTo>
                  <a:pt x="350" y="148"/>
                </a:lnTo>
                <a:lnTo>
                  <a:pt x="346" y="148"/>
                </a:lnTo>
                <a:lnTo>
                  <a:pt x="342" y="148"/>
                </a:lnTo>
                <a:lnTo>
                  <a:pt x="338" y="146"/>
                </a:lnTo>
                <a:lnTo>
                  <a:pt x="332" y="146"/>
                </a:lnTo>
                <a:lnTo>
                  <a:pt x="327" y="146"/>
                </a:lnTo>
                <a:lnTo>
                  <a:pt x="321" y="146"/>
                </a:lnTo>
                <a:lnTo>
                  <a:pt x="313" y="146"/>
                </a:lnTo>
                <a:lnTo>
                  <a:pt x="305" y="148"/>
                </a:lnTo>
                <a:lnTo>
                  <a:pt x="298" y="148"/>
                </a:lnTo>
                <a:lnTo>
                  <a:pt x="290" y="148"/>
                </a:lnTo>
                <a:lnTo>
                  <a:pt x="280" y="148"/>
                </a:lnTo>
                <a:lnTo>
                  <a:pt x="269" y="150"/>
                </a:lnTo>
                <a:lnTo>
                  <a:pt x="259" y="150"/>
                </a:lnTo>
                <a:lnTo>
                  <a:pt x="248" y="152"/>
                </a:lnTo>
                <a:lnTo>
                  <a:pt x="236" y="153"/>
                </a:lnTo>
                <a:lnTo>
                  <a:pt x="225" y="155"/>
                </a:lnTo>
                <a:lnTo>
                  <a:pt x="211" y="155"/>
                </a:lnTo>
                <a:lnTo>
                  <a:pt x="198" y="157"/>
                </a:lnTo>
                <a:lnTo>
                  <a:pt x="184" y="159"/>
                </a:lnTo>
                <a:lnTo>
                  <a:pt x="169" y="161"/>
                </a:lnTo>
                <a:lnTo>
                  <a:pt x="154" y="165"/>
                </a:lnTo>
                <a:lnTo>
                  <a:pt x="138" y="167"/>
                </a:lnTo>
                <a:lnTo>
                  <a:pt x="121" y="169"/>
                </a:lnTo>
                <a:lnTo>
                  <a:pt x="106" y="171"/>
                </a:lnTo>
                <a:lnTo>
                  <a:pt x="87" y="175"/>
                </a:lnTo>
                <a:lnTo>
                  <a:pt x="69" y="176"/>
                </a:lnTo>
                <a:lnTo>
                  <a:pt x="50" y="180"/>
                </a:lnTo>
                <a:lnTo>
                  <a:pt x="31" y="184"/>
                </a:lnTo>
                <a:lnTo>
                  <a:pt x="12" y="188"/>
                </a:lnTo>
                <a:lnTo>
                  <a:pt x="6" y="152"/>
                </a:lnTo>
                <a:lnTo>
                  <a:pt x="0" y="115"/>
                </a:lnTo>
                <a:lnTo>
                  <a:pt x="31" y="109"/>
                </a:lnTo>
                <a:lnTo>
                  <a:pt x="60" y="105"/>
                </a:lnTo>
                <a:lnTo>
                  <a:pt x="88" y="102"/>
                </a:lnTo>
                <a:lnTo>
                  <a:pt x="115" y="96"/>
                </a:lnTo>
                <a:lnTo>
                  <a:pt x="142" y="92"/>
                </a:lnTo>
                <a:lnTo>
                  <a:pt x="167" y="88"/>
                </a:lnTo>
                <a:lnTo>
                  <a:pt x="190" y="82"/>
                </a:lnTo>
                <a:lnTo>
                  <a:pt x="213" y="79"/>
                </a:lnTo>
                <a:lnTo>
                  <a:pt x="225" y="77"/>
                </a:lnTo>
                <a:lnTo>
                  <a:pt x="234" y="73"/>
                </a:lnTo>
                <a:lnTo>
                  <a:pt x="244" y="71"/>
                </a:lnTo>
                <a:lnTo>
                  <a:pt x="254" y="69"/>
                </a:lnTo>
                <a:lnTo>
                  <a:pt x="263" y="67"/>
                </a:lnTo>
                <a:lnTo>
                  <a:pt x="271" y="63"/>
                </a:lnTo>
                <a:lnTo>
                  <a:pt x="286" y="57"/>
                </a:lnTo>
                <a:lnTo>
                  <a:pt x="300" y="52"/>
                </a:lnTo>
                <a:lnTo>
                  <a:pt x="311" y="46"/>
                </a:lnTo>
                <a:lnTo>
                  <a:pt x="323" y="38"/>
                </a:lnTo>
                <a:lnTo>
                  <a:pt x="332" y="31"/>
                </a:lnTo>
                <a:lnTo>
                  <a:pt x="340" y="21"/>
                </a:lnTo>
                <a:lnTo>
                  <a:pt x="350" y="13"/>
                </a:lnTo>
                <a:lnTo>
                  <a:pt x="359" y="8"/>
                </a:lnTo>
                <a:lnTo>
                  <a:pt x="367" y="4"/>
                </a:lnTo>
                <a:lnTo>
                  <a:pt x="376" y="2"/>
                </a:lnTo>
                <a:lnTo>
                  <a:pt x="380" y="0"/>
                </a:lnTo>
                <a:lnTo>
                  <a:pt x="386" y="0"/>
                </a:lnTo>
                <a:lnTo>
                  <a:pt x="390" y="2"/>
                </a:lnTo>
                <a:lnTo>
                  <a:pt x="394" y="2"/>
                </a:lnTo>
                <a:lnTo>
                  <a:pt x="399" y="4"/>
                </a:lnTo>
                <a:lnTo>
                  <a:pt x="403" y="6"/>
                </a:lnTo>
                <a:lnTo>
                  <a:pt x="413" y="10"/>
                </a:lnTo>
                <a:lnTo>
                  <a:pt x="423" y="15"/>
                </a:lnTo>
                <a:lnTo>
                  <a:pt x="436" y="21"/>
                </a:lnTo>
                <a:lnTo>
                  <a:pt x="447" y="27"/>
                </a:lnTo>
                <a:lnTo>
                  <a:pt x="461" y="34"/>
                </a:lnTo>
                <a:lnTo>
                  <a:pt x="476" y="42"/>
                </a:lnTo>
                <a:lnTo>
                  <a:pt x="484" y="48"/>
                </a:lnTo>
                <a:lnTo>
                  <a:pt x="494" y="54"/>
                </a:lnTo>
                <a:lnTo>
                  <a:pt x="501" y="59"/>
                </a:lnTo>
                <a:lnTo>
                  <a:pt x="511" y="65"/>
                </a:lnTo>
                <a:lnTo>
                  <a:pt x="517" y="73"/>
                </a:lnTo>
                <a:lnTo>
                  <a:pt x="522" y="79"/>
                </a:lnTo>
                <a:lnTo>
                  <a:pt x="528" y="84"/>
                </a:lnTo>
                <a:lnTo>
                  <a:pt x="534" y="88"/>
                </a:lnTo>
                <a:lnTo>
                  <a:pt x="540" y="94"/>
                </a:lnTo>
                <a:lnTo>
                  <a:pt x="543" y="98"/>
                </a:lnTo>
                <a:lnTo>
                  <a:pt x="547" y="102"/>
                </a:lnTo>
                <a:lnTo>
                  <a:pt x="551" y="105"/>
                </a:lnTo>
                <a:lnTo>
                  <a:pt x="555" y="109"/>
                </a:lnTo>
                <a:lnTo>
                  <a:pt x="557" y="111"/>
                </a:lnTo>
                <a:lnTo>
                  <a:pt x="559" y="115"/>
                </a:lnTo>
                <a:lnTo>
                  <a:pt x="561" y="117"/>
                </a:lnTo>
                <a:lnTo>
                  <a:pt x="561" y="119"/>
                </a:lnTo>
                <a:lnTo>
                  <a:pt x="561" y="123"/>
                </a:lnTo>
                <a:lnTo>
                  <a:pt x="559" y="125"/>
                </a:lnTo>
                <a:lnTo>
                  <a:pt x="557" y="127"/>
                </a:lnTo>
                <a:lnTo>
                  <a:pt x="553" y="132"/>
                </a:lnTo>
                <a:lnTo>
                  <a:pt x="547" y="138"/>
                </a:lnTo>
                <a:lnTo>
                  <a:pt x="543" y="144"/>
                </a:lnTo>
                <a:lnTo>
                  <a:pt x="538" y="152"/>
                </a:lnTo>
                <a:lnTo>
                  <a:pt x="532" y="157"/>
                </a:lnTo>
                <a:lnTo>
                  <a:pt x="526" y="165"/>
                </a:lnTo>
                <a:lnTo>
                  <a:pt x="519" y="171"/>
                </a:lnTo>
                <a:lnTo>
                  <a:pt x="511" y="175"/>
                </a:lnTo>
                <a:lnTo>
                  <a:pt x="505" y="180"/>
                </a:lnTo>
                <a:lnTo>
                  <a:pt x="501" y="186"/>
                </a:lnTo>
                <a:lnTo>
                  <a:pt x="497" y="192"/>
                </a:lnTo>
                <a:lnTo>
                  <a:pt x="492" y="200"/>
                </a:lnTo>
                <a:lnTo>
                  <a:pt x="488" y="209"/>
                </a:lnTo>
                <a:lnTo>
                  <a:pt x="484" y="219"/>
                </a:lnTo>
                <a:lnTo>
                  <a:pt x="478" y="228"/>
                </a:lnTo>
                <a:lnTo>
                  <a:pt x="474" y="240"/>
                </a:lnTo>
                <a:lnTo>
                  <a:pt x="471" y="253"/>
                </a:lnTo>
                <a:lnTo>
                  <a:pt x="465" y="267"/>
                </a:lnTo>
                <a:lnTo>
                  <a:pt x="461" y="280"/>
                </a:lnTo>
                <a:lnTo>
                  <a:pt x="457" y="295"/>
                </a:lnTo>
                <a:lnTo>
                  <a:pt x="451" y="313"/>
                </a:lnTo>
                <a:lnTo>
                  <a:pt x="447" y="330"/>
                </a:lnTo>
                <a:lnTo>
                  <a:pt x="444" y="349"/>
                </a:lnTo>
                <a:lnTo>
                  <a:pt x="440" y="3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55"/>
          <p:cNvSpPr/>
          <p:nvPr/>
        </p:nvSpPr>
        <p:spPr>
          <a:xfrm>
            <a:off x="7176960" y="3495600"/>
            <a:ext cx="328680" cy="85680"/>
          </a:xfrm>
          <a:custGeom>
            <a:avLst/>
            <a:gdLst/>
            <a:ahLst/>
            <a:rect l="l" t="t" r="r" b="b"/>
            <a:pathLst>
              <a:path w="414" h="107">
                <a:moveTo>
                  <a:pt x="0" y="34"/>
                </a:moveTo>
                <a:lnTo>
                  <a:pt x="28" y="31"/>
                </a:lnTo>
                <a:lnTo>
                  <a:pt x="55" y="27"/>
                </a:lnTo>
                <a:lnTo>
                  <a:pt x="80" y="23"/>
                </a:lnTo>
                <a:lnTo>
                  <a:pt x="105" y="19"/>
                </a:lnTo>
                <a:lnTo>
                  <a:pt x="130" y="15"/>
                </a:lnTo>
                <a:lnTo>
                  <a:pt x="153" y="13"/>
                </a:lnTo>
                <a:lnTo>
                  <a:pt x="174" y="9"/>
                </a:lnTo>
                <a:lnTo>
                  <a:pt x="195" y="8"/>
                </a:lnTo>
                <a:lnTo>
                  <a:pt x="215" y="6"/>
                </a:lnTo>
                <a:lnTo>
                  <a:pt x="232" y="4"/>
                </a:lnTo>
                <a:lnTo>
                  <a:pt x="249" y="2"/>
                </a:lnTo>
                <a:lnTo>
                  <a:pt x="267" y="2"/>
                </a:lnTo>
                <a:lnTo>
                  <a:pt x="282" y="0"/>
                </a:lnTo>
                <a:lnTo>
                  <a:pt x="295" y="0"/>
                </a:lnTo>
                <a:lnTo>
                  <a:pt x="307" y="0"/>
                </a:lnTo>
                <a:lnTo>
                  <a:pt x="320" y="0"/>
                </a:lnTo>
                <a:lnTo>
                  <a:pt x="330" y="0"/>
                </a:lnTo>
                <a:lnTo>
                  <a:pt x="341" y="0"/>
                </a:lnTo>
                <a:lnTo>
                  <a:pt x="351" y="0"/>
                </a:lnTo>
                <a:lnTo>
                  <a:pt x="359" y="2"/>
                </a:lnTo>
                <a:lnTo>
                  <a:pt x="368" y="2"/>
                </a:lnTo>
                <a:lnTo>
                  <a:pt x="376" y="4"/>
                </a:lnTo>
                <a:lnTo>
                  <a:pt x="384" y="6"/>
                </a:lnTo>
                <a:lnTo>
                  <a:pt x="389" y="8"/>
                </a:lnTo>
                <a:lnTo>
                  <a:pt x="395" y="9"/>
                </a:lnTo>
                <a:lnTo>
                  <a:pt x="401" y="13"/>
                </a:lnTo>
                <a:lnTo>
                  <a:pt x="405" y="15"/>
                </a:lnTo>
                <a:lnTo>
                  <a:pt x="409" y="19"/>
                </a:lnTo>
                <a:lnTo>
                  <a:pt x="411" y="23"/>
                </a:lnTo>
                <a:lnTo>
                  <a:pt x="412" y="27"/>
                </a:lnTo>
                <a:lnTo>
                  <a:pt x="414" y="31"/>
                </a:lnTo>
                <a:lnTo>
                  <a:pt x="414" y="34"/>
                </a:lnTo>
                <a:lnTo>
                  <a:pt x="414" y="44"/>
                </a:lnTo>
                <a:lnTo>
                  <a:pt x="414" y="52"/>
                </a:lnTo>
                <a:lnTo>
                  <a:pt x="414" y="57"/>
                </a:lnTo>
                <a:lnTo>
                  <a:pt x="412" y="63"/>
                </a:lnTo>
                <a:lnTo>
                  <a:pt x="411" y="67"/>
                </a:lnTo>
                <a:lnTo>
                  <a:pt x="409" y="69"/>
                </a:lnTo>
                <a:lnTo>
                  <a:pt x="407" y="71"/>
                </a:lnTo>
                <a:lnTo>
                  <a:pt x="403" y="71"/>
                </a:lnTo>
                <a:lnTo>
                  <a:pt x="401" y="73"/>
                </a:lnTo>
                <a:lnTo>
                  <a:pt x="399" y="73"/>
                </a:lnTo>
                <a:lnTo>
                  <a:pt x="395" y="75"/>
                </a:lnTo>
                <a:lnTo>
                  <a:pt x="393" y="77"/>
                </a:lnTo>
                <a:lnTo>
                  <a:pt x="387" y="77"/>
                </a:lnTo>
                <a:lnTo>
                  <a:pt x="384" y="79"/>
                </a:lnTo>
                <a:lnTo>
                  <a:pt x="378" y="79"/>
                </a:lnTo>
                <a:lnTo>
                  <a:pt x="372" y="80"/>
                </a:lnTo>
                <a:lnTo>
                  <a:pt x="364" y="82"/>
                </a:lnTo>
                <a:lnTo>
                  <a:pt x="357" y="82"/>
                </a:lnTo>
                <a:lnTo>
                  <a:pt x="347" y="84"/>
                </a:lnTo>
                <a:lnTo>
                  <a:pt x="339" y="84"/>
                </a:lnTo>
                <a:lnTo>
                  <a:pt x="328" y="86"/>
                </a:lnTo>
                <a:lnTo>
                  <a:pt x="318" y="88"/>
                </a:lnTo>
                <a:lnTo>
                  <a:pt x="307" y="88"/>
                </a:lnTo>
                <a:lnTo>
                  <a:pt x="295" y="90"/>
                </a:lnTo>
                <a:lnTo>
                  <a:pt x="282" y="90"/>
                </a:lnTo>
                <a:lnTo>
                  <a:pt x="268" y="92"/>
                </a:lnTo>
                <a:lnTo>
                  <a:pt x="253" y="94"/>
                </a:lnTo>
                <a:lnTo>
                  <a:pt x="238" y="94"/>
                </a:lnTo>
                <a:lnTo>
                  <a:pt x="222" y="96"/>
                </a:lnTo>
                <a:lnTo>
                  <a:pt x="207" y="96"/>
                </a:lnTo>
                <a:lnTo>
                  <a:pt x="190" y="98"/>
                </a:lnTo>
                <a:lnTo>
                  <a:pt x="171" y="98"/>
                </a:lnTo>
                <a:lnTo>
                  <a:pt x="151" y="100"/>
                </a:lnTo>
                <a:lnTo>
                  <a:pt x="132" y="102"/>
                </a:lnTo>
                <a:lnTo>
                  <a:pt x="113" y="102"/>
                </a:lnTo>
                <a:lnTo>
                  <a:pt x="92" y="103"/>
                </a:lnTo>
                <a:lnTo>
                  <a:pt x="69" y="103"/>
                </a:lnTo>
                <a:lnTo>
                  <a:pt x="46" y="105"/>
                </a:lnTo>
                <a:lnTo>
                  <a:pt x="23" y="107"/>
                </a:lnTo>
                <a:lnTo>
                  <a:pt x="0" y="107"/>
                </a:lnTo>
                <a:lnTo>
                  <a:pt x="0" y="71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56"/>
          <p:cNvSpPr/>
          <p:nvPr/>
        </p:nvSpPr>
        <p:spPr>
          <a:xfrm>
            <a:off x="6451560" y="3720960"/>
            <a:ext cx="424080" cy="430200"/>
          </a:xfrm>
          <a:custGeom>
            <a:avLst/>
            <a:gdLst/>
            <a:ahLst/>
            <a:rect l="l" t="t" r="r" b="b"/>
            <a:pathLst>
              <a:path w="534" h="543">
                <a:moveTo>
                  <a:pt x="0" y="528"/>
                </a:moveTo>
                <a:lnTo>
                  <a:pt x="31" y="495"/>
                </a:lnTo>
                <a:lnTo>
                  <a:pt x="59" y="466"/>
                </a:lnTo>
                <a:lnTo>
                  <a:pt x="86" y="437"/>
                </a:lnTo>
                <a:lnTo>
                  <a:pt x="113" y="411"/>
                </a:lnTo>
                <a:lnTo>
                  <a:pt x="138" y="384"/>
                </a:lnTo>
                <a:lnTo>
                  <a:pt x="161" y="361"/>
                </a:lnTo>
                <a:lnTo>
                  <a:pt x="182" y="338"/>
                </a:lnTo>
                <a:lnTo>
                  <a:pt x="203" y="317"/>
                </a:lnTo>
                <a:lnTo>
                  <a:pt x="221" y="295"/>
                </a:lnTo>
                <a:lnTo>
                  <a:pt x="238" y="276"/>
                </a:lnTo>
                <a:lnTo>
                  <a:pt x="255" y="259"/>
                </a:lnTo>
                <a:lnTo>
                  <a:pt x="269" y="242"/>
                </a:lnTo>
                <a:lnTo>
                  <a:pt x="280" y="226"/>
                </a:lnTo>
                <a:lnTo>
                  <a:pt x="292" y="213"/>
                </a:lnTo>
                <a:lnTo>
                  <a:pt x="301" y="199"/>
                </a:lnTo>
                <a:lnTo>
                  <a:pt x="309" y="188"/>
                </a:lnTo>
                <a:lnTo>
                  <a:pt x="315" y="176"/>
                </a:lnTo>
                <a:lnTo>
                  <a:pt x="320" y="165"/>
                </a:lnTo>
                <a:lnTo>
                  <a:pt x="326" y="155"/>
                </a:lnTo>
                <a:lnTo>
                  <a:pt x="330" y="146"/>
                </a:lnTo>
                <a:lnTo>
                  <a:pt x="334" y="138"/>
                </a:lnTo>
                <a:lnTo>
                  <a:pt x="338" y="128"/>
                </a:lnTo>
                <a:lnTo>
                  <a:pt x="342" y="121"/>
                </a:lnTo>
                <a:lnTo>
                  <a:pt x="344" y="113"/>
                </a:lnTo>
                <a:lnTo>
                  <a:pt x="345" y="105"/>
                </a:lnTo>
                <a:lnTo>
                  <a:pt x="347" y="100"/>
                </a:lnTo>
                <a:lnTo>
                  <a:pt x="347" y="92"/>
                </a:lnTo>
                <a:lnTo>
                  <a:pt x="347" y="86"/>
                </a:lnTo>
                <a:lnTo>
                  <a:pt x="347" y="80"/>
                </a:lnTo>
                <a:lnTo>
                  <a:pt x="347" y="77"/>
                </a:lnTo>
                <a:lnTo>
                  <a:pt x="345" y="71"/>
                </a:lnTo>
                <a:lnTo>
                  <a:pt x="344" y="67"/>
                </a:lnTo>
                <a:lnTo>
                  <a:pt x="340" y="57"/>
                </a:lnTo>
                <a:lnTo>
                  <a:pt x="338" y="48"/>
                </a:lnTo>
                <a:lnTo>
                  <a:pt x="336" y="40"/>
                </a:lnTo>
                <a:lnTo>
                  <a:pt x="336" y="32"/>
                </a:lnTo>
                <a:lnTo>
                  <a:pt x="338" y="25"/>
                </a:lnTo>
                <a:lnTo>
                  <a:pt x="340" y="21"/>
                </a:lnTo>
                <a:lnTo>
                  <a:pt x="342" y="17"/>
                </a:lnTo>
                <a:lnTo>
                  <a:pt x="345" y="13"/>
                </a:lnTo>
                <a:lnTo>
                  <a:pt x="347" y="11"/>
                </a:lnTo>
                <a:lnTo>
                  <a:pt x="351" y="8"/>
                </a:lnTo>
                <a:lnTo>
                  <a:pt x="357" y="6"/>
                </a:lnTo>
                <a:lnTo>
                  <a:pt x="359" y="4"/>
                </a:lnTo>
                <a:lnTo>
                  <a:pt x="361" y="2"/>
                </a:lnTo>
                <a:lnTo>
                  <a:pt x="365" y="2"/>
                </a:lnTo>
                <a:lnTo>
                  <a:pt x="367" y="0"/>
                </a:lnTo>
                <a:lnTo>
                  <a:pt x="374" y="2"/>
                </a:lnTo>
                <a:lnTo>
                  <a:pt x="382" y="2"/>
                </a:lnTo>
                <a:lnTo>
                  <a:pt x="391" y="6"/>
                </a:lnTo>
                <a:lnTo>
                  <a:pt x="403" y="9"/>
                </a:lnTo>
                <a:lnTo>
                  <a:pt x="415" y="13"/>
                </a:lnTo>
                <a:lnTo>
                  <a:pt x="426" y="19"/>
                </a:lnTo>
                <a:lnTo>
                  <a:pt x="439" y="23"/>
                </a:lnTo>
                <a:lnTo>
                  <a:pt x="451" y="29"/>
                </a:lnTo>
                <a:lnTo>
                  <a:pt x="463" y="36"/>
                </a:lnTo>
                <a:lnTo>
                  <a:pt x="472" y="42"/>
                </a:lnTo>
                <a:lnTo>
                  <a:pt x="482" y="50"/>
                </a:lnTo>
                <a:lnTo>
                  <a:pt x="491" y="56"/>
                </a:lnTo>
                <a:lnTo>
                  <a:pt x="501" y="61"/>
                </a:lnTo>
                <a:lnTo>
                  <a:pt x="511" y="67"/>
                </a:lnTo>
                <a:lnTo>
                  <a:pt x="518" y="84"/>
                </a:lnTo>
                <a:lnTo>
                  <a:pt x="522" y="94"/>
                </a:lnTo>
                <a:lnTo>
                  <a:pt x="526" y="104"/>
                </a:lnTo>
                <a:lnTo>
                  <a:pt x="530" y="111"/>
                </a:lnTo>
                <a:lnTo>
                  <a:pt x="532" y="121"/>
                </a:lnTo>
                <a:lnTo>
                  <a:pt x="534" y="130"/>
                </a:lnTo>
                <a:lnTo>
                  <a:pt x="534" y="140"/>
                </a:lnTo>
                <a:lnTo>
                  <a:pt x="534" y="144"/>
                </a:lnTo>
                <a:lnTo>
                  <a:pt x="532" y="150"/>
                </a:lnTo>
                <a:lnTo>
                  <a:pt x="532" y="153"/>
                </a:lnTo>
                <a:lnTo>
                  <a:pt x="530" y="159"/>
                </a:lnTo>
                <a:lnTo>
                  <a:pt x="526" y="165"/>
                </a:lnTo>
                <a:lnTo>
                  <a:pt x="522" y="171"/>
                </a:lnTo>
                <a:lnTo>
                  <a:pt x="518" y="178"/>
                </a:lnTo>
                <a:lnTo>
                  <a:pt x="514" y="184"/>
                </a:lnTo>
                <a:lnTo>
                  <a:pt x="509" y="192"/>
                </a:lnTo>
                <a:lnTo>
                  <a:pt x="503" y="198"/>
                </a:lnTo>
                <a:lnTo>
                  <a:pt x="495" y="205"/>
                </a:lnTo>
                <a:lnTo>
                  <a:pt x="489" y="213"/>
                </a:lnTo>
                <a:lnTo>
                  <a:pt x="480" y="222"/>
                </a:lnTo>
                <a:lnTo>
                  <a:pt x="470" y="230"/>
                </a:lnTo>
                <a:lnTo>
                  <a:pt x="461" y="240"/>
                </a:lnTo>
                <a:lnTo>
                  <a:pt x="451" y="247"/>
                </a:lnTo>
                <a:lnTo>
                  <a:pt x="439" y="259"/>
                </a:lnTo>
                <a:lnTo>
                  <a:pt x="428" y="270"/>
                </a:lnTo>
                <a:lnTo>
                  <a:pt x="415" y="282"/>
                </a:lnTo>
                <a:lnTo>
                  <a:pt x="401" y="293"/>
                </a:lnTo>
                <a:lnTo>
                  <a:pt x="388" y="305"/>
                </a:lnTo>
                <a:lnTo>
                  <a:pt x="374" y="318"/>
                </a:lnTo>
                <a:lnTo>
                  <a:pt x="359" y="330"/>
                </a:lnTo>
                <a:lnTo>
                  <a:pt x="344" y="341"/>
                </a:lnTo>
                <a:lnTo>
                  <a:pt x="328" y="355"/>
                </a:lnTo>
                <a:lnTo>
                  <a:pt x="311" y="368"/>
                </a:lnTo>
                <a:lnTo>
                  <a:pt x="294" y="380"/>
                </a:lnTo>
                <a:lnTo>
                  <a:pt x="276" y="395"/>
                </a:lnTo>
                <a:lnTo>
                  <a:pt x="259" y="409"/>
                </a:lnTo>
                <a:lnTo>
                  <a:pt x="240" y="424"/>
                </a:lnTo>
                <a:lnTo>
                  <a:pt x="221" y="439"/>
                </a:lnTo>
                <a:lnTo>
                  <a:pt x="201" y="455"/>
                </a:lnTo>
                <a:lnTo>
                  <a:pt x="182" y="470"/>
                </a:lnTo>
                <a:lnTo>
                  <a:pt x="163" y="483"/>
                </a:lnTo>
                <a:lnTo>
                  <a:pt x="146" y="497"/>
                </a:lnTo>
                <a:lnTo>
                  <a:pt x="128" y="507"/>
                </a:lnTo>
                <a:lnTo>
                  <a:pt x="113" y="516"/>
                </a:lnTo>
                <a:lnTo>
                  <a:pt x="98" y="524"/>
                </a:lnTo>
                <a:lnTo>
                  <a:pt x="82" y="531"/>
                </a:lnTo>
                <a:lnTo>
                  <a:pt x="69" y="537"/>
                </a:lnTo>
                <a:lnTo>
                  <a:pt x="57" y="541"/>
                </a:lnTo>
                <a:lnTo>
                  <a:pt x="46" y="543"/>
                </a:lnTo>
                <a:lnTo>
                  <a:pt x="36" y="543"/>
                </a:lnTo>
                <a:lnTo>
                  <a:pt x="27" y="543"/>
                </a:lnTo>
                <a:lnTo>
                  <a:pt x="19" y="541"/>
                </a:lnTo>
                <a:lnTo>
                  <a:pt x="11" y="537"/>
                </a:lnTo>
                <a:lnTo>
                  <a:pt x="6" y="533"/>
                </a:lnTo>
                <a:lnTo>
                  <a:pt x="0" y="5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57"/>
          <p:cNvSpPr/>
          <p:nvPr/>
        </p:nvSpPr>
        <p:spPr>
          <a:xfrm>
            <a:off x="6640560" y="3957480"/>
            <a:ext cx="149040" cy="1135080"/>
          </a:xfrm>
          <a:custGeom>
            <a:avLst/>
            <a:gdLst/>
            <a:ahLst/>
            <a:rect l="l" t="t" r="r" b="b"/>
            <a:pathLst>
              <a:path w="188" h="1430">
                <a:moveTo>
                  <a:pt x="11" y="1067"/>
                </a:moveTo>
                <a:lnTo>
                  <a:pt x="13" y="1052"/>
                </a:lnTo>
                <a:lnTo>
                  <a:pt x="15" y="1037"/>
                </a:lnTo>
                <a:lnTo>
                  <a:pt x="17" y="1021"/>
                </a:lnTo>
                <a:lnTo>
                  <a:pt x="19" y="1006"/>
                </a:lnTo>
                <a:lnTo>
                  <a:pt x="23" y="989"/>
                </a:lnTo>
                <a:lnTo>
                  <a:pt x="25" y="969"/>
                </a:lnTo>
                <a:lnTo>
                  <a:pt x="27" y="950"/>
                </a:lnTo>
                <a:lnTo>
                  <a:pt x="29" y="931"/>
                </a:lnTo>
                <a:lnTo>
                  <a:pt x="31" y="912"/>
                </a:lnTo>
                <a:lnTo>
                  <a:pt x="33" y="891"/>
                </a:lnTo>
                <a:lnTo>
                  <a:pt x="36" y="870"/>
                </a:lnTo>
                <a:lnTo>
                  <a:pt x="38" y="847"/>
                </a:lnTo>
                <a:lnTo>
                  <a:pt x="40" y="824"/>
                </a:lnTo>
                <a:lnTo>
                  <a:pt x="42" y="801"/>
                </a:lnTo>
                <a:lnTo>
                  <a:pt x="44" y="776"/>
                </a:lnTo>
                <a:lnTo>
                  <a:pt x="46" y="751"/>
                </a:lnTo>
                <a:lnTo>
                  <a:pt x="48" y="739"/>
                </a:lnTo>
                <a:lnTo>
                  <a:pt x="48" y="726"/>
                </a:lnTo>
                <a:lnTo>
                  <a:pt x="50" y="710"/>
                </a:lnTo>
                <a:lnTo>
                  <a:pt x="50" y="697"/>
                </a:lnTo>
                <a:lnTo>
                  <a:pt x="52" y="680"/>
                </a:lnTo>
                <a:lnTo>
                  <a:pt x="52" y="664"/>
                </a:lnTo>
                <a:lnTo>
                  <a:pt x="52" y="647"/>
                </a:lnTo>
                <a:lnTo>
                  <a:pt x="54" y="630"/>
                </a:lnTo>
                <a:lnTo>
                  <a:pt x="54" y="613"/>
                </a:lnTo>
                <a:lnTo>
                  <a:pt x="54" y="593"/>
                </a:lnTo>
                <a:lnTo>
                  <a:pt x="56" y="574"/>
                </a:lnTo>
                <a:lnTo>
                  <a:pt x="56" y="553"/>
                </a:lnTo>
                <a:lnTo>
                  <a:pt x="56" y="534"/>
                </a:lnTo>
                <a:lnTo>
                  <a:pt x="56" y="511"/>
                </a:lnTo>
                <a:lnTo>
                  <a:pt x="56" y="490"/>
                </a:lnTo>
                <a:lnTo>
                  <a:pt x="58" y="467"/>
                </a:lnTo>
                <a:lnTo>
                  <a:pt x="58" y="444"/>
                </a:lnTo>
                <a:lnTo>
                  <a:pt x="58" y="419"/>
                </a:lnTo>
                <a:lnTo>
                  <a:pt x="58" y="394"/>
                </a:lnTo>
                <a:lnTo>
                  <a:pt x="58" y="367"/>
                </a:lnTo>
                <a:lnTo>
                  <a:pt x="58" y="340"/>
                </a:lnTo>
                <a:lnTo>
                  <a:pt x="58" y="313"/>
                </a:lnTo>
                <a:lnTo>
                  <a:pt x="58" y="286"/>
                </a:lnTo>
                <a:lnTo>
                  <a:pt x="58" y="257"/>
                </a:lnTo>
                <a:lnTo>
                  <a:pt x="58" y="227"/>
                </a:lnTo>
                <a:lnTo>
                  <a:pt x="58" y="196"/>
                </a:lnTo>
                <a:lnTo>
                  <a:pt x="58" y="165"/>
                </a:lnTo>
                <a:lnTo>
                  <a:pt x="58" y="135"/>
                </a:lnTo>
                <a:lnTo>
                  <a:pt x="59" y="102"/>
                </a:lnTo>
                <a:lnTo>
                  <a:pt x="59" y="67"/>
                </a:lnTo>
                <a:lnTo>
                  <a:pt x="59" y="35"/>
                </a:lnTo>
                <a:lnTo>
                  <a:pt x="59" y="0"/>
                </a:lnTo>
                <a:lnTo>
                  <a:pt x="71" y="6"/>
                </a:lnTo>
                <a:lnTo>
                  <a:pt x="82" y="14"/>
                </a:lnTo>
                <a:lnTo>
                  <a:pt x="94" y="20"/>
                </a:lnTo>
                <a:lnTo>
                  <a:pt x="106" y="27"/>
                </a:lnTo>
                <a:lnTo>
                  <a:pt x="115" y="33"/>
                </a:lnTo>
                <a:lnTo>
                  <a:pt x="125" y="41"/>
                </a:lnTo>
                <a:lnTo>
                  <a:pt x="132" y="46"/>
                </a:lnTo>
                <a:lnTo>
                  <a:pt x="140" y="52"/>
                </a:lnTo>
                <a:lnTo>
                  <a:pt x="146" y="60"/>
                </a:lnTo>
                <a:lnTo>
                  <a:pt x="153" y="66"/>
                </a:lnTo>
                <a:lnTo>
                  <a:pt x="159" y="71"/>
                </a:lnTo>
                <a:lnTo>
                  <a:pt x="163" y="77"/>
                </a:lnTo>
                <a:lnTo>
                  <a:pt x="167" y="83"/>
                </a:lnTo>
                <a:lnTo>
                  <a:pt x="171" y="87"/>
                </a:lnTo>
                <a:lnTo>
                  <a:pt x="175" y="92"/>
                </a:lnTo>
                <a:lnTo>
                  <a:pt x="177" y="96"/>
                </a:lnTo>
                <a:lnTo>
                  <a:pt x="178" y="100"/>
                </a:lnTo>
                <a:lnTo>
                  <a:pt x="178" y="106"/>
                </a:lnTo>
                <a:lnTo>
                  <a:pt x="180" y="110"/>
                </a:lnTo>
                <a:lnTo>
                  <a:pt x="180" y="117"/>
                </a:lnTo>
                <a:lnTo>
                  <a:pt x="182" y="123"/>
                </a:lnTo>
                <a:lnTo>
                  <a:pt x="182" y="131"/>
                </a:lnTo>
                <a:lnTo>
                  <a:pt x="182" y="140"/>
                </a:lnTo>
                <a:lnTo>
                  <a:pt x="184" y="148"/>
                </a:lnTo>
                <a:lnTo>
                  <a:pt x="184" y="160"/>
                </a:lnTo>
                <a:lnTo>
                  <a:pt x="184" y="169"/>
                </a:lnTo>
                <a:lnTo>
                  <a:pt x="186" y="181"/>
                </a:lnTo>
                <a:lnTo>
                  <a:pt x="186" y="194"/>
                </a:lnTo>
                <a:lnTo>
                  <a:pt x="186" y="208"/>
                </a:lnTo>
                <a:lnTo>
                  <a:pt x="186" y="221"/>
                </a:lnTo>
                <a:lnTo>
                  <a:pt x="186" y="236"/>
                </a:lnTo>
                <a:lnTo>
                  <a:pt x="188" y="252"/>
                </a:lnTo>
                <a:lnTo>
                  <a:pt x="188" y="267"/>
                </a:lnTo>
                <a:lnTo>
                  <a:pt x="188" y="284"/>
                </a:lnTo>
                <a:lnTo>
                  <a:pt x="188" y="302"/>
                </a:lnTo>
                <a:lnTo>
                  <a:pt x="188" y="321"/>
                </a:lnTo>
                <a:lnTo>
                  <a:pt x="188" y="340"/>
                </a:lnTo>
                <a:lnTo>
                  <a:pt x="188" y="361"/>
                </a:lnTo>
                <a:lnTo>
                  <a:pt x="188" y="382"/>
                </a:lnTo>
                <a:lnTo>
                  <a:pt x="188" y="403"/>
                </a:lnTo>
                <a:lnTo>
                  <a:pt x="188" y="426"/>
                </a:lnTo>
                <a:lnTo>
                  <a:pt x="188" y="449"/>
                </a:lnTo>
                <a:lnTo>
                  <a:pt x="188" y="474"/>
                </a:lnTo>
                <a:lnTo>
                  <a:pt x="188" y="499"/>
                </a:lnTo>
                <a:lnTo>
                  <a:pt x="188" y="524"/>
                </a:lnTo>
                <a:lnTo>
                  <a:pt x="188" y="551"/>
                </a:lnTo>
                <a:lnTo>
                  <a:pt x="188" y="578"/>
                </a:lnTo>
                <a:lnTo>
                  <a:pt x="188" y="607"/>
                </a:lnTo>
                <a:lnTo>
                  <a:pt x="188" y="634"/>
                </a:lnTo>
                <a:lnTo>
                  <a:pt x="186" y="662"/>
                </a:lnTo>
                <a:lnTo>
                  <a:pt x="186" y="689"/>
                </a:lnTo>
                <a:lnTo>
                  <a:pt x="184" y="716"/>
                </a:lnTo>
                <a:lnTo>
                  <a:pt x="182" y="741"/>
                </a:lnTo>
                <a:lnTo>
                  <a:pt x="182" y="768"/>
                </a:lnTo>
                <a:lnTo>
                  <a:pt x="180" y="793"/>
                </a:lnTo>
                <a:lnTo>
                  <a:pt x="180" y="816"/>
                </a:lnTo>
                <a:lnTo>
                  <a:pt x="178" y="841"/>
                </a:lnTo>
                <a:lnTo>
                  <a:pt x="177" y="864"/>
                </a:lnTo>
                <a:lnTo>
                  <a:pt x="177" y="887"/>
                </a:lnTo>
                <a:lnTo>
                  <a:pt x="175" y="910"/>
                </a:lnTo>
                <a:lnTo>
                  <a:pt x="173" y="933"/>
                </a:lnTo>
                <a:lnTo>
                  <a:pt x="173" y="954"/>
                </a:lnTo>
                <a:lnTo>
                  <a:pt x="171" y="975"/>
                </a:lnTo>
                <a:lnTo>
                  <a:pt x="169" y="994"/>
                </a:lnTo>
                <a:lnTo>
                  <a:pt x="169" y="1016"/>
                </a:lnTo>
                <a:lnTo>
                  <a:pt x="167" y="1035"/>
                </a:lnTo>
                <a:lnTo>
                  <a:pt x="165" y="1054"/>
                </a:lnTo>
                <a:lnTo>
                  <a:pt x="163" y="1071"/>
                </a:lnTo>
                <a:lnTo>
                  <a:pt x="161" y="1088"/>
                </a:lnTo>
                <a:lnTo>
                  <a:pt x="161" y="1106"/>
                </a:lnTo>
                <a:lnTo>
                  <a:pt x="159" y="1123"/>
                </a:lnTo>
                <a:lnTo>
                  <a:pt x="157" y="1138"/>
                </a:lnTo>
                <a:lnTo>
                  <a:pt x="155" y="1156"/>
                </a:lnTo>
                <a:lnTo>
                  <a:pt x="153" y="1169"/>
                </a:lnTo>
                <a:lnTo>
                  <a:pt x="152" y="1184"/>
                </a:lnTo>
                <a:lnTo>
                  <a:pt x="150" y="1198"/>
                </a:lnTo>
                <a:lnTo>
                  <a:pt x="148" y="1211"/>
                </a:lnTo>
                <a:lnTo>
                  <a:pt x="146" y="1225"/>
                </a:lnTo>
                <a:lnTo>
                  <a:pt x="144" y="1236"/>
                </a:lnTo>
                <a:lnTo>
                  <a:pt x="142" y="1248"/>
                </a:lnTo>
                <a:lnTo>
                  <a:pt x="138" y="1271"/>
                </a:lnTo>
                <a:lnTo>
                  <a:pt x="132" y="1292"/>
                </a:lnTo>
                <a:lnTo>
                  <a:pt x="129" y="1311"/>
                </a:lnTo>
                <a:lnTo>
                  <a:pt x="127" y="1328"/>
                </a:lnTo>
                <a:lnTo>
                  <a:pt x="123" y="1344"/>
                </a:lnTo>
                <a:lnTo>
                  <a:pt x="119" y="1359"/>
                </a:lnTo>
                <a:lnTo>
                  <a:pt x="117" y="1372"/>
                </a:lnTo>
                <a:lnTo>
                  <a:pt x="113" y="1384"/>
                </a:lnTo>
                <a:lnTo>
                  <a:pt x="111" y="1396"/>
                </a:lnTo>
                <a:lnTo>
                  <a:pt x="107" y="1405"/>
                </a:lnTo>
                <a:lnTo>
                  <a:pt x="106" y="1413"/>
                </a:lnTo>
                <a:lnTo>
                  <a:pt x="104" y="1419"/>
                </a:lnTo>
                <a:lnTo>
                  <a:pt x="102" y="1424"/>
                </a:lnTo>
                <a:lnTo>
                  <a:pt x="98" y="1428"/>
                </a:lnTo>
                <a:lnTo>
                  <a:pt x="96" y="1430"/>
                </a:lnTo>
                <a:lnTo>
                  <a:pt x="94" y="1430"/>
                </a:lnTo>
                <a:lnTo>
                  <a:pt x="92" y="1430"/>
                </a:lnTo>
                <a:lnTo>
                  <a:pt x="88" y="1428"/>
                </a:lnTo>
                <a:lnTo>
                  <a:pt x="86" y="1426"/>
                </a:lnTo>
                <a:lnTo>
                  <a:pt x="82" y="1424"/>
                </a:lnTo>
                <a:lnTo>
                  <a:pt x="81" y="1420"/>
                </a:lnTo>
                <a:lnTo>
                  <a:pt x="77" y="1415"/>
                </a:lnTo>
                <a:lnTo>
                  <a:pt x="73" y="1411"/>
                </a:lnTo>
                <a:lnTo>
                  <a:pt x="69" y="1405"/>
                </a:lnTo>
                <a:lnTo>
                  <a:pt x="65" y="1397"/>
                </a:lnTo>
                <a:lnTo>
                  <a:pt x="61" y="1390"/>
                </a:lnTo>
                <a:lnTo>
                  <a:pt x="56" y="1382"/>
                </a:lnTo>
                <a:lnTo>
                  <a:pt x="52" y="1374"/>
                </a:lnTo>
                <a:lnTo>
                  <a:pt x="48" y="1365"/>
                </a:lnTo>
                <a:lnTo>
                  <a:pt x="44" y="1355"/>
                </a:lnTo>
                <a:lnTo>
                  <a:pt x="38" y="1344"/>
                </a:lnTo>
                <a:lnTo>
                  <a:pt x="34" y="1334"/>
                </a:lnTo>
                <a:lnTo>
                  <a:pt x="31" y="1321"/>
                </a:lnTo>
                <a:lnTo>
                  <a:pt x="27" y="1307"/>
                </a:lnTo>
                <a:lnTo>
                  <a:pt x="23" y="1296"/>
                </a:lnTo>
                <a:lnTo>
                  <a:pt x="19" y="1284"/>
                </a:lnTo>
                <a:lnTo>
                  <a:pt x="15" y="1273"/>
                </a:lnTo>
                <a:lnTo>
                  <a:pt x="13" y="1261"/>
                </a:lnTo>
                <a:lnTo>
                  <a:pt x="11" y="1252"/>
                </a:lnTo>
                <a:lnTo>
                  <a:pt x="8" y="1244"/>
                </a:lnTo>
                <a:lnTo>
                  <a:pt x="6" y="1236"/>
                </a:lnTo>
                <a:lnTo>
                  <a:pt x="4" y="1229"/>
                </a:lnTo>
                <a:lnTo>
                  <a:pt x="2" y="1221"/>
                </a:lnTo>
                <a:lnTo>
                  <a:pt x="2" y="1215"/>
                </a:lnTo>
                <a:lnTo>
                  <a:pt x="0" y="1209"/>
                </a:lnTo>
                <a:lnTo>
                  <a:pt x="0" y="1206"/>
                </a:lnTo>
                <a:lnTo>
                  <a:pt x="0" y="1202"/>
                </a:lnTo>
                <a:lnTo>
                  <a:pt x="0" y="1200"/>
                </a:lnTo>
                <a:lnTo>
                  <a:pt x="0" y="1198"/>
                </a:lnTo>
                <a:lnTo>
                  <a:pt x="0" y="1194"/>
                </a:lnTo>
                <a:lnTo>
                  <a:pt x="0" y="1190"/>
                </a:lnTo>
                <a:lnTo>
                  <a:pt x="0" y="1184"/>
                </a:lnTo>
                <a:lnTo>
                  <a:pt x="0" y="1179"/>
                </a:lnTo>
                <a:lnTo>
                  <a:pt x="0" y="1171"/>
                </a:lnTo>
                <a:lnTo>
                  <a:pt x="0" y="1163"/>
                </a:lnTo>
                <a:lnTo>
                  <a:pt x="0" y="1156"/>
                </a:lnTo>
                <a:lnTo>
                  <a:pt x="2" y="1148"/>
                </a:lnTo>
                <a:lnTo>
                  <a:pt x="2" y="1138"/>
                </a:lnTo>
                <a:lnTo>
                  <a:pt x="4" y="1127"/>
                </a:lnTo>
                <a:lnTo>
                  <a:pt x="4" y="1117"/>
                </a:lnTo>
                <a:lnTo>
                  <a:pt x="6" y="1106"/>
                </a:lnTo>
                <a:lnTo>
                  <a:pt x="8" y="1092"/>
                </a:lnTo>
                <a:lnTo>
                  <a:pt x="10" y="1079"/>
                </a:lnTo>
                <a:lnTo>
                  <a:pt x="11" y="10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8"/>
          <p:cNvSpPr/>
          <p:nvPr/>
        </p:nvSpPr>
        <p:spPr>
          <a:xfrm>
            <a:off x="7043760" y="3649680"/>
            <a:ext cx="189000" cy="154080"/>
          </a:xfrm>
          <a:custGeom>
            <a:avLst/>
            <a:gdLst/>
            <a:ahLst/>
            <a:rect l="l" t="t" r="r" b="b"/>
            <a:pathLst>
              <a:path w="238" h="194">
                <a:moveTo>
                  <a:pt x="0" y="23"/>
                </a:moveTo>
                <a:lnTo>
                  <a:pt x="5" y="19"/>
                </a:lnTo>
                <a:lnTo>
                  <a:pt x="9" y="13"/>
                </a:lnTo>
                <a:lnTo>
                  <a:pt x="15" y="9"/>
                </a:lnTo>
                <a:lnTo>
                  <a:pt x="21" y="5"/>
                </a:lnTo>
                <a:lnTo>
                  <a:pt x="28" y="4"/>
                </a:lnTo>
                <a:lnTo>
                  <a:pt x="36" y="2"/>
                </a:lnTo>
                <a:lnTo>
                  <a:pt x="48" y="0"/>
                </a:lnTo>
                <a:lnTo>
                  <a:pt x="53" y="0"/>
                </a:lnTo>
                <a:lnTo>
                  <a:pt x="59" y="0"/>
                </a:lnTo>
                <a:lnTo>
                  <a:pt x="73" y="0"/>
                </a:lnTo>
                <a:lnTo>
                  <a:pt x="86" y="2"/>
                </a:lnTo>
                <a:lnTo>
                  <a:pt x="99" y="4"/>
                </a:lnTo>
                <a:lnTo>
                  <a:pt x="115" y="5"/>
                </a:lnTo>
                <a:lnTo>
                  <a:pt x="128" y="9"/>
                </a:lnTo>
                <a:lnTo>
                  <a:pt x="144" y="13"/>
                </a:lnTo>
                <a:lnTo>
                  <a:pt x="161" y="19"/>
                </a:lnTo>
                <a:lnTo>
                  <a:pt x="178" y="23"/>
                </a:lnTo>
                <a:lnTo>
                  <a:pt x="192" y="32"/>
                </a:lnTo>
                <a:lnTo>
                  <a:pt x="203" y="44"/>
                </a:lnTo>
                <a:lnTo>
                  <a:pt x="213" y="55"/>
                </a:lnTo>
                <a:lnTo>
                  <a:pt x="220" y="71"/>
                </a:lnTo>
                <a:lnTo>
                  <a:pt x="228" y="86"/>
                </a:lnTo>
                <a:lnTo>
                  <a:pt x="230" y="94"/>
                </a:lnTo>
                <a:lnTo>
                  <a:pt x="234" y="103"/>
                </a:lnTo>
                <a:lnTo>
                  <a:pt x="234" y="113"/>
                </a:lnTo>
                <a:lnTo>
                  <a:pt x="236" y="122"/>
                </a:lnTo>
                <a:lnTo>
                  <a:pt x="238" y="134"/>
                </a:lnTo>
                <a:lnTo>
                  <a:pt x="238" y="144"/>
                </a:lnTo>
                <a:lnTo>
                  <a:pt x="238" y="155"/>
                </a:lnTo>
                <a:lnTo>
                  <a:pt x="236" y="165"/>
                </a:lnTo>
                <a:lnTo>
                  <a:pt x="234" y="172"/>
                </a:lnTo>
                <a:lnTo>
                  <a:pt x="230" y="178"/>
                </a:lnTo>
                <a:lnTo>
                  <a:pt x="226" y="184"/>
                </a:lnTo>
                <a:lnTo>
                  <a:pt x="222" y="188"/>
                </a:lnTo>
                <a:lnTo>
                  <a:pt x="219" y="192"/>
                </a:lnTo>
                <a:lnTo>
                  <a:pt x="213" y="194"/>
                </a:lnTo>
                <a:lnTo>
                  <a:pt x="205" y="194"/>
                </a:lnTo>
                <a:lnTo>
                  <a:pt x="197" y="194"/>
                </a:lnTo>
                <a:lnTo>
                  <a:pt x="190" y="192"/>
                </a:lnTo>
                <a:lnTo>
                  <a:pt x="182" y="190"/>
                </a:lnTo>
                <a:lnTo>
                  <a:pt x="172" y="186"/>
                </a:lnTo>
                <a:lnTo>
                  <a:pt x="163" y="180"/>
                </a:lnTo>
                <a:lnTo>
                  <a:pt x="153" y="174"/>
                </a:lnTo>
                <a:lnTo>
                  <a:pt x="142" y="169"/>
                </a:lnTo>
                <a:lnTo>
                  <a:pt x="130" y="161"/>
                </a:lnTo>
                <a:lnTo>
                  <a:pt x="117" y="155"/>
                </a:lnTo>
                <a:lnTo>
                  <a:pt x="105" y="149"/>
                </a:lnTo>
                <a:lnTo>
                  <a:pt x="96" y="144"/>
                </a:lnTo>
                <a:lnTo>
                  <a:pt x="86" y="138"/>
                </a:lnTo>
                <a:lnTo>
                  <a:pt x="76" y="132"/>
                </a:lnTo>
                <a:lnTo>
                  <a:pt x="69" y="126"/>
                </a:lnTo>
                <a:lnTo>
                  <a:pt x="61" y="121"/>
                </a:lnTo>
                <a:lnTo>
                  <a:pt x="53" y="115"/>
                </a:lnTo>
                <a:lnTo>
                  <a:pt x="48" y="109"/>
                </a:lnTo>
                <a:lnTo>
                  <a:pt x="42" y="103"/>
                </a:lnTo>
                <a:lnTo>
                  <a:pt x="38" y="98"/>
                </a:lnTo>
                <a:lnTo>
                  <a:pt x="34" y="92"/>
                </a:lnTo>
                <a:lnTo>
                  <a:pt x="30" y="84"/>
                </a:lnTo>
                <a:lnTo>
                  <a:pt x="27" y="78"/>
                </a:lnTo>
                <a:lnTo>
                  <a:pt x="25" y="73"/>
                </a:lnTo>
                <a:lnTo>
                  <a:pt x="19" y="63"/>
                </a:lnTo>
                <a:lnTo>
                  <a:pt x="15" y="55"/>
                </a:lnTo>
                <a:lnTo>
                  <a:pt x="11" y="50"/>
                </a:lnTo>
                <a:lnTo>
                  <a:pt x="7" y="42"/>
                </a:lnTo>
                <a:lnTo>
                  <a:pt x="5" y="38"/>
                </a:lnTo>
                <a:lnTo>
                  <a:pt x="2" y="32"/>
                </a:lnTo>
                <a:lnTo>
                  <a:pt x="2" y="27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59"/>
          <p:cNvSpPr/>
          <p:nvPr/>
        </p:nvSpPr>
        <p:spPr>
          <a:xfrm>
            <a:off x="6856560" y="3754440"/>
            <a:ext cx="706320" cy="204840"/>
          </a:xfrm>
          <a:custGeom>
            <a:avLst/>
            <a:gdLst/>
            <a:ahLst/>
            <a:rect l="l" t="t" r="r" b="b"/>
            <a:pathLst>
              <a:path w="888" h="257">
                <a:moveTo>
                  <a:pt x="0" y="194"/>
                </a:moveTo>
                <a:lnTo>
                  <a:pt x="44" y="182"/>
                </a:lnTo>
                <a:lnTo>
                  <a:pt x="88" y="169"/>
                </a:lnTo>
                <a:lnTo>
                  <a:pt x="130" y="157"/>
                </a:lnTo>
                <a:lnTo>
                  <a:pt x="170" y="146"/>
                </a:lnTo>
                <a:lnTo>
                  <a:pt x="209" y="136"/>
                </a:lnTo>
                <a:lnTo>
                  <a:pt x="247" y="125"/>
                </a:lnTo>
                <a:lnTo>
                  <a:pt x="284" y="115"/>
                </a:lnTo>
                <a:lnTo>
                  <a:pt x="318" y="106"/>
                </a:lnTo>
                <a:lnTo>
                  <a:pt x="353" y="98"/>
                </a:lnTo>
                <a:lnTo>
                  <a:pt x="385" y="88"/>
                </a:lnTo>
                <a:lnTo>
                  <a:pt x="416" y="81"/>
                </a:lnTo>
                <a:lnTo>
                  <a:pt x="447" y="73"/>
                </a:lnTo>
                <a:lnTo>
                  <a:pt x="474" y="65"/>
                </a:lnTo>
                <a:lnTo>
                  <a:pt x="503" y="60"/>
                </a:lnTo>
                <a:lnTo>
                  <a:pt x="527" y="52"/>
                </a:lnTo>
                <a:lnTo>
                  <a:pt x="552" y="46"/>
                </a:lnTo>
                <a:lnTo>
                  <a:pt x="575" y="40"/>
                </a:lnTo>
                <a:lnTo>
                  <a:pt x="597" y="35"/>
                </a:lnTo>
                <a:lnTo>
                  <a:pt x="616" y="31"/>
                </a:lnTo>
                <a:lnTo>
                  <a:pt x="635" y="25"/>
                </a:lnTo>
                <a:lnTo>
                  <a:pt x="652" y="21"/>
                </a:lnTo>
                <a:lnTo>
                  <a:pt x="670" y="17"/>
                </a:lnTo>
                <a:lnTo>
                  <a:pt x="685" y="14"/>
                </a:lnTo>
                <a:lnTo>
                  <a:pt x="698" y="12"/>
                </a:lnTo>
                <a:lnTo>
                  <a:pt x="710" y="8"/>
                </a:lnTo>
                <a:lnTo>
                  <a:pt x="721" y="6"/>
                </a:lnTo>
                <a:lnTo>
                  <a:pt x="731" y="4"/>
                </a:lnTo>
                <a:lnTo>
                  <a:pt x="739" y="2"/>
                </a:lnTo>
                <a:lnTo>
                  <a:pt x="744" y="2"/>
                </a:lnTo>
                <a:lnTo>
                  <a:pt x="750" y="0"/>
                </a:lnTo>
                <a:lnTo>
                  <a:pt x="756" y="0"/>
                </a:lnTo>
                <a:lnTo>
                  <a:pt x="758" y="0"/>
                </a:lnTo>
                <a:lnTo>
                  <a:pt x="775" y="0"/>
                </a:lnTo>
                <a:lnTo>
                  <a:pt x="785" y="0"/>
                </a:lnTo>
                <a:lnTo>
                  <a:pt x="796" y="2"/>
                </a:lnTo>
                <a:lnTo>
                  <a:pt x="806" y="2"/>
                </a:lnTo>
                <a:lnTo>
                  <a:pt x="817" y="6"/>
                </a:lnTo>
                <a:lnTo>
                  <a:pt x="829" y="8"/>
                </a:lnTo>
                <a:lnTo>
                  <a:pt x="842" y="12"/>
                </a:lnTo>
                <a:lnTo>
                  <a:pt x="848" y="14"/>
                </a:lnTo>
                <a:lnTo>
                  <a:pt x="854" y="17"/>
                </a:lnTo>
                <a:lnTo>
                  <a:pt x="860" y="19"/>
                </a:lnTo>
                <a:lnTo>
                  <a:pt x="863" y="21"/>
                </a:lnTo>
                <a:lnTo>
                  <a:pt x="871" y="25"/>
                </a:lnTo>
                <a:lnTo>
                  <a:pt x="879" y="31"/>
                </a:lnTo>
                <a:lnTo>
                  <a:pt x="883" y="35"/>
                </a:lnTo>
                <a:lnTo>
                  <a:pt x="886" y="40"/>
                </a:lnTo>
                <a:lnTo>
                  <a:pt x="888" y="44"/>
                </a:lnTo>
                <a:lnTo>
                  <a:pt x="888" y="48"/>
                </a:lnTo>
                <a:lnTo>
                  <a:pt x="888" y="54"/>
                </a:lnTo>
                <a:lnTo>
                  <a:pt x="886" y="58"/>
                </a:lnTo>
                <a:lnTo>
                  <a:pt x="883" y="62"/>
                </a:lnTo>
                <a:lnTo>
                  <a:pt x="879" y="67"/>
                </a:lnTo>
                <a:lnTo>
                  <a:pt x="871" y="71"/>
                </a:lnTo>
                <a:lnTo>
                  <a:pt x="863" y="75"/>
                </a:lnTo>
                <a:lnTo>
                  <a:pt x="860" y="79"/>
                </a:lnTo>
                <a:lnTo>
                  <a:pt x="854" y="81"/>
                </a:lnTo>
                <a:lnTo>
                  <a:pt x="848" y="83"/>
                </a:lnTo>
                <a:lnTo>
                  <a:pt x="842" y="85"/>
                </a:lnTo>
                <a:lnTo>
                  <a:pt x="838" y="86"/>
                </a:lnTo>
                <a:lnTo>
                  <a:pt x="835" y="88"/>
                </a:lnTo>
                <a:lnTo>
                  <a:pt x="829" y="88"/>
                </a:lnTo>
                <a:lnTo>
                  <a:pt x="825" y="90"/>
                </a:lnTo>
                <a:lnTo>
                  <a:pt x="819" y="92"/>
                </a:lnTo>
                <a:lnTo>
                  <a:pt x="812" y="94"/>
                </a:lnTo>
                <a:lnTo>
                  <a:pt x="806" y="96"/>
                </a:lnTo>
                <a:lnTo>
                  <a:pt x="798" y="98"/>
                </a:lnTo>
                <a:lnTo>
                  <a:pt x="790" y="100"/>
                </a:lnTo>
                <a:lnTo>
                  <a:pt x="783" y="104"/>
                </a:lnTo>
                <a:lnTo>
                  <a:pt x="775" y="106"/>
                </a:lnTo>
                <a:lnTo>
                  <a:pt x="766" y="108"/>
                </a:lnTo>
                <a:lnTo>
                  <a:pt x="756" y="111"/>
                </a:lnTo>
                <a:lnTo>
                  <a:pt x="744" y="113"/>
                </a:lnTo>
                <a:lnTo>
                  <a:pt x="735" y="117"/>
                </a:lnTo>
                <a:lnTo>
                  <a:pt x="723" y="119"/>
                </a:lnTo>
                <a:lnTo>
                  <a:pt x="710" y="123"/>
                </a:lnTo>
                <a:lnTo>
                  <a:pt x="698" y="127"/>
                </a:lnTo>
                <a:lnTo>
                  <a:pt x="685" y="129"/>
                </a:lnTo>
                <a:lnTo>
                  <a:pt x="671" y="133"/>
                </a:lnTo>
                <a:lnTo>
                  <a:pt x="658" y="136"/>
                </a:lnTo>
                <a:lnTo>
                  <a:pt x="643" y="140"/>
                </a:lnTo>
                <a:lnTo>
                  <a:pt x="627" y="144"/>
                </a:lnTo>
                <a:lnTo>
                  <a:pt x="612" y="148"/>
                </a:lnTo>
                <a:lnTo>
                  <a:pt x="595" y="152"/>
                </a:lnTo>
                <a:lnTo>
                  <a:pt x="577" y="156"/>
                </a:lnTo>
                <a:lnTo>
                  <a:pt x="560" y="159"/>
                </a:lnTo>
                <a:lnTo>
                  <a:pt x="541" y="163"/>
                </a:lnTo>
                <a:lnTo>
                  <a:pt x="522" y="169"/>
                </a:lnTo>
                <a:lnTo>
                  <a:pt x="503" y="173"/>
                </a:lnTo>
                <a:lnTo>
                  <a:pt x="483" y="177"/>
                </a:lnTo>
                <a:lnTo>
                  <a:pt x="462" y="182"/>
                </a:lnTo>
                <a:lnTo>
                  <a:pt x="441" y="188"/>
                </a:lnTo>
                <a:lnTo>
                  <a:pt x="420" y="194"/>
                </a:lnTo>
                <a:lnTo>
                  <a:pt x="401" y="198"/>
                </a:lnTo>
                <a:lnTo>
                  <a:pt x="382" y="204"/>
                </a:lnTo>
                <a:lnTo>
                  <a:pt x="362" y="207"/>
                </a:lnTo>
                <a:lnTo>
                  <a:pt x="345" y="213"/>
                </a:lnTo>
                <a:lnTo>
                  <a:pt x="328" y="217"/>
                </a:lnTo>
                <a:lnTo>
                  <a:pt x="311" y="221"/>
                </a:lnTo>
                <a:lnTo>
                  <a:pt x="295" y="225"/>
                </a:lnTo>
                <a:lnTo>
                  <a:pt x="278" y="228"/>
                </a:lnTo>
                <a:lnTo>
                  <a:pt x="263" y="232"/>
                </a:lnTo>
                <a:lnTo>
                  <a:pt x="249" y="234"/>
                </a:lnTo>
                <a:lnTo>
                  <a:pt x="234" y="238"/>
                </a:lnTo>
                <a:lnTo>
                  <a:pt x="220" y="242"/>
                </a:lnTo>
                <a:lnTo>
                  <a:pt x="209" y="244"/>
                </a:lnTo>
                <a:lnTo>
                  <a:pt x="195" y="246"/>
                </a:lnTo>
                <a:lnTo>
                  <a:pt x="184" y="248"/>
                </a:lnTo>
                <a:lnTo>
                  <a:pt x="174" y="250"/>
                </a:lnTo>
                <a:lnTo>
                  <a:pt x="163" y="251"/>
                </a:lnTo>
                <a:lnTo>
                  <a:pt x="153" y="253"/>
                </a:lnTo>
                <a:lnTo>
                  <a:pt x="144" y="255"/>
                </a:lnTo>
                <a:lnTo>
                  <a:pt x="136" y="255"/>
                </a:lnTo>
                <a:lnTo>
                  <a:pt x="126" y="257"/>
                </a:lnTo>
                <a:lnTo>
                  <a:pt x="120" y="257"/>
                </a:lnTo>
                <a:lnTo>
                  <a:pt x="113" y="257"/>
                </a:lnTo>
                <a:lnTo>
                  <a:pt x="107" y="257"/>
                </a:lnTo>
                <a:lnTo>
                  <a:pt x="101" y="257"/>
                </a:lnTo>
                <a:lnTo>
                  <a:pt x="96" y="257"/>
                </a:lnTo>
                <a:lnTo>
                  <a:pt x="92" y="257"/>
                </a:lnTo>
                <a:lnTo>
                  <a:pt x="88" y="257"/>
                </a:lnTo>
                <a:lnTo>
                  <a:pt x="84" y="255"/>
                </a:lnTo>
                <a:lnTo>
                  <a:pt x="82" y="255"/>
                </a:lnTo>
                <a:lnTo>
                  <a:pt x="69" y="250"/>
                </a:lnTo>
                <a:lnTo>
                  <a:pt x="57" y="246"/>
                </a:lnTo>
                <a:lnTo>
                  <a:pt x="46" y="240"/>
                </a:lnTo>
                <a:lnTo>
                  <a:pt x="36" y="234"/>
                </a:lnTo>
                <a:lnTo>
                  <a:pt x="26" y="227"/>
                </a:lnTo>
                <a:lnTo>
                  <a:pt x="17" y="217"/>
                </a:lnTo>
                <a:lnTo>
                  <a:pt x="13" y="213"/>
                </a:lnTo>
                <a:lnTo>
                  <a:pt x="7" y="207"/>
                </a:lnTo>
                <a:lnTo>
                  <a:pt x="3" y="200"/>
                </a:lnTo>
                <a:lnTo>
                  <a:pt x="0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60"/>
          <p:cNvSpPr/>
          <p:nvPr/>
        </p:nvSpPr>
        <p:spPr>
          <a:xfrm>
            <a:off x="6875640" y="4003560"/>
            <a:ext cx="630000" cy="165240"/>
          </a:xfrm>
          <a:custGeom>
            <a:avLst/>
            <a:gdLst/>
            <a:ahLst/>
            <a:rect l="l" t="t" r="r" b="b"/>
            <a:pathLst>
              <a:path w="794" h="207">
                <a:moveTo>
                  <a:pt x="558" y="134"/>
                </a:moveTo>
                <a:lnTo>
                  <a:pt x="529" y="138"/>
                </a:lnTo>
                <a:lnTo>
                  <a:pt x="501" y="142"/>
                </a:lnTo>
                <a:lnTo>
                  <a:pt x="474" y="146"/>
                </a:lnTo>
                <a:lnTo>
                  <a:pt x="449" y="150"/>
                </a:lnTo>
                <a:lnTo>
                  <a:pt x="424" y="153"/>
                </a:lnTo>
                <a:lnTo>
                  <a:pt x="401" y="157"/>
                </a:lnTo>
                <a:lnTo>
                  <a:pt x="378" y="159"/>
                </a:lnTo>
                <a:lnTo>
                  <a:pt x="355" y="163"/>
                </a:lnTo>
                <a:lnTo>
                  <a:pt x="336" y="165"/>
                </a:lnTo>
                <a:lnTo>
                  <a:pt x="316" y="169"/>
                </a:lnTo>
                <a:lnTo>
                  <a:pt x="297" y="171"/>
                </a:lnTo>
                <a:lnTo>
                  <a:pt x="280" y="173"/>
                </a:lnTo>
                <a:lnTo>
                  <a:pt x="264" y="174"/>
                </a:lnTo>
                <a:lnTo>
                  <a:pt x="249" y="178"/>
                </a:lnTo>
                <a:lnTo>
                  <a:pt x="238" y="180"/>
                </a:lnTo>
                <a:lnTo>
                  <a:pt x="226" y="182"/>
                </a:lnTo>
                <a:lnTo>
                  <a:pt x="215" y="184"/>
                </a:lnTo>
                <a:lnTo>
                  <a:pt x="203" y="186"/>
                </a:lnTo>
                <a:lnTo>
                  <a:pt x="193" y="190"/>
                </a:lnTo>
                <a:lnTo>
                  <a:pt x="186" y="192"/>
                </a:lnTo>
                <a:lnTo>
                  <a:pt x="176" y="194"/>
                </a:lnTo>
                <a:lnTo>
                  <a:pt x="169" y="196"/>
                </a:lnTo>
                <a:lnTo>
                  <a:pt x="161" y="197"/>
                </a:lnTo>
                <a:lnTo>
                  <a:pt x="153" y="199"/>
                </a:lnTo>
                <a:lnTo>
                  <a:pt x="147" y="201"/>
                </a:lnTo>
                <a:lnTo>
                  <a:pt x="142" y="201"/>
                </a:lnTo>
                <a:lnTo>
                  <a:pt x="136" y="203"/>
                </a:lnTo>
                <a:lnTo>
                  <a:pt x="132" y="205"/>
                </a:lnTo>
                <a:lnTo>
                  <a:pt x="128" y="205"/>
                </a:lnTo>
                <a:lnTo>
                  <a:pt x="124" y="205"/>
                </a:lnTo>
                <a:lnTo>
                  <a:pt x="121" y="207"/>
                </a:lnTo>
                <a:lnTo>
                  <a:pt x="119" y="207"/>
                </a:lnTo>
                <a:lnTo>
                  <a:pt x="113" y="205"/>
                </a:lnTo>
                <a:lnTo>
                  <a:pt x="107" y="205"/>
                </a:lnTo>
                <a:lnTo>
                  <a:pt x="99" y="201"/>
                </a:lnTo>
                <a:lnTo>
                  <a:pt x="92" y="199"/>
                </a:lnTo>
                <a:lnTo>
                  <a:pt x="82" y="196"/>
                </a:lnTo>
                <a:lnTo>
                  <a:pt x="71" y="192"/>
                </a:lnTo>
                <a:lnTo>
                  <a:pt x="59" y="186"/>
                </a:lnTo>
                <a:lnTo>
                  <a:pt x="48" y="182"/>
                </a:lnTo>
                <a:lnTo>
                  <a:pt x="40" y="180"/>
                </a:lnTo>
                <a:lnTo>
                  <a:pt x="34" y="178"/>
                </a:lnTo>
                <a:lnTo>
                  <a:pt x="30" y="174"/>
                </a:lnTo>
                <a:lnTo>
                  <a:pt x="25" y="173"/>
                </a:lnTo>
                <a:lnTo>
                  <a:pt x="21" y="171"/>
                </a:lnTo>
                <a:lnTo>
                  <a:pt x="17" y="169"/>
                </a:lnTo>
                <a:lnTo>
                  <a:pt x="9" y="163"/>
                </a:lnTo>
                <a:lnTo>
                  <a:pt x="5" y="159"/>
                </a:lnTo>
                <a:lnTo>
                  <a:pt x="1" y="155"/>
                </a:lnTo>
                <a:lnTo>
                  <a:pt x="0" y="150"/>
                </a:lnTo>
                <a:lnTo>
                  <a:pt x="0" y="146"/>
                </a:lnTo>
                <a:lnTo>
                  <a:pt x="38" y="136"/>
                </a:lnTo>
                <a:lnTo>
                  <a:pt x="74" y="128"/>
                </a:lnTo>
                <a:lnTo>
                  <a:pt x="111" y="119"/>
                </a:lnTo>
                <a:lnTo>
                  <a:pt x="147" y="111"/>
                </a:lnTo>
                <a:lnTo>
                  <a:pt x="182" y="103"/>
                </a:lnTo>
                <a:lnTo>
                  <a:pt x="215" y="96"/>
                </a:lnTo>
                <a:lnTo>
                  <a:pt x="247" y="88"/>
                </a:lnTo>
                <a:lnTo>
                  <a:pt x="278" y="80"/>
                </a:lnTo>
                <a:lnTo>
                  <a:pt x="307" y="75"/>
                </a:lnTo>
                <a:lnTo>
                  <a:pt x="336" y="69"/>
                </a:lnTo>
                <a:lnTo>
                  <a:pt x="364" y="61"/>
                </a:lnTo>
                <a:lnTo>
                  <a:pt x="391" y="55"/>
                </a:lnTo>
                <a:lnTo>
                  <a:pt x="418" y="52"/>
                </a:lnTo>
                <a:lnTo>
                  <a:pt x="443" y="46"/>
                </a:lnTo>
                <a:lnTo>
                  <a:pt x="466" y="40"/>
                </a:lnTo>
                <a:lnTo>
                  <a:pt x="489" y="36"/>
                </a:lnTo>
                <a:lnTo>
                  <a:pt x="510" y="32"/>
                </a:lnTo>
                <a:lnTo>
                  <a:pt x="531" y="27"/>
                </a:lnTo>
                <a:lnTo>
                  <a:pt x="551" y="23"/>
                </a:lnTo>
                <a:lnTo>
                  <a:pt x="570" y="21"/>
                </a:lnTo>
                <a:lnTo>
                  <a:pt x="587" y="17"/>
                </a:lnTo>
                <a:lnTo>
                  <a:pt x="604" y="13"/>
                </a:lnTo>
                <a:lnTo>
                  <a:pt x="620" y="11"/>
                </a:lnTo>
                <a:lnTo>
                  <a:pt x="633" y="9"/>
                </a:lnTo>
                <a:lnTo>
                  <a:pt x="647" y="7"/>
                </a:lnTo>
                <a:lnTo>
                  <a:pt x="660" y="6"/>
                </a:lnTo>
                <a:lnTo>
                  <a:pt x="670" y="4"/>
                </a:lnTo>
                <a:lnTo>
                  <a:pt x="681" y="2"/>
                </a:lnTo>
                <a:lnTo>
                  <a:pt x="691" y="2"/>
                </a:lnTo>
                <a:lnTo>
                  <a:pt x="698" y="2"/>
                </a:lnTo>
                <a:lnTo>
                  <a:pt x="706" y="0"/>
                </a:lnTo>
                <a:lnTo>
                  <a:pt x="712" y="0"/>
                </a:lnTo>
                <a:lnTo>
                  <a:pt x="721" y="2"/>
                </a:lnTo>
                <a:lnTo>
                  <a:pt x="731" y="6"/>
                </a:lnTo>
                <a:lnTo>
                  <a:pt x="741" y="7"/>
                </a:lnTo>
                <a:lnTo>
                  <a:pt x="750" y="9"/>
                </a:lnTo>
                <a:lnTo>
                  <a:pt x="756" y="11"/>
                </a:lnTo>
                <a:lnTo>
                  <a:pt x="764" y="15"/>
                </a:lnTo>
                <a:lnTo>
                  <a:pt x="769" y="17"/>
                </a:lnTo>
                <a:lnTo>
                  <a:pt x="775" y="21"/>
                </a:lnTo>
                <a:lnTo>
                  <a:pt x="779" y="23"/>
                </a:lnTo>
                <a:lnTo>
                  <a:pt x="783" y="27"/>
                </a:lnTo>
                <a:lnTo>
                  <a:pt x="787" y="29"/>
                </a:lnTo>
                <a:lnTo>
                  <a:pt x="791" y="32"/>
                </a:lnTo>
                <a:lnTo>
                  <a:pt x="792" y="36"/>
                </a:lnTo>
                <a:lnTo>
                  <a:pt x="792" y="40"/>
                </a:lnTo>
                <a:lnTo>
                  <a:pt x="794" y="44"/>
                </a:lnTo>
                <a:lnTo>
                  <a:pt x="794" y="50"/>
                </a:lnTo>
                <a:lnTo>
                  <a:pt x="794" y="52"/>
                </a:lnTo>
                <a:lnTo>
                  <a:pt x="794" y="54"/>
                </a:lnTo>
                <a:lnTo>
                  <a:pt x="792" y="55"/>
                </a:lnTo>
                <a:lnTo>
                  <a:pt x="791" y="57"/>
                </a:lnTo>
                <a:lnTo>
                  <a:pt x="785" y="63"/>
                </a:lnTo>
                <a:lnTo>
                  <a:pt x="779" y="67"/>
                </a:lnTo>
                <a:lnTo>
                  <a:pt x="769" y="71"/>
                </a:lnTo>
                <a:lnTo>
                  <a:pt x="760" y="77"/>
                </a:lnTo>
                <a:lnTo>
                  <a:pt x="748" y="80"/>
                </a:lnTo>
                <a:lnTo>
                  <a:pt x="733" y="86"/>
                </a:lnTo>
                <a:lnTo>
                  <a:pt x="718" y="92"/>
                </a:lnTo>
                <a:lnTo>
                  <a:pt x="700" y="98"/>
                </a:lnTo>
                <a:lnTo>
                  <a:pt x="681" y="102"/>
                </a:lnTo>
                <a:lnTo>
                  <a:pt x="660" y="107"/>
                </a:lnTo>
                <a:lnTo>
                  <a:pt x="637" y="115"/>
                </a:lnTo>
                <a:lnTo>
                  <a:pt x="612" y="121"/>
                </a:lnTo>
                <a:lnTo>
                  <a:pt x="585" y="126"/>
                </a:lnTo>
                <a:lnTo>
                  <a:pt x="558" y="1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1"/>
          <p:cNvSpPr/>
          <p:nvPr/>
        </p:nvSpPr>
        <p:spPr>
          <a:xfrm>
            <a:off x="6875640" y="4245120"/>
            <a:ext cx="633240" cy="172800"/>
          </a:xfrm>
          <a:custGeom>
            <a:avLst/>
            <a:gdLst/>
            <a:ahLst/>
            <a:rect l="l" t="t" r="r" b="b"/>
            <a:pathLst>
              <a:path w="798" h="219">
                <a:moveTo>
                  <a:pt x="82" y="219"/>
                </a:moveTo>
                <a:lnTo>
                  <a:pt x="78" y="219"/>
                </a:lnTo>
                <a:lnTo>
                  <a:pt x="74" y="217"/>
                </a:lnTo>
                <a:lnTo>
                  <a:pt x="69" y="217"/>
                </a:lnTo>
                <a:lnTo>
                  <a:pt x="65" y="215"/>
                </a:lnTo>
                <a:lnTo>
                  <a:pt x="59" y="211"/>
                </a:lnTo>
                <a:lnTo>
                  <a:pt x="55" y="209"/>
                </a:lnTo>
                <a:lnTo>
                  <a:pt x="46" y="202"/>
                </a:lnTo>
                <a:lnTo>
                  <a:pt x="34" y="194"/>
                </a:lnTo>
                <a:lnTo>
                  <a:pt x="25" y="182"/>
                </a:lnTo>
                <a:lnTo>
                  <a:pt x="13" y="171"/>
                </a:lnTo>
                <a:lnTo>
                  <a:pt x="0" y="157"/>
                </a:lnTo>
                <a:lnTo>
                  <a:pt x="15" y="152"/>
                </a:lnTo>
                <a:lnTo>
                  <a:pt x="34" y="144"/>
                </a:lnTo>
                <a:lnTo>
                  <a:pt x="53" y="138"/>
                </a:lnTo>
                <a:lnTo>
                  <a:pt x="73" y="131"/>
                </a:lnTo>
                <a:lnTo>
                  <a:pt x="94" y="123"/>
                </a:lnTo>
                <a:lnTo>
                  <a:pt x="117" y="117"/>
                </a:lnTo>
                <a:lnTo>
                  <a:pt x="142" y="109"/>
                </a:lnTo>
                <a:lnTo>
                  <a:pt x="167" y="104"/>
                </a:lnTo>
                <a:lnTo>
                  <a:pt x="192" y="96"/>
                </a:lnTo>
                <a:lnTo>
                  <a:pt x="218" y="90"/>
                </a:lnTo>
                <a:lnTo>
                  <a:pt x="247" y="83"/>
                </a:lnTo>
                <a:lnTo>
                  <a:pt x="276" y="77"/>
                </a:lnTo>
                <a:lnTo>
                  <a:pt x="307" y="69"/>
                </a:lnTo>
                <a:lnTo>
                  <a:pt x="337" y="63"/>
                </a:lnTo>
                <a:lnTo>
                  <a:pt x="370" y="56"/>
                </a:lnTo>
                <a:lnTo>
                  <a:pt x="403" y="50"/>
                </a:lnTo>
                <a:lnTo>
                  <a:pt x="420" y="46"/>
                </a:lnTo>
                <a:lnTo>
                  <a:pt x="435" y="42"/>
                </a:lnTo>
                <a:lnTo>
                  <a:pt x="451" y="38"/>
                </a:lnTo>
                <a:lnTo>
                  <a:pt x="466" y="37"/>
                </a:lnTo>
                <a:lnTo>
                  <a:pt x="495" y="31"/>
                </a:lnTo>
                <a:lnTo>
                  <a:pt x="522" y="25"/>
                </a:lnTo>
                <a:lnTo>
                  <a:pt x="547" y="21"/>
                </a:lnTo>
                <a:lnTo>
                  <a:pt x="568" y="17"/>
                </a:lnTo>
                <a:lnTo>
                  <a:pt x="589" y="13"/>
                </a:lnTo>
                <a:lnTo>
                  <a:pt x="608" y="12"/>
                </a:lnTo>
                <a:lnTo>
                  <a:pt x="625" y="8"/>
                </a:lnTo>
                <a:lnTo>
                  <a:pt x="643" y="6"/>
                </a:lnTo>
                <a:lnTo>
                  <a:pt x="656" y="4"/>
                </a:lnTo>
                <a:lnTo>
                  <a:pt x="668" y="2"/>
                </a:lnTo>
                <a:lnTo>
                  <a:pt x="679" y="2"/>
                </a:lnTo>
                <a:lnTo>
                  <a:pt x="687" y="0"/>
                </a:lnTo>
                <a:lnTo>
                  <a:pt x="695" y="0"/>
                </a:lnTo>
                <a:lnTo>
                  <a:pt x="700" y="0"/>
                </a:lnTo>
                <a:lnTo>
                  <a:pt x="704" y="0"/>
                </a:lnTo>
                <a:lnTo>
                  <a:pt x="710" y="2"/>
                </a:lnTo>
                <a:lnTo>
                  <a:pt x="718" y="6"/>
                </a:lnTo>
                <a:lnTo>
                  <a:pt x="727" y="10"/>
                </a:lnTo>
                <a:lnTo>
                  <a:pt x="737" y="13"/>
                </a:lnTo>
                <a:lnTo>
                  <a:pt x="746" y="21"/>
                </a:lnTo>
                <a:lnTo>
                  <a:pt x="758" y="29"/>
                </a:lnTo>
                <a:lnTo>
                  <a:pt x="771" y="37"/>
                </a:lnTo>
                <a:lnTo>
                  <a:pt x="777" y="40"/>
                </a:lnTo>
                <a:lnTo>
                  <a:pt x="783" y="46"/>
                </a:lnTo>
                <a:lnTo>
                  <a:pt x="787" y="50"/>
                </a:lnTo>
                <a:lnTo>
                  <a:pt x="791" y="52"/>
                </a:lnTo>
                <a:lnTo>
                  <a:pt x="794" y="56"/>
                </a:lnTo>
                <a:lnTo>
                  <a:pt x="796" y="60"/>
                </a:lnTo>
                <a:lnTo>
                  <a:pt x="798" y="63"/>
                </a:lnTo>
                <a:lnTo>
                  <a:pt x="798" y="65"/>
                </a:lnTo>
                <a:lnTo>
                  <a:pt x="798" y="69"/>
                </a:lnTo>
                <a:lnTo>
                  <a:pt x="798" y="71"/>
                </a:lnTo>
                <a:lnTo>
                  <a:pt x="798" y="73"/>
                </a:lnTo>
                <a:lnTo>
                  <a:pt x="796" y="77"/>
                </a:lnTo>
                <a:lnTo>
                  <a:pt x="792" y="79"/>
                </a:lnTo>
                <a:lnTo>
                  <a:pt x="791" y="81"/>
                </a:lnTo>
                <a:lnTo>
                  <a:pt x="787" y="83"/>
                </a:lnTo>
                <a:lnTo>
                  <a:pt x="783" y="86"/>
                </a:lnTo>
                <a:lnTo>
                  <a:pt x="779" y="86"/>
                </a:lnTo>
                <a:lnTo>
                  <a:pt x="777" y="88"/>
                </a:lnTo>
                <a:lnTo>
                  <a:pt x="773" y="88"/>
                </a:lnTo>
                <a:lnTo>
                  <a:pt x="769" y="90"/>
                </a:lnTo>
                <a:lnTo>
                  <a:pt x="764" y="92"/>
                </a:lnTo>
                <a:lnTo>
                  <a:pt x="760" y="94"/>
                </a:lnTo>
                <a:lnTo>
                  <a:pt x="754" y="94"/>
                </a:lnTo>
                <a:lnTo>
                  <a:pt x="746" y="96"/>
                </a:lnTo>
                <a:lnTo>
                  <a:pt x="741" y="98"/>
                </a:lnTo>
                <a:lnTo>
                  <a:pt x="733" y="100"/>
                </a:lnTo>
                <a:lnTo>
                  <a:pt x="725" y="102"/>
                </a:lnTo>
                <a:lnTo>
                  <a:pt x="716" y="104"/>
                </a:lnTo>
                <a:lnTo>
                  <a:pt x="708" y="106"/>
                </a:lnTo>
                <a:lnTo>
                  <a:pt x="698" y="108"/>
                </a:lnTo>
                <a:lnTo>
                  <a:pt x="689" y="109"/>
                </a:lnTo>
                <a:lnTo>
                  <a:pt x="677" y="113"/>
                </a:lnTo>
                <a:lnTo>
                  <a:pt x="666" y="115"/>
                </a:lnTo>
                <a:lnTo>
                  <a:pt x="654" y="117"/>
                </a:lnTo>
                <a:lnTo>
                  <a:pt x="643" y="119"/>
                </a:lnTo>
                <a:lnTo>
                  <a:pt x="629" y="123"/>
                </a:lnTo>
                <a:lnTo>
                  <a:pt x="616" y="125"/>
                </a:lnTo>
                <a:lnTo>
                  <a:pt x="602" y="127"/>
                </a:lnTo>
                <a:lnTo>
                  <a:pt x="589" y="131"/>
                </a:lnTo>
                <a:lnTo>
                  <a:pt x="574" y="132"/>
                </a:lnTo>
                <a:lnTo>
                  <a:pt x="558" y="136"/>
                </a:lnTo>
                <a:lnTo>
                  <a:pt x="543" y="138"/>
                </a:lnTo>
                <a:lnTo>
                  <a:pt x="528" y="142"/>
                </a:lnTo>
                <a:lnTo>
                  <a:pt x="510" y="144"/>
                </a:lnTo>
                <a:lnTo>
                  <a:pt x="493" y="148"/>
                </a:lnTo>
                <a:lnTo>
                  <a:pt x="476" y="152"/>
                </a:lnTo>
                <a:lnTo>
                  <a:pt x="456" y="154"/>
                </a:lnTo>
                <a:lnTo>
                  <a:pt x="439" y="157"/>
                </a:lnTo>
                <a:lnTo>
                  <a:pt x="418" y="161"/>
                </a:lnTo>
                <a:lnTo>
                  <a:pt x="399" y="165"/>
                </a:lnTo>
                <a:lnTo>
                  <a:pt x="382" y="167"/>
                </a:lnTo>
                <a:lnTo>
                  <a:pt x="362" y="171"/>
                </a:lnTo>
                <a:lnTo>
                  <a:pt x="345" y="175"/>
                </a:lnTo>
                <a:lnTo>
                  <a:pt x="328" y="177"/>
                </a:lnTo>
                <a:lnTo>
                  <a:pt x="312" y="180"/>
                </a:lnTo>
                <a:lnTo>
                  <a:pt x="297" y="182"/>
                </a:lnTo>
                <a:lnTo>
                  <a:pt x="282" y="186"/>
                </a:lnTo>
                <a:lnTo>
                  <a:pt x="266" y="188"/>
                </a:lnTo>
                <a:lnTo>
                  <a:pt x="253" y="190"/>
                </a:lnTo>
                <a:lnTo>
                  <a:pt x="238" y="194"/>
                </a:lnTo>
                <a:lnTo>
                  <a:pt x="226" y="196"/>
                </a:lnTo>
                <a:lnTo>
                  <a:pt x="213" y="198"/>
                </a:lnTo>
                <a:lnTo>
                  <a:pt x="201" y="200"/>
                </a:lnTo>
                <a:lnTo>
                  <a:pt x="190" y="202"/>
                </a:lnTo>
                <a:lnTo>
                  <a:pt x="178" y="203"/>
                </a:lnTo>
                <a:lnTo>
                  <a:pt x="169" y="205"/>
                </a:lnTo>
                <a:lnTo>
                  <a:pt x="159" y="207"/>
                </a:lnTo>
                <a:lnTo>
                  <a:pt x="149" y="209"/>
                </a:lnTo>
                <a:lnTo>
                  <a:pt x="142" y="211"/>
                </a:lnTo>
                <a:lnTo>
                  <a:pt x="132" y="211"/>
                </a:lnTo>
                <a:lnTo>
                  <a:pt x="124" y="213"/>
                </a:lnTo>
                <a:lnTo>
                  <a:pt x="119" y="215"/>
                </a:lnTo>
                <a:lnTo>
                  <a:pt x="111" y="215"/>
                </a:lnTo>
                <a:lnTo>
                  <a:pt x="105" y="217"/>
                </a:lnTo>
                <a:lnTo>
                  <a:pt x="101" y="217"/>
                </a:lnTo>
                <a:lnTo>
                  <a:pt x="96" y="217"/>
                </a:lnTo>
                <a:lnTo>
                  <a:pt x="92" y="217"/>
                </a:lnTo>
                <a:lnTo>
                  <a:pt x="88" y="219"/>
                </a:lnTo>
                <a:lnTo>
                  <a:pt x="86" y="219"/>
                </a:lnTo>
                <a:lnTo>
                  <a:pt x="82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2"/>
          <p:cNvSpPr/>
          <p:nvPr/>
        </p:nvSpPr>
        <p:spPr>
          <a:xfrm>
            <a:off x="6753240" y="4495680"/>
            <a:ext cx="1054080" cy="182520"/>
          </a:xfrm>
          <a:custGeom>
            <a:avLst/>
            <a:gdLst/>
            <a:ahLst/>
            <a:rect l="l" t="t" r="r" b="b"/>
            <a:pathLst>
              <a:path w="1328" h="228">
                <a:moveTo>
                  <a:pt x="735" y="48"/>
                </a:moveTo>
                <a:lnTo>
                  <a:pt x="762" y="40"/>
                </a:lnTo>
                <a:lnTo>
                  <a:pt x="787" y="34"/>
                </a:lnTo>
                <a:lnTo>
                  <a:pt x="812" y="28"/>
                </a:lnTo>
                <a:lnTo>
                  <a:pt x="837" y="23"/>
                </a:lnTo>
                <a:lnTo>
                  <a:pt x="860" y="19"/>
                </a:lnTo>
                <a:lnTo>
                  <a:pt x="885" y="15"/>
                </a:lnTo>
                <a:lnTo>
                  <a:pt x="906" y="11"/>
                </a:lnTo>
                <a:lnTo>
                  <a:pt x="929" y="9"/>
                </a:lnTo>
                <a:lnTo>
                  <a:pt x="950" y="5"/>
                </a:lnTo>
                <a:lnTo>
                  <a:pt x="971" y="4"/>
                </a:lnTo>
                <a:lnTo>
                  <a:pt x="991" y="2"/>
                </a:lnTo>
                <a:lnTo>
                  <a:pt x="1010" y="2"/>
                </a:lnTo>
                <a:lnTo>
                  <a:pt x="1029" y="0"/>
                </a:lnTo>
                <a:lnTo>
                  <a:pt x="1046" y="0"/>
                </a:lnTo>
                <a:lnTo>
                  <a:pt x="1064" y="0"/>
                </a:lnTo>
                <a:lnTo>
                  <a:pt x="1079" y="0"/>
                </a:lnTo>
                <a:lnTo>
                  <a:pt x="1094" y="0"/>
                </a:lnTo>
                <a:lnTo>
                  <a:pt x="1110" y="0"/>
                </a:lnTo>
                <a:lnTo>
                  <a:pt x="1123" y="0"/>
                </a:lnTo>
                <a:lnTo>
                  <a:pt x="1136" y="2"/>
                </a:lnTo>
                <a:lnTo>
                  <a:pt x="1150" y="2"/>
                </a:lnTo>
                <a:lnTo>
                  <a:pt x="1163" y="4"/>
                </a:lnTo>
                <a:lnTo>
                  <a:pt x="1186" y="9"/>
                </a:lnTo>
                <a:lnTo>
                  <a:pt x="1209" y="15"/>
                </a:lnTo>
                <a:lnTo>
                  <a:pt x="1221" y="19"/>
                </a:lnTo>
                <a:lnTo>
                  <a:pt x="1231" y="25"/>
                </a:lnTo>
                <a:lnTo>
                  <a:pt x="1240" y="28"/>
                </a:lnTo>
                <a:lnTo>
                  <a:pt x="1250" y="34"/>
                </a:lnTo>
                <a:lnTo>
                  <a:pt x="1259" y="40"/>
                </a:lnTo>
                <a:lnTo>
                  <a:pt x="1269" y="48"/>
                </a:lnTo>
                <a:lnTo>
                  <a:pt x="1275" y="53"/>
                </a:lnTo>
                <a:lnTo>
                  <a:pt x="1280" y="59"/>
                </a:lnTo>
                <a:lnTo>
                  <a:pt x="1286" y="65"/>
                </a:lnTo>
                <a:lnTo>
                  <a:pt x="1292" y="71"/>
                </a:lnTo>
                <a:lnTo>
                  <a:pt x="1304" y="78"/>
                </a:lnTo>
                <a:lnTo>
                  <a:pt x="1311" y="86"/>
                </a:lnTo>
                <a:lnTo>
                  <a:pt x="1319" y="94"/>
                </a:lnTo>
                <a:lnTo>
                  <a:pt x="1321" y="96"/>
                </a:lnTo>
                <a:lnTo>
                  <a:pt x="1323" y="98"/>
                </a:lnTo>
                <a:lnTo>
                  <a:pt x="1325" y="101"/>
                </a:lnTo>
                <a:lnTo>
                  <a:pt x="1327" y="103"/>
                </a:lnTo>
                <a:lnTo>
                  <a:pt x="1328" y="105"/>
                </a:lnTo>
                <a:lnTo>
                  <a:pt x="1328" y="107"/>
                </a:lnTo>
                <a:lnTo>
                  <a:pt x="1328" y="117"/>
                </a:lnTo>
                <a:lnTo>
                  <a:pt x="1327" y="121"/>
                </a:lnTo>
                <a:lnTo>
                  <a:pt x="1327" y="126"/>
                </a:lnTo>
                <a:lnTo>
                  <a:pt x="1325" y="130"/>
                </a:lnTo>
                <a:lnTo>
                  <a:pt x="1323" y="134"/>
                </a:lnTo>
                <a:lnTo>
                  <a:pt x="1321" y="140"/>
                </a:lnTo>
                <a:lnTo>
                  <a:pt x="1317" y="144"/>
                </a:lnTo>
                <a:lnTo>
                  <a:pt x="1315" y="146"/>
                </a:lnTo>
                <a:lnTo>
                  <a:pt x="1313" y="146"/>
                </a:lnTo>
                <a:lnTo>
                  <a:pt x="1311" y="147"/>
                </a:lnTo>
                <a:lnTo>
                  <a:pt x="1307" y="147"/>
                </a:lnTo>
                <a:lnTo>
                  <a:pt x="1305" y="149"/>
                </a:lnTo>
                <a:lnTo>
                  <a:pt x="1302" y="149"/>
                </a:lnTo>
                <a:lnTo>
                  <a:pt x="1292" y="151"/>
                </a:lnTo>
                <a:lnTo>
                  <a:pt x="1280" y="151"/>
                </a:lnTo>
                <a:lnTo>
                  <a:pt x="1269" y="153"/>
                </a:lnTo>
                <a:lnTo>
                  <a:pt x="1254" y="153"/>
                </a:lnTo>
                <a:lnTo>
                  <a:pt x="1238" y="155"/>
                </a:lnTo>
                <a:lnTo>
                  <a:pt x="1219" y="155"/>
                </a:lnTo>
                <a:lnTo>
                  <a:pt x="1200" y="155"/>
                </a:lnTo>
                <a:lnTo>
                  <a:pt x="1177" y="155"/>
                </a:lnTo>
                <a:lnTo>
                  <a:pt x="1154" y="155"/>
                </a:lnTo>
                <a:lnTo>
                  <a:pt x="1129" y="155"/>
                </a:lnTo>
                <a:lnTo>
                  <a:pt x="1102" y="157"/>
                </a:lnTo>
                <a:lnTo>
                  <a:pt x="1073" y="157"/>
                </a:lnTo>
                <a:lnTo>
                  <a:pt x="1042" y="157"/>
                </a:lnTo>
                <a:lnTo>
                  <a:pt x="981" y="157"/>
                </a:lnTo>
                <a:lnTo>
                  <a:pt x="916" y="159"/>
                </a:lnTo>
                <a:lnTo>
                  <a:pt x="852" y="161"/>
                </a:lnTo>
                <a:lnTo>
                  <a:pt x="785" y="165"/>
                </a:lnTo>
                <a:lnTo>
                  <a:pt x="718" y="170"/>
                </a:lnTo>
                <a:lnTo>
                  <a:pt x="649" y="176"/>
                </a:lnTo>
                <a:lnTo>
                  <a:pt x="580" y="184"/>
                </a:lnTo>
                <a:lnTo>
                  <a:pt x="509" y="194"/>
                </a:lnTo>
                <a:lnTo>
                  <a:pt x="474" y="197"/>
                </a:lnTo>
                <a:lnTo>
                  <a:pt x="440" y="201"/>
                </a:lnTo>
                <a:lnTo>
                  <a:pt x="405" y="205"/>
                </a:lnTo>
                <a:lnTo>
                  <a:pt x="370" y="209"/>
                </a:lnTo>
                <a:lnTo>
                  <a:pt x="338" y="213"/>
                </a:lnTo>
                <a:lnTo>
                  <a:pt x="305" y="215"/>
                </a:lnTo>
                <a:lnTo>
                  <a:pt x="242" y="220"/>
                </a:lnTo>
                <a:lnTo>
                  <a:pt x="179" y="224"/>
                </a:lnTo>
                <a:lnTo>
                  <a:pt x="117" y="226"/>
                </a:lnTo>
                <a:lnTo>
                  <a:pt x="58" y="228"/>
                </a:lnTo>
                <a:lnTo>
                  <a:pt x="0" y="228"/>
                </a:lnTo>
                <a:lnTo>
                  <a:pt x="0" y="192"/>
                </a:lnTo>
                <a:lnTo>
                  <a:pt x="0" y="157"/>
                </a:lnTo>
                <a:lnTo>
                  <a:pt x="33" y="153"/>
                </a:lnTo>
                <a:lnTo>
                  <a:pt x="65" y="149"/>
                </a:lnTo>
                <a:lnTo>
                  <a:pt x="96" y="146"/>
                </a:lnTo>
                <a:lnTo>
                  <a:pt x="129" y="142"/>
                </a:lnTo>
                <a:lnTo>
                  <a:pt x="159" y="140"/>
                </a:lnTo>
                <a:lnTo>
                  <a:pt x="188" y="136"/>
                </a:lnTo>
                <a:lnTo>
                  <a:pt x="217" y="132"/>
                </a:lnTo>
                <a:lnTo>
                  <a:pt x="246" y="128"/>
                </a:lnTo>
                <a:lnTo>
                  <a:pt x="275" y="124"/>
                </a:lnTo>
                <a:lnTo>
                  <a:pt x="301" y="123"/>
                </a:lnTo>
                <a:lnTo>
                  <a:pt x="328" y="119"/>
                </a:lnTo>
                <a:lnTo>
                  <a:pt x="353" y="115"/>
                </a:lnTo>
                <a:lnTo>
                  <a:pt x="380" y="111"/>
                </a:lnTo>
                <a:lnTo>
                  <a:pt x="405" y="109"/>
                </a:lnTo>
                <a:lnTo>
                  <a:pt x="428" y="105"/>
                </a:lnTo>
                <a:lnTo>
                  <a:pt x="451" y="101"/>
                </a:lnTo>
                <a:lnTo>
                  <a:pt x="474" y="98"/>
                </a:lnTo>
                <a:lnTo>
                  <a:pt x="497" y="96"/>
                </a:lnTo>
                <a:lnTo>
                  <a:pt x="518" y="92"/>
                </a:lnTo>
                <a:lnTo>
                  <a:pt x="539" y="88"/>
                </a:lnTo>
                <a:lnTo>
                  <a:pt x="559" y="84"/>
                </a:lnTo>
                <a:lnTo>
                  <a:pt x="578" y="82"/>
                </a:lnTo>
                <a:lnTo>
                  <a:pt x="597" y="78"/>
                </a:lnTo>
                <a:lnTo>
                  <a:pt x="614" y="75"/>
                </a:lnTo>
                <a:lnTo>
                  <a:pt x="632" y="71"/>
                </a:lnTo>
                <a:lnTo>
                  <a:pt x="649" y="67"/>
                </a:lnTo>
                <a:lnTo>
                  <a:pt x="664" y="65"/>
                </a:lnTo>
                <a:lnTo>
                  <a:pt x="680" y="61"/>
                </a:lnTo>
                <a:lnTo>
                  <a:pt x="695" y="57"/>
                </a:lnTo>
                <a:lnTo>
                  <a:pt x="708" y="53"/>
                </a:lnTo>
                <a:lnTo>
                  <a:pt x="722" y="50"/>
                </a:lnTo>
                <a:lnTo>
                  <a:pt x="735" y="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63"/>
          <p:cNvSpPr/>
          <p:nvPr/>
        </p:nvSpPr>
        <p:spPr>
          <a:xfrm>
            <a:off x="6018120" y="3417840"/>
            <a:ext cx="122400" cy="895320"/>
          </a:xfrm>
          <a:custGeom>
            <a:avLst/>
            <a:gdLst/>
            <a:ahLst/>
            <a:rect l="l" t="t" r="r" b="b"/>
            <a:pathLst>
              <a:path w="153" h="1128">
                <a:moveTo>
                  <a:pt x="0" y="1128"/>
                </a:moveTo>
                <a:lnTo>
                  <a:pt x="0" y="1117"/>
                </a:lnTo>
                <a:lnTo>
                  <a:pt x="0" y="1105"/>
                </a:lnTo>
                <a:lnTo>
                  <a:pt x="0" y="1092"/>
                </a:lnTo>
                <a:lnTo>
                  <a:pt x="0" y="1077"/>
                </a:lnTo>
                <a:lnTo>
                  <a:pt x="0" y="1061"/>
                </a:lnTo>
                <a:lnTo>
                  <a:pt x="0" y="1042"/>
                </a:lnTo>
                <a:lnTo>
                  <a:pt x="0" y="1023"/>
                </a:lnTo>
                <a:lnTo>
                  <a:pt x="2" y="1002"/>
                </a:lnTo>
                <a:lnTo>
                  <a:pt x="2" y="979"/>
                </a:lnTo>
                <a:lnTo>
                  <a:pt x="2" y="954"/>
                </a:lnTo>
                <a:lnTo>
                  <a:pt x="3" y="929"/>
                </a:lnTo>
                <a:lnTo>
                  <a:pt x="3" y="900"/>
                </a:lnTo>
                <a:lnTo>
                  <a:pt x="5" y="871"/>
                </a:lnTo>
                <a:lnTo>
                  <a:pt x="7" y="841"/>
                </a:lnTo>
                <a:lnTo>
                  <a:pt x="9" y="810"/>
                </a:lnTo>
                <a:lnTo>
                  <a:pt x="11" y="775"/>
                </a:lnTo>
                <a:lnTo>
                  <a:pt x="13" y="741"/>
                </a:lnTo>
                <a:lnTo>
                  <a:pt x="15" y="704"/>
                </a:lnTo>
                <a:lnTo>
                  <a:pt x="17" y="666"/>
                </a:lnTo>
                <a:lnTo>
                  <a:pt x="17" y="626"/>
                </a:lnTo>
                <a:lnTo>
                  <a:pt x="19" y="583"/>
                </a:lnTo>
                <a:lnTo>
                  <a:pt x="19" y="539"/>
                </a:lnTo>
                <a:lnTo>
                  <a:pt x="19" y="493"/>
                </a:lnTo>
                <a:lnTo>
                  <a:pt x="21" y="447"/>
                </a:lnTo>
                <a:lnTo>
                  <a:pt x="19" y="397"/>
                </a:lnTo>
                <a:lnTo>
                  <a:pt x="19" y="347"/>
                </a:lnTo>
                <a:lnTo>
                  <a:pt x="19" y="294"/>
                </a:lnTo>
                <a:lnTo>
                  <a:pt x="17" y="238"/>
                </a:lnTo>
                <a:lnTo>
                  <a:pt x="17" y="211"/>
                </a:lnTo>
                <a:lnTo>
                  <a:pt x="17" y="182"/>
                </a:lnTo>
                <a:lnTo>
                  <a:pt x="15" y="153"/>
                </a:lnTo>
                <a:lnTo>
                  <a:pt x="15" y="123"/>
                </a:lnTo>
                <a:lnTo>
                  <a:pt x="15" y="94"/>
                </a:lnTo>
                <a:lnTo>
                  <a:pt x="13" y="63"/>
                </a:lnTo>
                <a:lnTo>
                  <a:pt x="13" y="31"/>
                </a:lnTo>
                <a:lnTo>
                  <a:pt x="11" y="0"/>
                </a:lnTo>
                <a:lnTo>
                  <a:pt x="82" y="0"/>
                </a:lnTo>
                <a:lnTo>
                  <a:pt x="153" y="0"/>
                </a:lnTo>
                <a:lnTo>
                  <a:pt x="153" y="21"/>
                </a:lnTo>
                <a:lnTo>
                  <a:pt x="153" y="44"/>
                </a:lnTo>
                <a:lnTo>
                  <a:pt x="153" y="69"/>
                </a:lnTo>
                <a:lnTo>
                  <a:pt x="153" y="92"/>
                </a:lnTo>
                <a:lnTo>
                  <a:pt x="153" y="117"/>
                </a:lnTo>
                <a:lnTo>
                  <a:pt x="153" y="144"/>
                </a:lnTo>
                <a:lnTo>
                  <a:pt x="151" y="171"/>
                </a:lnTo>
                <a:lnTo>
                  <a:pt x="151" y="198"/>
                </a:lnTo>
                <a:lnTo>
                  <a:pt x="151" y="226"/>
                </a:lnTo>
                <a:lnTo>
                  <a:pt x="151" y="255"/>
                </a:lnTo>
                <a:lnTo>
                  <a:pt x="149" y="284"/>
                </a:lnTo>
                <a:lnTo>
                  <a:pt x="149" y="315"/>
                </a:lnTo>
                <a:lnTo>
                  <a:pt x="149" y="347"/>
                </a:lnTo>
                <a:lnTo>
                  <a:pt x="147" y="378"/>
                </a:lnTo>
                <a:lnTo>
                  <a:pt x="147" y="411"/>
                </a:lnTo>
                <a:lnTo>
                  <a:pt x="146" y="445"/>
                </a:lnTo>
                <a:lnTo>
                  <a:pt x="146" y="480"/>
                </a:lnTo>
                <a:lnTo>
                  <a:pt x="144" y="514"/>
                </a:lnTo>
                <a:lnTo>
                  <a:pt x="144" y="551"/>
                </a:lnTo>
                <a:lnTo>
                  <a:pt x="142" y="587"/>
                </a:lnTo>
                <a:lnTo>
                  <a:pt x="142" y="626"/>
                </a:lnTo>
                <a:lnTo>
                  <a:pt x="140" y="664"/>
                </a:lnTo>
                <a:lnTo>
                  <a:pt x="140" y="702"/>
                </a:lnTo>
                <a:lnTo>
                  <a:pt x="138" y="743"/>
                </a:lnTo>
                <a:lnTo>
                  <a:pt x="138" y="783"/>
                </a:lnTo>
                <a:lnTo>
                  <a:pt x="136" y="825"/>
                </a:lnTo>
                <a:lnTo>
                  <a:pt x="136" y="867"/>
                </a:lnTo>
                <a:lnTo>
                  <a:pt x="134" y="912"/>
                </a:lnTo>
                <a:lnTo>
                  <a:pt x="132" y="954"/>
                </a:lnTo>
                <a:lnTo>
                  <a:pt x="132" y="1000"/>
                </a:lnTo>
                <a:lnTo>
                  <a:pt x="130" y="1044"/>
                </a:lnTo>
                <a:lnTo>
                  <a:pt x="130" y="1092"/>
                </a:lnTo>
                <a:lnTo>
                  <a:pt x="65" y="1109"/>
                </a:lnTo>
                <a:lnTo>
                  <a:pt x="0" y="11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64"/>
          <p:cNvSpPr/>
          <p:nvPr/>
        </p:nvSpPr>
        <p:spPr>
          <a:xfrm>
            <a:off x="7129440" y="3860640"/>
            <a:ext cx="103320" cy="741600"/>
          </a:xfrm>
          <a:custGeom>
            <a:avLst/>
            <a:gdLst/>
            <a:ahLst/>
            <a:rect l="l" t="t" r="r" b="b"/>
            <a:pathLst>
              <a:path w="131" h="933">
                <a:moveTo>
                  <a:pt x="0" y="933"/>
                </a:moveTo>
                <a:lnTo>
                  <a:pt x="0" y="467"/>
                </a:lnTo>
                <a:lnTo>
                  <a:pt x="0" y="0"/>
                </a:lnTo>
                <a:lnTo>
                  <a:pt x="65" y="0"/>
                </a:lnTo>
                <a:lnTo>
                  <a:pt x="131" y="0"/>
                </a:lnTo>
                <a:lnTo>
                  <a:pt x="131" y="12"/>
                </a:lnTo>
                <a:lnTo>
                  <a:pt x="131" y="27"/>
                </a:lnTo>
                <a:lnTo>
                  <a:pt x="131" y="41"/>
                </a:lnTo>
                <a:lnTo>
                  <a:pt x="131" y="58"/>
                </a:lnTo>
                <a:lnTo>
                  <a:pt x="131" y="75"/>
                </a:lnTo>
                <a:lnTo>
                  <a:pt x="131" y="93"/>
                </a:lnTo>
                <a:lnTo>
                  <a:pt x="131" y="112"/>
                </a:lnTo>
                <a:lnTo>
                  <a:pt x="131" y="131"/>
                </a:lnTo>
                <a:lnTo>
                  <a:pt x="131" y="152"/>
                </a:lnTo>
                <a:lnTo>
                  <a:pt x="131" y="175"/>
                </a:lnTo>
                <a:lnTo>
                  <a:pt x="131" y="198"/>
                </a:lnTo>
                <a:lnTo>
                  <a:pt x="129" y="223"/>
                </a:lnTo>
                <a:lnTo>
                  <a:pt x="129" y="248"/>
                </a:lnTo>
                <a:lnTo>
                  <a:pt x="129" y="275"/>
                </a:lnTo>
                <a:lnTo>
                  <a:pt x="129" y="302"/>
                </a:lnTo>
                <a:lnTo>
                  <a:pt x="129" y="331"/>
                </a:lnTo>
                <a:lnTo>
                  <a:pt x="129" y="359"/>
                </a:lnTo>
                <a:lnTo>
                  <a:pt x="129" y="390"/>
                </a:lnTo>
                <a:lnTo>
                  <a:pt x="129" y="423"/>
                </a:lnTo>
                <a:lnTo>
                  <a:pt x="127" y="455"/>
                </a:lnTo>
                <a:lnTo>
                  <a:pt x="127" y="488"/>
                </a:lnTo>
                <a:lnTo>
                  <a:pt x="127" y="522"/>
                </a:lnTo>
                <a:lnTo>
                  <a:pt x="127" y="559"/>
                </a:lnTo>
                <a:lnTo>
                  <a:pt x="125" y="597"/>
                </a:lnTo>
                <a:lnTo>
                  <a:pt x="125" y="634"/>
                </a:lnTo>
                <a:lnTo>
                  <a:pt x="125" y="674"/>
                </a:lnTo>
                <a:lnTo>
                  <a:pt x="123" y="714"/>
                </a:lnTo>
                <a:lnTo>
                  <a:pt x="123" y="757"/>
                </a:lnTo>
                <a:lnTo>
                  <a:pt x="121" y="799"/>
                </a:lnTo>
                <a:lnTo>
                  <a:pt x="121" y="843"/>
                </a:lnTo>
                <a:lnTo>
                  <a:pt x="119" y="887"/>
                </a:lnTo>
                <a:lnTo>
                  <a:pt x="119" y="933"/>
                </a:lnTo>
                <a:lnTo>
                  <a:pt x="60" y="933"/>
                </a:lnTo>
                <a:lnTo>
                  <a:pt x="0" y="9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组合 8"/>
          <p:cNvGrpSpPr/>
          <p:nvPr/>
        </p:nvGrpSpPr>
        <p:grpSpPr>
          <a:xfrm>
            <a:off x="1368360" y="3975120"/>
            <a:ext cx="2494080" cy="1571760"/>
            <a:chOff x="1368360" y="3975120"/>
            <a:chExt cx="2494080" cy="1571760"/>
          </a:xfrm>
        </p:grpSpPr>
        <p:pic>
          <p:nvPicPr>
            <p:cNvPr id="147" name="图示 4" descr=""/>
            <p:cNvPicPr/>
            <p:nvPr/>
          </p:nvPicPr>
          <p:blipFill>
            <a:blip r:embed="rId1"/>
            <a:stretch/>
          </p:blipFill>
          <p:spPr>
            <a:xfrm>
              <a:off x="1368360" y="3975120"/>
              <a:ext cx="2494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"/>
            <p:cNvSpPr/>
            <p:nvPr/>
          </p:nvSpPr>
          <p:spPr>
            <a:xfrm>
              <a:off x="1413000" y="4587840"/>
              <a:ext cx="24224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竖提的竖在竖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3"/>
          <p:cNvSpPr/>
          <p:nvPr/>
        </p:nvSpPr>
        <p:spPr>
          <a:xfrm>
            <a:off x="1982880" y="1868400"/>
            <a:ext cx="172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5979960" y="2860560"/>
            <a:ext cx="195480" cy="2067120"/>
          </a:xfrm>
          <a:custGeom>
            <a:avLst/>
            <a:gdLst/>
            <a:ahLst/>
            <a:rect l="l" t="t" r="r" b="b"/>
            <a:pathLst>
              <a:path w="246" h="2602">
                <a:moveTo>
                  <a:pt x="19" y="92"/>
                </a:moveTo>
                <a:lnTo>
                  <a:pt x="15" y="86"/>
                </a:lnTo>
                <a:lnTo>
                  <a:pt x="12" y="79"/>
                </a:lnTo>
                <a:lnTo>
                  <a:pt x="10" y="73"/>
                </a:lnTo>
                <a:lnTo>
                  <a:pt x="6" y="67"/>
                </a:lnTo>
                <a:lnTo>
                  <a:pt x="2" y="56"/>
                </a:lnTo>
                <a:lnTo>
                  <a:pt x="0" y="46"/>
                </a:lnTo>
                <a:lnTo>
                  <a:pt x="0" y="36"/>
                </a:lnTo>
                <a:lnTo>
                  <a:pt x="2" y="27"/>
                </a:lnTo>
                <a:lnTo>
                  <a:pt x="4" y="17"/>
                </a:lnTo>
                <a:lnTo>
                  <a:pt x="8" y="8"/>
                </a:lnTo>
                <a:lnTo>
                  <a:pt x="12" y="6"/>
                </a:lnTo>
                <a:lnTo>
                  <a:pt x="14" y="4"/>
                </a:lnTo>
                <a:lnTo>
                  <a:pt x="19" y="2"/>
                </a:lnTo>
                <a:lnTo>
                  <a:pt x="23" y="2"/>
                </a:lnTo>
                <a:lnTo>
                  <a:pt x="29" y="0"/>
                </a:lnTo>
                <a:lnTo>
                  <a:pt x="37" y="0"/>
                </a:lnTo>
                <a:lnTo>
                  <a:pt x="42" y="0"/>
                </a:lnTo>
                <a:lnTo>
                  <a:pt x="52" y="0"/>
                </a:lnTo>
                <a:lnTo>
                  <a:pt x="60" y="0"/>
                </a:lnTo>
                <a:lnTo>
                  <a:pt x="69" y="2"/>
                </a:lnTo>
                <a:lnTo>
                  <a:pt x="79" y="4"/>
                </a:lnTo>
                <a:lnTo>
                  <a:pt x="90" y="6"/>
                </a:lnTo>
                <a:lnTo>
                  <a:pt x="102" y="10"/>
                </a:lnTo>
                <a:lnTo>
                  <a:pt x="113" y="11"/>
                </a:lnTo>
                <a:lnTo>
                  <a:pt x="125" y="15"/>
                </a:lnTo>
                <a:lnTo>
                  <a:pt x="138" y="21"/>
                </a:lnTo>
                <a:lnTo>
                  <a:pt x="150" y="27"/>
                </a:lnTo>
                <a:lnTo>
                  <a:pt x="159" y="33"/>
                </a:lnTo>
                <a:lnTo>
                  <a:pt x="169" y="40"/>
                </a:lnTo>
                <a:lnTo>
                  <a:pt x="179" y="46"/>
                </a:lnTo>
                <a:lnTo>
                  <a:pt x="188" y="50"/>
                </a:lnTo>
                <a:lnTo>
                  <a:pt x="196" y="56"/>
                </a:lnTo>
                <a:lnTo>
                  <a:pt x="204" y="61"/>
                </a:lnTo>
                <a:lnTo>
                  <a:pt x="209" y="65"/>
                </a:lnTo>
                <a:lnTo>
                  <a:pt x="217" y="69"/>
                </a:lnTo>
                <a:lnTo>
                  <a:pt x="223" y="75"/>
                </a:lnTo>
                <a:lnTo>
                  <a:pt x="227" y="79"/>
                </a:lnTo>
                <a:lnTo>
                  <a:pt x="232" y="81"/>
                </a:lnTo>
                <a:lnTo>
                  <a:pt x="236" y="84"/>
                </a:lnTo>
                <a:lnTo>
                  <a:pt x="240" y="88"/>
                </a:lnTo>
                <a:lnTo>
                  <a:pt x="242" y="90"/>
                </a:lnTo>
                <a:lnTo>
                  <a:pt x="246" y="92"/>
                </a:lnTo>
                <a:lnTo>
                  <a:pt x="246" y="98"/>
                </a:lnTo>
                <a:lnTo>
                  <a:pt x="246" y="104"/>
                </a:lnTo>
                <a:lnTo>
                  <a:pt x="244" y="111"/>
                </a:lnTo>
                <a:lnTo>
                  <a:pt x="244" y="121"/>
                </a:lnTo>
                <a:lnTo>
                  <a:pt x="242" y="130"/>
                </a:lnTo>
                <a:lnTo>
                  <a:pt x="240" y="140"/>
                </a:lnTo>
                <a:lnTo>
                  <a:pt x="238" y="152"/>
                </a:lnTo>
                <a:lnTo>
                  <a:pt x="234" y="165"/>
                </a:lnTo>
                <a:lnTo>
                  <a:pt x="232" y="169"/>
                </a:lnTo>
                <a:lnTo>
                  <a:pt x="231" y="173"/>
                </a:lnTo>
                <a:lnTo>
                  <a:pt x="231" y="178"/>
                </a:lnTo>
                <a:lnTo>
                  <a:pt x="229" y="184"/>
                </a:lnTo>
                <a:lnTo>
                  <a:pt x="229" y="190"/>
                </a:lnTo>
                <a:lnTo>
                  <a:pt x="227" y="196"/>
                </a:lnTo>
                <a:lnTo>
                  <a:pt x="227" y="203"/>
                </a:lnTo>
                <a:lnTo>
                  <a:pt x="225" y="211"/>
                </a:lnTo>
                <a:lnTo>
                  <a:pt x="223" y="219"/>
                </a:lnTo>
                <a:lnTo>
                  <a:pt x="223" y="228"/>
                </a:lnTo>
                <a:lnTo>
                  <a:pt x="221" y="238"/>
                </a:lnTo>
                <a:lnTo>
                  <a:pt x="221" y="248"/>
                </a:lnTo>
                <a:lnTo>
                  <a:pt x="219" y="259"/>
                </a:lnTo>
                <a:lnTo>
                  <a:pt x="219" y="271"/>
                </a:lnTo>
                <a:lnTo>
                  <a:pt x="217" y="282"/>
                </a:lnTo>
                <a:lnTo>
                  <a:pt x="215" y="294"/>
                </a:lnTo>
                <a:lnTo>
                  <a:pt x="215" y="307"/>
                </a:lnTo>
                <a:lnTo>
                  <a:pt x="213" y="320"/>
                </a:lnTo>
                <a:lnTo>
                  <a:pt x="213" y="336"/>
                </a:lnTo>
                <a:lnTo>
                  <a:pt x="211" y="349"/>
                </a:lnTo>
                <a:lnTo>
                  <a:pt x="209" y="366"/>
                </a:lnTo>
                <a:lnTo>
                  <a:pt x="209" y="382"/>
                </a:lnTo>
                <a:lnTo>
                  <a:pt x="207" y="399"/>
                </a:lnTo>
                <a:lnTo>
                  <a:pt x="207" y="416"/>
                </a:lnTo>
                <a:lnTo>
                  <a:pt x="206" y="434"/>
                </a:lnTo>
                <a:lnTo>
                  <a:pt x="206" y="453"/>
                </a:lnTo>
                <a:lnTo>
                  <a:pt x="204" y="472"/>
                </a:lnTo>
                <a:lnTo>
                  <a:pt x="202" y="491"/>
                </a:lnTo>
                <a:lnTo>
                  <a:pt x="202" y="512"/>
                </a:lnTo>
                <a:lnTo>
                  <a:pt x="200" y="533"/>
                </a:lnTo>
                <a:lnTo>
                  <a:pt x="200" y="555"/>
                </a:lnTo>
                <a:lnTo>
                  <a:pt x="198" y="578"/>
                </a:lnTo>
                <a:lnTo>
                  <a:pt x="196" y="624"/>
                </a:lnTo>
                <a:lnTo>
                  <a:pt x="194" y="670"/>
                </a:lnTo>
                <a:lnTo>
                  <a:pt x="192" y="714"/>
                </a:lnTo>
                <a:lnTo>
                  <a:pt x="192" y="756"/>
                </a:lnTo>
                <a:lnTo>
                  <a:pt x="190" y="796"/>
                </a:lnTo>
                <a:lnTo>
                  <a:pt x="188" y="835"/>
                </a:lnTo>
                <a:lnTo>
                  <a:pt x="188" y="873"/>
                </a:lnTo>
                <a:lnTo>
                  <a:pt x="188" y="908"/>
                </a:lnTo>
                <a:lnTo>
                  <a:pt x="186" y="942"/>
                </a:lnTo>
                <a:lnTo>
                  <a:pt x="186" y="977"/>
                </a:lnTo>
                <a:lnTo>
                  <a:pt x="186" y="1007"/>
                </a:lnTo>
                <a:lnTo>
                  <a:pt x="186" y="1038"/>
                </a:lnTo>
                <a:lnTo>
                  <a:pt x="186" y="1067"/>
                </a:lnTo>
                <a:lnTo>
                  <a:pt x="186" y="1096"/>
                </a:lnTo>
                <a:lnTo>
                  <a:pt x="186" y="1123"/>
                </a:lnTo>
                <a:lnTo>
                  <a:pt x="186" y="1148"/>
                </a:lnTo>
                <a:lnTo>
                  <a:pt x="186" y="1161"/>
                </a:lnTo>
                <a:lnTo>
                  <a:pt x="186" y="1174"/>
                </a:lnTo>
                <a:lnTo>
                  <a:pt x="186" y="1188"/>
                </a:lnTo>
                <a:lnTo>
                  <a:pt x="186" y="1203"/>
                </a:lnTo>
                <a:lnTo>
                  <a:pt x="186" y="1220"/>
                </a:lnTo>
                <a:lnTo>
                  <a:pt x="186" y="1236"/>
                </a:lnTo>
                <a:lnTo>
                  <a:pt x="186" y="1255"/>
                </a:lnTo>
                <a:lnTo>
                  <a:pt x="186" y="1272"/>
                </a:lnTo>
                <a:lnTo>
                  <a:pt x="186" y="1291"/>
                </a:lnTo>
                <a:lnTo>
                  <a:pt x="186" y="1313"/>
                </a:lnTo>
                <a:lnTo>
                  <a:pt x="186" y="1334"/>
                </a:lnTo>
                <a:lnTo>
                  <a:pt x="186" y="1355"/>
                </a:lnTo>
                <a:lnTo>
                  <a:pt x="186" y="1378"/>
                </a:lnTo>
                <a:lnTo>
                  <a:pt x="186" y="1401"/>
                </a:lnTo>
                <a:lnTo>
                  <a:pt x="186" y="1426"/>
                </a:lnTo>
                <a:lnTo>
                  <a:pt x="186" y="1451"/>
                </a:lnTo>
                <a:lnTo>
                  <a:pt x="186" y="1476"/>
                </a:lnTo>
                <a:lnTo>
                  <a:pt x="186" y="1503"/>
                </a:lnTo>
                <a:lnTo>
                  <a:pt x="186" y="1531"/>
                </a:lnTo>
                <a:lnTo>
                  <a:pt x="186" y="1560"/>
                </a:lnTo>
                <a:lnTo>
                  <a:pt x="186" y="1589"/>
                </a:lnTo>
                <a:lnTo>
                  <a:pt x="186" y="1620"/>
                </a:lnTo>
                <a:lnTo>
                  <a:pt x="186" y="1650"/>
                </a:lnTo>
                <a:lnTo>
                  <a:pt x="186" y="1683"/>
                </a:lnTo>
                <a:lnTo>
                  <a:pt x="186" y="1716"/>
                </a:lnTo>
                <a:lnTo>
                  <a:pt x="186" y="1750"/>
                </a:lnTo>
                <a:lnTo>
                  <a:pt x="186" y="1785"/>
                </a:lnTo>
                <a:lnTo>
                  <a:pt x="186" y="1819"/>
                </a:lnTo>
                <a:lnTo>
                  <a:pt x="186" y="1856"/>
                </a:lnTo>
                <a:lnTo>
                  <a:pt x="186" y="1894"/>
                </a:lnTo>
                <a:lnTo>
                  <a:pt x="186" y="1932"/>
                </a:lnTo>
                <a:lnTo>
                  <a:pt x="186" y="1973"/>
                </a:lnTo>
                <a:lnTo>
                  <a:pt x="184" y="2011"/>
                </a:lnTo>
                <a:lnTo>
                  <a:pt x="184" y="2050"/>
                </a:lnTo>
                <a:lnTo>
                  <a:pt x="183" y="2086"/>
                </a:lnTo>
                <a:lnTo>
                  <a:pt x="181" y="2121"/>
                </a:lnTo>
                <a:lnTo>
                  <a:pt x="181" y="2155"/>
                </a:lnTo>
                <a:lnTo>
                  <a:pt x="179" y="2188"/>
                </a:lnTo>
                <a:lnTo>
                  <a:pt x="179" y="2218"/>
                </a:lnTo>
                <a:lnTo>
                  <a:pt x="177" y="2249"/>
                </a:lnTo>
                <a:lnTo>
                  <a:pt x="177" y="2278"/>
                </a:lnTo>
                <a:lnTo>
                  <a:pt x="175" y="2307"/>
                </a:lnTo>
                <a:lnTo>
                  <a:pt x="173" y="2332"/>
                </a:lnTo>
                <a:lnTo>
                  <a:pt x="173" y="2358"/>
                </a:lnTo>
                <a:lnTo>
                  <a:pt x="171" y="2382"/>
                </a:lnTo>
                <a:lnTo>
                  <a:pt x="169" y="2405"/>
                </a:lnTo>
                <a:lnTo>
                  <a:pt x="169" y="2426"/>
                </a:lnTo>
                <a:lnTo>
                  <a:pt x="167" y="2447"/>
                </a:lnTo>
                <a:lnTo>
                  <a:pt x="165" y="2466"/>
                </a:lnTo>
                <a:lnTo>
                  <a:pt x="163" y="2483"/>
                </a:lnTo>
                <a:lnTo>
                  <a:pt x="163" y="2499"/>
                </a:lnTo>
                <a:lnTo>
                  <a:pt x="161" y="2514"/>
                </a:lnTo>
                <a:lnTo>
                  <a:pt x="159" y="2529"/>
                </a:lnTo>
                <a:lnTo>
                  <a:pt x="158" y="2541"/>
                </a:lnTo>
                <a:lnTo>
                  <a:pt x="156" y="2552"/>
                </a:lnTo>
                <a:lnTo>
                  <a:pt x="154" y="2564"/>
                </a:lnTo>
                <a:lnTo>
                  <a:pt x="154" y="2573"/>
                </a:lnTo>
                <a:lnTo>
                  <a:pt x="152" y="2581"/>
                </a:lnTo>
                <a:lnTo>
                  <a:pt x="150" y="2587"/>
                </a:lnTo>
                <a:lnTo>
                  <a:pt x="148" y="2593"/>
                </a:lnTo>
                <a:lnTo>
                  <a:pt x="146" y="2596"/>
                </a:lnTo>
                <a:lnTo>
                  <a:pt x="142" y="2600"/>
                </a:lnTo>
                <a:lnTo>
                  <a:pt x="140" y="2602"/>
                </a:lnTo>
                <a:lnTo>
                  <a:pt x="138" y="2602"/>
                </a:lnTo>
                <a:lnTo>
                  <a:pt x="135" y="2602"/>
                </a:lnTo>
                <a:lnTo>
                  <a:pt x="131" y="2600"/>
                </a:lnTo>
                <a:lnTo>
                  <a:pt x="125" y="2598"/>
                </a:lnTo>
                <a:lnTo>
                  <a:pt x="121" y="2595"/>
                </a:lnTo>
                <a:lnTo>
                  <a:pt x="115" y="2593"/>
                </a:lnTo>
                <a:lnTo>
                  <a:pt x="111" y="2587"/>
                </a:lnTo>
                <a:lnTo>
                  <a:pt x="106" y="2581"/>
                </a:lnTo>
                <a:lnTo>
                  <a:pt x="102" y="2575"/>
                </a:lnTo>
                <a:lnTo>
                  <a:pt x="96" y="2568"/>
                </a:lnTo>
                <a:lnTo>
                  <a:pt x="90" y="2560"/>
                </a:lnTo>
                <a:lnTo>
                  <a:pt x="87" y="2550"/>
                </a:lnTo>
                <a:lnTo>
                  <a:pt x="81" y="2541"/>
                </a:lnTo>
                <a:lnTo>
                  <a:pt x="75" y="2529"/>
                </a:lnTo>
                <a:lnTo>
                  <a:pt x="69" y="2518"/>
                </a:lnTo>
                <a:lnTo>
                  <a:pt x="62" y="2506"/>
                </a:lnTo>
                <a:lnTo>
                  <a:pt x="56" y="2493"/>
                </a:lnTo>
                <a:lnTo>
                  <a:pt x="42" y="2466"/>
                </a:lnTo>
                <a:lnTo>
                  <a:pt x="33" y="2439"/>
                </a:lnTo>
                <a:lnTo>
                  <a:pt x="23" y="2410"/>
                </a:lnTo>
                <a:lnTo>
                  <a:pt x="17" y="2397"/>
                </a:lnTo>
                <a:lnTo>
                  <a:pt x="14" y="2383"/>
                </a:lnTo>
                <a:lnTo>
                  <a:pt x="12" y="2370"/>
                </a:lnTo>
                <a:lnTo>
                  <a:pt x="10" y="2357"/>
                </a:lnTo>
                <a:lnTo>
                  <a:pt x="8" y="2343"/>
                </a:lnTo>
                <a:lnTo>
                  <a:pt x="6" y="2330"/>
                </a:lnTo>
                <a:lnTo>
                  <a:pt x="6" y="2316"/>
                </a:lnTo>
                <a:lnTo>
                  <a:pt x="6" y="2303"/>
                </a:lnTo>
                <a:lnTo>
                  <a:pt x="6" y="2287"/>
                </a:lnTo>
                <a:lnTo>
                  <a:pt x="8" y="2274"/>
                </a:lnTo>
                <a:lnTo>
                  <a:pt x="10" y="2268"/>
                </a:lnTo>
                <a:lnTo>
                  <a:pt x="10" y="2263"/>
                </a:lnTo>
                <a:lnTo>
                  <a:pt x="12" y="2255"/>
                </a:lnTo>
                <a:lnTo>
                  <a:pt x="14" y="2245"/>
                </a:lnTo>
                <a:lnTo>
                  <a:pt x="14" y="2236"/>
                </a:lnTo>
                <a:lnTo>
                  <a:pt x="15" y="2226"/>
                </a:lnTo>
                <a:lnTo>
                  <a:pt x="15" y="2216"/>
                </a:lnTo>
                <a:lnTo>
                  <a:pt x="17" y="2205"/>
                </a:lnTo>
                <a:lnTo>
                  <a:pt x="19" y="2192"/>
                </a:lnTo>
                <a:lnTo>
                  <a:pt x="19" y="2178"/>
                </a:lnTo>
                <a:lnTo>
                  <a:pt x="21" y="2165"/>
                </a:lnTo>
                <a:lnTo>
                  <a:pt x="23" y="2151"/>
                </a:lnTo>
                <a:lnTo>
                  <a:pt x="23" y="2134"/>
                </a:lnTo>
                <a:lnTo>
                  <a:pt x="25" y="2119"/>
                </a:lnTo>
                <a:lnTo>
                  <a:pt x="27" y="2101"/>
                </a:lnTo>
                <a:lnTo>
                  <a:pt x="27" y="2084"/>
                </a:lnTo>
                <a:lnTo>
                  <a:pt x="29" y="2065"/>
                </a:lnTo>
                <a:lnTo>
                  <a:pt x="31" y="2046"/>
                </a:lnTo>
                <a:lnTo>
                  <a:pt x="33" y="2026"/>
                </a:lnTo>
                <a:lnTo>
                  <a:pt x="33" y="2005"/>
                </a:lnTo>
                <a:lnTo>
                  <a:pt x="35" y="1982"/>
                </a:lnTo>
                <a:lnTo>
                  <a:pt x="37" y="1961"/>
                </a:lnTo>
                <a:lnTo>
                  <a:pt x="39" y="1938"/>
                </a:lnTo>
                <a:lnTo>
                  <a:pt x="40" y="1913"/>
                </a:lnTo>
                <a:lnTo>
                  <a:pt x="42" y="1888"/>
                </a:lnTo>
                <a:lnTo>
                  <a:pt x="44" y="1863"/>
                </a:lnTo>
                <a:lnTo>
                  <a:pt x="46" y="1837"/>
                </a:lnTo>
                <a:lnTo>
                  <a:pt x="48" y="1810"/>
                </a:lnTo>
                <a:lnTo>
                  <a:pt x="50" y="1781"/>
                </a:lnTo>
                <a:lnTo>
                  <a:pt x="52" y="1752"/>
                </a:lnTo>
                <a:lnTo>
                  <a:pt x="54" y="1723"/>
                </a:lnTo>
                <a:lnTo>
                  <a:pt x="56" y="1693"/>
                </a:lnTo>
                <a:lnTo>
                  <a:pt x="63" y="1570"/>
                </a:lnTo>
                <a:lnTo>
                  <a:pt x="71" y="1445"/>
                </a:lnTo>
                <a:lnTo>
                  <a:pt x="77" y="1318"/>
                </a:lnTo>
                <a:lnTo>
                  <a:pt x="81" y="1192"/>
                </a:lnTo>
                <a:lnTo>
                  <a:pt x="83" y="1061"/>
                </a:lnTo>
                <a:lnTo>
                  <a:pt x="85" y="996"/>
                </a:lnTo>
                <a:lnTo>
                  <a:pt x="85" y="931"/>
                </a:lnTo>
                <a:lnTo>
                  <a:pt x="83" y="865"/>
                </a:lnTo>
                <a:lnTo>
                  <a:pt x="83" y="798"/>
                </a:lnTo>
                <a:lnTo>
                  <a:pt x="81" y="731"/>
                </a:lnTo>
                <a:lnTo>
                  <a:pt x="79" y="662"/>
                </a:lnTo>
                <a:lnTo>
                  <a:pt x="79" y="629"/>
                </a:lnTo>
                <a:lnTo>
                  <a:pt x="77" y="599"/>
                </a:lnTo>
                <a:lnTo>
                  <a:pt x="75" y="568"/>
                </a:lnTo>
                <a:lnTo>
                  <a:pt x="75" y="537"/>
                </a:lnTo>
                <a:lnTo>
                  <a:pt x="73" y="508"/>
                </a:lnTo>
                <a:lnTo>
                  <a:pt x="71" y="482"/>
                </a:lnTo>
                <a:lnTo>
                  <a:pt x="69" y="455"/>
                </a:lnTo>
                <a:lnTo>
                  <a:pt x="69" y="428"/>
                </a:lnTo>
                <a:lnTo>
                  <a:pt x="67" y="403"/>
                </a:lnTo>
                <a:lnTo>
                  <a:pt x="65" y="380"/>
                </a:lnTo>
                <a:lnTo>
                  <a:pt x="63" y="357"/>
                </a:lnTo>
                <a:lnTo>
                  <a:pt x="62" y="334"/>
                </a:lnTo>
                <a:lnTo>
                  <a:pt x="60" y="313"/>
                </a:lnTo>
                <a:lnTo>
                  <a:pt x="58" y="292"/>
                </a:lnTo>
                <a:lnTo>
                  <a:pt x="56" y="272"/>
                </a:lnTo>
                <a:lnTo>
                  <a:pt x="54" y="255"/>
                </a:lnTo>
                <a:lnTo>
                  <a:pt x="52" y="238"/>
                </a:lnTo>
                <a:lnTo>
                  <a:pt x="50" y="221"/>
                </a:lnTo>
                <a:lnTo>
                  <a:pt x="48" y="205"/>
                </a:lnTo>
                <a:lnTo>
                  <a:pt x="46" y="192"/>
                </a:lnTo>
                <a:lnTo>
                  <a:pt x="44" y="176"/>
                </a:lnTo>
                <a:lnTo>
                  <a:pt x="42" y="165"/>
                </a:lnTo>
                <a:lnTo>
                  <a:pt x="40" y="153"/>
                </a:lnTo>
                <a:lnTo>
                  <a:pt x="37" y="142"/>
                </a:lnTo>
                <a:lnTo>
                  <a:pt x="35" y="132"/>
                </a:lnTo>
                <a:lnTo>
                  <a:pt x="33" y="125"/>
                </a:lnTo>
                <a:lnTo>
                  <a:pt x="31" y="117"/>
                </a:lnTo>
                <a:lnTo>
                  <a:pt x="29" y="109"/>
                </a:lnTo>
                <a:lnTo>
                  <a:pt x="27" y="104"/>
                </a:lnTo>
                <a:lnTo>
                  <a:pt x="25" y="100"/>
                </a:lnTo>
                <a:lnTo>
                  <a:pt x="21" y="96"/>
                </a:lnTo>
                <a:lnTo>
                  <a:pt x="19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5478480" y="3666960"/>
            <a:ext cx="950760" cy="252720"/>
          </a:xfrm>
          <a:custGeom>
            <a:avLst/>
            <a:gdLst/>
            <a:ahLst/>
            <a:rect l="l" t="t" r="r" b="b"/>
            <a:pathLst>
              <a:path w="1197" h="319">
                <a:moveTo>
                  <a:pt x="911" y="169"/>
                </a:moveTo>
                <a:lnTo>
                  <a:pt x="877" y="175"/>
                </a:lnTo>
                <a:lnTo>
                  <a:pt x="842" y="182"/>
                </a:lnTo>
                <a:lnTo>
                  <a:pt x="808" y="190"/>
                </a:lnTo>
                <a:lnTo>
                  <a:pt x="773" y="196"/>
                </a:lnTo>
                <a:lnTo>
                  <a:pt x="741" y="204"/>
                </a:lnTo>
                <a:lnTo>
                  <a:pt x="708" y="209"/>
                </a:lnTo>
                <a:lnTo>
                  <a:pt x="643" y="223"/>
                </a:lnTo>
                <a:lnTo>
                  <a:pt x="581" y="236"/>
                </a:lnTo>
                <a:lnTo>
                  <a:pt x="520" y="250"/>
                </a:lnTo>
                <a:lnTo>
                  <a:pt x="460" y="265"/>
                </a:lnTo>
                <a:lnTo>
                  <a:pt x="403" y="278"/>
                </a:lnTo>
                <a:lnTo>
                  <a:pt x="374" y="284"/>
                </a:lnTo>
                <a:lnTo>
                  <a:pt x="347" y="290"/>
                </a:lnTo>
                <a:lnTo>
                  <a:pt x="322" y="296"/>
                </a:lnTo>
                <a:lnTo>
                  <a:pt x="297" y="301"/>
                </a:lnTo>
                <a:lnTo>
                  <a:pt x="276" y="305"/>
                </a:lnTo>
                <a:lnTo>
                  <a:pt x="255" y="309"/>
                </a:lnTo>
                <a:lnTo>
                  <a:pt x="234" y="313"/>
                </a:lnTo>
                <a:lnTo>
                  <a:pt x="216" y="315"/>
                </a:lnTo>
                <a:lnTo>
                  <a:pt x="199" y="317"/>
                </a:lnTo>
                <a:lnTo>
                  <a:pt x="186" y="319"/>
                </a:lnTo>
                <a:lnTo>
                  <a:pt x="172" y="319"/>
                </a:lnTo>
                <a:lnTo>
                  <a:pt x="161" y="319"/>
                </a:lnTo>
                <a:lnTo>
                  <a:pt x="149" y="319"/>
                </a:lnTo>
                <a:lnTo>
                  <a:pt x="142" y="319"/>
                </a:lnTo>
                <a:lnTo>
                  <a:pt x="134" y="317"/>
                </a:lnTo>
                <a:lnTo>
                  <a:pt x="130" y="315"/>
                </a:lnTo>
                <a:lnTo>
                  <a:pt x="117" y="309"/>
                </a:lnTo>
                <a:lnTo>
                  <a:pt x="101" y="303"/>
                </a:lnTo>
                <a:lnTo>
                  <a:pt x="96" y="300"/>
                </a:lnTo>
                <a:lnTo>
                  <a:pt x="88" y="294"/>
                </a:lnTo>
                <a:lnTo>
                  <a:pt x="80" y="290"/>
                </a:lnTo>
                <a:lnTo>
                  <a:pt x="72" y="284"/>
                </a:lnTo>
                <a:lnTo>
                  <a:pt x="65" y="278"/>
                </a:lnTo>
                <a:lnTo>
                  <a:pt x="57" y="271"/>
                </a:lnTo>
                <a:lnTo>
                  <a:pt x="48" y="265"/>
                </a:lnTo>
                <a:lnTo>
                  <a:pt x="38" y="257"/>
                </a:lnTo>
                <a:lnTo>
                  <a:pt x="30" y="248"/>
                </a:lnTo>
                <a:lnTo>
                  <a:pt x="19" y="238"/>
                </a:lnTo>
                <a:lnTo>
                  <a:pt x="9" y="229"/>
                </a:lnTo>
                <a:lnTo>
                  <a:pt x="0" y="217"/>
                </a:lnTo>
                <a:lnTo>
                  <a:pt x="53" y="207"/>
                </a:lnTo>
                <a:lnTo>
                  <a:pt x="107" y="200"/>
                </a:lnTo>
                <a:lnTo>
                  <a:pt x="161" y="190"/>
                </a:lnTo>
                <a:lnTo>
                  <a:pt x="213" y="181"/>
                </a:lnTo>
                <a:lnTo>
                  <a:pt x="263" y="171"/>
                </a:lnTo>
                <a:lnTo>
                  <a:pt x="312" y="163"/>
                </a:lnTo>
                <a:lnTo>
                  <a:pt x="360" y="154"/>
                </a:lnTo>
                <a:lnTo>
                  <a:pt x="408" y="144"/>
                </a:lnTo>
                <a:lnTo>
                  <a:pt x="455" y="136"/>
                </a:lnTo>
                <a:lnTo>
                  <a:pt x="499" y="127"/>
                </a:lnTo>
                <a:lnTo>
                  <a:pt x="543" y="117"/>
                </a:lnTo>
                <a:lnTo>
                  <a:pt x="585" y="108"/>
                </a:lnTo>
                <a:lnTo>
                  <a:pt x="627" y="100"/>
                </a:lnTo>
                <a:lnTo>
                  <a:pt x="668" y="90"/>
                </a:lnTo>
                <a:lnTo>
                  <a:pt x="708" y="81"/>
                </a:lnTo>
                <a:lnTo>
                  <a:pt x="746" y="73"/>
                </a:lnTo>
                <a:lnTo>
                  <a:pt x="764" y="67"/>
                </a:lnTo>
                <a:lnTo>
                  <a:pt x="783" y="63"/>
                </a:lnTo>
                <a:lnTo>
                  <a:pt x="800" y="60"/>
                </a:lnTo>
                <a:lnTo>
                  <a:pt x="817" y="54"/>
                </a:lnTo>
                <a:lnTo>
                  <a:pt x="833" y="50"/>
                </a:lnTo>
                <a:lnTo>
                  <a:pt x="850" y="46"/>
                </a:lnTo>
                <a:lnTo>
                  <a:pt x="865" y="42"/>
                </a:lnTo>
                <a:lnTo>
                  <a:pt x="879" y="40"/>
                </a:lnTo>
                <a:lnTo>
                  <a:pt x="894" y="37"/>
                </a:lnTo>
                <a:lnTo>
                  <a:pt x="908" y="33"/>
                </a:lnTo>
                <a:lnTo>
                  <a:pt x="921" y="31"/>
                </a:lnTo>
                <a:lnTo>
                  <a:pt x="933" y="27"/>
                </a:lnTo>
                <a:lnTo>
                  <a:pt x="946" y="25"/>
                </a:lnTo>
                <a:lnTo>
                  <a:pt x="958" y="21"/>
                </a:lnTo>
                <a:lnTo>
                  <a:pt x="969" y="19"/>
                </a:lnTo>
                <a:lnTo>
                  <a:pt x="979" y="17"/>
                </a:lnTo>
                <a:lnTo>
                  <a:pt x="988" y="15"/>
                </a:lnTo>
                <a:lnTo>
                  <a:pt x="998" y="14"/>
                </a:lnTo>
                <a:lnTo>
                  <a:pt x="1007" y="12"/>
                </a:lnTo>
                <a:lnTo>
                  <a:pt x="1015" y="10"/>
                </a:lnTo>
                <a:lnTo>
                  <a:pt x="1023" y="8"/>
                </a:lnTo>
                <a:lnTo>
                  <a:pt x="1030" y="6"/>
                </a:lnTo>
                <a:lnTo>
                  <a:pt x="1038" y="4"/>
                </a:lnTo>
                <a:lnTo>
                  <a:pt x="1044" y="4"/>
                </a:lnTo>
                <a:lnTo>
                  <a:pt x="1050" y="2"/>
                </a:lnTo>
                <a:lnTo>
                  <a:pt x="1055" y="2"/>
                </a:lnTo>
                <a:lnTo>
                  <a:pt x="1061" y="0"/>
                </a:lnTo>
                <a:lnTo>
                  <a:pt x="1065" y="0"/>
                </a:lnTo>
                <a:lnTo>
                  <a:pt x="1069" y="0"/>
                </a:lnTo>
                <a:lnTo>
                  <a:pt x="1073" y="0"/>
                </a:lnTo>
                <a:lnTo>
                  <a:pt x="1075" y="0"/>
                </a:lnTo>
                <a:lnTo>
                  <a:pt x="1078" y="0"/>
                </a:lnTo>
                <a:lnTo>
                  <a:pt x="1082" y="0"/>
                </a:lnTo>
                <a:lnTo>
                  <a:pt x="1090" y="2"/>
                </a:lnTo>
                <a:lnTo>
                  <a:pt x="1096" y="4"/>
                </a:lnTo>
                <a:lnTo>
                  <a:pt x="1105" y="6"/>
                </a:lnTo>
                <a:lnTo>
                  <a:pt x="1115" y="10"/>
                </a:lnTo>
                <a:lnTo>
                  <a:pt x="1125" y="14"/>
                </a:lnTo>
                <a:lnTo>
                  <a:pt x="1136" y="19"/>
                </a:lnTo>
                <a:lnTo>
                  <a:pt x="1149" y="23"/>
                </a:lnTo>
                <a:lnTo>
                  <a:pt x="1155" y="25"/>
                </a:lnTo>
                <a:lnTo>
                  <a:pt x="1161" y="29"/>
                </a:lnTo>
                <a:lnTo>
                  <a:pt x="1167" y="31"/>
                </a:lnTo>
                <a:lnTo>
                  <a:pt x="1173" y="35"/>
                </a:lnTo>
                <a:lnTo>
                  <a:pt x="1176" y="39"/>
                </a:lnTo>
                <a:lnTo>
                  <a:pt x="1180" y="40"/>
                </a:lnTo>
                <a:lnTo>
                  <a:pt x="1186" y="48"/>
                </a:lnTo>
                <a:lnTo>
                  <a:pt x="1192" y="54"/>
                </a:lnTo>
                <a:lnTo>
                  <a:pt x="1194" y="62"/>
                </a:lnTo>
                <a:lnTo>
                  <a:pt x="1196" y="67"/>
                </a:lnTo>
                <a:lnTo>
                  <a:pt x="1197" y="73"/>
                </a:lnTo>
                <a:lnTo>
                  <a:pt x="1196" y="73"/>
                </a:lnTo>
                <a:lnTo>
                  <a:pt x="1196" y="75"/>
                </a:lnTo>
                <a:lnTo>
                  <a:pt x="1194" y="77"/>
                </a:lnTo>
                <a:lnTo>
                  <a:pt x="1192" y="77"/>
                </a:lnTo>
                <a:lnTo>
                  <a:pt x="1190" y="79"/>
                </a:lnTo>
                <a:lnTo>
                  <a:pt x="1186" y="81"/>
                </a:lnTo>
                <a:lnTo>
                  <a:pt x="1182" y="83"/>
                </a:lnTo>
                <a:lnTo>
                  <a:pt x="1178" y="85"/>
                </a:lnTo>
                <a:lnTo>
                  <a:pt x="1174" y="86"/>
                </a:lnTo>
                <a:lnTo>
                  <a:pt x="1169" y="90"/>
                </a:lnTo>
                <a:lnTo>
                  <a:pt x="1163" y="92"/>
                </a:lnTo>
                <a:lnTo>
                  <a:pt x="1157" y="94"/>
                </a:lnTo>
                <a:lnTo>
                  <a:pt x="1149" y="98"/>
                </a:lnTo>
                <a:lnTo>
                  <a:pt x="1142" y="100"/>
                </a:lnTo>
                <a:lnTo>
                  <a:pt x="1134" y="104"/>
                </a:lnTo>
                <a:lnTo>
                  <a:pt x="1125" y="106"/>
                </a:lnTo>
                <a:lnTo>
                  <a:pt x="1117" y="110"/>
                </a:lnTo>
                <a:lnTo>
                  <a:pt x="1107" y="113"/>
                </a:lnTo>
                <a:lnTo>
                  <a:pt x="1096" y="115"/>
                </a:lnTo>
                <a:lnTo>
                  <a:pt x="1086" y="119"/>
                </a:lnTo>
                <a:lnTo>
                  <a:pt x="1075" y="123"/>
                </a:lnTo>
                <a:lnTo>
                  <a:pt x="1061" y="127"/>
                </a:lnTo>
                <a:lnTo>
                  <a:pt x="1050" y="131"/>
                </a:lnTo>
                <a:lnTo>
                  <a:pt x="1036" y="134"/>
                </a:lnTo>
                <a:lnTo>
                  <a:pt x="1023" y="138"/>
                </a:lnTo>
                <a:lnTo>
                  <a:pt x="1009" y="142"/>
                </a:lnTo>
                <a:lnTo>
                  <a:pt x="994" y="146"/>
                </a:lnTo>
                <a:lnTo>
                  <a:pt x="979" y="150"/>
                </a:lnTo>
                <a:lnTo>
                  <a:pt x="963" y="156"/>
                </a:lnTo>
                <a:lnTo>
                  <a:pt x="946" y="159"/>
                </a:lnTo>
                <a:lnTo>
                  <a:pt x="929" y="163"/>
                </a:lnTo>
                <a:lnTo>
                  <a:pt x="911" y="1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5430960" y="3792600"/>
            <a:ext cx="679320" cy="799920"/>
          </a:xfrm>
          <a:custGeom>
            <a:avLst/>
            <a:gdLst/>
            <a:ahLst/>
            <a:rect l="l" t="t" r="r" b="b"/>
            <a:pathLst>
              <a:path w="856" h="1007">
                <a:moveTo>
                  <a:pt x="726" y="0"/>
                </a:moveTo>
                <a:lnTo>
                  <a:pt x="791" y="28"/>
                </a:lnTo>
                <a:lnTo>
                  <a:pt x="856" y="59"/>
                </a:lnTo>
                <a:lnTo>
                  <a:pt x="833" y="101"/>
                </a:lnTo>
                <a:lnTo>
                  <a:pt x="812" y="143"/>
                </a:lnTo>
                <a:lnTo>
                  <a:pt x="791" y="182"/>
                </a:lnTo>
                <a:lnTo>
                  <a:pt x="770" y="220"/>
                </a:lnTo>
                <a:lnTo>
                  <a:pt x="749" y="255"/>
                </a:lnTo>
                <a:lnTo>
                  <a:pt x="728" y="289"/>
                </a:lnTo>
                <a:lnTo>
                  <a:pt x="708" y="322"/>
                </a:lnTo>
                <a:lnTo>
                  <a:pt x="687" y="353"/>
                </a:lnTo>
                <a:lnTo>
                  <a:pt x="668" y="383"/>
                </a:lnTo>
                <a:lnTo>
                  <a:pt x="649" y="412"/>
                </a:lnTo>
                <a:lnTo>
                  <a:pt x="632" y="439"/>
                </a:lnTo>
                <a:lnTo>
                  <a:pt x="613" y="464"/>
                </a:lnTo>
                <a:lnTo>
                  <a:pt x="595" y="489"/>
                </a:lnTo>
                <a:lnTo>
                  <a:pt x="578" y="512"/>
                </a:lnTo>
                <a:lnTo>
                  <a:pt x="563" y="535"/>
                </a:lnTo>
                <a:lnTo>
                  <a:pt x="547" y="556"/>
                </a:lnTo>
                <a:lnTo>
                  <a:pt x="532" y="577"/>
                </a:lnTo>
                <a:lnTo>
                  <a:pt x="515" y="596"/>
                </a:lnTo>
                <a:lnTo>
                  <a:pt x="497" y="617"/>
                </a:lnTo>
                <a:lnTo>
                  <a:pt x="478" y="637"/>
                </a:lnTo>
                <a:lnTo>
                  <a:pt x="459" y="656"/>
                </a:lnTo>
                <a:lnTo>
                  <a:pt x="440" y="675"/>
                </a:lnTo>
                <a:lnTo>
                  <a:pt x="421" y="694"/>
                </a:lnTo>
                <a:lnTo>
                  <a:pt x="399" y="713"/>
                </a:lnTo>
                <a:lnTo>
                  <a:pt x="376" y="733"/>
                </a:lnTo>
                <a:lnTo>
                  <a:pt x="355" y="752"/>
                </a:lnTo>
                <a:lnTo>
                  <a:pt x="309" y="792"/>
                </a:lnTo>
                <a:lnTo>
                  <a:pt x="263" y="830"/>
                </a:lnTo>
                <a:lnTo>
                  <a:pt x="215" y="873"/>
                </a:lnTo>
                <a:lnTo>
                  <a:pt x="190" y="892"/>
                </a:lnTo>
                <a:lnTo>
                  <a:pt x="165" y="909"/>
                </a:lnTo>
                <a:lnTo>
                  <a:pt x="142" y="926"/>
                </a:lnTo>
                <a:lnTo>
                  <a:pt x="123" y="942"/>
                </a:lnTo>
                <a:lnTo>
                  <a:pt x="104" y="953"/>
                </a:lnTo>
                <a:lnTo>
                  <a:pt x="85" y="965"/>
                </a:lnTo>
                <a:lnTo>
                  <a:pt x="69" y="976"/>
                </a:lnTo>
                <a:lnTo>
                  <a:pt x="56" y="984"/>
                </a:lnTo>
                <a:lnTo>
                  <a:pt x="42" y="992"/>
                </a:lnTo>
                <a:lnTo>
                  <a:pt x="33" y="997"/>
                </a:lnTo>
                <a:lnTo>
                  <a:pt x="23" y="1001"/>
                </a:lnTo>
                <a:lnTo>
                  <a:pt x="15" y="1005"/>
                </a:lnTo>
                <a:lnTo>
                  <a:pt x="10" y="1007"/>
                </a:lnTo>
                <a:lnTo>
                  <a:pt x="6" y="1007"/>
                </a:lnTo>
                <a:lnTo>
                  <a:pt x="2" y="1007"/>
                </a:lnTo>
                <a:lnTo>
                  <a:pt x="2" y="1005"/>
                </a:lnTo>
                <a:lnTo>
                  <a:pt x="0" y="1003"/>
                </a:lnTo>
                <a:lnTo>
                  <a:pt x="0" y="1001"/>
                </a:lnTo>
                <a:lnTo>
                  <a:pt x="0" y="999"/>
                </a:lnTo>
                <a:lnTo>
                  <a:pt x="0" y="997"/>
                </a:lnTo>
                <a:lnTo>
                  <a:pt x="4" y="992"/>
                </a:lnTo>
                <a:lnTo>
                  <a:pt x="8" y="982"/>
                </a:lnTo>
                <a:lnTo>
                  <a:pt x="14" y="972"/>
                </a:lnTo>
                <a:lnTo>
                  <a:pt x="23" y="963"/>
                </a:lnTo>
                <a:lnTo>
                  <a:pt x="33" y="949"/>
                </a:lnTo>
                <a:lnTo>
                  <a:pt x="44" y="936"/>
                </a:lnTo>
                <a:lnTo>
                  <a:pt x="56" y="921"/>
                </a:lnTo>
                <a:lnTo>
                  <a:pt x="71" y="903"/>
                </a:lnTo>
                <a:lnTo>
                  <a:pt x="88" y="884"/>
                </a:lnTo>
                <a:lnTo>
                  <a:pt x="106" y="865"/>
                </a:lnTo>
                <a:lnTo>
                  <a:pt x="125" y="844"/>
                </a:lnTo>
                <a:lnTo>
                  <a:pt x="146" y="823"/>
                </a:lnTo>
                <a:lnTo>
                  <a:pt x="167" y="800"/>
                </a:lnTo>
                <a:lnTo>
                  <a:pt x="192" y="775"/>
                </a:lnTo>
                <a:lnTo>
                  <a:pt x="204" y="761"/>
                </a:lnTo>
                <a:lnTo>
                  <a:pt x="215" y="748"/>
                </a:lnTo>
                <a:lnTo>
                  <a:pt x="229" y="733"/>
                </a:lnTo>
                <a:lnTo>
                  <a:pt x="242" y="719"/>
                </a:lnTo>
                <a:lnTo>
                  <a:pt x="255" y="702"/>
                </a:lnTo>
                <a:lnTo>
                  <a:pt x="269" y="687"/>
                </a:lnTo>
                <a:lnTo>
                  <a:pt x="284" y="669"/>
                </a:lnTo>
                <a:lnTo>
                  <a:pt x="298" y="652"/>
                </a:lnTo>
                <a:lnTo>
                  <a:pt x="313" y="633"/>
                </a:lnTo>
                <a:lnTo>
                  <a:pt x="328" y="614"/>
                </a:lnTo>
                <a:lnTo>
                  <a:pt x="342" y="594"/>
                </a:lnTo>
                <a:lnTo>
                  <a:pt x="359" y="573"/>
                </a:lnTo>
                <a:lnTo>
                  <a:pt x="374" y="552"/>
                </a:lnTo>
                <a:lnTo>
                  <a:pt x="390" y="529"/>
                </a:lnTo>
                <a:lnTo>
                  <a:pt x="407" y="506"/>
                </a:lnTo>
                <a:lnTo>
                  <a:pt x="422" y="483"/>
                </a:lnTo>
                <a:lnTo>
                  <a:pt x="440" y="458"/>
                </a:lnTo>
                <a:lnTo>
                  <a:pt x="457" y="433"/>
                </a:lnTo>
                <a:lnTo>
                  <a:pt x="474" y="406"/>
                </a:lnTo>
                <a:lnTo>
                  <a:pt x="493" y="379"/>
                </a:lnTo>
                <a:lnTo>
                  <a:pt x="511" y="353"/>
                </a:lnTo>
                <a:lnTo>
                  <a:pt x="528" y="324"/>
                </a:lnTo>
                <a:lnTo>
                  <a:pt x="547" y="295"/>
                </a:lnTo>
                <a:lnTo>
                  <a:pt x="566" y="266"/>
                </a:lnTo>
                <a:lnTo>
                  <a:pt x="586" y="236"/>
                </a:lnTo>
                <a:lnTo>
                  <a:pt x="605" y="203"/>
                </a:lnTo>
                <a:lnTo>
                  <a:pt x="624" y="172"/>
                </a:lnTo>
                <a:lnTo>
                  <a:pt x="643" y="138"/>
                </a:lnTo>
                <a:lnTo>
                  <a:pt x="664" y="105"/>
                </a:lnTo>
                <a:lnTo>
                  <a:pt x="684" y="71"/>
                </a:lnTo>
                <a:lnTo>
                  <a:pt x="705" y="34"/>
                </a:lnTo>
                <a:lnTo>
                  <a:pt x="72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6110280" y="4003560"/>
            <a:ext cx="271440" cy="214560"/>
          </a:xfrm>
          <a:custGeom>
            <a:avLst/>
            <a:gdLst/>
            <a:ahLst/>
            <a:rect l="l" t="t" r="r" b="b"/>
            <a:pathLst>
              <a:path w="344" h="271">
                <a:moveTo>
                  <a:pt x="0" y="0"/>
                </a:moveTo>
                <a:lnTo>
                  <a:pt x="10" y="0"/>
                </a:lnTo>
                <a:lnTo>
                  <a:pt x="23" y="0"/>
                </a:lnTo>
                <a:lnTo>
                  <a:pt x="35" y="0"/>
                </a:lnTo>
                <a:lnTo>
                  <a:pt x="48" y="2"/>
                </a:lnTo>
                <a:lnTo>
                  <a:pt x="75" y="4"/>
                </a:lnTo>
                <a:lnTo>
                  <a:pt x="104" y="10"/>
                </a:lnTo>
                <a:lnTo>
                  <a:pt x="133" y="16"/>
                </a:lnTo>
                <a:lnTo>
                  <a:pt x="148" y="19"/>
                </a:lnTo>
                <a:lnTo>
                  <a:pt x="164" y="25"/>
                </a:lnTo>
                <a:lnTo>
                  <a:pt x="179" y="29"/>
                </a:lnTo>
                <a:lnTo>
                  <a:pt x="194" y="35"/>
                </a:lnTo>
                <a:lnTo>
                  <a:pt x="210" y="41"/>
                </a:lnTo>
                <a:lnTo>
                  <a:pt x="225" y="48"/>
                </a:lnTo>
                <a:lnTo>
                  <a:pt x="240" y="54"/>
                </a:lnTo>
                <a:lnTo>
                  <a:pt x="254" y="62"/>
                </a:lnTo>
                <a:lnTo>
                  <a:pt x="267" y="69"/>
                </a:lnTo>
                <a:lnTo>
                  <a:pt x="279" y="75"/>
                </a:lnTo>
                <a:lnTo>
                  <a:pt x="288" y="83"/>
                </a:lnTo>
                <a:lnTo>
                  <a:pt x="298" y="90"/>
                </a:lnTo>
                <a:lnTo>
                  <a:pt x="307" y="96"/>
                </a:lnTo>
                <a:lnTo>
                  <a:pt x="315" y="104"/>
                </a:lnTo>
                <a:lnTo>
                  <a:pt x="323" y="112"/>
                </a:lnTo>
                <a:lnTo>
                  <a:pt x="329" y="119"/>
                </a:lnTo>
                <a:lnTo>
                  <a:pt x="332" y="127"/>
                </a:lnTo>
                <a:lnTo>
                  <a:pt x="336" y="135"/>
                </a:lnTo>
                <a:lnTo>
                  <a:pt x="340" y="142"/>
                </a:lnTo>
                <a:lnTo>
                  <a:pt x="342" y="152"/>
                </a:lnTo>
                <a:lnTo>
                  <a:pt x="344" y="160"/>
                </a:lnTo>
                <a:lnTo>
                  <a:pt x="344" y="169"/>
                </a:lnTo>
                <a:lnTo>
                  <a:pt x="344" y="181"/>
                </a:lnTo>
                <a:lnTo>
                  <a:pt x="344" y="190"/>
                </a:lnTo>
                <a:lnTo>
                  <a:pt x="344" y="200"/>
                </a:lnTo>
                <a:lnTo>
                  <a:pt x="344" y="208"/>
                </a:lnTo>
                <a:lnTo>
                  <a:pt x="344" y="215"/>
                </a:lnTo>
                <a:lnTo>
                  <a:pt x="342" y="223"/>
                </a:lnTo>
                <a:lnTo>
                  <a:pt x="342" y="231"/>
                </a:lnTo>
                <a:lnTo>
                  <a:pt x="342" y="236"/>
                </a:lnTo>
                <a:lnTo>
                  <a:pt x="342" y="240"/>
                </a:lnTo>
                <a:lnTo>
                  <a:pt x="340" y="246"/>
                </a:lnTo>
                <a:lnTo>
                  <a:pt x="340" y="250"/>
                </a:lnTo>
                <a:lnTo>
                  <a:pt x="338" y="254"/>
                </a:lnTo>
                <a:lnTo>
                  <a:pt x="336" y="261"/>
                </a:lnTo>
                <a:lnTo>
                  <a:pt x="332" y="267"/>
                </a:lnTo>
                <a:lnTo>
                  <a:pt x="329" y="269"/>
                </a:lnTo>
                <a:lnTo>
                  <a:pt x="327" y="269"/>
                </a:lnTo>
                <a:lnTo>
                  <a:pt x="323" y="271"/>
                </a:lnTo>
                <a:lnTo>
                  <a:pt x="321" y="271"/>
                </a:lnTo>
                <a:lnTo>
                  <a:pt x="317" y="271"/>
                </a:lnTo>
                <a:lnTo>
                  <a:pt x="311" y="271"/>
                </a:lnTo>
                <a:lnTo>
                  <a:pt x="307" y="269"/>
                </a:lnTo>
                <a:lnTo>
                  <a:pt x="302" y="267"/>
                </a:lnTo>
                <a:lnTo>
                  <a:pt x="296" y="265"/>
                </a:lnTo>
                <a:lnTo>
                  <a:pt x="290" y="263"/>
                </a:lnTo>
                <a:lnTo>
                  <a:pt x="283" y="261"/>
                </a:lnTo>
                <a:lnTo>
                  <a:pt x="275" y="257"/>
                </a:lnTo>
                <a:lnTo>
                  <a:pt x="265" y="254"/>
                </a:lnTo>
                <a:lnTo>
                  <a:pt x="258" y="250"/>
                </a:lnTo>
                <a:lnTo>
                  <a:pt x="248" y="246"/>
                </a:lnTo>
                <a:lnTo>
                  <a:pt x="236" y="242"/>
                </a:lnTo>
                <a:lnTo>
                  <a:pt x="225" y="236"/>
                </a:lnTo>
                <a:lnTo>
                  <a:pt x="213" y="231"/>
                </a:lnTo>
                <a:lnTo>
                  <a:pt x="200" y="223"/>
                </a:lnTo>
                <a:lnTo>
                  <a:pt x="188" y="213"/>
                </a:lnTo>
                <a:lnTo>
                  <a:pt x="175" y="202"/>
                </a:lnTo>
                <a:lnTo>
                  <a:pt x="160" y="190"/>
                </a:lnTo>
                <a:lnTo>
                  <a:pt x="146" y="177"/>
                </a:lnTo>
                <a:lnTo>
                  <a:pt x="131" y="161"/>
                </a:lnTo>
                <a:lnTo>
                  <a:pt x="116" y="146"/>
                </a:lnTo>
                <a:lnTo>
                  <a:pt x="100" y="129"/>
                </a:lnTo>
                <a:lnTo>
                  <a:pt x="85" y="110"/>
                </a:lnTo>
                <a:lnTo>
                  <a:pt x="68" y="90"/>
                </a:lnTo>
                <a:lnTo>
                  <a:pt x="50" y="69"/>
                </a:lnTo>
                <a:lnTo>
                  <a:pt x="35" y="48"/>
                </a:lnTo>
                <a:lnTo>
                  <a:pt x="18" y="2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6608880" y="3174840"/>
            <a:ext cx="742680" cy="765360"/>
          </a:xfrm>
          <a:custGeom>
            <a:avLst/>
            <a:gdLst/>
            <a:ahLst/>
            <a:rect l="l" t="t" r="r" b="b"/>
            <a:pathLst>
              <a:path w="937" h="964">
                <a:moveTo>
                  <a:pt x="630" y="37"/>
                </a:moveTo>
                <a:lnTo>
                  <a:pt x="637" y="29"/>
                </a:lnTo>
                <a:lnTo>
                  <a:pt x="647" y="21"/>
                </a:lnTo>
                <a:lnTo>
                  <a:pt x="655" y="16"/>
                </a:lnTo>
                <a:lnTo>
                  <a:pt x="664" y="10"/>
                </a:lnTo>
                <a:lnTo>
                  <a:pt x="674" y="6"/>
                </a:lnTo>
                <a:lnTo>
                  <a:pt x="682" y="2"/>
                </a:lnTo>
                <a:lnTo>
                  <a:pt x="691" y="2"/>
                </a:lnTo>
                <a:lnTo>
                  <a:pt x="701" y="0"/>
                </a:lnTo>
                <a:lnTo>
                  <a:pt x="703" y="0"/>
                </a:lnTo>
                <a:lnTo>
                  <a:pt x="707" y="2"/>
                </a:lnTo>
                <a:lnTo>
                  <a:pt x="710" y="4"/>
                </a:lnTo>
                <a:lnTo>
                  <a:pt x="716" y="4"/>
                </a:lnTo>
                <a:lnTo>
                  <a:pt x="722" y="8"/>
                </a:lnTo>
                <a:lnTo>
                  <a:pt x="728" y="10"/>
                </a:lnTo>
                <a:lnTo>
                  <a:pt x="735" y="14"/>
                </a:lnTo>
                <a:lnTo>
                  <a:pt x="743" y="18"/>
                </a:lnTo>
                <a:lnTo>
                  <a:pt x="753" y="21"/>
                </a:lnTo>
                <a:lnTo>
                  <a:pt x="760" y="25"/>
                </a:lnTo>
                <a:lnTo>
                  <a:pt x="772" y="31"/>
                </a:lnTo>
                <a:lnTo>
                  <a:pt x="781" y="37"/>
                </a:lnTo>
                <a:lnTo>
                  <a:pt x="793" y="42"/>
                </a:lnTo>
                <a:lnTo>
                  <a:pt x="804" y="48"/>
                </a:lnTo>
                <a:lnTo>
                  <a:pt x="818" y="54"/>
                </a:lnTo>
                <a:lnTo>
                  <a:pt x="831" y="62"/>
                </a:lnTo>
                <a:lnTo>
                  <a:pt x="843" y="71"/>
                </a:lnTo>
                <a:lnTo>
                  <a:pt x="854" y="79"/>
                </a:lnTo>
                <a:lnTo>
                  <a:pt x="866" y="87"/>
                </a:lnTo>
                <a:lnTo>
                  <a:pt x="877" y="96"/>
                </a:lnTo>
                <a:lnTo>
                  <a:pt x="887" y="104"/>
                </a:lnTo>
                <a:lnTo>
                  <a:pt x="895" y="110"/>
                </a:lnTo>
                <a:lnTo>
                  <a:pt x="902" y="117"/>
                </a:lnTo>
                <a:lnTo>
                  <a:pt x="910" y="123"/>
                </a:lnTo>
                <a:lnTo>
                  <a:pt x="916" y="131"/>
                </a:lnTo>
                <a:lnTo>
                  <a:pt x="922" y="135"/>
                </a:lnTo>
                <a:lnTo>
                  <a:pt x="927" y="140"/>
                </a:lnTo>
                <a:lnTo>
                  <a:pt x="931" y="144"/>
                </a:lnTo>
                <a:lnTo>
                  <a:pt x="933" y="150"/>
                </a:lnTo>
                <a:lnTo>
                  <a:pt x="935" y="152"/>
                </a:lnTo>
                <a:lnTo>
                  <a:pt x="937" y="156"/>
                </a:lnTo>
                <a:lnTo>
                  <a:pt x="937" y="158"/>
                </a:lnTo>
                <a:lnTo>
                  <a:pt x="937" y="161"/>
                </a:lnTo>
                <a:lnTo>
                  <a:pt x="935" y="163"/>
                </a:lnTo>
                <a:lnTo>
                  <a:pt x="935" y="165"/>
                </a:lnTo>
                <a:lnTo>
                  <a:pt x="933" y="169"/>
                </a:lnTo>
                <a:lnTo>
                  <a:pt x="931" y="173"/>
                </a:lnTo>
                <a:lnTo>
                  <a:pt x="927" y="175"/>
                </a:lnTo>
                <a:lnTo>
                  <a:pt x="922" y="183"/>
                </a:lnTo>
                <a:lnTo>
                  <a:pt x="912" y="190"/>
                </a:lnTo>
                <a:lnTo>
                  <a:pt x="902" y="196"/>
                </a:lnTo>
                <a:lnTo>
                  <a:pt x="891" y="202"/>
                </a:lnTo>
                <a:lnTo>
                  <a:pt x="877" y="208"/>
                </a:lnTo>
                <a:lnTo>
                  <a:pt x="876" y="209"/>
                </a:lnTo>
                <a:lnTo>
                  <a:pt x="872" y="213"/>
                </a:lnTo>
                <a:lnTo>
                  <a:pt x="868" y="217"/>
                </a:lnTo>
                <a:lnTo>
                  <a:pt x="864" y="221"/>
                </a:lnTo>
                <a:lnTo>
                  <a:pt x="860" y="227"/>
                </a:lnTo>
                <a:lnTo>
                  <a:pt x="856" y="232"/>
                </a:lnTo>
                <a:lnTo>
                  <a:pt x="852" y="238"/>
                </a:lnTo>
                <a:lnTo>
                  <a:pt x="849" y="246"/>
                </a:lnTo>
                <a:lnTo>
                  <a:pt x="845" y="254"/>
                </a:lnTo>
                <a:lnTo>
                  <a:pt x="841" y="261"/>
                </a:lnTo>
                <a:lnTo>
                  <a:pt x="837" y="271"/>
                </a:lnTo>
                <a:lnTo>
                  <a:pt x="833" y="280"/>
                </a:lnTo>
                <a:lnTo>
                  <a:pt x="829" y="290"/>
                </a:lnTo>
                <a:lnTo>
                  <a:pt x="824" y="300"/>
                </a:lnTo>
                <a:lnTo>
                  <a:pt x="820" y="311"/>
                </a:lnTo>
                <a:lnTo>
                  <a:pt x="816" y="325"/>
                </a:lnTo>
                <a:lnTo>
                  <a:pt x="810" y="336"/>
                </a:lnTo>
                <a:lnTo>
                  <a:pt x="806" y="350"/>
                </a:lnTo>
                <a:lnTo>
                  <a:pt x="801" y="363"/>
                </a:lnTo>
                <a:lnTo>
                  <a:pt x="797" y="376"/>
                </a:lnTo>
                <a:lnTo>
                  <a:pt x="791" y="392"/>
                </a:lnTo>
                <a:lnTo>
                  <a:pt x="787" y="407"/>
                </a:lnTo>
                <a:lnTo>
                  <a:pt x="781" y="424"/>
                </a:lnTo>
                <a:lnTo>
                  <a:pt x="778" y="440"/>
                </a:lnTo>
                <a:lnTo>
                  <a:pt x="772" y="457"/>
                </a:lnTo>
                <a:lnTo>
                  <a:pt x="768" y="476"/>
                </a:lnTo>
                <a:lnTo>
                  <a:pt x="762" y="493"/>
                </a:lnTo>
                <a:lnTo>
                  <a:pt x="756" y="513"/>
                </a:lnTo>
                <a:lnTo>
                  <a:pt x="751" y="532"/>
                </a:lnTo>
                <a:lnTo>
                  <a:pt x="747" y="553"/>
                </a:lnTo>
                <a:lnTo>
                  <a:pt x="741" y="574"/>
                </a:lnTo>
                <a:lnTo>
                  <a:pt x="735" y="595"/>
                </a:lnTo>
                <a:lnTo>
                  <a:pt x="730" y="616"/>
                </a:lnTo>
                <a:lnTo>
                  <a:pt x="724" y="639"/>
                </a:lnTo>
                <a:lnTo>
                  <a:pt x="720" y="660"/>
                </a:lnTo>
                <a:lnTo>
                  <a:pt x="714" y="680"/>
                </a:lnTo>
                <a:lnTo>
                  <a:pt x="710" y="699"/>
                </a:lnTo>
                <a:lnTo>
                  <a:pt x="705" y="718"/>
                </a:lnTo>
                <a:lnTo>
                  <a:pt x="701" y="737"/>
                </a:lnTo>
                <a:lnTo>
                  <a:pt x="695" y="754"/>
                </a:lnTo>
                <a:lnTo>
                  <a:pt x="691" y="770"/>
                </a:lnTo>
                <a:lnTo>
                  <a:pt x="687" y="787"/>
                </a:lnTo>
                <a:lnTo>
                  <a:pt x="684" y="802"/>
                </a:lnTo>
                <a:lnTo>
                  <a:pt x="678" y="816"/>
                </a:lnTo>
                <a:lnTo>
                  <a:pt x="674" y="831"/>
                </a:lnTo>
                <a:lnTo>
                  <a:pt x="670" y="843"/>
                </a:lnTo>
                <a:lnTo>
                  <a:pt x="666" y="856"/>
                </a:lnTo>
                <a:lnTo>
                  <a:pt x="662" y="868"/>
                </a:lnTo>
                <a:lnTo>
                  <a:pt x="661" y="879"/>
                </a:lnTo>
                <a:lnTo>
                  <a:pt x="657" y="889"/>
                </a:lnTo>
                <a:lnTo>
                  <a:pt x="653" y="898"/>
                </a:lnTo>
                <a:lnTo>
                  <a:pt x="649" y="908"/>
                </a:lnTo>
                <a:lnTo>
                  <a:pt x="647" y="916"/>
                </a:lnTo>
                <a:lnTo>
                  <a:pt x="643" y="923"/>
                </a:lnTo>
                <a:lnTo>
                  <a:pt x="639" y="929"/>
                </a:lnTo>
                <a:lnTo>
                  <a:pt x="637" y="935"/>
                </a:lnTo>
                <a:lnTo>
                  <a:pt x="634" y="941"/>
                </a:lnTo>
                <a:lnTo>
                  <a:pt x="632" y="946"/>
                </a:lnTo>
                <a:lnTo>
                  <a:pt x="630" y="950"/>
                </a:lnTo>
                <a:lnTo>
                  <a:pt x="626" y="952"/>
                </a:lnTo>
                <a:lnTo>
                  <a:pt x="624" y="956"/>
                </a:lnTo>
                <a:lnTo>
                  <a:pt x="622" y="958"/>
                </a:lnTo>
                <a:lnTo>
                  <a:pt x="618" y="958"/>
                </a:lnTo>
                <a:lnTo>
                  <a:pt x="616" y="958"/>
                </a:lnTo>
                <a:lnTo>
                  <a:pt x="613" y="960"/>
                </a:lnTo>
                <a:lnTo>
                  <a:pt x="609" y="962"/>
                </a:lnTo>
                <a:lnTo>
                  <a:pt x="603" y="964"/>
                </a:lnTo>
                <a:lnTo>
                  <a:pt x="599" y="964"/>
                </a:lnTo>
                <a:lnTo>
                  <a:pt x="591" y="964"/>
                </a:lnTo>
                <a:lnTo>
                  <a:pt x="584" y="962"/>
                </a:lnTo>
                <a:lnTo>
                  <a:pt x="576" y="958"/>
                </a:lnTo>
                <a:lnTo>
                  <a:pt x="568" y="956"/>
                </a:lnTo>
                <a:lnTo>
                  <a:pt x="563" y="950"/>
                </a:lnTo>
                <a:lnTo>
                  <a:pt x="557" y="946"/>
                </a:lnTo>
                <a:lnTo>
                  <a:pt x="557" y="944"/>
                </a:lnTo>
                <a:lnTo>
                  <a:pt x="555" y="943"/>
                </a:lnTo>
                <a:lnTo>
                  <a:pt x="555" y="941"/>
                </a:lnTo>
                <a:lnTo>
                  <a:pt x="553" y="937"/>
                </a:lnTo>
                <a:lnTo>
                  <a:pt x="553" y="933"/>
                </a:lnTo>
                <a:lnTo>
                  <a:pt x="553" y="929"/>
                </a:lnTo>
                <a:lnTo>
                  <a:pt x="551" y="925"/>
                </a:lnTo>
                <a:lnTo>
                  <a:pt x="551" y="920"/>
                </a:lnTo>
                <a:lnTo>
                  <a:pt x="551" y="914"/>
                </a:lnTo>
                <a:lnTo>
                  <a:pt x="551" y="906"/>
                </a:lnTo>
                <a:lnTo>
                  <a:pt x="551" y="900"/>
                </a:lnTo>
                <a:lnTo>
                  <a:pt x="551" y="893"/>
                </a:lnTo>
                <a:lnTo>
                  <a:pt x="551" y="883"/>
                </a:lnTo>
                <a:lnTo>
                  <a:pt x="551" y="875"/>
                </a:lnTo>
                <a:lnTo>
                  <a:pt x="551" y="866"/>
                </a:lnTo>
                <a:lnTo>
                  <a:pt x="553" y="856"/>
                </a:lnTo>
                <a:lnTo>
                  <a:pt x="553" y="845"/>
                </a:lnTo>
                <a:lnTo>
                  <a:pt x="553" y="833"/>
                </a:lnTo>
                <a:lnTo>
                  <a:pt x="555" y="822"/>
                </a:lnTo>
                <a:lnTo>
                  <a:pt x="555" y="810"/>
                </a:lnTo>
                <a:lnTo>
                  <a:pt x="557" y="797"/>
                </a:lnTo>
                <a:lnTo>
                  <a:pt x="559" y="783"/>
                </a:lnTo>
                <a:lnTo>
                  <a:pt x="559" y="770"/>
                </a:lnTo>
                <a:lnTo>
                  <a:pt x="561" y="756"/>
                </a:lnTo>
                <a:lnTo>
                  <a:pt x="563" y="741"/>
                </a:lnTo>
                <a:lnTo>
                  <a:pt x="565" y="726"/>
                </a:lnTo>
                <a:lnTo>
                  <a:pt x="568" y="708"/>
                </a:lnTo>
                <a:lnTo>
                  <a:pt x="570" y="691"/>
                </a:lnTo>
                <a:lnTo>
                  <a:pt x="572" y="674"/>
                </a:lnTo>
                <a:lnTo>
                  <a:pt x="576" y="657"/>
                </a:lnTo>
                <a:lnTo>
                  <a:pt x="578" y="637"/>
                </a:lnTo>
                <a:lnTo>
                  <a:pt x="582" y="620"/>
                </a:lnTo>
                <a:lnTo>
                  <a:pt x="588" y="584"/>
                </a:lnTo>
                <a:lnTo>
                  <a:pt x="593" y="549"/>
                </a:lnTo>
                <a:lnTo>
                  <a:pt x="599" y="518"/>
                </a:lnTo>
                <a:lnTo>
                  <a:pt x="603" y="488"/>
                </a:lnTo>
                <a:lnTo>
                  <a:pt x="609" y="459"/>
                </a:lnTo>
                <a:lnTo>
                  <a:pt x="613" y="432"/>
                </a:lnTo>
                <a:lnTo>
                  <a:pt x="614" y="407"/>
                </a:lnTo>
                <a:lnTo>
                  <a:pt x="618" y="384"/>
                </a:lnTo>
                <a:lnTo>
                  <a:pt x="620" y="363"/>
                </a:lnTo>
                <a:lnTo>
                  <a:pt x="624" y="344"/>
                </a:lnTo>
                <a:lnTo>
                  <a:pt x="624" y="327"/>
                </a:lnTo>
                <a:lnTo>
                  <a:pt x="626" y="319"/>
                </a:lnTo>
                <a:lnTo>
                  <a:pt x="626" y="311"/>
                </a:lnTo>
                <a:lnTo>
                  <a:pt x="628" y="303"/>
                </a:lnTo>
                <a:lnTo>
                  <a:pt x="628" y="296"/>
                </a:lnTo>
                <a:lnTo>
                  <a:pt x="628" y="290"/>
                </a:lnTo>
                <a:lnTo>
                  <a:pt x="628" y="284"/>
                </a:lnTo>
                <a:lnTo>
                  <a:pt x="628" y="280"/>
                </a:lnTo>
                <a:lnTo>
                  <a:pt x="628" y="275"/>
                </a:lnTo>
                <a:lnTo>
                  <a:pt x="630" y="271"/>
                </a:lnTo>
                <a:lnTo>
                  <a:pt x="630" y="267"/>
                </a:lnTo>
                <a:lnTo>
                  <a:pt x="628" y="254"/>
                </a:lnTo>
                <a:lnTo>
                  <a:pt x="628" y="240"/>
                </a:lnTo>
                <a:lnTo>
                  <a:pt x="628" y="229"/>
                </a:lnTo>
                <a:lnTo>
                  <a:pt x="628" y="215"/>
                </a:lnTo>
                <a:lnTo>
                  <a:pt x="626" y="206"/>
                </a:lnTo>
                <a:lnTo>
                  <a:pt x="624" y="196"/>
                </a:lnTo>
                <a:lnTo>
                  <a:pt x="622" y="192"/>
                </a:lnTo>
                <a:lnTo>
                  <a:pt x="620" y="188"/>
                </a:lnTo>
                <a:lnTo>
                  <a:pt x="618" y="185"/>
                </a:lnTo>
                <a:lnTo>
                  <a:pt x="616" y="183"/>
                </a:lnTo>
                <a:lnTo>
                  <a:pt x="614" y="183"/>
                </a:lnTo>
                <a:lnTo>
                  <a:pt x="613" y="181"/>
                </a:lnTo>
                <a:lnTo>
                  <a:pt x="609" y="181"/>
                </a:lnTo>
                <a:lnTo>
                  <a:pt x="603" y="181"/>
                </a:lnTo>
                <a:lnTo>
                  <a:pt x="597" y="181"/>
                </a:lnTo>
                <a:lnTo>
                  <a:pt x="589" y="181"/>
                </a:lnTo>
                <a:lnTo>
                  <a:pt x="582" y="181"/>
                </a:lnTo>
                <a:lnTo>
                  <a:pt x="572" y="183"/>
                </a:lnTo>
                <a:lnTo>
                  <a:pt x="563" y="183"/>
                </a:lnTo>
                <a:lnTo>
                  <a:pt x="549" y="185"/>
                </a:lnTo>
                <a:lnTo>
                  <a:pt x="538" y="186"/>
                </a:lnTo>
                <a:lnTo>
                  <a:pt x="522" y="188"/>
                </a:lnTo>
                <a:lnTo>
                  <a:pt x="507" y="190"/>
                </a:lnTo>
                <a:lnTo>
                  <a:pt x="492" y="192"/>
                </a:lnTo>
                <a:lnTo>
                  <a:pt x="474" y="194"/>
                </a:lnTo>
                <a:lnTo>
                  <a:pt x="455" y="198"/>
                </a:lnTo>
                <a:lnTo>
                  <a:pt x="436" y="200"/>
                </a:lnTo>
                <a:lnTo>
                  <a:pt x="415" y="204"/>
                </a:lnTo>
                <a:lnTo>
                  <a:pt x="392" y="208"/>
                </a:lnTo>
                <a:lnTo>
                  <a:pt x="369" y="209"/>
                </a:lnTo>
                <a:lnTo>
                  <a:pt x="346" y="213"/>
                </a:lnTo>
                <a:lnTo>
                  <a:pt x="319" y="217"/>
                </a:lnTo>
                <a:lnTo>
                  <a:pt x="292" y="223"/>
                </a:lnTo>
                <a:lnTo>
                  <a:pt x="265" y="227"/>
                </a:lnTo>
                <a:lnTo>
                  <a:pt x="236" y="231"/>
                </a:lnTo>
                <a:lnTo>
                  <a:pt x="206" y="236"/>
                </a:lnTo>
                <a:lnTo>
                  <a:pt x="175" y="240"/>
                </a:lnTo>
                <a:lnTo>
                  <a:pt x="142" y="246"/>
                </a:lnTo>
                <a:lnTo>
                  <a:pt x="108" y="252"/>
                </a:lnTo>
                <a:lnTo>
                  <a:pt x="73" y="256"/>
                </a:lnTo>
                <a:lnTo>
                  <a:pt x="37" y="261"/>
                </a:lnTo>
                <a:lnTo>
                  <a:pt x="0" y="267"/>
                </a:lnTo>
                <a:lnTo>
                  <a:pt x="0" y="158"/>
                </a:lnTo>
                <a:lnTo>
                  <a:pt x="40" y="158"/>
                </a:lnTo>
                <a:lnTo>
                  <a:pt x="83" y="156"/>
                </a:lnTo>
                <a:lnTo>
                  <a:pt x="104" y="154"/>
                </a:lnTo>
                <a:lnTo>
                  <a:pt x="127" y="152"/>
                </a:lnTo>
                <a:lnTo>
                  <a:pt x="150" y="150"/>
                </a:lnTo>
                <a:lnTo>
                  <a:pt x="173" y="148"/>
                </a:lnTo>
                <a:lnTo>
                  <a:pt x="196" y="144"/>
                </a:lnTo>
                <a:lnTo>
                  <a:pt x="221" y="142"/>
                </a:lnTo>
                <a:lnTo>
                  <a:pt x="246" y="138"/>
                </a:lnTo>
                <a:lnTo>
                  <a:pt x="271" y="133"/>
                </a:lnTo>
                <a:lnTo>
                  <a:pt x="296" y="129"/>
                </a:lnTo>
                <a:lnTo>
                  <a:pt x="325" y="123"/>
                </a:lnTo>
                <a:lnTo>
                  <a:pt x="351" y="117"/>
                </a:lnTo>
                <a:lnTo>
                  <a:pt x="380" y="110"/>
                </a:lnTo>
                <a:lnTo>
                  <a:pt x="407" y="104"/>
                </a:lnTo>
                <a:lnTo>
                  <a:pt x="434" y="96"/>
                </a:lnTo>
                <a:lnTo>
                  <a:pt x="459" y="90"/>
                </a:lnTo>
                <a:lnTo>
                  <a:pt x="482" y="85"/>
                </a:lnTo>
                <a:lnTo>
                  <a:pt x="503" y="79"/>
                </a:lnTo>
                <a:lnTo>
                  <a:pt x="522" y="73"/>
                </a:lnTo>
                <a:lnTo>
                  <a:pt x="541" y="69"/>
                </a:lnTo>
                <a:lnTo>
                  <a:pt x="557" y="64"/>
                </a:lnTo>
                <a:lnTo>
                  <a:pt x="572" y="60"/>
                </a:lnTo>
                <a:lnTo>
                  <a:pt x="586" y="56"/>
                </a:lnTo>
                <a:lnTo>
                  <a:pt x="597" y="52"/>
                </a:lnTo>
                <a:lnTo>
                  <a:pt x="607" y="48"/>
                </a:lnTo>
                <a:lnTo>
                  <a:pt x="614" y="44"/>
                </a:lnTo>
                <a:lnTo>
                  <a:pt x="620" y="42"/>
                </a:lnTo>
                <a:lnTo>
                  <a:pt x="626" y="41"/>
                </a:lnTo>
                <a:lnTo>
                  <a:pt x="630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6654960" y="3540240"/>
            <a:ext cx="349200" cy="155520"/>
          </a:xfrm>
          <a:custGeom>
            <a:avLst/>
            <a:gdLst/>
            <a:ahLst/>
            <a:rect l="l" t="t" r="r" b="b"/>
            <a:pathLst>
              <a:path w="439" h="196">
                <a:moveTo>
                  <a:pt x="403" y="98"/>
                </a:moveTo>
                <a:lnTo>
                  <a:pt x="401" y="100"/>
                </a:lnTo>
                <a:lnTo>
                  <a:pt x="397" y="102"/>
                </a:lnTo>
                <a:lnTo>
                  <a:pt x="393" y="103"/>
                </a:lnTo>
                <a:lnTo>
                  <a:pt x="387" y="107"/>
                </a:lnTo>
                <a:lnTo>
                  <a:pt x="382" y="109"/>
                </a:lnTo>
                <a:lnTo>
                  <a:pt x="376" y="111"/>
                </a:lnTo>
                <a:lnTo>
                  <a:pt x="368" y="113"/>
                </a:lnTo>
                <a:lnTo>
                  <a:pt x="361" y="115"/>
                </a:lnTo>
                <a:lnTo>
                  <a:pt x="351" y="119"/>
                </a:lnTo>
                <a:lnTo>
                  <a:pt x="341" y="121"/>
                </a:lnTo>
                <a:lnTo>
                  <a:pt x="332" y="123"/>
                </a:lnTo>
                <a:lnTo>
                  <a:pt x="320" y="125"/>
                </a:lnTo>
                <a:lnTo>
                  <a:pt x="311" y="127"/>
                </a:lnTo>
                <a:lnTo>
                  <a:pt x="297" y="128"/>
                </a:lnTo>
                <a:lnTo>
                  <a:pt x="286" y="132"/>
                </a:lnTo>
                <a:lnTo>
                  <a:pt x="272" y="134"/>
                </a:lnTo>
                <a:lnTo>
                  <a:pt x="242" y="138"/>
                </a:lnTo>
                <a:lnTo>
                  <a:pt x="209" y="146"/>
                </a:lnTo>
                <a:lnTo>
                  <a:pt x="178" y="151"/>
                </a:lnTo>
                <a:lnTo>
                  <a:pt x="146" y="159"/>
                </a:lnTo>
                <a:lnTo>
                  <a:pt x="111" y="167"/>
                </a:lnTo>
                <a:lnTo>
                  <a:pt x="76" y="176"/>
                </a:lnTo>
                <a:lnTo>
                  <a:pt x="57" y="180"/>
                </a:lnTo>
                <a:lnTo>
                  <a:pt x="38" y="186"/>
                </a:lnTo>
                <a:lnTo>
                  <a:pt x="19" y="190"/>
                </a:lnTo>
                <a:lnTo>
                  <a:pt x="0" y="196"/>
                </a:lnTo>
                <a:lnTo>
                  <a:pt x="0" y="146"/>
                </a:lnTo>
                <a:lnTo>
                  <a:pt x="0" y="98"/>
                </a:lnTo>
                <a:lnTo>
                  <a:pt x="19" y="92"/>
                </a:lnTo>
                <a:lnTo>
                  <a:pt x="38" y="86"/>
                </a:lnTo>
                <a:lnTo>
                  <a:pt x="57" y="80"/>
                </a:lnTo>
                <a:lnTo>
                  <a:pt x="76" y="75"/>
                </a:lnTo>
                <a:lnTo>
                  <a:pt x="94" y="71"/>
                </a:lnTo>
                <a:lnTo>
                  <a:pt x="111" y="65"/>
                </a:lnTo>
                <a:lnTo>
                  <a:pt x="128" y="61"/>
                </a:lnTo>
                <a:lnTo>
                  <a:pt x="144" y="56"/>
                </a:lnTo>
                <a:lnTo>
                  <a:pt x="159" y="52"/>
                </a:lnTo>
                <a:lnTo>
                  <a:pt x="174" y="48"/>
                </a:lnTo>
                <a:lnTo>
                  <a:pt x="190" y="44"/>
                </a:lnTo>
                <a:lnTo>
                  <a:pt x="203" y="40"/>
                </a:lnTo>
                <a:lnTo>
                  <a:pt x="218" y="36"/>
                </a:lnTo>
                <a:lnTo>
                  <a:pt x="230" y="32"/>
                </a:lnTo>
                <a:lnTo>
                  <a:pt x="243" y="29"/>
                </a:lnTo>
                <a:lnTo>
                  <a:pt x="255" y="27"/>
                </a:lnTo>
                <a:lnTo>
                  <a:pt x="268" y="23"/>
                </a:lnTo>
                <a:lnTo>
                  <a:pt x="278" y="19"/>
                </a:lnTo>
                <a:lnTo>
                  <a:pt x="289" y="17"/>
                </a:lnTo>
                <a:lnTo>
                  <a:pt x="299" y="15"/>
                </a:lnTo>
                <a:lnTo>
                  <a:pt x="309" y="13"/>
                </a:lnTo>
                <a:lnTo>
                  <a:pt x="318" y="11"/>
                </a:lnTo>
                <a:lnTo>
                  <a:pt x="326" y="9"/>
                </a:lnTo>
                <a:lnTo>
                  <a:pt x="334" y="8"/>
                </a:lnTo>
                <a:lnTo>
                  <a:pt x="341" y="6"/>
                </a:lnTo>
                <a:lnTo>
                  <a:pt x="349" y="4"/>
                </a:lnTo>
                <a:lnTo>
                  <a:pt x="355" y="4"/>
                </a:lnTo>
                <a:lnTo>
                  <a:pt x="361" y="2"/>
                </a:lnTo>
                <a:lnTo>
                  <a:pt x="366" y="2"/>
                </a:lnTo>
                <a:lnTo>
                  <a:pt x="370" y="0"/>
                </a:lnTo>
                <a:lnTo>
                  <a:pt x="376" y="0"/>
                </a:lnTo>
                <a:lnTo>
                  <a:pt x="380" y="0"/>
                </a:lnTo>
                <a:lnTo>
                  <a:pt x="391" y="6"/>
                </a:lnTo>
                <a:lnTo>
                  <a:pt x="403" y="9"/>
                </a:lnTo>
                <a:lnTo>
                  <a:pt x="414" y="13"/>
                </a:lnTo>
                <a:lnTo>
                  <a:pt x="422" y="19"/>
                </a:lnTo>
                <a:lnTo>
                  <a:pt x="430" y="23"/>
                </a:lnTo>
                <a:lnTo>
                  <a:pt x="432" y="25"/>
                </a:lnTo>
                <a:lnTo>
                  <a:pt x="433" y="27"/>
                </a:lnTo>
                <a:lnTo>
                  <a:pt x="435" y="31"/>
                </a:lnTo>
                <a:lnTo>
                  <a:pt x="437" y="32"/>
                </a:lnTo>
                <a:lnTo>
                  <a:pt x="437" y="34"/>
                </a:lnTo>
                <a:lnTo>
                  <a:pt x="439" y="36"/>
                </a:lnTo>
                <a:lnTo>
                  <a:pt x="437" y="42"/>
                </a:lnTo>
                <a:lnTo>
                  <a:pt x="435" y="48"/>
                </a:lnTo>
                <a:lnTo>
                  <a:pt x="433" y="56"/>
                </a:lnTo>
                <a:lnTo>
                  <a:pt x="430" y="63"/>
                </a:lnTo>
                <a:lnTo>
                  <a:pt x="424" y="71"/>
                </a:lnTo>
                <a:lnTo>
                  <a:pt x="418" y="79"/>
                </a:lnTo>
                <a:lnTo>
                  <a:pt x="410" y="88"/>
                </a:lnTo>
                <a:lnTo>
                  <a:pt x="403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6637320" y="3821040"/>
            <a:ext cx="450720" cy="163440"/>
          </a:xfrm>
          <a:custGeom>
            <a:avLst/>
            <a:gdLst/>
            <a:ahLst/>
            <a:rect l="l" t="t" r="r" b="b"/>
            <a:pathLst>
              <a:path w="568" h="205">
                <a:moveTo>
                  <a:pt x="0" y="96"/>
                </a:moveTo>
                <a:lnTo>
                  <a:pt x="142" y="71"/>
                </a:lnTo>
                <a:lnTo>
                  <a:pt x="284" y="48"/>
                </a:lnTo>
                <a:lnTo>
                  <a:pt x="426" y="23"/>
                </a:lnTo>
                <a:lnTo>
                  <a:pt x="568" y="0"/>
                </a:lnTo>
                <a:lnTo>
                  <a:pt x="568" y="54"/>
                </a:lnTo>
                <a:lnTo>
                  <a:pt x="568" y="107"/>
                </a:lnTo>
                <a:lnTo>
                  <a:pt x="426" y="132"/>
                </a:lnTo>
                <a:lnTo>
                  <a:pt x="284" y="157"/>
                </a:lnTo>
                <a:lnTo>
                  <a:pt x="142" y="180"/>
                </a:lnTo>
                <a:lnTo>
                  <a:pt x="0" y="205"/>
                </a:lnTo>
                <a:lnTo>
                  <a:pt x="0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6477120" y="3284640"/>
            <a:ext cx="574560" cy="1690560"/>
          </a:xfrm>
          <a:custGeom>
            <a:avLst/>
            <a:gdLst/>
            <a:ahLst/>
            <a:rect l="l" t="t" r="r" b="b"/>
            <a:pathLst>
              <a:path w="724" h="2131">
                <a:moveTo>
                  <a:pt x="106" y="227"/>
                </a:moveTo>
                <a:lnTo>
                  <a:pt x="104" y="202"/>
                </a:lnTo>
                <a:lnTo>
                  <a:pt x="102" y="179"/>
                </a:lnTo>
                <a:lnTo>
                  <a:pt x="100" y="158"/>
                </a:lnTo>
                <a:lnTo>
                  <a:pt x="98" y="139"/>
                </a:lnTo>
                <a:lnTo>
                  <a:pt x="96" y="119"/>
                </a:lnTo>
                <a:lnTo>
                  <a:pt x="94" y="102"/>
                </a:lnTo>
                <a:lnTo>
                  <a:pt x="92" y="87"/>
                </a:lnTo>
                <a:lnTo>
                  <a:pt x="90" y="71"/>
                </a:lnTo>
                <a:lnTo>
                  <a:pt x="88" y="58"/>
                </a:lnTo>
                <a:lnTo>
                  <a:pt x="86" y="47"/>
                </a:lnTo>
                <a:lnTo>
                  <a:pt x="84" y="37"/>
                </a:lnTo>
                <a:lnTo>
                  <a:pt x="84" y="29"/>
                </a:lnTo>
                <a:lnTo>
                  <a:pt x="83" y="22"/>
                </a:lnTo>
                <a:lnTo>
                  <a:pt x="83" y="16"/>
                </a:lnTo>
                <a:lnTo>
                  <a:pt x="83" y="12"/>
                </a:lnTo>
                <a:lnTo>
                  <a:pt x="83" y="8"/>
                </a:lnTo>
                <a:lnTo>
                  <a:pt x="83" y="6"/>
                </a:lnTo>
                <a:lnTo>
                  <a:pt x="84" y="4"/>
                </a:lnTo>
                <a:lnTo>
                  <a:pt x="88" y="2"/>
                </a:lnTo>
                <a:lnTo>
                  <a:pt x="94" y="2"/>
                </a:lnTo>
                <a:lnTo>
                  <a:pt x="100" y="0"/>
                </a:lnTo>
                <a:lnTo>
                  <a:pt x="107" y="0"/>
                </a:lnTo>
                <a:lnTo>
                  <a:pt x="117" y="0"/>
                </a:lnTo>
                <a:lnTo>
                  <a:pt x="127" y="2"/>
                </a:lnTo>
                <a:lnTo>
                  <a:pt x="138" y="4"/>
                </a:lnTo>
                <a:lnTo>
                  <a:pt x="152" y="6"/>
                </a:lnTo>
                <a:lnTo>
                  <a:pt x="167" y="8"/>
                </a:lnTo>
                <a:lnTo>
                  <a:pt x="182" y="12"/>
                </a:lnTo>
                <a:lnTo>
                  <a:pt x="200" y="16"/>
                </a:lnTo>
                <a:lnTo>
                  <a:pt x="219" y="20"/>
                </a:lnTo>
                <a:lnTo>
                  <a:pt x="238" y="25"/>
                </a:lnTo>
                <a:lnTo>
                  <a:pt x="261" y="33"/>
                </a:lnTo>
                <a:lnTo>
                  <a:pt x="261" y="85"/>
                </a:lnTo>
                <a:lnTo>
                  <a:pt x="261" y="135"/>
                </a:lnTo>
                <a:lnTo>
                  <a:pt x="261" y="187"/>
                </a:lnTo>
                <a:lnTo>
                  <a:pt x="259" y="235"/>
                </a:lnTo>
                <a:lnTo>
                  <a:pt x="259" y="284"/>
                </a:lnTo>
                <a:lnTo>
                  <a:pt x="259" y="332"/>
                </a:lnTo>
                <a:lnTo>
                  <a:pt x="259" y="379"/>
                </a:lnTo>
                <a:lnTo>
                  <a:pt x="259" y="426"/>
                </a:lnTo>
                <a:lnTo>
                  <a:pt x="259" y="471"/>
                </a:lnTo>
                <a:lnTo>
                  <a:pt x="259" y="517"/>
                </a:lnTo>
                <a:lnTo>
                  <a:pt x="259" y="559"/>
                </a:lnTo>
                <a:lnTo>
                  <a:pt x="259" y="603"/>
                </a:lnTo>
                <a:lnTo>
                  <a:pt x="259" y="645"/>
                </a:lnTo>
                <a:lnTo>
                  <a:pt x="259" y="687"/>
                </a:lnTo>
                <a:lnTo>
                  <a:pt x="259" y="728"/>
                </a:lnTo>
                <a:lnTo>
                  <a:pt x="259" y="768"/>
                </a:lnTo>
                <a:lnTo>
                  <a:pt x="257" y="806"/>
                </a:lnTo>
                <a:lnTo>
                  <a:pt x="257" y="845"/>
                </a:lnTo>
                <a:lnTo>
                  <a:pt x="257" y="881"/>
                </a:lnTo>
                <a:lnTo>
                  <a:pt x="257" y="920"/>
                </a:lnTo>
                <a:lnTo>
                  <a:pt x="257" y="954"/>
                </a:lnTo>
                <a:lnTo>
                  <a:pt x="255" y="989"/>
                </a:lnTo>
                <a:lnTo>
                  <a:pt x="255" y="1023"/>
                </a:lnTo>
                <a:lnTo>
                  <a:pt x="255" y="1058"/>
                </a:lnTo>
                <a:lnTo>
                  <a:pt x="253" y="1090"/>
                </a:lnTo>
                <a:lnTo>
                  <a:pt x="253" y="1121"/>
                </a:lnTo>
                <a:lnTo>
                  <a:pt x="253" y="1152"/>
                </a:lnTo>
                <a:lnTo>
                  <a:pt x="251" y="1183"/>
                </a:lnTo>
                <a:lnTo>
                  <a:pt x="251" y="1211"/>
                </a:lnTo>
                <a:lnTo>
                  <a:pt x="250" y="1240"/>
                </a:lnTo>
                <a:lnTo>
                  <a:pt x="250" y="1267"/>
                </a:lnTo>
                <a:lnTo>
                  <a:pt x="248" y="1294"/>
                </a:lnTo>
                <a:lnTo>
                  <a:pt x="248" y="1319"/>
                </a:lnTo>
                <a:lnTo>
                  <a:pt x="246" y="1344"/>
                </a:lnTo>
                <a:lnTo>
                  <a:pt x="246" y="1369"/>
                </a:lnTo>
                <a:lnTo>
                  <a:pt x="244" y="1392"/>
                </a:lnTo>
                <a:lnTo>
                  <a:pt x="244" y="1415"/>
                </a:lnTo>
                <a:lnTo>
                  <a:pt x="244" y="1438"/>
                </a:lnTo>
                <a:lnTo>
                  <a:pt x="242" y="1459"/>
                </a:lnTo>
                <a:lnTo>
                  <a:pt x="242" y="1480"/>
                </a:lnTo>
                <a:lnTo>
                  <a:pt x="242" y="1499"/>
                </a:lnTo>
                <a:lnTo>
                  <a:pt x="240" y="1518"/>
                </a:lnTo>
                <a:lnTo>
                  <a:pt x="240" y="1538"/>
                </a:lnTo>
                <a:lnTo>
                  <a:pt x="240" y="1555"/>
                </a:lnTo>
                <a:lnTo>
                  <a:pt x="240" y="1572"/>
                </a:lnTo>
                <a:lnTo>
                  <a:pt x="240" y="1588"/>
                </a:lnTo>
                <a:lnTo>
                  <a:pt x="240" y="1603"/>
                </a:lnTo>
                <a:lnTo>
                  <a:pt x="240" y="1618"/>
                </a:lnTo>
                <a:lnTo>
                  <a:pt x="240" y="1632"/>
                </a:lnTo>
                <a:lnTo>
                  <a:pt x="240" y="1645"/>
                </a:lnTo>
                <a:lnTo>
                  <a:pt x="240" y="1657"/>
                </a:lnTo>
                <a:lnTo>
                  <a:pt x="240" y="1668"/>
                </a:lnTo>
                <a:lnTo>
                  <a:pt x="240" y="1678"/>
                </a:lnTo>
                <a:lnTo>
                  <a:pt x="240" y="1689"/>
                </a:lnTo>
                <a:lnTo>
                  <a:pt x="242" y="1697"/>
                </a:lnTo>
                <a:lnTo>
                  <a:pt x="242" y="1707"/>
                </a:lnTo>
                <a:lnTo>
                  <a:pt x="242" y="1712"/>
                </a:lnTo>
                <a:lnTo>
                  <a:pt x="244" y="1720"/>
                </a:lnTo>
                <a:lnTo>
                  <a:pt x="244" y="1726"/>
                </a:lnTo>
                <a:lnTo>
                  <a:pt x="244" y="1730"/>
                </a:lnTo>
                <a:lnTo>
                  <a:pt x="246" y="1735"/>
                </a:lnTo>
                <a:lnTo>
                  <a:pt x="246" y="1737"/>
                </a:lnTo>
                <a:lnTo>
                  <a:pt x="248" y="1739"/>
                </a:lnTo>
                <a:lnTo>
                  <a:pt x="248" y="1741"/>
                </a:lnTo>
                <a:lnTo>
                  <a:pt x="251" y="1745"/>
                </a:lnTo>
                <a:lnTo>
                  <a:pt x="255" y="1749"/>
                </a:lnTo>
                <a:lnTo>
                  <a:pt x="261" y="1751"/>
                </a:lnTo>
                <a:lnTo>
                  <a:pt x="269" y="1751"/>
                </a:lnTo>
                <a:lnTo>
                  <a:pt x="278" y="1751"/>
                </a:lnTo>
                <a:lnTo>
                  <a:pt x="288" y="1749"/>
                </a:lnTo>
                <a:lnTo>
                  <a:pt x="299" y="1745"/>
                </a:lnTo>
                <a:lnTo>
                  <a:pt x="313" y="1741"/>
                </a:lnTo>
                <a:lnTo>
                  <a:pt x="328" y="1735"/>
                </a:lnTo>
                <a:lnTo>
                  <a:pt x="346" y="1728"/>
                </a:lnTo>
                <a:lnTo>
                  <a:pt x="365" y="1720"/>
                </a:lnTo>
                <a:lnTo>
                  <a:pt x="386" y="1710"/>
                </a:lnTo>
                <a:lnTo>
                  <a:pt x="407" y="1699"/>
                </a:lnTo>
                <a:lnTo>
                  <a:pt x="432" y="1687"/>
                </a:lnTo>
                <a:lnTo>
                  <a:pt x="459" y="1672"/>
                </a:lnTo>
                <a:lnTo>
                  <a:pt x="486" y="1657"/>
                </a:lnTo>
                <a:lnTo>
                  <a:pt x="513" y="1641"/>
                </a:lnTo>
                <a:lnTo>
                  <a:pt x="539" y="1628"/>
                </a:lnTo>
                <a:lnTo>
                  <a:pt x="562" y="1614"/>
                </a:lnTo>
                <a:lnTo>
                  <a:pt x="586" y="1603"/>
                </a:lnTo>
                <a:lnTo>
                  <a:pt x="607" y="1593"/>
                </a:lnTo>
                <a:lnTo>
                  <a:pt x="624" y="1586"/>
                </a:lnTo>
                <a:lnTo>
                  <a:pt x="641" y="1578"/>
                </a:lnTo>
                <a:lnTo>
                  <a:pt x="657" y="1572"/>
                </a:lnTo>
                <a:lnTo>
                  <a:pt x="670" y="1566"/>
                </a:lnTo>
                <a:lnTo>
                  <a:pt x="683" y="1563"/>
                </a:lnTo>
                <a:lnTo>
                  <a:pt x="693" y="1559"/>
                </a:lnTo>
                <a:lnTo>
                  <a:pt x="703" y="1557"/>
                </a:lnTo>
                <a:lnTo>
                  <a:pt x="710" y="1557"/>
                </a:lnTo>
                <a:lnTo>
                  <a:pt x="716" y="1557"/>
                </a:lnTo>
                <a:lnTo>
                  <a:pt x="720" y="1559"/>
                </a:lnTo>
                <a:lnTo>
                  <a:pt x="722" y="1561"/>
                </a:lnTo>
                <a:lnTo>
                  <a:pt x="724" y="1561"/>
                </a:lnTo>
                <a:lnTo>
                  <a:pt x="724" y="1563"/>
                </a:lnTo>
                <a:lnTo>
                  <a:pt x="724" y="1565"/>
                </a:lnTo>
                <a:lnTo>
                  <a:pt x="722" y="1568"/>
                </a:lnTo>
                <a:lnTo>
                  <a:pt x="722" y="1570"/>
                </a:lnTo>
                <a:lnTo>
                  <a:pt x="720" y="1574"/>
                </a:lnTo>
                <a:lnTo>
                  <a:pt x="716" y="1578"/>
                </a:lnTo>
                <a:lnTo>
                  <a:pt x="714" y="1582"/>
                </a:lnTo>
                <a:lnTo>
                  <a:pt x="710" y="1588"/>
                </a:lnTo>
                <a:lnTo>
                  <a:pt x="706" y="1591"/>
                </a:lnTo>
                <a:lnTo>
                  <a:pt x="703" y="1597"/>
                </a:lnTo>
                <a:lnTo>
                  <a:pt x="697" y="1603"/>
                </a:lnTo>
                <a:lnTo>
                  <a:pt x="691" y="1609"/>
                </a:lnTo>
                <a:lnTo>
                  <a:pt x="685" y="1614"/>
                </a:lnTo>
                <a:lnTo>
                  <a:pt x="678" y="1622"/>
                </a:lnTo>
                <a:lnTo>
                  <a:pt x="672" y="1630"/>
                </a:lnTo>
                <a:lnTo>
                  <a:pt x="664" y="1637"/>
                </a:lnTo>
                <a:lnTo>
                  <a:pt x="657" y="1645"/>
                </a:lnTo>
                <a:lnTo>
                  <a:pt x="639" y="1660"/>
                </a:lnTo>
                <a:lnTo>
                  <a:pt x="620" y="1680"/>
                </a:lnTo>
                <a:lnTo>
                  <a:pt x="599" y="1699"/>
                </a:lnTo>
                <a:lnTo>
                  <a:pt x="576" y="1720"/>
                </a:lnTo>
                <a:lnTo>
                  <a:pt x="551" y="1743"/>
                </a:lnTo>
                <a:lnTo>
                  <a:pt x="526" y="1766"/>
                </a:lnTo>
                <a:lnTo>
                  <a:pt x="497" y="1791"/>
                </a:lnTo>
                <a:lnTo>
                  <a:pt x="467" y="1816"/>
                </a:lnTo>
                <a:lnTo>
                  <a:pt x="440" y="1839"/>
                </a:lnTo>
                <a:lnTo>
                  <a:pt x="413" y="1862"/>
                </a:lnTo>
                <a:lnTo>
                  <a:pt x="386" y="1885"/>
                </a:lnTo>
                <a:lnTo>
                  <a:pt x="363" y="1906"/>
                </a:lnTo>
                <a:lnTo>
                  <a:pt x="342" y="1925"/>
                </a:lnTo>
                <a:lnTo>
                  <a:pt x="321" y="1944"/>
                </a:lnTo>
                <a:lnTo>
                  <a:pt x="301" y="1962"/>
                </a:lnTo>
                <a:lnTo>
                  <a:pt x="284" y="1979"/>
                </a:lnTo>
                <a:lnTo>
                  <a:pt x="269" y="1994"/>
                </a:lnTo>
                <a:lnTo>
                  <a:pt x="255" y="2010"/>
                </a:lnTo>
                <a:lnTo>
                  <a:pt x="244" y="2025"/>
                </a:lnTo>
                <a:lnTo>
                  <a:pt x="234" y="2037"/>
                </a:lnTo>
                <a:lnTo>
                  <a:pt x="225" y="2048"/>
                </a:lnTo>
                <a:lnTo>
                  <a:pt x="217" y="2060"/>
                </a:lnTo>
                <a:lnTo>
                  <a:pt x="213" y="2069"/>
                </a:lnTo>
                <a:lnTo>
                  <a:pt x="203" y="2083"/>
                </a:lnTo>
                <a:lnTo>
                  <a:pt x="196" y="2094"/>
                </a:lnTo>
                <a:lnTo>
                  <a:pt x="186" y="2104"/>
                </a:lnTo>
                <a:lnTo>
                  <a:pt x="179" y="2113"/>
                </a:lnTo>
                <a:lnTo>
                  <a:pt x="171" y="2121"/>
                </a:lnTo>
                <a:lnTo>
                  <a:pt x="167" y="2123"/>
                </a:lnTo>
                <a:lnTo>
                  <a:pt x="165" y="2125"/>
                </a:lnTo>
                <a:lnTo>
                  <a:pt x="161" y="2127"/>
                </a:lnTo>
                <a:lnTo>
                  <a:pt x="157" y="2129"/>
                </a:lnTo>
                <a:lnTo>
                  <a:pt x="155" y="2131"/>
                </a:lnTo>
                <a:lnTo>
                  <a:pt x="154" y="2131"/>
                </a:lnTo>
                <a:lnTo>
                  <a:pt x="148" y="2131"/>
                </a:lnTo>
                <a:lnTo>
                  <a:pt x="144" y="2129"/>
                </a:lnTo>
                <a:lnTo>
                  <a:pt x="138" y="2127"/>
                </a:lnTo>
                <a:lnTo>
                  <a:pt x="132" y="2127"/>
                </a:lnTo>
                <a:lnTo>
                  <a:pt x="129" y="2123"/>
                </a:lnTo>
                <a:lnTo>
                  <a:pt x="123" y="2121"/>
                </a:lnTo>
                <a:lnTo>
                  <a:pt x="109" y="2113"/>
                </a:lnTo>
                <a:lnTo>
                  <a:pt x="98" y="2106"/>
                </a:lnTo>
                <a:lnTo>
                  <a:pt x="84" y="2094"/>
                </a:lnTo>
                <a:lnTo>
                  <a:pt x="71" y="2083"/>
                </a:lnTo>
                <a:lnTo>
                  <a:pt x="60" y="2069"/>
                </a:lnTo>
                <a:lnTo>
                  <a:pt x="46" y="2052"/>
                </a:lnTo>
                <a:lnTo>
                  <a:pt x="35" y="2035"/>
                </a:lnTo>
                <a:lnTo>
                  <a:pt x="25" y="2019"/>
                </a:lnTo>
                <a:lnTo>
                  <a:pt x="15" y="2006"/>
                </a:lnTo>
                <a:lnTo>
                  <a:pt x="10" y="1992"/>
                </a:lnTo>
                <a:lnTo>
                  <a:pt x="6" y="1987"/>
                </a:lnTo>
                <a:lnTo>
                  <a:pt x="4" y="1981"/>
                </a:lnTo>
                <a:lnTo>
                  <a:pt x="2" y="1975"/>
                </a:lnTo>
                <a:lnTo>
                  <a:pt x="0" y="1969"/>
                </a:lnTo>
                <a:lnTo>
                  <a:pt x="0" y="1964"/>
                </a:lnTo>
                <a:lnTo>
                  <a:pt x="0" y="1960"/>
                </a:lnTo>
                <a:lnTo>
                  <a:pt x="0" y="1946"/>
                </a:lnTo>
                <a:lnTo>
                  <a:pt x="2" y="1935"/>
                </a:lnTo>
                <a:lnTo>
                  <a:pt x="6" y="1923"/>
                </a:lnTo>
                <a:lnTo>
                  <a:pt x="10" y="1912"/>
                </a:lnTo>
                <a:lnTo>
                  <a:pt x="15" y="1900"/>
                </a:lnTo>
                <a:lnTo>
                  <a:pt x="25" y="1889"/>
                </a:lnTo>
                <a:lnTo>
                  <a:pt x="29" y="1883"/>
                </a:lnTo>
                <a:lnTo>
                  <a:pt x="35" y="1875"/>
                </a:lnTo>
                <a:lnTo>
                  <a:pt x="40" y="1870"/>
                </a:lnTo>
                <a:lnTo>
                  <a:pt x="46" y="1864"/>
                </a:lnTo>
                <a:lnTo>
                  <a:pt x="48" y="1860"/>
                </a:lnTo>
                <a:lnTo>
                  <a:pt x="52" y="1854"/>
                </a:lnTo>
                <a:lnTo>
                  <a:pt x="54" y="1850"/>
                </a:lnTo>
                <a:lnTo>
                  <a:pt x="56" y="1845"/>
                </a:lnTo>
                <a:lnTo>
                  <a:pt x="58" y="1839"/>
                </a:lnTo>
                <a:lnTo>
                  <a:pt x="60" y="1833"/>
                </a:lnTo>
                <a:lnTo>
                  <a:pt x="61" y="1827"/>
                </a:lnTo>
                <a:lnTo>
                  <a:pt x="63" y="1820"/>
                </a:lnTo>
                <a:lnTo>
                  <a:pt x="65" y="1812"/>
                </a:lnTo>
                <a:lnTo>
                  <a:pt x="69" y="1802"/>
                </a:lnTo>
                <a:lnTo>
                  <a:pt x="71" y="1795"/>
                </a:lnTo>
                <a:lnTo>
                  <a:pt x="73" y="1785"/>
                </a:lnTo>
                <a:lnTo>
                  <a:pt x="75" y="1776"/>
                </a:lnTo>
                <a:lnTo>
                  <a:pt x="77" y="1764"/>
                </a:lnTo>
                <a:lnTo>
                  <a:pt x="79" y="1753"/>
                </a:lnTo>
                <a:lnTo>
                  <a:pt x="81" y="1741"/>
                </a:lnTo>
                <a:lnTo>
                  <a:pt x="83" y="1730"/>
                </a:lnTo>
                <a:lnTo>
                  <a:pt x="84" y="1716"/>
                </a:lnTo>
                <a:lnTo>
                  <a:pt x="86" y="1703"/>
                </a:lnTo>
                <a:lnTo>
                  <a:pt x="88" y="1689"/>
                </a:lnTo>
                <a:lnTo>
                  <a:pt x="90" y="1676"/>
                </a:lnTo>
                <a:lnTo>
                  <a:pt x="92" y="1660"/>
                </a:lnTo>
                <a:lnTo>
                  <a:pt x="94" y="1645"/>
                </a:lnTo>
                <a:lnTo>
                  <a:pt x="94" y="1628"/>
                </a:lnTo>
                <a:lnTo>
                  <a:pt x="96" y="1611"/>
                </a:lnTo>
                <a:lnTo>
                  <a:pt x="98" y="1593"/>
                </a:lnTo>
                <a:lnTo>
                  <a:pt x="100" y="1576"/>
                </a:lnTo>
                <a:lnTo>
                  <a:pt x="102" y="1557"/>
                </a:lnTo>
                <a:lnTo>
                  <a:pt x="102" y="1538"/>
                </a:lnTo>
                <a:lnTo>
                  <a:pt x="104" y="1517"/>
                </a:lnTo>
                <a:lnTo>
                  <a:pt x="106" y="1497"/>
                </a:lnTo>
                <a:lnTo>
                  <a:pt x="106" y="1476"/>
                </a:lnTo>
                <a:lnTo>
                  <a:pt x="111" y="1394"/>
                </a:lnTo>
                <a:lnTo>
                  <a:pt x="115" y="1309"/>
                </a:lnTo>
                <a:lnTo>
                  <a:pt x="119" y="1225"/>
                </a:lnTo>
                <a:lnTo>
                  <a:pt x="123" y="1138"/>
                </a:lnTo>
                <a:lnTo>
                  <a:pt x="125" y="1052"/>
                </a:lnTo>
                <a:lnTo>
                  <a:pt x="127" y="964"/>
                </a:lnTo>
                <a:lnTo>
                  <a:pt x="129" y="874"/>
                </a:lnTo>
                <a:lnTo>
                  <a:pt x="131" y="783"/>
                </a:lnTo>
                <a:lnTo>
                  <a:pt x="129" y="739"/>
                </a:lnTo>
                <a:lnTo>
                  <a:pt x="129" y="695"/>
                </a:lnTo>
                <a:lnTo>
                  <a:pt x="129" y="655"/>
                </a:lnTo>
                <a:lnTo>
                  <a:pt x="127" y="613"/>
                </a:lnTo>
                <a:lnTo>
                  <a:pt x="127" y="574"/>
                </a:lnTo>
                <a:lnTo>
                  <a:pt x="125" y="536"/>
                </a:lnTo>
                <a:lnTo>
                  <a:pt x="123" y="499"/>
                </a:lnTo>
                <a:lnTo>
                  <a:pt x="123" y="465"/>
                </a:lnTo>
                <a:lnTo>
                  <a:pt x="121" y="430"/>
                </a:lnTo>
                <a:lnTo>
                  <a:pt x="119" y="398"/>
                </a:lnTo>
                <a:lnTo>
                  <a:pt x="117" y="367"/>
                </a:lnTo>
                <a:lnTo>
                  <a:pt x="115" y="336"/>
                </a:lnTo>
                <a:lnTo>
                  <a:pt x="113" y="307"/>
                </a:lnTo>
                <a:lnTo>
                  <a:pt x="111" y="279"/>
                </a:lnTo>
                <a:lnTo>
                  <a:pt x="107" y="252"/>
                </a:lnTo>
                <a:lnTo>
                  <a:pt x="106" y="2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6956280" y="3838680"/>
            <a:ext cx="451080" cy="414360"/>
          </a:xfrm>
          <a:custGeom>
            <a:avLst/>
            <a:gdLst/>
            <a:ahLst/>
            <a:rect l="l" t="t" r="r" b="b"/>
            <a:pathLst>
              <a:path w="568" h="522">
                <a:moveTo>
                  <a:pt x="426" y="315"/>
                </a:moveTo>
                <a:lnTo>
                  <a:pt x="409" y="326"/>
                </a:lnTo>
                <a:lnTo>
                  <a:pt x="389" y="338"/>
                </a:lnTo>
                <a:lnTo>
                  <a:pt x="368" y="349"/>
                </a:lnTo>
                <a:lnTo>
                  <a:pt x="349" y="361"/>
                </a:lnTo>
                <a:lnTo>
                  <a:pt x="326" y="372"/>
                </a:lnTo>
                <a:lnTo>
                  <a:pt x="305" y="386"/>
                </a:lnTo>
                <a:lnTo>
                  <a:pt x="282" y="397"/>
                </a:lnTo>
                <a:lnTo>
                  <a:pt x="257" y="409"/>
                </a:lnTo>
                <a:lnTo>
                  <a:pt x="232" y="422"/>
                </a:lnTo>
                <a:lnTo>
                  <a:pt x="207" y="434"/>
                </a:lnTo>
                <a:lnTo>
                  <a:pt x="180" y="447"/>
                </a:lnTo>
                <a:lnTo>
                  <a:pt x="151" y="462"/>
                </a:lnTo>
                <a:lnTo>
                  <a:pt x="125" y="476"/>
                </a:lnTo>
                <a:lnTo>
                  <a:pt x="96" y="491"/>
                </a:lnTo>
                <a:lnTo>
                  <a:pt x="65" y="507"/>
                </a:lnTo>
                <a:lnTo>
                  <a:pt x="34" y="522"/>
                </a:lnTo>
                <a:lnTo>
                  <a:pt x="17" y="503"/>
                </a:lnTo>
                <a:lnTo>
                  <a:pt x="0" y="486"/>
                </a:lnTo>
                <a:lnTo>
                  <a:pt x="30" y="459"/>
                </a:lnTo>
                <a:lnTo>
                  <a:pt x="61" y="432"/>
                </a:lnTo>
                <a:lnTo>
                  <a:pt x="92" y="407"/>
                </a:lnTo>
                <a:lnTo>
                  <a:pt x="119" y="384"/>
                </a:lnTo>
                <a:lnTo>
                  <a:pt x="144" y="363"/>
                </a:lnTo>
                <a:lnTo>
                  <a:pt x="169" y="342"/>
                </a:lnTo>
                <a:lnTo>
                  <a:pt x="192" y="320"/>
                </a:lnTo>
                <a:lnTo>
                  <a:pt x="213" y="301"/>
                </a:lnTo>
                <a:lnTo>
                  <a:pt x="232" y="284"/>
                </a:lnTo>
                <a:lnTo>
                  <a:pt x="249" y="267"/>
                </a:lnTo>
                <a:lnTo>
                  <a:pt x="265" y="249"/>
                </a:lnTo>
                <a:lnTo>
                  <a:pt x="280" y="234"/>
                </a:lnTo>
                <a:lnTo>
                  <a:pt x="292" y="221"/>
                </a:lnTo>
                <a:lnTo>
                  <a:pt x="303" y="207"/>
                </a:lnTo>
                <a:lnTo>
                  <a:pt x="311" y="194"/>
                </a:lnTo>
                <a:lnTo>
                  <a:pt x="318" y="182"/>
                </a:lnTo>
                <a:lnTo>
                  <a:pt x="326" y="171"/>
                </a:lnTo>
                <a:lnTo>
                  <a:pt x="332" y="161"/>
                </a:lnTo>
                <a:lnTo>
                  <a:pt x="338" y="150"/>
                </a:lnTo>
                <a:lnTo>
                  <a:pt x="343" y="140"/>
                </a:lnTo>
                <a:lnTo>
                  <a:pt x="347" y="132"/>
                </a:lnTo>
                <a:lnTo>
                  <a:pt x="353" y="123"/>
                </a:lnTo>
                <a:lnTo>
                  <a:pt x="357" y="115"/>
                </a:lnTo>
                <a:lnTo>
                  <a:pt x="361" y="106"/>
                </a:lnTo>
                <a:lnTo>
                  <a:pt x="364" y="98"/>
                </a:lnTo>
                <a:lnTo>
                  <a:pt x="366" y="90"/>
                </a:lnTo>
                <a:lnTo>
                  <a:pt x="368" y="83"/>
                </a:lnTo>
                <a:lnTo>
                  <a:pt x="368" y="77"/>
                </a:lnTo>
                <a:lnTo>
                  <a:pt x="370" y="69"/>
                </a:lnTo>
                <a:lnTo>
                  <a:pt x="370" y="61"/>
                </a:lnTo>
                <a:lnTo>
                  <a:pt x="368" y="56"/>
                </a:lnTo>
                <a:lnTo>
                  <a:pt x="366" y="48"/>
                </a:lnTo>
                <a:lnTo>
                  <a:pt x="364" y="44"/>
                </a:lnTo>
                <a:lnTo>
                  <a:pt x="363" y="40"/>
                </a:lnTo>
                <a:lnTo>
                  <a:pt x="363" y="36"/>
                </a:lnTo>
                <a:lnTo>
                  <a:pt x="363" y="33"/>
                </a:lnTo>
                <a:lnTo>
                  <a:pt x="363" y="29"/>
                </a:lnTo>
                <a:lnTo>
                  <a:pt x="363" y="27"/>
                </a:lnTo>
                <a:lnTo>
                  <a:pt x="364" y="19"/>
                </a:lnTo>
                <a:lnTo>
                  <a:pt x="370" y="15"/>
                </a:lnTo>
                <a:lnTo>
                  <a:pt x="376" y="10"/>
                </a:lnTo>
                <a:lnTo>
                  <a:pt x="382" y="6"/>
                </a:lnTo>
                <a:lnTo>
                  <a:pt x="391" y="0"/>
                </a:lnTo>
                <a:lnTo>
                  <a:pt x="393" y="0"/>
                </a:lnTo>
                <a:lnTo>
                  <a:pt x="395" y="2"/>
                </a:lnTo>
                <a:lnTo>
                  <a:pt x="399" y="4"/>
                </a:lnTo>
                <a:lnTo>
                  <a:pt x="405" y="4"/>
                </a:lnTo>
                <a:lnTo>
                  <a:pt x="409" y="8"/>
                </a:lnTo>
                <a:lnTo>
                  <a:pt x="414" y="10"/>
                </a:lnTo>
                <a:lnTo>
                  <a:pt x="420" y="13"/>
                </a:lnTo>
                <a:lnTo>
                  <a:pt x="426" y="17"/>
                </a:lnTo>
                <a:lnTo>
                  <a:pt x="434" y="21"/>
                </a:lnTo>
                <a:lnTo>
                  <a:pt x="441" y="25"/>
                </a:lnTo>
                <a:lnTo>
                  <a:pt x="449" y="31"/>
                </a:lnTo>
                <a:lnTo>
                  <a:pt x="457" y="36"/>
                </a:lnTo>
                <a:lnTo>
                  <a:pt x="466" y="42"/>
                </a:lnTo>
                <a:lnTo>
                  <a:pt x="476" y="48"/>
                </a:lnTo>
                <a:lnTo>
                  <a:pt x="485" y="54"/>
                </a:lnTo>
                <a:lnTo>
                  <a:pt x="497" y="61"/>
                </a:lnTo>
                <a:lnTo>
                  <a:pt x="507" y="67"/>
                </a:lnTo>
                <a:lnTo>
                  <a:pt x="514" y="75"/>
                </a:lnTo>
                <a:lnTo>
                  <a:pt x="522" y="83"/>
                </a:lnTo>
                <a:lnTo>
                  <a:pt x="528" y="88"/>
                </a:lnTo>
                <a:lnTo>
                  <a:pt x="535" y="96"/>
                </a:lnTo>
                <a:lnTo>
                  <a:pt x="541" y="102"/>
                </a:lnTo>
                <a:lnTo>
                  <a:pt x="545" y="109"/>
                </a:lnTo>
                <a:lnTo>
                  <a:pt x="551" y="115"/>
                </a:lnTo>
                <a:lnTo>
                  <a:pt x="555" y="123"/>
                </a:lnTo>
                <a:lnTo>
                  <a:pt x="558" y="129"/>
                </a:lnTo>
                <a:lnTo>
                  <a:pt x="562" y="136"/>
                </a:lnTo>
                <a:lnTo>
                  <a:pt x="564" y="142"/>
                </a:lnTo>
                <a:lnTo>
                  <a:pt x="566" y="150"/>
                </a:lnTo>
                <a:lnTo>
                  <a:pt x="568" y="155"/>
                </a:lnTo>
                <a:lnTo>
                  <a:pt x="568" y="163"/>
                </a:lnTo>
                <a:lnTo>
                  <a:pt x="568" y="171"/>
                </a:lnTo>
                <a:lnTo>
                  <a:pt x="568" y="177"/>
                </a:lnTo>
                <a:lnTo>
                  <a:pt x="566" y="184"/>
                </a:lnTo>
                <a:lnTo>
                  <a:pt x="564" y="192"/>
                </a:lnTo>
                <a:lnTo>
                  <a:pt x="560" y="200"/>
                </a:lnTo>
                <a:lnTo>
                  <a:pt x="555" y="207"/>
                </a:lnTo>
                <a:lnTo>
                  <a:pt x="549" y="215"/>
                </a:lnTo>
                <a:lnTo>
                  <a:pt x="541" y="225"/>
                </a:lnTo>
                <a:lnTo>
                  <a:pt x="533" y="234"/>
                </a:lnTo>
                <a:lnTo>
                  <a:pt x="524" y="242"/>
                </a:lnTo>
                <a:lnTo>
                  <a:pt x="512" y="251"/>
                </a:lnTo>
                <a:lnTo>
                  <a:pt x="501" y="261"/>
                </a:lnTo>
                <a:lnTo>
                  <a:pt x="487" y="273"/>
                </a:lnTo>
                <a:lnTo>
                  <a:pt x="474" y="282"/>
                </a:lnTo>
                <a:lnTo>
                  <a:pt x="459" y="294"/>
                </a:lnTo>
                <a:lnTo>
                  <a:pt x="443" y="303"/>
                </a:lnTo>
                <a:lnTo>
                  <a:pt x="426" y="3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6637320" y="3975120"/>
            <a:ext cx="1147680" cy="690480"/>
          </a:xfrm>
          <a:custGeom>
            <a:avLst/>
            <a:gdLst/>
            <a:ahLst/>
            <a:rect l="l" t="t" r="r" b="b"/>
            <a:pathLst>
              <a:path w="1445" h="869">
                <a:moveTo>
                  <a:pt x="0" y="84"/>
                </a:moveTo>
                <a:lnTo>
                  <a:pt x="11" y="42"/>
                </a:lnTo>
                <a:lnTo>
                  <a:pt x="23" y="0"/>
                </a:lnTo>
                <a:lnTo>
                  <a:pt x="46" y="17"/>
                </a:lnTo>
                <a:lnTo>
                  <a:pt x="69" y="36"/>
                </a:lnTo>
                <a:lnTo>
                  <a:pt x="92" y="55"/>
                </a:lnTo>
                <a:lnTo>
                  <a:pt x="117" y="75"/>
                </a:lnTo>
                <a:lnTo>
                  <a:pt x="142" y="94"/>
                </a:lnTo>
                <a:lnTo>
                  <a:pt x="167" y="113"/>
                </a:lnTo>
                <a:lnTo>
                  <a:pt x="193" y="132"/>
                </a:lnTo>
                <a:lnTo>
                  <a:pt x="220" y="151"/>
                </a:lnTo>
                <a:lnTo>
                  <a:pt x="247" y="173"/>
                </a:lnTo>
                <a:lnTo>
                  <a:pt x="276" y="192"/>
                </a:lnTo>
                <a:lnTo>
                  <a:pt x="305" y="211"/>
                </a:lnTo>
                <a:lnTo>
                  <a:pt x="336" y="232"/>
                </a:lnTo>
                <a:lnTo>
                  <a:pt x="364" y="253"/>
                </a:lnTo>
                <a:lnTo>
                  <a:pt x="397" y="272"/>
                </a:lnTo>
                <a:lnTo>
                  <a:pt x="428" y="293"/>
                </a:lnTo>
                <a:lnTo>
                  <a:pt x="462" y="315"/>
                </a:lnTo>
                <a:lnTo>
                  <a:pt x="495" y="338"/>
                </a:lnTo>
                <a:lnTo>
                  <a:pt x="529" y="359"/>
                </a:lnTo>
                <a:lnTo>
                  <a:pt x="564" y="380"/>
                </a:lnTo>
                <a:lnTo>
                  <a:pt x="599" y="401"/>
                </a:lnTo>
                <a:lnTo>
                  <a:pt x="635" y="422"/>
                </a:lnTo>
                <a:lnTo>
                  <a:pt x="671" y="441"/>
                </a:lnTo>
                <a:lnTo>
                  <a:pt x="710" y="460"/>
                </a:lnTo>
                <a:lnTo>
                  <a:pt x="748" y="478"/>
                </a:lnTo>
                <a:lnTo>
                  <a:pt x="789" y="495"/>
                </a:lnTo>
                <a:lnTo>
                  <a:pt x="829" y="512"/>
                </a:lnTo>
                <a:lnTo>
                  <a:pt x="869" y="529"/>
                </a:lnTo>
                <a:lnTo>
                  <a:pt x="911" y="545"/>
                </a:lnTo>
                <a:lnTo>
                  <a:pt x="954" y="562"/>
                </a:lnTo>
                <a:lnTo>
                  <a:pt x="998" y="576"/>
                </a:lnTo>
                <a:lnTo>
                  <a:pt x="1044" y="591"/>
                </a:lnTo>
                <a:lnTo>
                  <a:pt x="1090" y="606"/>
                </a:lnTo>
                <a:lnTo>
                  <a:pt x="1111" y="614"/>
                </a:lnTo>
                <a:lnTo>
                  <a:pt x="1132" y="622"/>
                </a:lnTo>
                <a:lnTo>
                  <a:pt x="1153" y="629"/>
                </a:lnTo>
                <a:lnTo>
                  <a:pt x="1173" y="635"/>
                </a:lnTo>
                <a:lnTo>
                  <a:pt x="1192" y="643"/>
                </a:lnTo>
                <a:lnTo>
                  <a:pt x="1211" y="650"/>
                </a:lnTo>
                <a:lnTo>
                  <a:pt x="1228" y="656"/>
                </a:lnTo>
                <a:lnTo>
                  <a:pt x="1246" y="662"/>
                </a:lnTo>
                <a:lnTo>
                  <a:pt x="1261" y="670"/>
                </a:lnTo>
                <a:lnTo>
                  <a:pt x="1278" y="675"/>
                </a:lnTo>
                <a:lnTo>
                  <a:pt x="1292" y="681"/>
                </a:lnTo>
                <a:lnTo>
                  <a:pt x="1307" y="687"/>
                </a:lnTo>
                <a:lnTo>
                  <a:pt x="1320" y="691"/>
                </a:lnTo>
                <a:lnTo>
                  <a:pt x="1334" y="696"/>
                </a:lnTo>
                <a:lnTo>
                  <a:pt x="1345" y="702"/>
                </a:lnTo>
                <a:lnTo>
                  <a:pt x="1357" y="706"/>
                </a:lnTo>
                <a:lnTo>
                  <a:pt x="1366" y="710"/>
                </a:lnTo>
                <a:lnTo>
                  <a:pt x="1378" y="714"/>
                </a:lnTo>
                <a:lnTo>
                  <a:pt x="1388" y="718"/>
                </a:lnTo>
                <a:lnTo>
                  <a:pt x="1395" y="721"/>
                </a:lnTo>
                <a:lnTo>
                  <a:pt x="1403" y="725"/>
                </a:lnTo>
                <a:lnTo>
                  <a:pt x="1411" y="729"/>
                </a:lnTo>
                <a:lnTo>
                  <a:pt x="1418" y="733"/>
                </a:lnTo>
                <a:lnTo>
                  <a:pt x="1424" y="735"/>
                </a:lnTo>
                <a:lnTo>
                  <a:pt x="1428" y="739"/>
                </a:lnTo>
                <a:lnTo>
                  <a:pt x="1434" y="741"/>
                </a:lnTo>
                <a:lnTo>
                  <a:pt x="1437" y="742"/>
                </a:lnTo>
                <a:lnTo>
                  <a:pt x="1439" y="744"/>
                </a:lnTo>
                <a:lnTo>
                  <a:pt x="1443" y="746"/>
                </a:lnTo>
                <a:lnTo>
                  <a:pt x="1445" y="748"/>
                </a:lnTo>
                <a:lnTo>
                  <a:pt x="1445" y="750"/>
                </a:lnTo>
                <a:lnTo>
                  <a:pt x="1445" y="756"/>
                </a:lnTo>
                <a:lnTo>
                  <a:pt x="1443" y="760"/>
                </a:lnTo>
                <a:lnTo>
                  <a:pt x="1441" y="764"/>
                </a:lnTo>
                <a:lnTo>
                  <a:pt x="1439" y="769"/>
                </a:lnTo>
                <a:lnTo>
                  <a:pt x="1436" y="773"/>
                </a:lnTo>
                <a:lnTo>
                  <a:pt x="1430" y="777"/>
                </a:lnTo>
                <a:lnTo>
                  <a:pt x="1424" y="781"/>
                </a:lnTo>
                <a:lnTo>
                  <a:pt x="1418" y="785"/>
                </a:lnTo>
                <a:lnTo>
                  <a:pt x="1411" y="789"/>
                </a:lnTo>
                <a:lnTo>
                  <a:pt x="1401" y="792"/>
                </a:lnTo>
                <a:lnTo>
                  <a:pt x="1391" y="796"/>
                </a:lnTo>
                <a:lnTo>
                  <a:pt x="1380" y="800"/>
                </a:lnTo>
                <a:lnTo>
                  <a:pt x="1368" y="804"/>
                </a:lnTo>
                <a:lnTo>
                  <a:pt x="1357" y="806"/>
                </a:lnTo>
                <a:lnTo>
                  <a:pt x="1342" y="810"/>
                </a:lnTo>
                <a:lnTo>
                  <a:pt x="1328" y="812"/>
                </a:lnTo>
                <a:lnTo>
                  <a:pt x="1297" y="819"/>
                </a:lnTo>
                <a:lnTo>
                  <a:pt x="1267" y="827"/>
                </a:lnTo>
                <a:lnTo>
                  <a:pt x="1238" y="835"/>
                </a:lnTo>
                <a:lnTo>
                  <a:pt x="1211" y="840"/>
                </a:lnTo>
                <a:lnTo>
                  <a:pt x="1186" y="846"/>
                </a:lnTo>
                <a:lnTo>
                  <a:pt x="1161" y="850"/>
                </a:lnTo>
                <a:lnTo>
                  <a:pt x="1136" y="856"/>
                </a:lnTo>
                <a:lnTo>
                  <a:pt x="1113" y="860"/>
                </a:lnTo>
                <a:lnTo>
                  <a:pt x="1092" y="863"/>
                </a:lnTo>
                <a:lnTo>
                  <a:pt x="1069" y="867"/>
                </a:lnTo>
                <a:lnTo>
                  <a:pt x="1048" y="869"/>
                </a:lnTo>
                <a:lnTo>
                  <a:pt x="1027" y="869"/>
                </a:lnTo>
                <a:lnTo>
                  <a:pt x="1006" y="869"/>
                </a:lnTo>
                <a:lnTo>
                  <a:pt x="984" y="867"/>
                </a:lnTo>
                <a:lnTo>
                  <a:pt x="965" y="863"/>
                </a:lnTo>
                <a:lnTo>
                  <a:pt x="948" y="860"/>
                </a:lnTo>
                <a:lnTo>
                  <a:pt x="940" y="858"/>
                </a:lnTo>
                <a:lnTo>
                  <a:pt x="933" y="856"/>
                </a:lnTo>
                <a:lnTo>
                  <a:pt x="925" y="850"/>
                </a:lnTo>
                <a:lnTo>
                  <a:pt x="913" y="844"/>
                </a:lnTo>
                <a:lnTo>
                  <a:pt x="902" y="837"/>
                </a:lnTo>
                <a:lnTo>
                  <a:pt x="887" y="827"/>
                </a:lnTo>
                <a:lnTo>
                  <a:pt x="871" y="817"/>
                </a:lnTo>
                <a:lnTo>
                  <a:pt x="856" y="806"/>
                </a:lnTo>
                <a:lnTo>
                  <a:pt x="837" y="792"/>
                </a:lnTo>
                <a:lnTo>
                  <a:pt x="817" y="779"/>
                </a:lnTo>
                <a:lnTo>
                  <a:pt x="796" y="762"/>
                </a:lnTo>
                <a:lnTo>
                  <a:pt x="773" y="744"/>
                </a:lnTo>
                <a:lnTo>
                  <a:pt x="748" y="725"/>
                </a:lnTo>
                <a:lnTo>
                  <a:pt x="723" y="706"/>
                </a:lnTo>
                <a:lnTo>
                  <a:pt x="696" y="683"/>
                </a:lnTo>
                <a:lnTo>
                  <a:pt x="668" y="660"/>
                </a:lnTo>
                <a:lnTo>
                  <a:pt x="637" y="635"/>
                </a:lnTo>
                <a:lnTo>
                  <a:pt x="604" y="610"/>
                </a:lnTo>
                <a:lnTo>
                  <a:pt x="572" y="581"/>
                </a:lnTo>
                <a:lnTo>
                  <a:pt x="537" y="552"/>
                </a:lnTo>
                <a:lnTo>
                  <a:pt x="501" y="522"/>
                </a:lnTo>
                <a:lnTo>
                  <a:pt x="462" y="489"/>
                </a:lnTo>
                <a:lnTo>
                  <a:pt x="422" y="457"/>
                </a:lnTo>
                <a:lnTo>
                  <a:pt x="382" y="420"/>
                </a:lnTo>
                <a:lnTo>
                  <a:pt x="339" y="384"/>
                </a:lnTo>
                <a:lnTo>
                  <a:pt x="295" y="345"/>
                </a:lnTo>
                <a:lnTo>
                  <a:pt x="249" y="305"/>
                </a:lnTo>
                <a:lnTo>
                  <a:pt x="203" y="265"/>
                </a:lnTo>
                <a:lnTo>
                  <a:pt x="153" y="222"/>
                </a:lnTo>
                <a:lnTo>
                  <a:pt x="103" y="176"/>
                </a:lnTo>
                <a:lnTo>
                  <a:pt x="51" y="132"/>
                </a:lnTo>
                <a:lnTo>
                  <a:pt x="0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5700600" y="3328920"/>
            <a:ext cx="214560" cy="262080"/>
          </a:xfrm>
          <a:custGeom>
            <a:avLst/>
            <a:gdLst/>
            <a:ahLst/>
            <a:rect l="l" t="t" r="r" b="b"/>
            <a:pathLst>
              <a:path w="269" h="330">
                <a:moveTo>
                  <a:pt x="75" y="219"/>
                </a:moveTo>
                <a:lnTo>
                  <a:pt x="65" y="204"/>
                </a:lnTo>
                <a:lnTo>
                  <a:pt x="54" y="188"/>
                </a:lnTo>
                <a:lnTo>
                  <a:pt x="46" y="173"/>
                </a:lnTo>
                <a:lnTo>
                  <a:pt x="36" y="157"/>
                </a:lnTo>
                <a:lnTo>
                  <a:pt x="31" y="142"/>
                </a:lnTo>
                <a:lnTo>
                  <a:pt x="23" y="129"/>
                </a:lnTo>
                <a:lnTo>
                  <a:pt x="17" y="115"/>
                </a:lnTo>
                <a:lnTo>
                  <a:pt x="13" y="100"/>
                </a:lnTo>
                <a:lnTo>
                  <a:pt x="9" y="86"/>
                </a:lnTo>
                <a:lnTo>
                  <a:pt x="6" y="73"/>
                </a:lnTo>
                <a:lnTo>
                  <a:pt x="4" y="62"/>
                </a:lnTo>
                <a:lnTo>
                  <a:pt x="2" y="48"/>
                </a:lnTo>
                <a:lnTo>
                  <a:pt x="0" y="37"/>
                </a:lnTo>
                <a:lnTo>
                  <a:pt x="0" y="23"/>
                </a:lnTo>
                <a:lnTo>
                  <a:pt x="2" y="12"/>
                </a:lnTo>
                <a:lnTo>
                  <a:pt x="4" y="0"/>
                </a:lnTo>
                <a:lnTo>
                  <a:pt x="29" y="10"/>
                </a:lnTo>
                <a:lnTo>
                  <a:pt x="54" y="19"/>
                </a:lnTo>
                <a:lnTo>
                  <a:pt x="77" y="27"/>
                </a:lnTo>
                <a:lnTo>
                  <a:pt x="100" y="35"/>
                </a:lnTo>
                <a:lnTo>
                  <a:pt x="119" y="42"/>
                </a:lnTo>
                <a:lnTo>
                  <a:pt x="138" y="50"/>
                </a:lnTo>
                <a:lnTo>
                  <a:pt x="155" y="58"/>
                </a:lnTo>
                <a:lnTo>
                  <a:pt x="173" y="65"/>
                </a:lnTo>
                <a:lnTo>
                  <a:pt x="188" y="71"/>
                </a:lnTo>
                <a:lnTo>
                  <a:pt x="201" y="77"/>
                </a:lnTo>
                <a:lnTo>
                  <a:pt x="213" y="85"/>
                </a:lnTo>
                <a:lnTo>
                  <a:pt x="224" y="90"/>
                </a:lnTo>
                <a:lnTo>
                  <a:pt x="232" y="94"/>
                </a:lnTo>
                <a:lnTo>
                  <a:pt x="242" y="100"/>
                </a:lnTo>
                <a:lnTo>
                  <a:pt x="247" y="106"/>
                </a:lnTo>
                <a:lnTo>
                  <a:pt x="253" y="109"/>
                </a:lnTo>
                <a:lnTo>
                  <a:pt x="257" y="123"/>
                </a:lnTo>
                <a:lnTo>
                  <a:pt x="261" y="136"/>
                </a:lnTo>
                <a:lnTo>
                  <a:pt x="265" y="152"/>
                </a:lnTo>
                <a:lnTo>
                  <a:pt x="267" y="167"/>
                </a:lnTo>
                <a:lnTo>
                  <a:pt x="269" y="184"/>
                </a:lnTo>
                <a:lnTo>
                  <a:pt x="269" y="202"/>
                </a:lnTo>
                <a:lnTo>
                  <a:pt x="269" y="211"/>
                </a:lnTo>
                <a:lnTo>
                  <a:pt x="267" y="221"/>
                </a:lnTo>
                <a:lnTo>
                  <a:pt x="267" y="232"/>
                </a:lnTo>
                <a:lnTo>
                  <a:pt x="265" y="244"/>
                </a:lnTo>
                <a:lnTo>
                  <a:pt x="263" y="253"/>
                </a:lnTo>
                <a:lnTo>
                  <a:pt x="259" y="265"/>
                </a:lnTo>
                <a:lnTo>
                  <a:pt x="257" y="275"/>
                </a:lnTo>
                <a:lnTo>
                  <a:pt x="255" y="282"/>
                </a:lnTo>
                <a:lnTo>
                  <a:pt x="253" y="290"/>
                </a:lnTo>
                <a:lnTo>
                  <a:pt x="251" y="298"/>
                </a:lnTo>
                <a:lnTo>
                  <a:pt x="247" y="303"/>
                </a:lnTo>
                <a:lnTo>
                  <a:pt x="246" y="309"/>
                </a:lnTo>
                <a:lnTo>
                  <a:pt x="242" y="313"/>
                </a:lnTo>
                <a:lnTo>
                  <a:pt x="240" y="317"/>
                </a:lnTo>
                <a:lnTo>
                  <a:pt x="236" y="321"/>
                </a:lnTo>
                <a:lnTo>
                  <a:pt x="232" y="323"/>
                </a:lnTo>
                <a:lnTo>
                  <a:pt x="228" y="324"/>
                </a:lnTo>
                <a:lnTo>
                  <a:pt x="224" y="326"/>
                </a:lnTo>
                <a:lnTo>
                  <a:pt x="221" y="328"/>
                </a:lnTo>
                <a:lnTo>
                  <a:pt x="217" y="328"/>
                </a:lnTo>
                <a:lnTo>
                  <a:pt x="209" y="330"/>
                </a:lnTo>
                <a:lnTo>
                  <a:pt x="203" y="330"/>
                </a:lnTo>
                <a:lnTo>
                  <a:pt x="196" y="330"/>
                </a:lnTo>
                <a:lnTo>
                  <a:pt x="188" y="328"/>
                </a:lnTo>
                <a:lnTo>
                  <a:pt x="180" y="326"/>
                </a:lnTo>
                <a:lnTo>
                  <a:pt x="171" y="323"/>
                </a:lnTo>
                <a:lnTo>
                  <a:pt x="163" y="317"/>
                </a:lnTo>
                <a:lnTo>
                  <a:pt x="153" y="311"/>
                </a:lnTo>
                <a:lnTo>
                  <a:pt x="146" y="303"/>
                </a:lnTo>
                <a:lnTo>
                  <a:pt x="136" y="294"/>
                </a:lnTo>
                <a:lnTo>
                  <a:pt x="127" y="284"/>
                </a:lnTo>
                <a:lnTo>
                  <a:pt x="117" y="275"/>
                </a:lnTo>
                <a:lnTo>
                  <a:pt x="105" y="261"/>
                </a:lnTo>
                <a:lnTo>
                  <a:pt x="96" y="250"/>
                </a:lnTo>
                <a:lnTo>
                  <a:pt x="86" y="234"/>
                </a:lnTo>
                <a:lnTo>
                  <a:pt x="75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6729480" y="2849400"/>
            <a:ext cx="314280" cy="249480"/>
          </a:xfrm>
          <a:custGeom>
            <a:avLst/>
            <a:gdLst/>
            <a:ahLst/>
            <a:rect l="l" t="t" r="r" b="b"/>
            <a:pathLst>
              <a:path w="395" h="314">
                <a:moveTo>
                  <a:pt x="201" y="230"/>
                </a:moveTo>
                <a:lnTo>
                  <a:pt x="186" y="218"/>
                </a:lnTo>
                <a:lnTo>
                  <a:pt x="172" y="207"/>
                </a:lnTo>
                <a:lnTo>
                  <a:pt x="144" y="184"/>
                </a:lnTo>
                <a:lnTo>
                  <a:pt x="117" y="161"/>
                </a:lnTo>
                <a:lnTo>
                  <a:pt x="92" y="136"/>
                </a:lnTo>
                <a:lnTo>
                  <a:pt x="69" y="113"/>
                </a:lnTo>
                <a:lnTo>
                  <a:pt x="44" y="88"/>
                </a:lnTo>
                <a:lnTo>
                  <a:pt x="23" y="61"/>
                </a:lnTo>
                <a:lnTo>
                  <a:pt x="0" y="36"/>
                </a:lnTo>
                <a:lnTo>
                  <a:pt x="7" y="30"/>
                </a:lnTo>
                <a:lnTo>
                  <a:pt x="15" y="26"/>
                </a:lnTo>
                <a:lnTo>
                  <a:pt x="23" y="23"/>
                </a:lnTo>
                <a:lnTo>
                  <a:pt x="30" y="19"/>
                </a:lnTo>
                <a:lnTo>
                  <a:pt x="40" y="15"/>
                </a:lnTo>
                <a:lnTo>
                  <a:pt x="50" y="13"/>
                </a:lnTo>
                <a:lnTo>
                  <a:pt x="61" y="9"/>
                </a:lnTo>
                <a:lnTo>
                  <a:pt x="71" y="7"/>
                </a:lnTo>
                <a:lnTo>
                  <a:pt x="82" y="5"/>
                </a:lnTo>
                <a:lnTo>
                  <a:pt x="96" y="3"/>
                </a:lnTo>
                <a:lnTo>
                  <a:pt x="107" y="2"/>
                </a:lnTo>
                <a:lnTo>
                  <a:pt x="121" y="2"/>
                </a:lnTo>
                <a:lnTo>
                  <a:pt x="134" y="0"/>
                </a:lnTo>
                <a:lnTo>
                  <a:pt x="148" y="0"/>
                </a:lnTo>
                <a:lnTo>
                  <a:pt x="163" y="0"/>
                </a:lnTo>
                <a:lnTo>
                  <a:pt x="178" y="0"/>
                </a:lnTo>
                <a:lnTo>
                  <a:pt x="192" y="0"/>
                </a:lnTo>
                <a:lnTo>
                  <a:pt x="205" y="0"/>
                </a:lnTo>
                <a:lnTo>
                  <a:pt x="217" y="2"/>
                </a:lnTo>
                <a:lnTo>
                  <a:pt x="230" y="5"/>
                </a:lnTo>
                <a:lnTo>
                  <a:pt x="242" y="9"/>
                </a:lnTo>
                <a:lnTo>
                  <a:pt x="253" y="13"/>
                </a:lnTo>
                <a:lnTo>
                  <a:pt x="265" y="19"/>
                </a:lnTo>
                <a:lnTo>
                  <a:pt x="276" y="25"/>
                </a:lnTo>
                <a:lnTo>
                  <a:pt x="288" y="30"/>
                </a:lnTo>
                <a:lnTo>
                  <a:pt x="297" y="38"/>
                </a:lnTo>
                <a:lnTo>
                  <a:pt x="309" y="46"/>
                </a:lnTo>
                <a:lnTo>
                  <a:pt x="318" y="55"/>
                </a:lnTo>
                <a:lnTo>
                  <a:pt x="328" y="63"/>
                </a:lnTo>
                <a:lnTo>
                  <a:pt x="338" y="74"/>
                </a:lnTo>
                <a:lnTo>
                  <a:pt x="347" y="84"/>
                </a:lnTo>
                <a:lnTo>
                  <a:pt x="357" y="96"/>
                </a:lnTo>
                <a:lnTo>
                  <a:pt x="363" y="107"/>
                </a:lnTo>
                <a:lnTo>
                  <a:pt x="368" y="119"/>
                </a:lnTo>
                <a:lnTo>
                  <a:pt x="374" y="130"/>
                </a:lnTo>
                <a:lnTo>
                  <a:pt x="378" y="142"/>
                </a:lnTo>
                <a:lnTo>
                  <a:pt x="382" y="151"/>
                </a:lnTo>
                <a:lnTo>
                  <a:pt x="386" y="163"/>
                </a:lnTo>
                <a:lnTo>
                  <a:pt x="389" y="174"/>
                </a:lnTo>
                <a:lnTo>
                  <a:pt x="391" y="184"/>
                </a:lnTo>
                <a:lnTo>
                  <a:pt x="393" y="193"/>
                </a:lnTo>
                <a:lnTo>
                  <a:pt x="395" y="203"/>
                </a:lnTo>
                <a:lnTo>
                  <a:pt x="395" y="213"/>
                </a:lnTo>
                <a:lnTo>
                  <a:pt x="395" y="222"/>
                </a:lnTo>
                <a:lnTo>
                  <a:pt x="395" y="230"/>
                </a:lnTo>
                <a:lnTo>
                  <a:pt x="395" y="239"/>
                </a:lnTo>
                <a:lnTo>
                  <a:pt x="393" y="247"/>
                </a:lnTo>
                <a:lnTo>
                  <a:pt x="391" y="253"/>
                </a:lnTo>
                <a:lnTo>
                  <a:pt x="387" y="266"/>
                </a:lnTo>
                <a:lnTo>
                  <a:pt x="382" y="278"/>
                </a:lnTo>
                <a:lnTo>
                  <a:pt x="374" y="289"/>
                </a:lnTo>
                <a:lnTo>
                  <a:pt x="368" y="297"/>
                </a:lnTo>
                <a:lnTo>
                  <a:pt x="361" y="305"/>
                </a:lnTo>
                <a:lnTo>
                  <a:pt x="359" y="307"/>
                </a:lnTo>
                <a:lnTo>
                  <a:pt x="355" y="310"/>
                </a:lnTo>
                <a:lnTo>
                  <a:pt x="353" y="310"/>
                </a:lnTo>
                <a:lnTo>
                  <a:pt x="349" y="312"/>
                </a:lnTo>
                <a:lnTo>
                  <a:pt x="347" y="314"/>
                </a:lnTo>
                <a:lnTo>
                  <a:pt x="345" y="314"/>
                </a:lnTo>
                <a:lnTo>
                  <a:pt x="341" y="314"/>
                </a:lnTo>
                <a:lnTo>
                  <a:pt x="338" y="312"/>
                </a:lnTo>
                <a:lnTo>
                  <a:pt x="334" y="310"/>
                </a:lnTo>
                <a:lnTo>
                  <a:pt x="328" y="309"/>
                </a:lnTo>
                <a:lnTo>
                  <a:pt x="322" y="307"/>
                </a:lnTo>
                <a:lnTo>
                  <a:pt x="316" y="303"/>
                </a:lnTo>
                <a:lnTo>
                  <a:pt x="309" y="299"/>
                </a:lnTo>
                <a:lnTo>
                  <a:pt x="299" y="295"/>
                </a:lnTo>
                <a:lnTo>
                  <a:pt x="290" y="289"/>
                </a:lnTo>
                <a:lnTo>
                  <a:pt x="280" y="284"/>
                </a:lnTo>
                <a:lnTo>
                  <a:pt x="268" y="276"/>
                </a:lnTo>
                <a:lnTo>
                  <a:pt x="257" y="268"/>
                </a:lnTo>
                <a:lnTo>
                  <a:pt x="245" y="259"/>
                </a:lnTo>
                <a:lnTo>
                  <a:pt x="232" y="251"/>
                </a:lnTo>
                <a:lnTo>
                  <a:pt x="217" y="239"/>
                </a:lnTo>
                <a:lnTo>
                  <a:pt x="201" y="2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6219720" y="3219480"/>
            <a:ext cx="284400" cy="314280"/>
          </a:xfrm>
          <a:custGeom>
            <a:avLst/>
            <a:gdLst/>
            <a:ahLst/>
            <a:rect l="l" t="t" r="r" b="b"/>
            <a:pathLst>
              <a:path w="359" h="395">
                <a:moveTo>
                  <a:pt x="3" y="393"/>
                </a:moveTo>
                <a:lnTo>
                  <a:pt x="1" y="391"/>
                </a:lnTo>
                <a:lnTo>
                  <a:pt x="0" y="388"/>
                </a:lnTo>
                <a:lnTo>
                  <a:pt x="0" y="384"/>
                </a:lnTo>
                <a:lnTo>
                  <a:pt x="0" y="380"/>
                </a:lnTo>
                <a:lnTo>
                  <a:pt x="0" y="374"/>
                </a:lnTo>
                <a:lnTo>
                  <a:pt x="1" y="370"/>
                </a:lnTo>
                <a:lnTo>
                  <a:pt x="3" y="365"/>
                </a:lnTo>
                <a:lnTo>
                  <a:pt x="5" y="357"/>
                </a:lnTo>
                <a:lnTo>
                  <a:pt x="9" y="349"/>
                </a:lnTo>
                <a:lnTo>
                  <a:pt x="15" y="342"/>
                </a:lnTo>
                <a:lnTo>
                  <a:pt x="21" y="334"/>
                </a:lnTo>
                <a:lnTo>
                  <a:pt x="26" y="326"/>
                </a:lnTo>
                <a:lnTo>
                  <a:pt x="34" y="317"/>
                </a:lnTo>
                <a:lnTo>
                  <a:pt x="42" y="305"/>
                </a:lnTo>
                <a:lnTo>
                  <a:pt x="51" y="295"/>
                </a:lnTo>
                <a:lnTo>
                  <a:pt x="63" y="284"/>
                </a:lnTo>
                <a:lnTo>
                  <a:pt x="72" y="272"/>
                </a:lnTo>
                <a:lnTo>
                  <a:pt x="84" y="261"/>
                </a:lnTo>
                <a:lnTo>
                  <a:pt x="94" y="251"/>
                </a:lnTo>
                <a:lnTo>
                  <a:pt x="101" y="240"/>
                </a:lnTo>
                <a:lnTo>
                  <a:pt x="119" y="221"/>
                </a:lnTo>
                <a:lnTo>
                  <a:pt x="134" y="201"/>
                </a:lnTo>
                <a:lnTo>
                  <a:pt x="149" y="182"/>
                </a:lnTo>
                <a:lnTo>
                  <a:pt x="161" y="163"/>
                </a:lnTo>
                <a:lnTo>
                  <a:pt x="170" y="144"/>
                </a:lnTo>
                <a:lnTo>
                  <a:pt x="180" y="127"/>
                </a:lnTo>
                <a:lnTo>
                  <a:pt x="184" y="113"/>
                </a:lnTo>
                <a:lnTo>
                  <a:pt x="188" y="100"/>
                </a:lnTo>
                <a:lnTo>
                  <a:pt x="190" y="86"/>
                </a:lnTo>
                <a:lnTo>
                  <a:pt x="190" y="75"/>
                </a:lnTo>
                <a:lnTo>
                  <a:pt x="190" y="65"/>
                </a:lnTo>
                <a:lnTo>
                  <a:pt x="188" y="56"/>
                </a:lnTo>
                <a:lnTo>
                  <a:pt x="186" y="52"/>
                </a:lnTo>
                <a:lnTo>
                  <a:pt x="184" y="48"/>
                </a:lnTo>
                <a:lnTo>
                  <a:pt x="182" y="44"/>
                </a:lnTo>
                <a:lnTo>
                  <a:pt x="180" y="42"/>
                </a:lnTo>
                <a:lnTo>
                  <a:pt x="176" y="36"/>
                </a:lnTo>
                <a:lnTo>
                  <a:pt x="174" y="33"/>
                </a:lnTo>
                <a:lnTo>
                  <a:pt x="172" y="29"/>
                </a:lnTo>
                <a:lnTo>
                  <a:pt x="174" y="23"/>
                </a:lnTo>
                <a:lnTo>
                  <a:pt x="176" y="19"/>
                </a:lnTo>
                <a:lnTo>
                  <a:pt x="176" y="17"/>
                </a:lnTo>
                <a:lnTo>
                  <a:pt x="180" y="15"/>
                </a:lnTo>
                <a:lnTo>
                  <a:pt x="182" y="11"/>
                </a:lnTo>
                <a:lnTo>
                  <a:pt x="184" y="10"/>
                </a:lnTo>
                <a:lnTo>
                  <a:pt x="188" y="8"/>
                </a:lnTo>
                <a:lnTo>
                  <a:pt x="193" y="6"/>
                </a:lnTo>
                <a:lnTo>
                  <a:pt x="197" y="4"/>
                </a:lnTo>
                <a:lnTo>
                  <a:pt x="201" y="2"/>
                </a:lnTo>
                <a:lnTo>
                  <a:pt x="207" y="2"/>
                </a:lnTo>
                <a:lnTo>
                  <a:pt x="213" y="0"/>
                </a:lnTo>
                <a:lnTo>
                  <a:pt x="218" y="0"/>
                </a:lnTo>
                <a:lnTo>
                  <a:pt x="224" y="2"/>
                </a:lnTo>
                <a:lnTo>
                  <a:pt x="238" y="4"/>
                </a:lnTo>
                <a:lnTo>
                  <a:pt x="251" y="8"/>
                </a:lnTo>
                <a:lnTo>
                  <a:pt x="266" y="13"/>
                </a:lnTo>
                <a:lnTo>
                  <a:pt x="282" y="21"/>
                </a:lnTo>
                <a:lnTo>
                  <a:pt x="299" y="31"/>
                </a:lnTo>
                <a:lnTo>
                  <a:pt x="312" y="42"/>
                </a:lnTo>
                <a:lnTo>
                  <a:pt x="324" y="56"/>
                </a:lnTo>
                <a:lnTo>
                  <a:pt x="334" y="67"/>
                </a:lnTo>
                <a:lnTo>
                  <a:pt x="341" y="79"/>
                </a:lnTo>
                <a:lnTo>
                  <a:pt x="349" y="90"/>
                </a:lnTo>
                <a:lnTo>
                  <a:pt x="353" y="96"/>
                </a:lnTo>
                <a:lnTo>
                  <a:pt x="355" y="102"/>
                </a:lnTo>
                <a:lnTo>
                  <a:pt x="357" y="107"/>
                </a:lnTo>
                <a:lnTo>
                  <a:pt x="357" y="113"/>
                </a:lnTo>
                <a:lnTo>
                  <a:pt x="359" y="121"/>
                </a:lnTo>
                <a:lnTo>
                  <a:pt x="359" y="127"/>
                </a:lnTo>
                <a:lnTo>
                  <a:pt x="359" y="134"/>
                </a:lnTo>
                <a:lnTo>
                  <a:pt x="357" y="140"/>
                </a:lnTo>
                <a:lnTo>
                  <a:pt x="353" y="148"/>
                </a:lnTo>
                <a:lnTo>
                  <a:pt x="347" y="155"/>
                </a:lnTo>
                <a:lnTo>
                  <a:pt x="341" y="165"/>
                </a:lnTo>
                <a:lnTo>
                  <a:pt x="334" y="173"/>
                </a:lnTo>
                <a:lnTo>
                  <a:pt x="326" y="182"/>
                </a:lnTo>
                <a:lnTo>
                  <a:pt x="314" y="192"/>
                </a:lnTo>
                <a:lnTo>
                  <a:pt x="305" y="201"/>
                </a:lnTo>
                <a:lnTo>
                  <a:pt x="291" y="211"/>
                </a:lnTo>
                <a:lnTo>
                  <a:pt x="278" y="223"/>
                </a:lnTo>
                <a:lnTo>
                  <a:pt x="263" y="234"/>
                </a:lnTo>
                <a:lnTo>
                  <a:pt x="247" y="246"/>
                </a:lnTo>
                <a:lnTo>
                  <a:pt x="230" y="257"/>
                </a:lnTo>
                <a:lnTo>
                  <a:pt x="213" y="271"/>
                </a:lnTo>
                <a:lnTo>
                  <a:pt x="193" y="284"/>
                </a:lnTo>
                <a:lnTo>
                  <a:pt x="172" y="299"/>
                </a:lnTo>
                <a:lnTo>
                  <a:pt x="155" y="315"/>
                </a:lnTo>
                <a:lnTo>
                  <a:pt x="136" y="328"/>
                </a:lnTo>
                <a:lnTo>
                  <a:pt x="120" y="340"/>
                </a:lnTo>
                <a:lnTo>
                  <a:pt x="103" y="349"/>
                </a:lnTo>
                <a:lnTo>
                  <a:pt x="90" y="361"/>
                </a:lnTo>
                <a:lnTo>
                  <a:pt x="74" y="368"/>
                </a:lnTo>
                <a:lnTo>
                  <a:pt x="63" y="376"/>
                </a:lnTo>
                <a:lnTo>
                  <a:pt x="51" y="382"/>
                </a:lnTo>
                <a:lnTo>
                  <a:pt x="40" y="388"/>
                </a:lnTo>
                <a:lnTo>
                  <a:pt x="30" y="391"/>
                </a:lnTo>
                <a:lnTo>
                  <a:pt x="23" y="393"/>
                </a:lnTo>
                <a:lnTo>
                  <a:pt x="15" y="395"/>
                </a:lnTo>
                <a:lnTo>
                  <a:pt x="9" y="395"/>
                </a:lnTo>
                <a:lnTo>
                  <a:pt x="5" y="395"/>
                </a:lnTo>
                <a:lnTo>
                  <a:pt x="3" y="3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166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矩形 2"/>
            <p:cNvSpPr/>
            <p:nvPr/>
          </p:nvSpPr>
          <p:spPr>
            <a:xfrm>
              <a:off x="12560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女”的横略长，托住上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矩形 3"/>
          <p:cNvSpPr/>
          <p:nvPr/>
        </p:nvSpPr>
        <p:spPr>
          <a:xfrm>
            <a:off x="2076480" y="1868400"/>
            <a:ext cx="117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ě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9"/>
          <p:cNvSpPr/>
          <p:nvPr/>
        </p:nvSpPr>
        <p:spPr>
          <a:xfrm>
            <a:off x="6234120" y="2698920"/>
            <a:ext cx="773280" cy="342720"/>
          </a:xfrm>
          <a:custGeom>
            <a:avLst/>
            <a:gdLst/>
            <a:ahLst/>
            <a:rect l="l" t="t" r="r" b="b"/>
            <a:pathLst>
              <a:path w="975" h="432">
                <a:moveTo>
                  <a:pt x="631" y="162"/>
                </a:moveTo>
                <a:lnTo>
                  <a:pt x="645" y="152"/>
                </a:lnTo>
                <a:lnTo>
                  <a:pt x="658" y="142"/>
                </a:lnTo>
                <a:lnTo>
                  <a:pt x="672" y="135"/>
                </a:lnTo>
                <a:lnTo>
                  <a:pt x="683" y="127"/>
                </a:lnTo>
                <a:lnTo>
                  <a:pt x="695" y="119"/>
                </a:lnTo>
                <a:lnTo>
                  <a:pt x="704" y="112"/>
                </a:lnTo>
                <a:lnTo>
                  <a:pt x="712" y="104"/>
                </a:lnTo>
                <a:lnTo>
                  <a:pt x="720" y="96"/>
                </a:lnTo>
                <a:lnTo>
                  <a:pt x="725" y="91"/>
                </a:lnTo>
                <a:lnTo>
                  <a:pt x="729" y="85"/>
                </a:lnTo>
                <a:lnTo>
                  <a:pt x="733" y="79"/>
                </a:lnTo>
                <a:lnTo>
                  <a:pt x="737" y="73"/>
                </a:lnTo>
                <a:lnTo>
                  <a:pt x="739" y="68"/>
                </a:lnTo>
                <a:lnTo>
                  <a:pt x="739" y="62"/>
                </a:lnTo>
                <a:lnTo>
                  <a:pt x="739" y="56"/>
                </a:lnTo>
                <a:lnTo>
                  <a:pt x="737" y="52"/>
                </a:lnTo>
                <a:lnTo>
                  <a:pt x="733" y="43"/>
                </a:lnTo>
                <a:lnTo>
                  <a:pt x="731" y="35"/>
                </a:lnTo>
                <a:lnTo>
                  <a:pt x="731" y="33"/>
                </a:lnTo>
                <a:lnTo>
                  <a:pt x="729" y="29"/>
                </a:lnTo>
                <a:lnTo>
                  <a:pt x="731" y="25"/>
                </a:lnTo>
                <a:lnTo>
                  <a:pt x="731" y="23"/>
                </a:lnTo>
                <a:lnTo>
                  <a:pt x="733" y="20"/>
                </a:lnTo>
                <a:lnTo>
                  <a:pt x="735" y="18"/>
                </a:lnTo>
                <a:lnTo>
                  <a:pt x="737" y="16"/>
                </a:lnTo>
                <a:lnTo>
                  <a:pt x="741" y="12"/>
                </a:lnTo>
                <a:lnTo>
                  <a:pt x="744" y="10"/>
                </a:lnTo>
                <a:lnTo>
                  <a:pt x="748" y="8"/>
                </a:lnTo>
                <a:lnTo>
                  <a:pt x="754" y="6"/>
                </a:lnTo>
                <a:lnTo>
                  <a:pt x="762" y="4"/>
                </a:lnTo>
                <a:lnTo>
                  <a:pt x="766" y="2"/>
                </a:lnTo>
                <a:lnTo>
                  <a:pt x="771" y="0"/>
                </a:lnTo>
                <a:lnTo>
                  <a:pt x="777" y="0"/>
                </a:lnTo>
                <a:lnTo>
                  <a:pt x="783" y="0"/>
                </a:lnTo>
                <a:lnTo>
                  <a:pt x="789" y="2"/>
                </a:lnTo>
                <a:lnTo>
                  <a:pt x="796" y="4"/>
                </a:lnTo>
                <a:lnTo>
                  <a:pt x="804" y="6"/>
                </a:lnTo>
                <a:lnTo>
                  <a:pt x="812" y="10"/>
                </a:lnTo>
                <a:lnTo>
                  <a:pt x="821" y="12"/>
                </a:lnTo>
                <a:lnTo>
                  <a:pt x="829" y="18"/>
                </a:lnTo>
                <a:lnTo>
                  <a:pt x="839" y="21"/>
                </a:lnTo>
                <a:lnTo>
                  <a:pt x="848" y="27"/>
                </a:lnTo>
                <a:lnTo>
                  <a:pt x="869" y="39"/>
                </a:lnTo>
                <a:lnTo>
                  <a:pt x="890" y="52"/>
                </a:lnTo>
                <a:lnTo>
                  <a:pt x="902" y="60"/>
                </a:lnTo>
                <a:lnTo>
                  <a:pt x="912" y="66"/>
                </a:lnTo>
                <a:lnTo>
                  <a:pt x="921" y="73"/>
                </a:lnTo>
                <a:lnTo>
                  <a:pt x="929" y="79"/>
                </a:lnTo>
                <a:lnTo>
                  <a:pt x="936" y="87"/>
                </a:lnTo>
                <a:lnTo>
                  <a:pt x="942" y="92"/>
                </a:lnTo>
                <a:lnTo>
                  <a:pt x="950" y="100"/>
                </a:lnTo>
                <a:lnTo>
                  <a:pt x="954" y="106"/>
                </a:lnTo>
                <a:lnTo>
                  <a:pt x="960" y="114"/>
                </a:lnTo>
                <a:lnTo>
                  <a:pt x="963" y="119"/>
                </a:lnTo>
                <a:lnTo>
                  <a:pt x="967" y="127"/>
                </a:lnTo>
                <a:lnTo>
                  <a:pt x="969" y="133"/>
                </a:lnTo>
                <a:lnTo>
                  <a:pt x="971" y="140"/>
                </a:lnTo>
                <a:lnTo>
                  <a:pt x="973" y="146"/>
                </a:lnTo>
                <a:lnTo>
                  <a:pt x="973" y="154"/>
                </a:lnTo>
                <a:lnTo>
                  <a:pt x="975" y="162"/>
                </a:lnTo>
                <a:lnTo>
                  <a:pt x="973" y="167"/>
                </a:lnTo>
                <a:lnTo>
                  <a:pt x="971" y="175"/>
                </a:lnTo>
                <a:lnTo>
                  <a:pt x="967" y="181"/>
                </a:lnTo>
                <a:lnTo>
                  <a:pt x="961" y="188"/>
                </a:lnTo>
                <a:lnTo>
                  <a:pt x="954" y="194"/>
                </a:lnTo>
                <a:lnTo>
                  <a:pt x="944" y="202"/>
                </a:lnTo>
                <a:lnTo>
                  <a:pt x="935" y="210"/>
                </a:lnTo>
                <a:lnTo>
                  <a:pt x="923" y="217"/>
                </a:lnTo>
                <a:lnTo>
                  <a:pt x="908" y="225"/>
                </a:lnTo>
                <a:lnTo>
                  <a:pt x="894" y="233"/>
                </a:lnTo>
                <a:lnTo>
                  <a:pt x="877" y="240"/>
                </a:lnTo>
                <a:lnTo>
                  <a:pt x="860" y="248"/>
                </a:lnTo>
                <a:lnTo>
                  <a:pt x="839" y="256"/>
                </a:lnTo>
                <a:lnTo>
                  <a:pt x="819" y="265"/>
                </a:lnTo>
                <a:lnTo>
                  <a:pt x="796" y="273"/>
                </a:lnTo>
                <a:lnTo>
                  <a:pt x="773" y="282"/>
                </a:lnTo>
                <a:lnTo>
                  <a:pt x="748" y="292"/>
                </a:lnTo>
                <a:lnTo>
                  <a:pt x="721" y="300"/>
                </a:lnTo>
                <a:lnTo>
                  <a:pt x="695" y="309"/>
                </a:lnTo>
                <a:lnTo>
                  <a:pt x="668" y="317"/>
                </a:lnTo>
                <a:lnTo>
                  <a:pt x="641" y="325"/>
                </a:lnTo>
                <a:lnTo>
                  <a:pt x="612" y="332"/>
                </a:lnTo>
                <a:lnTo>
                  <a:pt x="581" y="340"/>
                </a:lnTo>
                <a:lnTo>
                  <a:pt x="551" y="348"/>
                </a:lnTo>
                <a:lnTo>
                  <a:pt x="520" y="355"/>
                </a:lnTo>
                <a:lnTo>
                  <a:pt x="489" y="361"/>
                </a:lnTo>
                <a:lnTo>
                  <a:pt x="457" y="369"/>
                </a:lnTo>
                <a:lnTo>
                  <a:pt x="424" y="377"/>
                </a:lnTo>
                <a:lnTo>
                  <a:pt x="389" y="382"/>
                </a:lnTo>
                <a:lnTo>
                  <a:pt x="357" y="390"/>
                </a:lnTo>
                <a:lnTo>
                  <a:pt x="320" y="396"/>
                </a:lnTo>
                <a:lnTo>
                  <a:pt x="286" y="403"/>
                </a:lnTo>
                <a:lnTo>
                  <a:pt x="268" y="407"/>
                </a:lnTo>
                <a:lnTo>
                  <a:pt x="251" y="409"/>
                </a:lnTo>
                <a:lnTo>
                  <a:pt x="236" y="413"/>
                </a:lnTo>
                <a:lnTo>
                  <a:pt x="218" y="415"/>
                </a:lnTo>
                <a:lnTo>
                  <a:pt x="203" y="419"/>
                </a:lnTo>
                <a:lnTo>
                  <a:pt x="190" y="421"/>
                </a:lnTo>
                <a:lnTo>
                  <a:pt x="174" y="423"/>
                </a:lnTo>
                <a:lnTo>
                  <a:pt x="161" y="425"/>
                </a:lnTo>
                <a:lnTo>
                  <a:pt x="149" y="426"/>
                </a:lnTo>
                <a:lnTo>
                  <a:pt x="136" y="426"/>
                </a:lnTo>
                <a:lnTo>
                  <a:pt x="124" y="428"/>
                </a:lnTo>
                <a:lnTo>
                  <a:pt x="113" y="430"/>
                </a:lnTo>
                <a:lnTo>
                  <a:pt x="101" y="430"/>
                </a:lnTo>
                <a:lnTo>
                  <a:pt x="92" y="432"/>
                </a:lnTo>
                <a:lnTo>
                  <a:pt x="82" y="432"/>
                </a:lnTo>
                <a:lnTo>
                  <a:pt x="73" y="432"/>
                </a:lnTo>
                <a:lnTo>
                  <a:pt x="65" y="432"/>
                </a:lnTo>
                <a:lnTo>
                  <a:pt x="55" y="432"/>
                </a:lnTo>
                <a:lnTo>
                  <a:pt x="48" y="432"/>
                </a:lnTo>
                <a:lnTo>
                  <a:pt x="42" y="432"/>
                </a:lnTo>
                <a:lnTo>
                  <a:pt x="36" y="432"/>
                </a:lnTo>
                <a:lnTo>
                  <a:pt x="30" y="430"/>
                </a:lnTo>
                <a:lnTo>
                  <a:pt x="25" y="430"/>
                </a:lnTo>
                <a:lnTo>
                  <a:pt x="19" y="428"/>
                </a:lnTo>
                <a:lnTo>
                  <a:pt x="15" y="428"/>
                </a:lnTo>
                <a:lnTo>
                  <a:pt x="11" y="426"/>
                </a:lnTo>
                <a:lnTo>
                  <a:pt x="9" y="425"/>
                </a:lnTo>
                <a:lnTo>
                  <a:pt x="5" y="425"/>
                </a:lnTo>
                <a:lnTo>
                  <a:pt x="3" y="423"/>
                </a:lnTo>
                <a:lnTo>
                  <a:pt x="3" y="421"/>
                </a:lnTo>
                <a:lnTo>
                  <a:pt x="2" y="419"/>
                </a:lnTo>
                <a:lnTo>
                  <a:pt x="2" y="417"/>
                </a:lnTo>
                <a:lnTo>
                  <a:pt x="2" y="415"/>
                </a:lnTo>
                <a:lnTo>
                  <a:pt x="0" y="413"/>
                </a:lnTo>
                <a:lnTo>
                  <a:pt x="2" y="411"/>
                </a:lnTo>
                <a:lnTo>
                  <a:pt x="3" y="409"/>
                </a:lnTo>
                <a:lnTo>
                  <a:pt x="5" y="407"/>
                </a:lnTo>
                <a:lnTo>
                  <a:pt x="7" y="405"/>
                </a:lnTo>
                <a:lnTo>
                  <a:pt x="11" y="401"/>
                </a:lnTo>
                <a:lnTo>
                  <a:pt x="15" y="400"/>
                </a:lnTo>
                <a:lnTo>
                  <a:pt x="19" y="398"/>
                </a:lnTo>
                <a:lnTo>
                  <a:pt x="23" y="396"/>
                </a:lnTo>
                <a:lnTo>
                  <a:pt x="28" y="392"/>
                </a:lnTo>
                <a:lnTo>
                  <a:pt x="34" y="390"/>
                </a:lnTo>
                <a:lnTo>
                  <a:pt x="40" y="386"/>
                </a:lnTo>
                <a:lnTo>
                  <a:pt x="48" y="382"/>
                </a:lnTo>
                <a:lnTo>
                  <a:pt x="55" y="380"/>
                </a:lnTo>
                <a:lnTo>
                  <a:pt x="63" y="377"/>
                </a:lnTo>
                <a:lnTo>
                  <a:pt x="71" y="373"/>
                </a:lnTo>
                <a:lnTo>
                  <a:pt x="80" y="369"/>
                </a:lnTo>
                <a:lnTo>
                  <a:pt x="90" y="365"/>
                </a:lnTo>
                <a:lnTo>
                  <a:pt x="101" y="361"/>
                </a:lnTo>
                <a:lnTo>
                  <a:pt x="111" y="357"/>
                </a:lnTo>
                <a:lnTo>
                  <a:pt x="122" y="352"/>
                </a:lnTo>
                <a:lnTo>
                  <a:pt x="134" y="348"/>
                </a:lnTo>
                <a:lnTo>
                  <a:pt x="147" y="344"/>
                </a:lnTo>
                <a:lnTo>
                  <a:pt x="161" y="338"/>
                </a:lnTo>
                <a:lnTo>
                  <a:pt x="174" y="334"/>
                </a:lnTo>
                <a:lnTo>
                  <a:pt x="188" y="329"/>
                </a:lnTo>
                <a:lnTo>
                  <a:pt x="203" y="323"/>
                </a:lnTo>
                <a:lnTo>
                  <a:pt x="218" y="317"/>
                </a:lnTo>
                <a:lnTo>
                  <a:pt x="234" y="311"/>
                </a:lnTo>
                <a:lnTo>
                  <a:pt x="251" y="307"/>
                </a:lnTo>
                <a:lnTo>
                  <a:pt x="284" y="296"/>
                </a:lnTo>
                <a:lnTo>
                  <a:pt x="314" y="284"/>
                </a:lnTo>
                <a:lnTo>
                  <a:pt x="343" y="273"/>
                </a:lnTo>
                <a:lnTo>
                  <a:pt x="372" y="263"/>
                </a:lnTo>
                <a:lnTo>
                  <a:pt x="401" y="254"/>
                </a:lnTo>
                <a:lnTo>
                  <a:pt x="426" y="244"/>
                </a:lnTo>
                <a:lnTo>
                  <a:pt x="453" y="235"/>
                </a:lnTo>
                <a:lnTo>
                  <a:pt x="476" y="225"/>
                </a:lnTo>
                <a:lnTo>
                  <a:pt x="499" y="215"/>
                </a:lnTo>
                <a:lnTo>
                  <a:pt x="520" y="208"/>
                </a:lnTo>
                <a:lnTo>
                  <a:pt x="541" y="198"/>
                </a:lnTo>
                <a:lnTo>
                  <a:pt x="560" y="190"/>
                </a:lnTo>
                <a:lnTo>
                  <a:pt x="579" y="183"/>
                </a:lnTo>
                <a:lnTo>
                  <a:pt x="597" y="175"/>
                </a:lnTo>
                <a:lnTo>
                  <a:pt x="614" y="167"/>
                </a:lnTo>
                <a:lnTo>
                  <a:pt x="631" y="16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0"/>
          <p:cNvSpPr/>
          <p:nvPr/>
        </p:nvSpPr>
        <p:spPr>
          <a:xfrm>
            <a:off x="5818320" y="3135240"/>
            <a:ext cx="1482480" cy="336600"/>
          </a:xfrm>
          <a:custGeom>
            <a:avLst/>
            <a:gdLst/>
            <a:ahLst/>
            <a:rect l="l" t="t" r="r" b="b"/>
            <a:pathLst>
              <a:path w="1867" h="424">
                <a:moveTo>
                  <a:pt x="1249" y="219"/>
                </a:moveTo>
                <a:lnTo>
                  <a:pt x="1213" y="223"/>
                </a:lnTo>
                <a:lnTo>
                  <a:pt x="1176" y="229"/>
                </a:lnTo>
                <a:lnTo>
                  <a:pt x="1138" y="232"/>
                </a:lnTo>
                <a:lnTo>
                  <a:pt x="1100" y="238"/>
                </a:lnTo>
                <a:lnTo>
                  <a:pt x="1061" y="244"/>
                </a:lnTo>
                <a:lnTo>
                  <a:pt x="1021" y="252"/>
                </a:lnTo>
                <a:lnTo>
                  <a:pt x="981" y="257"/>
                </a:lnTo>
                <a:lnTo>
                  <a:pt x="938" y="265"/>
                </a:lnTo>
                <a:lnTo>
                  <a:pt x="898" y="273"/>
                </a:lnTo>
                <a:lnTo>
                  <a:pt x="854" y="280"/>
                </a:lnTo>
                <a:lnTo>
                  <a:pt x="812" y="288"/>
                </a:lnTo>
                <a:lnTo>
                  <a:pt x="767" y="298"/>
                </a:lnTo>
                <a:lnTo>
                  <a:pt x="723" y="307"/>
                </a:lnTo>
                <a:lnTo>
                  <a:pt x="677" y="317"/>
                </a:lnTo>
                <a:lnTo>
                  <a:pt x="631" y="328"/>
                </a:lnTo>
                <a:lnTo>
                  <a:pt x="585" y="340"/>
                </a:lnTo>
                <a:lnTo>
                  <a:pt x="562" y="346"/>
                </a:lnTo>
                <a:lnTo>
                  <a:pt x="539" y="350"/>
                </a:lnTo>
                <a:lnTo>
                  <a:pt x="518" y="355"/>
                </a:lnTo>
                <a:lnTo>
                  <a:pt x="497" y="361"/>
                </a:lnTo>
                <a:lnTo>
                  <a:pt x="476" y="365"/>
                </a:lnTo>
                <a:lnTo>
                  <a:pt x="454" y="371"/>
                </a:lnTo>
                <a:lnTo>
                  <a:pt x="435" y="374"/>
                </a:lnTo>
                <a:lnTo>
                  <a:pt x="416" y="378"/>
                </a:lnTo>
                <a:lnTo>
                  <a:pt x="397" y="382"/>
                </a:lnTo>
                <a:lnTo>
                  <a:pt x="380" y="386"/>
                </a:lnTo>
                <a:lnTo>
                  <a:pt x="362" y="390"/>
                </a:lnTo>
                <a:lnTo>
                  <a:pt x="345" y="394"/>
                </a:lnTo>
                <a:lnTo>
                  <a:pt x="330" y="397"/>
                </a:lnTo>
                <a:lnTo>
                  <a:pt x="314" y="399"/>
                </a:lnTo>
                <a:lnTo>
                  <a:pt x="299" y="403"/>
                </a:lnTo>
                <a:lnTo>
                  <a:pt x="286" y="405"/>
                </a:lnTo>
                <a:lnTo>
                  <a:pt x="272" y="407"/>
                </a:lnTo>
                <a:lnTo>
                  <a:pt x="259" y="409"/>
                </a:lnTo>
                <a:lnTo>
                  <a:pt x="247" y="413"/>
                </a:lnTo>
                <a:lnTo>
                  <a:pt x="236" y="415"/>
                </a:lnTo>
                <a:lnTo>
                  <a:pt x="224" y="415"/>
                </a:lnTo>
                <a:lnTo>
                  <a:pt x="213" y="417"/>
                </a:lnTo>
                <a:lnTo>
                  <a:pt x="203" y="419"/>
                </a:lnTo>
                <a:lnTo>
                  <a:pt x="195" y="421"/>
                </a:lnTo>
                <a:lnTo>
                  <a:pt x="186" y="421"/>
                </a:lnTo>
                <a:lnTo>
                  <a:pt x="178" y="422"/>
                </a:lnTo>
                <a:lnTo>
                  <a:pt x="170" y="422"/>
                </a:lnTo>
                <a:lnTo>
                  <a:pt x="165" y="422"/>
                </a:lnTo>
                <a:lnTo>
                  <a:pt x="159" y="424"/>
                </a:lnTo>
                <a:lnTo>
                  <a:pt x="153" y="424"/>
                </a:lnTo>
                <a:lnTo>
                  <a:pt x="149" y="424"/>
                </a:lnTo>
                <a:lnTo>
                  <a:pt x="145" y="424"/>
                </a:lnTo>
                <a:lnTo>
                  <a:pt x="128" y="424"/>
                </a:lnTo>
                <a:lnTo>
                  <a:pt x="113" y="422"/>
                </a:lnTo>
                <a:lnTo>
                  <a:pt x="97" y="419"/>
                </a:lnTo>
                <a:lnTo>
                  <a:pt x="82" y="415"/>
                </a:lnTo>
                <a:lnTo>
                  <a:pt x="74" y="411"/>
                </a:lnTo>
                <a:lnTo>
                  <a:pt x="69" y="407"/>
                </a:lnTo>
                <a:lnTo>
                  <a:pt x="61" y="403"/>
                </a:lnTo>
                <a:lnTo>
                  <a:pt x="53" y="399"/>
                </a:lnTo>
                <a:lnTo>
                  <a:pt x="48" y="394"/>
                </a:lnTo>
                <a:lnTo>
                  <a:pt x="40" y="388"/>
                </a:lnTo>
                <a:lnTo>
                  <a:pt x="34" y="382"/>
                </a:lnTo>
                <a:lnTo>
                  <a:pt x="28" y="376"/>
                </a:lnTo>
                <a:lnTo>
                  <a:pt x="21" y="369"/>
                </a:lnTo>
                <a:lnTo>
                  <a:pt x="15" y="363"/>
                </a:lnTo>
                <a:lnTo>
                  <a:pt x="11" y="357"/>
                </a:lnTo>
                <a:lnTo>
                  <a:pt x="7" y="351"/>
                </a:lnTo>
                <a:lnTo>
                  <a:pt x="3" y="348"/>
                </a:lnTo>
                <a:lnTo>
                  <a:pt x="1" y="344"/>
                </a:lnTo>
                <a:lnTo>
                  <a:pt x="0" y="340"/>
                </a:lnTo>
                <a:lnTo>
                  <a:pt x="0" y="336"/>
                </a:lnTo>
                <a:lnTo>
                  <a:pt x="0" y="332"/>
                </a:lnTo>
                <a:lnTo>
                  <a:pt x="0" y="330"/>
                </a:lnTo>
                <a:lnTo>
                  <a:pt x="0" y="326"/>
                </a:lnTo>
                <a:lnTo>
                  <a:pt x="1" y="325"/>
                </a:lnTo>
                <a:lnTo>
                  <a:pt x="5" y="323"/>
                </a:lnTo>
                <a:lnTo>
                  <a:pt x="7" y="319"/>
                </a:lnTo>
                <a:lnTo>
                  <a:pt x="11" y="317"/>
                </a:lnTo>
                <a:lnTo>
                  <a:pt x="15" y="315"/>
                </a:lnTo>
                <a:lnTo>
                  <a:pt x="21" y="315"/>
                </a:lnTo>
                <a:lnTo>
                  <a:pt x="26" y="315"/>
                </a:lnTo>
                <a:lnTo>
                  <a:pt x="32" y="313"/>
                </a:lnTo>
                <a:lnTo>
                  <a:pt x="40" y="313"/>
                </a:lnTo>
                <a:lnTo>
                  <a:pt x="48" y="311"/>
                </a:lnTo>
                <a:lnTo>
                  <a:pt x="57" y="309"/>
                </a:lnTo>
                <a:lnTo>
                  <a:pt x="69" y="307"/>
                </a:lnTo>
                <a:lnTo>
                  <a:pt x="78" y="305"/>
                </a:lnTo>
                <a:lnTo>
                  <a:pt x="92" y="303"/>
                </a:lnTo>
                <a:lnTo>
                  <a:pt x="105" y="302"/>
                </a:lnTo>
                <a:lnTo>
                  <a:pt x="119" y="298"/>
                </a:lnTo>
                <a:lnTo>
                  <a:pt x="134" y="294"/>
                </a:lnTo>
                <a:lnTo>
                  <a:pt x="149" y="292"/>
                </a:lnTo>
                <a:lnTo>
                  <a:pt x="167" y="288"/>
                </a:lnTo>
                <a:lnTo>
                  <a:pt x="186" y="282"/>
                </a:lnTo>
                <a:lnTo>
                  <a:pt x="205" y="279"/>
                </a:lnTo>
                <a:lnTo>
                  <a:pt x="215" y="277"/>
                </a:lnTo>
                <a:lnTo>
                  <a:pt x="226" y="277"/>
                </a:lnTo>
                <a:lnTo>
                  <a:pt x="239" y="275"/>
                </a:lnTo>
                <a:lnTo>
                  <a:pt x="251" y="271"/>
                </a:lnTo>
                <a:lnTo>
                  <a:pt x="266" y="269"/>
                </a:lnTo>
                <a:lnTo>
                  <a:pt x="280" y="267"/>
                </a:lnTo>
                <a:lnTo>
                  <a:pt x="295" y="263"/>
                </a:lnTo>
                <a:lnTo>
                  <a:pt x="312" y="261"/>
                </a:lnTo>
                <a:lnTo>
                  <a:pt x="330" y="257"/>
                </a:lnTo>
                <a:lnTo>
                  <a:pt x="347" y="254"/>
                </a:lnTo>
                <a:lnTo>
                  <a:pt x="366" y="250"/>
                </a:lnTo>
                <a:lnTo>
                  <a:pt x="385" y="246"/>
                </a:lnTo>
                <a:lnTo>
                  <a:pt x="407" y="242"/>
                </a:lnTo>
                <a:lnTo>
                  <a:pt x="428" y="238"/>
                </a:lnTo>
                <a:lnTo>
                  <a:pt x="451" y="232"/>
                </a:lnTo>
                <a:lnTo>
                  <a:pt x="474" y="227"/>
                </a:lnTo>
                <a:lnTo>
                  <a:pt x="497" y="223"/>
                </a:lnTo>
                <a:lnTo>
                  <a:pt x="522" y="217"/>
                </a:lnTo>
                <a:lnTo>
                  <a:pt x="549" y="211"/>
                </a:lnTo>
                <a:lnTo>
                  <a:pt x="575" y="206"/>
                </a:lnTo>
                <a:lnTo>
                  <a:pt x="602" y="200"/>
                </a:lnTo>
                <a:lnTo>
                  <a:pt x="631" y="194"/>
                </a:lnTo>
                <a:lnTo>
                  <a:pt x="660" y="186"/>
                </a:lnTo>
                <a:lnTo>
                  <a:pt x="691" y="181"/>
                </a:lnTo>
                <a:lnTo>
                  <a:pt x="721" y="173"/>
                </a:lnTo>
                <a:lnTo>
                  <a:pt x="754" y="167"/>
                </a:lnTo>
                <a:lnTo>
                  <a:pt x="787" y="160"/>
                </a:lnTo>
                <a:lnTo>
                  <a:pt x="821" y="152"/>
                </a:lnTo>
                <a:lnTo>
                  <a:pt x="856" y="144"/>
                </a:lnTo>
                <a:lnTo>
                  <a:pt x="890" y="136"/>
                </a:lnTo>
                <a:lnTo>
                  <a:pt x="927" y="129"/>
                </a:lnTo>
                <a:lnTo>
                  <a:pt x="965" y="121"/>
                </a:lnTo>
                <a:lnTo>
                  <a:pt x="1000" y="113"/>
                </a:lnTo>
                <a:lnTo>
                  <a:pt x="1036" y="106"/>
                </a:lnTo>
                <a:lnTo>
                  <a:pt x="1069" y="98"/>
                </a:lnTo>
                <a:lnTo>
                  <a:pt x="1103" y="90"/>
                </a:lnTo>
                <a:lnTo>
                  <a:pt x="1134" y="85"/>
                </a:lnTo>
                <a:lnTo>
                  <a:pt x="1165" y="77"/>
                </a:lnTo>
                <a:lnTo>
                  <a:pt x="1196" y="71"/>
                </a:lnTo>
                <a:lnTo>
                  <a:pt x="1224" y="65"/>
                </a:lnTo>
                <a:lnTo>
                  <a:pt x="1251" y="60"/>
                </a:lnTo>
                <a:lnTo>
                  <a:pt x="1278" y="54"/>
                </a:lnTo>
                <a:lnTo>
                  <a:pt x="1305" y="50"/>
                </a:lnTo>
                <a:lnTo>
                  <a:pt x="1330" y="44"/>
                </a:lnTo>
                <a:lnTo>
                  <a:pt x="1353" y="41"/>
                </a:lnTo>
                <a:lnTo>
                  <a:pt x="1376" y="37"/>
                </a:lnTo>
                <a:lnTo>
                  <a:pt x="1397" y="31"/>
                </a:lnTo>
                <a:lnTo>
                  <a:pt x="1418" y="27"/>
                </a:lnTo>
                <a:lnTo>
                  <a:pt x="1437" y="25"/>
                </a:lnTo>
                <a:lnTo>
                  <a:pt x="1455" y="21"/>
                </a:lnTo>
                <a:lnTo>
                  <a:pt x="1472" y="18"/>
                </a:lnTo>
                <a:lnTo>
                  <a:pt x="1489" y="16"/>
                </a:lnTo>
                <a:lnTo>
                  <a:pt x="1505" y="12"/>
                </a:lnTo>
                <a:lnTo>
                  <a:pt x="1518" y="10"/>
                </a:lnTo>
                <a:lnTo>
                  <a:pt x="1532" y="8"/>
                </a:lnTo>
                <a:lnTo>
                  <a:pt x="1545" y="6"/>
                </a:lnTo>
                <a:lnTo>
                  <a:pt x="1556" y="4"/>
                </a:lnTo>
                <a:lnTo>
                  <a:pt x="1566" y="4"/>
                </a:lnTo>
                <a:lnTo>
                  <a:pt x="1576" y="2"/>
                </a:lnTo>
                <a:lnTo>
                  <a:pt x="1583" y="0"/>
                </a:lnTo>
                <a:lnTo>
                  <a:pt x="1589" y="0"/>
                </a:lnTo>
                <a:lnTo>
                  <a:pt x="1595" y="0"/>
                </a:lnTo>
                <a:lnTo>
                  <a:pt x="1601" y="0"/>
                </a:lnTo>
                <a:lnTo>
                  <a:pt x="1604" y="0"/>
                </a:lnTo>
                <a:lnTo>
                  <a:pt x="1618" y="0"/>
                </a:lnTo>
                <a:lnTo>
                  <a:pt x="1633" y="2"/>
                </a:lnTo>
                <a:lnTo>
                  <a:pt x="1651" y="4"/>
                </a:lnTo>
                <a:lnTo>
                  <a:pt x="1668" y="8"/>
                </a:lnTo>
                <a:lnTo>
                  <a:pt x="1685" y="12"/>
                </a:lnTo>
                <a:lnTo>
                  <a:pt x="1704" y="16"/>
                </a:lnTo>
                <a:lnTo>
                  <a:pt x="1725" y="19"/>
                </a:lnTo>
                <a:lnTo>
                  <a:pt x="1748" y="25"/>
                </a:lnTo>
                <a:lnTo>
                  <a:pt x="1770" y="33"/>
                </a:lnTo>
                <a:lnTo>
                  <a:pt x="1789" y="42"/>
                </a:lnTo>
                <a:lnTo>
                  <a:pt x="1808" y="52"/>
                </a:lnTo>
                <a:lnTo>
                  <a:pt x="1816" y="56"/>
                </a:lnTo>
                <a:lnTo>
                  <a:pt x="1823" y="60"/>
                </a:lnTo>
                <a:lnTo>
                  <a:pt x="1831" y="65"/>
                </a:lnTo>
                <a:lnTo>
                  <a:pt x="1839" y="69"/>
                </a:lnTo>
                <a:lnTo>
                  <a:pt x="1844" y="73"/>
                </a:lnTo>
                <a:lnTo>
                  <a:pt x="1850" y="79"/>
                </a:lnTo>
                <a:lnTo>
                  <a:pt x="1856" y="83"/>
                </a:lnTo>
                <a:lnTo>
                  <a:pt x="1860" y="89"/>
                </a:lnTo>
                <a:lnTo>
                  <a:pt x="1864" y="92"/>
                </a:lnTo>
                <a:lnTo>
                  <a:pt x="1866" y="98"/>
                </a:lnTo>
                <a:lnTo>
                  <a:pt x="1867" y="102"/>
                </a:lnTo>
                <a:lnTo>
                  <a:pt x="1867" y="106"/>
                </a:lnTo>
                <a:lnTo>
                  <a:pt x="1866" y="112"/>
                </a:lnTo>
                <a:lnTo>
                  <a:pt x="1862" y="115"/>
                </a:lnTo>
                <a:lnTo>
                  <a:pt x="1856" y="119"/>
                </a:lnTo>
                <a:lnTo>
                  <a:pt x="1850" y="123"/>
                </a:lnTo>
                <a:lnTo>
                  <a:pt x="1843" y="127"/>
                </a:lnTo>
                <a:lnTo>
                  <a:pt x="1833" y="133"/>
                </a:lnTo>
                <a:lnTo>
                  <a:pt x="1823" y="136"/>
                </a:lnTo>
                <a:lnTo>
                  <a:pt x="1810" y="138"/>
                </a:lnTo>
                <a:lnTo>
                  <a:pt x="1796" y="142"/>
                </a:lnTo>
                <a:lnTo>
                  <a:pt x="1783" y="146"/>
                </a:lnTo>
                <a:lnTo>
                  <a:pt x="1768" y="150"/>
                </a:lnTo>
                <a:lnTo>
                  <a:pt x="1750" y="152"/>
                </a:lnTo>
                <a:lnTo>
                  <a:pt x="1731" y="156"/>
                </a:lnTo>
                <a:lnTo>
                  <a:pt x="1712" y="158"/>
                </a:lnTo>
                <a:lnTo>
                  <a:pt x="1689" y="160"/>
                </a:lnTo>
                <a:lnTo>
                  <a:pt x="1666" y="163"/>
                </a:lnTo>
                <a:lnTo>
                  <a:pt x="1641" y="165"/>
                </a:lnTo>
                <a:lnTo>
                  <a:pt x="1616" y="169"/>
                </a:lnTo>
                <a:lnTo>
                  <a:pt x="1589" y="171"/>
                </a:lnTo>
                <a:lnTo>
                  <a:pt x="1562" y="175"/>
                </a:lnTo>
                <a:lnTo>
                  <a:pt x="1535" y="179"/>
                </a:lnTo>
                <a:lnTo>
                  <a:pt x="1507" y="183"/>
                </a:lnTo>
                <a:lnTo>
                  <a:pt x="1478" y="186"/>
                </a:lnTo>
                <a:lnTo>
                  <a:pt x="1447" y="190"/>
                </a:lnTo>
                <a:lnTo>
                  <a:pt x="1416" y="196"/>
                </a:lnTo>
                <a:lnTo>
                  <a:pt x="1386" y="200"/>
                </a:lnTo>
                <a:lnTo>
                  <a:pt x="1353" y="204"/>
                </a:lnTo>
                <a:lnTo>
                  <a:pt x="1318" y="209"/>
                </a:lnTo>
                <a:lnTo>
                  <a:pt x="1284" y="213"/>
                </a:lnTo>
                <a:lnTo>
                  <a:pt x="1249" y="21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31"/>
          <p:cNvSpPr/>
          <p:nvPr/>
        </p:nvSpPr>
        <p:spPr>
          <a:xfrm>
            <a:off x="5865840" y="3308400"/>
            <a:ext cx="736560" cy="631800"/>
          </a:xfrm>
          <a:custGeom>
            <a:avLst/>
            <a:gdLst/>
            <a:ahLst/>
            <a:rect l="l" t="t" r="r" b="b"/>
            <a:pathLst>
              <a:path w="927" h="796">
                <a:moveTo>
                  <a:pt x="607" y="472"/>
                </a:moveTo>
                <a:lnTo>
                  <a:pt x="566" y="503"/>
                </a:lnTo>
                <a:lnTo>
                  <a:pt x="524" y="534"/>
                </a:lnTo>
                <a:lnTo>
                  <a:pt x="482" y="562"/>
                </a:lnTo>
                <a:lnTo>
                  <a:pt x="436" y="591"/>
                </a:lnTo>
                <a:lnTo>
                  <a:pt x="390" y="620"/>
                </a:lnTo>
                <a:lnTo>
                  <a:pt x="342" y="647"/>
                </a:lnTo>
                <a:lnTo>
                  <a:pt x="317" y="660"/>
                </a:lnTo>
                <a:lnTo>
                  <a:pt x="292" y="676"/>
                </a:lnTo>
                <a:lnTo>
                  <a:pt x="265" y="689"/>
                </a:lnTo>
                <a:lnTo>
                  <a:pt x="240" y="702"/>
                </a:lnTo>
                <a:lnTo>
                  <a:pt x="211" y="718"/>
                </a:lnTo>
                <a:lnTo>
                  <a:pt x="184" y="731"/>
                </a:lnTo>
                <a:lnTo>
                  <a:pt x="161" y="745"/>
                </a:lnTo>
                <a:lnTo>
                  <a:pt x="138" y="754"/>
                </a:lnTo>
                <a:lnTo>
                  <a:pt x="119" y="766"/>
                </a:lnTo>
                <a:lnTo>
                  <a:pt x="100" y="773"/>
                </a:lnTo>
                <a:lnTo>
                  <a:pt x="82" y="781"/>
                </a:lnTo>
                <a:lnTo>
                  <a:pt x="67" y="787"/>
                </a:lnTo>
                <a:lnTo>
                  <a:pt x="54" y="791"/>
                </a:lnTo>
                <a:lnTo>
                  <a:pt x="42" y="795"/>
                </a:lnTo>
                <a:lnTo>
                  <a:pt x="31" y="796"/>
                </a:lnTo>
                <a:lnTo>
                  <a:pt x="23" y="796"/>
                </a:lnTo>
                <a:lnTo>
                  <a:pt x="15" y="796"/>
                </a:lnTo>
                <a:lnTo>
                  <a:pt x="10" y="795"/>
                </a:lnTo>
                <a:lnTo>
                  <a:pt x="6" y="791"/>
                </a:lnTo>
                <a:lnTo>
                  <a:pt x="2" y="787"/>
                </a:lnTo>
                <a:lnTo>
                  <a:pt x="2" y="785"/>
                </a:lnTo>
                <a:lnTo>
                  <a:pt x="0" y="785"/>
                </a:lnTo>
                <a:lnTo>
                  <a:pt x="2" y="779"/>
                </a:lnTo>
                <a:lnTo>
                  <a:pt x="4" y="775"/>
                </a:lnTo>
                <a:lnTo>
                  <a:pt x="8" y="770"/>
                </a:lnTo>
                <a:lnTo>
                  <a:pt x="15" y="762"/>
                </a:lnTo>
                <a:lnTo>
                  <a:pt x="23" y="754"/>
                </a:lnTo>
                <a:lnTo>
                  <a:pt x="33" y="745"/>
                </a:lnTo>
                <a:lnTo>
                  <a:pt x="44" y="735"/>
                </a:lnTo>
                <a:lnTo>
                  <a:pt x="58" y="724"/>
                </a:lnTo>
                <a:lnTo>
                  <a:pt x="71" y="710"/>
                </a:lnTo>
                <a:lnTo>
                  <a:pt x="88" y="699"/>
                </a:lnTo>
                <a:lnTo>
                  <a:pt x="106" y="683"/>
                </a:lnTo>
                <a:lnTo>
                  <a:pt x="125" y="668"/>
                </a:lnTo>
                <a:lnTo>
                  <a:pt x="146" y="653"/>
                </a:lnTo>
                <a:lnTo>
                  <a:pt x="167" y="635"/>
                </a:lnTo>
                <a:lnTo>
                  <a:pt x="192" y="618"/>
                </a:lnTo>
                <a:lnTo>
                  <a:pt x="240" y="582"/>
                </a:lnTo>
                <a:lnTo>
                  <a:pt x="286" y="547"/>
                </a:lnTo>
                <a:lnTo>
                  <a:pt x="309" y="530"/>
                </a:lnTo>
                <a:lnTo>
                  <a:pt x="332" y="512"/>
                </a:lnTo>
                <a:lnTo>
                  <a:pt x="353" y="495"/>
                </a:lnTo>
                <a:lnTo>
                  <a:pt x="376" y="480"/>
                </a:lnTo>
                <a:lnTo>
                  <a:pt x="397" y="463"/>
                </a:lnTo>
                <a:lnTo>
                  <a:pt x="417" y="447"/>
                </a:lnTo>
                <a:lnTo>
                  <a:pt x="436" y="430"/>
                </a:lnTo>
                <a:lnTo>
                  <a:pt x="455" y="415"/>
                </a:lnTo>
                <a:lnTo>
                  <a:pt x="474" y="399"/>
                </a:lnTo>
                <a:lnTo>
                  <a:pt x="491" y="382"/>
                </a:lnTo>
                <a:lnTo>
                  <a:pt x="509" y="367"/>
                </a:lnTo>
                <a:lnTo>
                  <a:pt x="524" y="351"/>
                </a:lnTo>
                <a:lnTo>
                  <a:pt x="539" y="334"/>
                </a:lnTo>
                <a:lnTo>
                  <a:pt x="557" y="317"/>
                </a:lnTo>
                <a:lnTo>
                  <a:pt x="572" y="299"/>
                </a:lnTo>
                <a:lnTo>
                  <a:pt x="589" y="282"/>
                </a:lnTo>
                <a:lnTo>
                  <a:pt x="609" y="263"/>
                </a:lnTo>
                <a:lnTo>
                  <a:pt x="626" y="244"/>
                </a:lnTo>
                <a:lnTo>
                  <a:pt x="645" y="223"/>
                </a:lnTo>
                <a:lnTo>
                  <a:pt x="664" y="202"/>
                </a:lnTo>
                <a:lnTo>
                  <a:pt x="685" y="180"/>
                </a:lnTo>
                <a:lnTo>
                  <a:pt x="705" y="157"/>
                </a:lnTo>
                <a:lnTo>
                  <a:pt x="726" y="134"/>
                </a:lnTo>
                <a:lnTo>
                  <a:pt x="747" y="109"/>
                </a:lnTo>
                <a:lnTo>
                  <a:pt x="768" y="83"/>
                </a:lnTo>
                <a:lnTo>
                  <a:pt x="789" y="56"/>
                </a:lnTo>
                <a:lnTo>
                  <a:pt x="810" y="29"/>
                </a:lnTo>
                <a:lnTo>
                  <a:pt x="833" y="0"/>
                </a:lnTo>
                <a:lnTo>
                  <a:pt x="856" y="27"/>
                </a:lnTo>
                <a:lnTo>
                  <a:pt x="879" y="54"/>
                </a:lnTo>
                <a:lnTo>
                  <a:pt x="927" y="107"/>
                </a:lnTo>
                <a:lnTo>
                  <a:pt x="908" y="136"/>
                </a:lnTo>
                <a:lnTo>
                  <a:pt x="887" y="165"/>
                </a:lnTo>
                <a:lnTo>
                  <a:pt x="868" y="194"/>
                </a:lnTo>
                <a:lnTo>
                  <a:pt x="847" y="219"/>
                </a:lnTo>
                <a:lnTo>
                  <a:pt x="827" y="246"/>
                </a:lnTo>
                <a:lnTo>
                  <a:pt x="808" y="271"/>
                </a:lnTo>
                <a:lnTo>
                  <a:pt x="787" y="294"/>
                </a:lnTo>
                <a:lnTo>
                  <a:pt x="768" y="317"/>
                </a:lnTo>
                <a:lnTo>
                  <a:pt x="747" y="340"/>
                </a:lnTo>
                <a:lnTo>
                  <a:pt x="728" y="361"/>
                </a:lnTo>
                <a:lnTo>
                  <a:pt x="706" y="382"/>
                </a:lnTo>
                <a:lnTo>
                  <a:pt x="687" y="401"/>
                </a:lnTo>
                <a:lnTo>
                  <a:pt x="666" y="420"/>
                </a:lnTo>
                <a:lnTo>
                  <a:pt x="647" y="438"/>
                </a:lnTo>
                <a:lnTo>
                  <a:pt x="626" y="455"/>
                </a:lnTo>
                <a:lnTo>
                  <a:pt x="607" y="47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32"/>
          <p:cNvSpPr/>
          <p:nvPr/>
        </p:nvSpPr>
        <p:spPr>
          <a:xfrm>
            <a:off x="6602400" y="3289320"/>
            <a:ext cx="876240" cy="566640"/>
          </a:xfrm>
          <a:custGeom>
            <a:avLst/>
            <a:gdLst/>
            <a:ahLst/>
            <a:rect l="l" t="t" r="r" b="b"/>
            <a:pathLst>
              <a:path w="1104" h="716">
                <a:moveTo>
                  <a:pt x="0" y="37"/>
                </a:moveTo>
                <a:lnTo>
                  <a:pt x="29" y="17"/>
                </a:lnTo>
                <a:lnTo>
                  <a:pt x="60" y="0"/>
                </a:lnTo>
                <a:lnTo>
                  <a:pt x="73" y="14"/>
                </a:lnTo>
                <a:lnTo>
                  <a:pt x="87" y="29"/>
                </a:lnTo>
                <a:lnTo>
                  <a:pt x="102" y="44"/>
                </a:lnTo>
                <a:lnTo>
                  <a:pt x="119" y="60"/>
                </a:lnTo>
                <a:lnTo>
                  <a:pt x="137" y="75"/>
                </a:lnTo>
                <a:lnTo>
                  <a:pt x="154" y="90"/>
                </a:lnTo>
                <a:lnTo>
                  <a:pt x="173" y="108"/>
                </a:lnTo>
                <a:lnTo>
                  <a:pt x="192" y="125"/>
                </a:lnTo>
                <a:lnTo>
                  <a:pt x="211" y="142"/>
                </a:lnTo>
                <a:lnTo>
                  <a:pt x="232" y="161"/>
                </a:lnTo>
                <a:lnTo>
                  <a:pt x="254" y="180"/>
                </a:lnTo>
                <a:lnTo>
                  <a:pt x="275" y="198"/>
                </a:lnTo>
                <a:lnTo>
                  <a:pt x="298" y="219"/>
                </a:lnTo>
                <a:lnTo>
                  <a:pt x="321" y="238"/>
                </a:lnTo>
                <a:lnTo>
                  <a:pt x="344" y="257"/>
                </a:lnTo>
                <a:lnTo>
                  <a:pt x="369" y="278"/>
                </a:lnTo>
                <a:lnTo>
                  <a:pt x="392" y="299"/>
                </a:lnTo>
                <a:lnTo>
                  <a:pt x="419" y="319"/>
                </a:lnTo>
                <a:lnTo>
                  <a:pt x="444" y="338"/>
                </a:lnTo>
                <a:lnTo>
                  <a:pt x="472" y="357"/>
                </a:lnTo>
                <a:lnTo>
                  <a:pt x="499" y="376"/>
                </a:lnTo>
                <a:lnTo>
                  <a:pt x="528" y="395"/>
                </a:lnTo>
                <a:lnTo>
                  <a:pt x="557" y="413"/>
                </a:lnTo>
                <a:lnTo>
                  <a:pt x="588" y="430"/>
                </a:lnTo>
                <a:lnTo>
                  <a:pt x="616" y="447"/>
                </a:lnTo>
                <a:lnTo>
                  <a:pt x="649" y="463"/>
                </a:lnTo>
                <a:lnTo>
                  <a:pt x="680" y="478"/>
                </a:lnTo>
                <a:lnTo>
                  <a:pt x="711" y="493"/>
                </a:lnTo>
                <a:lnTo>
                  <a:pt x="743" y="507"/>
                </a:lnTo>
                <a:lnTo>
                  <a:pt x="776" y="520"/>
                </a:lnTo>
                <a:lnTo>
                  <a:pt x="808" y="534"/>
                </a:lnTo>
                <a:lnTo>
                  <a:pt x="843" y="545"/>
                </a:lnTo>
                <a:lnTo>
                  <a:pt x="858" y="551"/>
                </a:lnTo>
                <a:lnTo>
                  <a:pt x="874" y="557"/>
                </a:lnTo>
                <a:lnTo>
                  <a:pt x="889" y="562"/>
                </a:lnTo>
                <a:lnTo>
                  <a:pt x="904" y="566"/>
                </a:lnTo>
                <a:lnTo>
                  <a:pt x="918" y="572"/>
                </a:lnTo>
                <a:lnTo>
                  <a:pt x="931" y="578"/>
                </a:lnTo>
                <a:lnTo>
                  <a:pt x="945" y="582"/>
                </a:lnTo>
                <a:lnTo>
                  <a:pt x="958" y="587"/>
                </a:lnTo>
                <a:lnTo>
                  <a:pt x="970" y="591"/>
                </a:lnTo>
                <a:lnTo>
                  <a:pt x="981" y="595"/>
                </a:lnTo>
                <a:lnTo>
                  <a:pt x="993" y="599"/>
                </a:lnTo>
                <a:lnTo>
                  <a:pt x="1002" y="603"/>
                </a:lnTo>
                <a:lnTo>
                  <a:pt x="1012" y="607"/>
                </a:lnTo>
                <a:lnTo>
                  <a:pt x="1022" y="610"/>
                </a:lnTo>
                <a:lnTo>
                  <a:pt x="1031" y="614"/>
                </a:lnTo>
                <a:lnTo>
                  <a:pt x="1039" y="618"/>
                </a:lnTo>
                <a:lnTo>
                  <a:pt x="1046" y="622"/>
                </a:lnTo>
                <a:lnTo>
                  <a:pt x="1054" y="624"/>
                </a:lnTo>
                <a:lnTo>
                  <a:pt x="1062" y="628"/>
                </a:lnTo>
                <a:lnTo>
                  <a:pt x="1068" y="631"/>
                </a:lnTo>
                <a:lnTo>
                  <a:pt x="1073" y="633"/>
                </a:lnTo>
                <a:lnTo>
                  <a:pt x="1079" y="635"/>
                </a:lnTo>
                <a:lnTo>
                  <a:pt x="1083" y="639"/>
                </a:lnTo>
                <a:lnTo>
                  <a:pt x="1087" y="641"/>
                </a:lnTo>
                <a:lnTo>
                  <a:pt x="1091" y="643"/>
                </a:lnTo>
                <a:lnTo>
                  <a:pt x="1094" y="645"/>
                </a:lnTo>
                <a:lnTo>
                  <a:pt x="1096" y="647"/>
                </a:lnTo>
                <a:lnTo>
                  <a:pt x="1098" y="649"/>
                </a:lnTo>
                <a:lnTo>
                  <a:pt x="1100" y="651"/>
                </a:lnTo>
                <a:lnTo>
                  <a:pt x="1102" y="653"/>
                </a:lnTo>
                <a:lnTo>
                  <a:pt x="1104" y="654"/>
                </a:lnTo>
                <a:lnTo>
                  <a:pt x="1102" y="656"/>
                </a:lnTo>
                <a:lnTo>
                  <a:pt x="1102" y="658"/>
                </a:lnTo>
                <a:lnTo>
                  <a:pt x="1100" y="662"/>
                </a:lnTo>
                <a:lnTo>
                  <a:pt x="1096" y="664"/>
                </a:lnTo>
                <a:lnTo>
                  <a:pt x="1093" y="666"/>
                </a:lnTo>
                <a:lnTo>
                  <a:pt x="1089" y="668"/>
                </a:lnTo>
                <a:lnTo>
                  <a:pt x="1083" y="670"/>
                </a:lnTo>
                <a:lnTo>
                  <a:pt x="1077" y="674"/>
                </a:lnTo>
                <a:lnTo>
                  <a:pt x="1070" y="676"/>
                </a:lnTo>
                <a:lnTo>
                  <a:pt x="1062" y="678"/>
                </a:lnTo>
                <a:lnTo>
                  <a:pt x="1052" y="679"/>
                </a:lnTo>
                <a:lnTo>
                  <a:pt x="1043" y="681"/>
                </a:lnTo>
                <a:lnTo>
                  <a:pt x="1033" y="683"/>
                </a:lnTo>
                <a:lnTo>
                  <a:pt x="1022" y="687"/>
                </a:lnTo>
                <a:lnTo>
                  <a:pt x="1010" y="689"/>
                </a:lnTo>
                <a:lnTo>
                  <a:pt x="997" y="691"/>
                </a:lnTo>
                <a:lnTo>
                  <a:pt x="970" y="695"/>
                </a:lnTo>
                <a:lnTo>
                  <a:pt x="941" y="701"/>
                </a:lnTo>
                <a:lnTo>
                  <a:pt x="910" y="704"/>
                </a:lnTo>
                <a:lnTo>
                  <a:pt x="879" y="708"/>
                </a:lnTo>
                <a:lnTo>
                  <a:pt x="847" y="710"/>
                </a:lnTo>
                <a:lnTo>
                  <a:pt x="810" y="712"/>
                </a:lnTo>
                <a:lnTo>
                  <a:pt x="793" y="714"/>
                </a:lnTo>
                <a:lnTo>
                  <a:pt x="774" y="714"/>
                </a:lnTo>
                <a:lnTo>
                  <a:pt x="755" y="714"/>
                </a:lnTo>
                <a:lnTo>
                  <a:pt x="735" y="716"/>
                </a:lnTo>
                <a:lnTo>
                  <a:pt x="716" y="714"/>
                </a:lnTo>
                <a:lnTo>
                  <a:pt x="695" y="714"/>
                </a:lnTo>
                <a:lnTo>
                  <a:pt x="676" y="712"/>
                </a:lnTo>
                <a:lnTo>
                  <a:pt x="659" y="708"/>
                </a:lnTo>
                <a:lnTo>
                  <a:pt x="639" y="704"/>
                </a:lnTo>
                <a:lnTo>
                  <a:pt x="622" y="701"/>
                </a:lnTo>
                <a:lnTo>
                  <a:pt x="605" y="695"/>
                </a:lnTo>
                <a:lnTo>
                  <a:pt x="588" y="689"/>
                </a:lnTo>
                <a:lnTo>
                  <a:pt x="570" y="683"/>
                </a:lnTo>
                <a:lnTo>
                  <a:pt x="555" y="676"/>
                </a:lnTo>
                <a:lnTo>
                  <a:pt x="540" y="668"/>
                </a:lnTo>
                <a:lnTo>
                  <a:pt x="524" y="658"/>
                </a:lnTo>
                <a:lnTo>
                  <a:pt x="511" y="651"/>
                </a:lnTo>
                <a:lnTo>
                  <a:pt x="497" y="639"/>
                </a:lnTo>
                <a:lnTo>
                  <a:pt x="486" y="630"/>
                </a:lnTo>
                <a:lnTo>
                  <a:pt x="474" y="618"/>
                </a:lnTo>
                <a:lnTo>
                  <a:pt x="469" y="612"/>
                </a:lnTo>
                <a:lnTo>
                  <a:pt x="463" y="605"/>
                </a:lnTo>
                <a:lnTo>
                  <a:pt x="455" y="597"/>
                </a:lnTo>
                <a:lnTo>
                  <a:pt x="448" y="589"/>
                </a:lnTo>
                <a:lnTo>
                  <a:pt x="440" y="580"/>
                </a:lnTo>
                <a:lnTo>
                  <a:pt x="430" y="570"/>
                </a:lnTo>
                <a:lnTo>
                  <a:pt x="421" y="559"/>
                </a:lnTo>
                <a:lnTo>
                  <a:pt x="411" y="547"/>
                </a:lnTo>
                <a:lnTo>
                  <a:pt x="400" y="535"/>
                </a:lnTo>
                <a:lnTo>
                  <a:pt x="388" y="522"/>
                </a:lnTo>
                <a:lnTo>
                  <a:pt x="376" y="509"/>
                </a:lnTo>
                <a:lnTo>
                  <a:pt x="363" y="493"/>
                </a:lnTo>
                <a:lnTo>
                  <a:pt x="350" y="478"/>
                </a:lnTo>
                <a:lnTo>
                  <a:pt x="336" y="463"/>
                </a:lnTo>
                <a:lnTo>
                  <a:pt x="323" y="445"/>
                </a:lnTo>
                <a:lnTo>
                  <a:pt x="307" y="428"/>
                </a:lnTo>
                <a:lnTo>
                  <a:pt x="292" y="409"/>
                </a:lnTo>
                <a:lnTo>
                  <a:pt x="277" y="390"/>
                </a:lnTo>
                <a:lnTo>
                  <a:pt x="259" y="370"/>
                </a:lnTo>
                <a:lnTo>
                  <a:pt x="242" y="349"/>
                </a:lnTo>
                <a:lnTo>
                  <a:pt x="225" y="328"/>
                </a:lnTo>
                <a:lnTo>
                  <a:pt x="208" y="305"/>
                </a:lnTo>
                <a:lnTo>
                  <a:pt x="188" y="282"/>
                </a:lnTo>
                <a:lnTo>
                  <a:pt x="169" y="257"/>
                </a:lnTo>
                <a:lnTo>
                  <a:pt x="150" y="232"/>
                </a:lnTo>
                <a:lnTo>
                  <a:pt x="131" y="207"/>
                </a:lnTo>
                <a:lnTo>
                  <a:pt x="110" y="180"/>
                </a:lnTo>
                <a:lnTo>
                  <a:pt x="89" y="154"/>
                </a:lnTo>
                <a:lnTo>
                  <a:pt x="67" y="125"/>
                </a:lnTo>
                <a:lnTo>
                  <a:pt x="46" y="96"/>
                </a:lnTo>
                <a:lnTo>
                  <a:pt x="23" y="67"/>
                </a:lnTo>
                <a:lnTo>
                  <a:pt x="0" y="3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33"/>
          <p:cNvSpPr/>
          <p:nvPr/>
        </p:nvSpPr>
        <p:spPr>
          <a:xfrm>
            <a:off x="6253200" y="3916440"/>
            <a:ext cx="1076400" cy="1123920"/>
          </a:xfrm>
          <a:custGeom>
            <a:avLst/>
            <a:gdLst/>
            <a:ahLst/>
            <a:rect l="l" t="t" r="r" b="b"/>
            <a:pathLst>
              <a:path w="1355" h="1416">
                <a:moveTo>
                  <a:pt x="973" y="992"/>
                </a:moveTo>
                <a:lnTo>
                  <a:pt x="1004" y="1005"/>
                </a:lnTo>
                <a:lnTo>
                  <a:pt x="1032" y="1019"/>
                </a:lnTo>
                <a:lnTo>
                  <a:pt x="1059" y="1032"/>
                </a:lnTo>
                <a:lnTo>
                  <a:pt x="1086" y="1046"/>
                </a:lnTo>
                <a:lnTo>
                  <a:pt x="1111" y="1059"/>
                </a:lnTo>
                <a:lnTo>
                  <a:pt x="1134" y="1073"/>
                </a:lnTo>
                <a:lnTo>
                  <a:pt x="1157" y="1086"/>
                </a:lnTo>
                <a:lnTo>
                  <a:pt x="1178" y="1099"/>
                </a:lnTo>
                <a:lnTo>
                  <a:pt x="1198" y="1111"/>
                </a:lnTo>
                <a:lnTo>
                  <a:pt x="1215" y="1124"/>
                </a:lnTo>
                <a:lnTo>
                  <a:pt x="1232" y="1138"/>
                </a:lnTo>
                <a:lnTo>
                  <a:pt x="1246" y="1149"/>
                </a:lnTo>
                <a:lnTo>
                  <a:pt x="1261" y="1163"/>
                </a:lnTo>
                <a:lnTo>
                  <a:pt x="1272" y="1174"/>
                </a:lnTo>
                <a:lnTo>
                  <a:pt x="1284" y="1186"/>
                </a:lnTo>
                <a:lnTo>
                  <a:pt x="1294" y="1197"/>
                </a:lnTo>
                <a:lnTo>
                  <a:pt x="1301" y="1209"/>
                </a:lnTo>
                <a:lnTo>
                  <a:pt x="1309" y="1220"/>
                </a:lnTo>
                <a:lnTo>
                  <a:pt x="1317" y="1230"/>
                </a:lnTo>
                <a:lnTo>
                  <a:pt x="1324" y="1241"/>
                </a:lnTo>
                <a:lnTo>
                  <a:pt x="1330" y="1251"/>
                </a:lnTo>
                <a:lnTo>
                  <a:pt x="1336" y="1261"/>
                </a:lnTo>
                <a:lnTo>
                  <a:pt x="1340" y="1270"/>
                </a:lnTo>
                <a:lnTo>
                  <a:pt x="1343" y="1280"/>
                </a:lnTo>
                <a:lnTo>
                  <a:pt x="1347" y="1289"/>
                </a:lnTo>
                <a:lnTo>
                  <a:pt x="1351" y="1299"/>
                </a:lnTo>
                <a:lnTo>
                  <a:pt x="1353" y="1309"/>
                </a:lnTo>
                <a:lnTo>
                  <a:pt x="1355" y="1318"/>
                </a:lnTo>
                <a:lnTo>
                  <a:pt x="1355" y="1328"/>
                </a:lnTo>
                <a:lnTo>
                  <a:pt x="1355" y="1335"/>
                </a:lnTo>
                <a:lnTo>
                  <a:pt x="1353" y="1345"/>
                </a:lnTo>
                <a:lnTo>
                  <a:pt x="1353" y="1355"/>
                </a:lnTo>
                <a:lnTo>
                  <a:pt x="1349" y="1368"/>
                </a:lnTo>
                <a:lnTo>
                  <a:pt x="1345" y="1380"/>
                </a:lnTo>
                <a:lnTo>
                  <a:pt x="1343" y="1389"/>
                </a:lnTo>
                <a:lnTo>
                  <a:pt x="1342" y="1399"/>
                </a:lnTo>
                <a:lnTo>
                  <a:pt x="1338" y="1406"/>
                </a:lnTo>
                <a:lnTo>
                  <a:pt x="1338" y="1408"/>
                </a:lnTo>
                <a:lnTo>
                  <a:pt x="1336" y="1410"/>
                </a:lnTo>
                <a:lnTo>
                  <a:pt x="1334" y="1412"/>
                </a:lnTo>
                <a:lnTo>
                  <a:pt x="1334" y="1414"/>
                </a:lnTo>
                <a:lnTo>
                  <a:pt x="1332" y="1414"/>
                </a:lnTo>
                <a:lnTo>
                  <a:pt x="1330" y="1416"/>
                </a:lnTo>
                <a:lnTo>
                  <a:pt x="1328" y="1414"/>
                </a:lnTo>
                <a:lnTo>
                  <a:pt x="1326" y="1414"/>
                </a:lnTo>
                <a:lnTo>
                  <a:pt x="1322" y="1414"/>
                </a:lnTo>
                <a:lnTo>
                  <a:pt x="1318" y="1412"/>
                </a:lnTo>
                <a:lnTo>
                  <a:pt x="1315" y="1410"/>
                </a:lnTo>
                <a:lnTo>
                  <a:pt x="1309" y="1408"/>
                </a:lnTo>
                <a:lnTo>
                  <a:pt x="1305" y="1405"/>
                </a:lnTo>
                <a:lnTo>
                  <a:pt x="1297" y="1403"/>
                </a:lnTo>
                <a:lnTo>
                  <a:pt x="1292" y="1399"/>
                </a:lnTo>
                <a:lnTo>
                  <a:pt x="1284" y="1395"/>
                </a:lnTo>
                <a:lnTo>
                  <a:pt x="1274" y="1389"/>
                </a:lnTo>
                <a:lnTo>
                  <a:pt x="1267" y="1385"/>
                </a:lnTo>
                <a:lnTo>
                  <a:pt x="1257" y="1380"/>
                </a:lnTo>
                <a:lnTo>
                  <a:pt x="1247" y="1374"/>
                </a:lnTo>
                <a:lnTo>
                  <a:pt x="1236" y="1368"/>
                </a:lnTo>
                <a:lnTo>
                  <a:pt x="1224" y="1360"/>
                </a:lnTo>
                <a:lnTo>
                  <a:pt x="1213" y="1355"/>
                </a:lnTo>
                <a:lnTo>
                  <a:pt x="1199" y="1347"/>
                </a:lnTo>
                <a:lnTo>
                  <a:pt x="1186" y="1339"/>
                </a:lnTo>
                <a:lnTo>
                  <a:pt x="1173" y="1332"/>
                </a:lnTo>
                <a:lnTo>
                  <a:pt x="1159" y="1322"/>
                </a:lnTo>
                <a:lnTo>
                  <a:pt x="1144" y="1312"/>
                </a:lnTo>
                <a:lnTo>
                  <a:pt x="1128" y="1303"/>
                </a:lnTo>
                <a:lnTo>
                  <a:pt x="1111" y="1293"/>
                </a:lnTo>
                <a:lnTo>
                  <a:pt x="1094" y="1284"/>
                </a:lnTo>
                <a:lnTo>
                  <a:pt x="1077" y="1272"/>
                </a:lnTo>
                <a:lnTo>
                  <a:pt x="1059" y="1261"/>
                </a:lnTo>
                <a:lnTo>
                  <a:pt x="1040" y="1249"/>
                </a:lnTo>
                <a:lnTo>
                  <a:pt x="1023" y="1236"/>
                </a:lnTo>
                <a:lnTo>
                  <a:pt x="1002" y="1224"/>
                </a:lnTo>
                <a:lnTo>
                  <a:pt x="983" y="1211"/>
                </a:lnTo>
                <a:lnTo>
                  <a:pt x="961" y="1197"/>
                </a:lnTo>
                <a:lnTo>
                  <a:pt x="917" y="1168"/>
                </a:lnTo>
                <a:lnTo>
                  <a:pt x="873" y="1140"/>
                </a:lnTo>
                <a:lnTo>
                  <a:pt x="829" y="1111"/>
                </a:lnTo>
                <a:lnTo>
                  <a:pt x="787" y="1086"/>
                </a:lnTo>
                <a:lnTo>
                  <a:pt x="743" y="1059"/>
                </a:lnTo>
                <a:lnTo>
                  <a:pt x="700" y="1034"/>
                </a:lnTo>
                <a:lnTo>
                  <a:pt x="658" y="1011"/>
                </a:lnTo>
                <a:lnTo>
                  <a:pt x="616" y="988"/>
                </a:lnTo>
                <a:lnTo>
                  <a:pt x="574" y="965"/>
                </a:lnTo>
                <a:lnTo>
                  <a:pt x="533" y="944"/>
                </a:lnTo>
                <a:lnTo>
                  <a:pt x="493" y="925"/>
                </a:lnTo>
                <a:lnTo>
                  <a:pt x="453" y="904"/>
                </a:lnTo>
                <a:lnTo>
                  <a:pt x="412" y="886"/>
                </a:lnTo>
                <a:lnTo>
                  <a:pt x="374" y="867"/>
                </a:lnTo>
                <a:lnTo>
                  <a:pt x="334" y="850"/>
                </a:lnTo>
                <a:lnTo>
                  <a:pt x="297" y="835"/>
                </a:lnTo>
                <a:lnTo>
                  <a:pt x="278" y="825"/>
                </a:lnTo>
                <a:lnTo>
                  <a:pt x="259" y="817"/>
                </a:lnTo>
                <a:lnTo>
                  <a:pt x="241" y="810"/>
                </a:lnTo>
                <a:lnTo>
                  <a:pt x="226" y="802"/>
                </a:lnTo>
                <a:lnTo>
                  <a:pt x="209" y="794"/>
                </a:lnTo>
                <a:lnTo>
                  <a:pt x="193" y="788"/>
                </a:lnTo>
                <a:lnTo>
                  <a:pt x="178" y="781"/>
                </a:lnTo>
                <a:lnTo>
                  <a:pt x="163" y="773"/>
                </a:lnTo>
                <a:lnTo>
                  <a:pt x="149" y="767"/>
                </a:lnTo>
                <a:lnTo>
                  <a:pt x="136" y="762"/>
                </a:lnTo>
                <a:lnTo>
                  <a:pt x="124" y="754"/>
                </a:lnTo>
                <a:lnTo>
                  <a:pt x="111" y="748"/>
                </a:lnTo>
                <a:lnTo>
                  <a:pt x="99" y="742"/>
                </a:lnTo>
                <a:lnTo>
                  <a:pt x="88" y="737"/>
                </a:lnTo>
                <a:lnTo>
                  <a:pt x="78" y="731"/>
                </a:lnTo>
                <a:lnTo>
                  <a:pt x="69" y="725"/>
                </a:lnTo>
                <a:lnTo>
                  <a:pt x="59" y="719"/>
                </a:lnTo>
                <a:lnTo>
                  <a:pt x="51" y="716"/>
                </a:lnTo>
                <a:lnTo>
                  <a:pt x="44" y="710"/>
                </a:lnTo>
                <a:lnTo>
                  <a:pt x="36" y="706"/>
                </a:lnTo>
                <a:lnTo>
                  <a:pt x="28" y="700"/>
                </a:lnTo>
                <a:lnTo>
                  <a:pt x="23" y="696"/>
                </a:lnTo>
                <a:lnTo>
                  <a:pt x="19" y="693"/>
                </a:lnTo>
                <a:lnTo>
                  <a:pt x="13" y="689"/>
                </a:lnTo>
                <a:lnTo>
                  <a:pt x="9" y="685"/>
                </a:lnTo>
                <a:lnTo>
                  <a:pt x="5" y="681"/>
                </a:lnTo>
                <a:lnTo>
                  <a:pt x="3" y="677"/>
                </a:lnTo>
                <a:lnTo>
                  <a:pt x="1" y="675"/>
                </a:lnTo>
                <a:lnTo>
                  <a:pt x="0" y="671"/>
                </a:lnTo>
                <a:lnTo>
                  <a:pt x="0" y="669"/>
                </a:lnTo>
                <a:lnTo>
                  <a:pt x="0" y="666"/>
                </a:lnTo>
                <a:lnTo>
                  <a:pt x="1" y="664"/>
                </a:lnTo>
                <a:lnTo>
                  <a:pt x="3" y="658"/>
                </a:lnTo>
                <a:lnTo>
                  <a:pt x="5" y="654"/>
                </a:lnTo>
                <a:lnTo>
                  <a:pt x="9" y="646"/>
                </a:lnTo>
                <a:lnTo>
                  <a:pt x="11" y="641"/>
                </a:lnTo>
                <a:lnTo>
                  <a:pt x="15" y="633"/>
                </a:lnTo>
                <a:lnTo>
                  <a:pt x="19" y="625"/>
                </a:lnTo>
                <a:lnTo>
                  <a:pt x="25" y="616"/>
                </a:lnTo>
                <a:lnTo>
                  <a:pt x="28" y="608"/>
                </a:lnTo>
                <a:lnTo>
                  <a:pt x="34" y="597"/>
                </a:lnTo>
                <a:lnTo>
                  <a:pt x="40" y="587"/>
                </a:lnTo>
                <a:lnTo>
                  <a:pt x="46" y="575"/>
                </a:lnTo>
                <a:lnTo>
                  <a:pt x="51" y="564"/>
                </a:lnTo>
                <a:lnTo>
                  <a:pt x="59" y="551"/>
                </a:lnTo>
                <a:lnTo>
                  <a:pt x="67" y="537"/>
                </a:lnTo>
                <a:lnTo>
                  <a:pt x="74" y="522"/>
                </a:lnTo>
                <a:lnTo>
                  <a:pt x="84" y="506"/>
                </a:lnTo>
                <a:lnTo>
                  <a:pt x="99" y="474"/>
                </a:lnTo>
                <a:lnTo>
                  <a:pt x="117" y="443"/>
                </a:lnTo>
                <a:lnTo>
                  <a:pt x="132" y="410"/>
                </a:lnTo>
                <a:lnTo>
                  <a:pt x="145" y="378"/>
                </a:lnTo>
                <a:lnTo>
                  <a:pt x="159" y="343"/>
                </a:lnTo>
                <a:lnTo>
                  <a:pt x="170" y="311"/>
                </a:lnTo>
                <a:lnTo>
                  <a:pt x="180" y="276"/>
                </a:lnTo>
                <a:lnTo>
                  <a:pt x="190" y="240"/>
                </a:lnTo>
                <a:lnTo>
                  <a:pt x="193" y="224"/>
                </a:lnTo>
                <a:lnTo>
                  <a:pt x="197" y="209"/>
                </a:lnTo>
                <a:lnTo>
                  <a:pt x="201" y="194"/>
                </a:lnTo>
                <a:lnTo>
                  <a:pt x="205" y="180"/>
                </a:lnTo>
                <a:lnTo>
                  <a:pt x="207" y="167"/>
                </a:lnTo>
                <a:lnTo>
                  <a:pt x="211" y="155"/>
                </a:lnTo>
                <a:lnTo>
                  <a:pt x="213" y="144"/>
                </a:lnTo>
                <a:lnTo>
                  <a:pt x="215" y="132"/>
                </a:lnTo>
                <a:lnTo>
                  <a:pt x="217" y="121"/>
                </a:lnTo>
                <a:lnTo>
                  <a:pt x="217" y="111"/>
                </a:lnTo>
                <a:lnTo>
                  <a:pt x="218" y="103"/>
                </a:lnTo>
                <a:lnTo>
                  <a:pt x="218" y="94"/>
                </a:lnTo>
                <a:lnTo>
                  <a:pt x="218" y="88"/>
                </a:lnTo>
                <a:lnTo>
                  <a:pt x="217" y="80"/>
                </a:lnTo>
                <a:lnTo>
                  <a:pt x="217" y="75"/>
                </a:lnTo>
                <a:lnTo>
                  <a:pt x="215" y="71"/>
                </a:lnTo>
                <a:lnTo>
                  <a:pt x="211" y="65"/>
                </a:lnTo>
                <a:lnTo>
                  <a:pt x="207" y="59"/>
                </a:lnTo>
                <a:lnTo>
                  <a:pt x="205" y="52"/>
                </a:lnTo>
                <a:lnTo>
                  <a:pt x="205" y="44"/>
                </a:lnTo>
                <a:lnTo>
                  <a:pt x="205" y="36"/>
                </a:lnTo>
                <a:lnTo>
                  <a:pt x="207" y="27"/>
                </a:lnTo>
                <a:lnTo>
                  <a:pt x="211" y="17"/>
                </a:lnTo>
                <a:lnTo>
                  <a:pt x="215" y="9"/>
                </a:lnTo>
                <a:lnTo>
                  <a:pt x="218" y="5"/>
                </a:lnTo>
                <a:lnTo>
                  <a:pt x="224" y="2"/>
                </a:lnTo>
                <a:lnTo>
                  <a:pt x="232" y="0"/>
                </a:lnTo>
                <a:lnTo>
                  <a:pt x="240" y="0"/>
                </a:lnTo>
                <a:lnTo>
                  <a:pt x="249" y="0"/>
                </a:lnTo>
                <a:lnTo>
                  <a:pt x="261" y="2"/>
                </a:lnTo>
                <a:lnTo>
                  <a:pt x="272" y="5"/>
                </a:lnTo>
                <a:lnTo>
                  <a:pt x="286" y="9"/>
                </a:lnTo>
                <a:lnTo>
                  <a:pt x="311" y="27"/>
                </a:lnTo>
                <a:lnTo>
                  <a:pt x="324" y="36"/>
                </a:lnTo>
                <a:lnTo>
                  <a:pt x="337" y="46"/>
                </a:lnTo>
                <a:lnTo>
                  <a:pt x="349" y="53"/>
                </a:lnTo>
                <a:lnTo>
                  <a:pt x="360" y="63"/>
                </a:lnTo>
                <a:lnTo>
                  <a:pt x="370" y="73"/>
                </a:lnTo>
                <a:lnTo>
                  <a:pt x="380" y="82"/>
                </a:lnTo>
                <a:lnTo>
                  <a:pt x="387" y="90"/>
                </a:lnTo>
                <a:lnTo>
                  <a:pt x="395" y="100"/>
                </a:lnTo>
                <a:lnTo>
                  <a:pt x="401" y="109"/>
                </a:lnTo>
                <a:lnTo>
                  <a:pt x="407" y="117"/>
                </a:lnTo>
                <a:lnTo>
                  <a:pt x="410" y="124"/>
                </a:lnTo>
                <a:lnTo>
                  <a:pt x="412" y="130"/>
                </a:lnTo>
                <a:lnTo>
                  <a:pt x="414" y="136"/>
                </a:lnTo>
                <a:lnTo>
                  <a:pt x="416" y="142"/>
                </a:lnTo>
                <a:lnTo>
                  <a:pt x="414" y="161"/>
                </a:lnTo>
                <a:lnTo>
                  <a:pt x="414" y="169"/>
                </a:lnTo>
                <a:lnTo>
                  <a:pt x="414" y="176"/>
                </a:lnTo>
                <a:lnTo>
                  <a:pt x="412" y="184"/>
                </a:lnTo>
                <a:lnTo>
                  <a:pt x="410" y="192"/>
                </a:lnTo>
                <a:lnTo>
                  <a:pt x="408" y="197"/>
                </a:lnTo>
                <a:lnTo>
                  <a:pt x="405" y="203"/>
                </a:lnTo>
                <a:lnTo>
                  <a:pt x="401" y="205"/>
                </a:lnTo>
                <a:lnTo>
                  <a:pt x="399" y="209"/>
                </a:lnTo>
                <a:lnTo>
                  <a:pt x="395" y="213"/>
                </a:lnTo>
                <a:lnTo>
                  <a:pt x="393" y="219"/>
                </a:lnTo>
                <a:lnTo>
                  <a:pt x="389" y="224"/>
                </a:lnTo>
                <a:lnTo>
                  <a:pt x="385" y="230"/>
                </a:lnTo>
                <a:lnTo>
                  <a:pt x="382" y="238"/>
                </a:lnTo>
                <a:lnTo>
                  <a:pt x="376" y="245"/>
                </a:lnTo>
                <a:lnTo>
                  <a:pt x="372" y="253"/>
                </a:lnTo>
                <a:lnTo>
                  <a:pt x="366" y="263"/>
                </a:lnTo>
                <a:lnTo>
                  <a:pt x="362" y="270"/>
                </a:lnTo>
                <a:lnTo>
                  <a:pt x="357" y="282"/>
                </a:lnTo>
                <a:lnTo>
                  <a:pt x="345" y="301"/>
                </a:lnTo>
                <a:lnTo>
                  <a:pt x="334" y="324"/>
                </a:lnTo>
                <a:lnTo>
                  <a:pt x="318" y="351"/>
                </a:lnTo>
                <a:lnTo>
                  <a:pt x="303" y="378"/>
                </a:lnTo>
                <a:lnTo>
                  <a:pt x="288" y="407"/>
                </a:lnTo>
                <a:lnTo>
                  <a:pt x="272" y="433"/>
                </a:lnTo>
                <a:lnTo>
                  <a:pt x="255" y="460"/>
                </a:lnTo>
                <a:lnTo>
                  <a:pt x="238" y="487"/>
                </a:lnTo>
                <a:lnTo>
                  <a:pt x="203" y="543"/>
                </a:lnTo>
                <a:lnTo>
                  <a:pt x="193" y="558"/>
                </a:lnTo>
                <a:lnTo>
                  <a:pt x="186" y="572"/>
                </a:lnTo>
                <a:lnTo>
                  <a:pt x="180" y="585"/>
                </a:lnTo>
                <a:lnTo>
                  <a:pt x="174" y="597"/>
                </a:lnTo>
                <a:lnTo>
                  <a:pt x="169" y="608"/>
                </a:lnTo>
                <a:lnTo>
                  <a:pt x="165" y="618"/>
                </a:lnTo>
                <a:lnTo>
                  <a:pt x="161" y="627"/>
                </a:lnTo>
                <a:lnTo>
                  <a:pt x="157" y="635"/>
                </a:lnTo>
                <a:lnTo>
                  <a:pt x="155" y="643"/>
                </a:lnTo>
                <a:lnTo>
                  <a:pt x="155" y="648"/>
                </a:lnTo>
                <a:lnTo>
                  <a:pt x="155" y="652"/>
                </a:lnTo>
                <a:lnTo>
                  <a:pt x="155" y="656"/>
                </a:lnTo>
                <a:lnTo>
                  <a:pt x="157" y="660"/>
                </a:lnTo>
                <a:lnTo>
                  <a:pt x="159" y="662"/>
                </a:lnTo>
                <a:lnTo>
                  <a:pt x="163" y="664"/>
                </a:lnTo>
                <a:lnTo>
                  <a:pt x="167" y="664"/>
                </a:lnTo>
                <a:lnTo>
                  <a:pt x="169" y="666"/>
                </a:lnTo>
                <a:lnTo>
                  <a:pt x="170" y="666"/>
                </a:lnTo>
                <a:lnTo>
                  <a:pt x="172" y="668"/>
                </a:lnTo>
                <a:lnTo>
                  <a:pt x="176" y="669"/>
                </a:lnTo>
                <a:lnTo>
                  <a:pt x="178" y="671"/>
                </a:lnTo>
                <a:lnTo>
                  <a:pt x="184" y="673"/>
                </a:lnTo>
                <a:lnTo>
                  <a:pt x="188" y="675"/>
                </a:lnTo>
                <a:lnTo>
                  <a:pt x="193" y="677"/>
                </a:lnTo>
                <a:lnTo>
                  <a:pt x="199" y="679"/>
                </a:lnTo>
                <a:lnTo>
                  <a:pt x="205" y="683"/>
                </a:lnTo>
                <a:lnTo>
                  <a:pt x="211" y="685"/>
                </a:lnTo>
                <a:lnTo>
                  <a:pt x="218" y="687"/>
                </a:lnTo>
                <a:lnTo>
                  <a:pt x="226" y="691"/>
                </a:lnTo>
                <a:lnTo>
                  <a:pt x="234" y="693"/>
                </a:lnTo>
                <a:lnTo>
                  <a:pt x="243" y="696"/>
                </a:lnTo>
                <a:lnTo>
                  <a:pt x="253" y="700"/>
                </a:lnTo>
                <a:lnTo>
                  <a:pt x="263" y="702"/>
                </a:lnTo>
                <a:lnTo>
                  <a:pt x="272" y="706"/>
                </a:lnTo>
                <a:lnTo>
                  <a:pt x="293" y="714"/>
                </a:lnTo>
                <a:lnTo>
                  <a:pt x="318" y="723"/>
                </a:lnTo>
                <a:lnTo>
                  <a:pt x="343" y="731"/>
                </a:lnTo>
                <a:lnTo>
                  <a:pt x="370" y="741"/>
                </a:lnTo>
                <a:lnTo>
                  <a:pt x="399" y="750"/>
                </a:lnTo>
                <a:lnTo>
                  <a:pt x="430" y="762"/>
                </a:lnTo>
                <a:lnTo>
                  <a:pt x="462" y="773"/>
                </a:lnTo>
                <a:lnTo>
                  <a:pt x="529" y="796"/>
                </a:lnTo>
                <a:lnTo>
                  <a:pt x="595" y="821"/>
                </a:lnTo>
                <a:lnTo>
                  <a:pt x="658" y="846"/>
                </a:lnTo>
                <a:lnTo>
                  <a:pt x="723" y="873"/>
                </a:lnTo>
                <a:lnTo>
                  <a:pt x="787" y="900"/>
                </a:lnTo>
                <a:lnTo>
                  <a:pt x="848" y="929"/>
                </a:lnTo>
                <a:lnTo>
                  <a:pt x="911" y="959"/>
                </a:lnTo>
                <a:lnTo>
                  <a:pt x="973" y="99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34"/>
          <p:cNvSpPr/>
          <p:nvPr/>
        </p:nvSpPr>
        <p:spPr>
          <a:xfrm>
            <a:off x="6518160" y="2981160"/>
            <a:ext cx="147600" cy="922680"/>
          </a:xfrm>
          <a:custGeom>
            <a:avLst/>
            <a:gdLst/>
            <a:ahLst/>
            <a:rect l="l" t="t" r="r" b="b"/>
            <a:pathLst>
              <a:path w="186" h="1163">
                <a:moveTo>
                  <a:pt x="23" y="1092"/>
                </a:moveTo>
                <a:lnTo>
                  <a:pt x="17" y="1081"/>
                </a:lnTo>
                <a:lnTo>
                  <a:pt x="15" y="1069"/>
                </a:lnTo>
                <a:lnTo>
                  <a:pt x="11" y="1058"/>
                </a:lnTo>
                <a:lnTo>
                  <a:pt x="9" y="1046"/>
                </a:lnTo>
                <a:lnTo>
                  <a:pt x="5" y="1021"/>
                </a:lnTo>
                <a:lnTo>
                  <a:pt x="3" y="998"/>
                </a:lnTo>
                <a:lnTo>
                  <a:pt x="3" y="973"/>
                </a:lnTo>
                <a:lnTo>
                  <a:pt x="3" y="948"/>
                </a:lnTo>
                <a:lnTo>
                  <a:pt x="7" y="923"/>
                </a:lnTo>
                <a:lnTo>
                  <a:pt x="11" y="897"/>
                </a:lnTo>
                <a:lnTo>
                  <a:pt x="13" y="885"/>
                </a:lnTo>
                <a:lnTo>
                  <a:pt x="15" y="872"/>
                </a:lnTo>
                <a:lnTo>
                  <a:pt x="15" y="858"/>
                </a:lnTo>
                <a:lnTo>
                  <a:pt x="17" y="843"/>
                </a:lnTo>
                <a:lnTo>
                  <a:pt x="19" y="828"/>
                </a:lnTo>
                <a:lnTo>
                  <a:pt x="21" y="810"/>
                </a:lnTo>
                <a:lnTo>
                  <a:pt x="21" y="791"/>
                </a:lnTo>
                <a:lnTo>
                  <a:pt x="23" y="772"/>
                </a:lnTo>
                <a:lnTo>
                  <a:pt x="23" y="753"/>
                </a:lnTo>
                <a:lnTo>
                  <a:pt x="25" y="732"/>
                </a:lnTo>
                <a:lnTo>
                  <a:pt x="26" y="710"/>
                </a:lnTo>
                <a:lnTo>
                  <a:pt x="26" y="689"/>
                </a:lnTo>
                <a:lnTo>
                  <a:pt x="28" y="666"/>
                </a:lnTo>
                <a:lnTo>
                  <a:pt x="30" y="643"/>
                </a:lnTo>
                <a:lnTo>
                  <a:pt x="32" y="618"/>
                </a:lnTo>
                <a:lnTo>
                  <a:pt x="34" y="593"/>
                </a:lnTo>
                <a:lnTo>
                  <a:pt x="34" y="568"/>
                </a:lnTo>
                <a:lnTo>
                  <a:pt x="34" y="540"/>
                </a:lnTo>
                <a:lnTo>
                  <a:pt x="32" y="511"/>
                </a:lnTo>
                <a:lnTo>
                  <a:pt x="32" y="480"/>
                </a:lnTo>
                <a:lnTo>
                  <a:pt x="30" y="448"/>
                </a:lnTo>
                <a:lnTo>
                  <a:pt x="28" y="415"/>
                </a:lnTo>
                <a:lnTo>
                  <a:pt x="26" y="378"/>
                </a:lnTo>
                <a:lnTo>
                  <a:pt x="25" y="342"/>
                </a:lnTo>
                <a:lnTo>
                  <a:pt x="23" y="304"/>
                </a:lnTo>
                <a:lnTo>
                  <a:pt x="21" y="265"/>
                </a:lnTo>
                <a:lnTo>
                  <a:pt x="17" y="223"/>
                </a:lnTo>
                <a:lnTo>
                  <a:pt x="13" y="181"/>
                </a:lnTo>
                <a:lnTo>
                  <a:pt x="11" y="139"/>
                </a:lnTo>
                <a:lnTo>
                  <a:pt x="7" y="93"/>
                </a:lnTo>
                <a:lnTo>
                  <a:pt x="3" y="46"/>
                </a:lnTo>
                <a:lnTo>
                  <a:pt x="0" y="0"/>
                </a:lnTo>
                <a:lnTo>
                  <a:pt x="15" y="4"/>
                </a:lnTo>
                <a:lnTo>
                  <a:pt x="32" y="8"/>
                </a:lnTo>
                <a:lnTo>
                  <a:pt x="48" y="14"/>
                </a:lnTo>
                <a:lnTo>
                  <a:pt x="63" y="18"/>
                </a:lnTo>
                <a:lnTo>
                  <a:pt x="76" y="22"/>
                </a:lnTo>
                <a:lnTo>
                  <a:pt x="90" y="27"/>
                </a:lnTo>
                <a:lnTo>
                  <a:pt x="101" y="31"/>
                </a:lnTo>
                <a:lnTo>
                  <a:pt x="113" y="35"/>
                </a:lnTo>
                <a:lnTo>
                  <a:pt x="124" y="39"/>
                </a:lnTo>
                <a:lnTo>
                  <a:pt x="134" y="43"/>
                </a:lnTo>
                <a:lnTo>
                  <a:pt x="144" y="46"/>
                </a:lnTo>
                <a:lnTo>
                  <a:pt x="151" y="50"/>
                </a:lnTo>
                <a:lnTo>
                  <a:pt x="159" y="52"/>
                </a:lnTo>
                <a:lnTo>
                  <a:pt x="165" y="56"/>
                </a:lnTo>
                <a:lnTo>
                  <a:pt x="170" y="58"/>
                </a:lnTo>
                <a:lnTo>
                  <a:pt x="176" y="62"/>
                </a:lnTo>
                <a:lnTo>
                  <a:pt x="178" y="66"/>
                </a:lnTo>
                <a:lnTo>
                  <a:pt x="180" y="71"/>
                </a:lnTo>
                <a:lnTo>
                  <a:pt x="182" y="77"/>
                </a:lnTo>
                <a:lnTo>
                  <a:pt x="182" y="83"/>
                </a:lnTo>
                <a:lnTo>
                  <a:pt x="184" y="91"/>
                </a:lnTo>
                <a:lnTo>
                  <a:pt x="184" y="98"/>
                </a:lnTo>
                <a:lnTo>
                  <a:pt x="186" y="114"/>
                </a:lnTo>
                <a:lnTo>
                  <a:pt x="184" y="131"/>
                </a:lnTo>
                <a:lnTo>
                  <a:pt x="182" y="150"/>
                </a:lnTo>
                <a:lnTo>
                  <a:pt x="180" y="171"/>
                </a:lnTo>
                <a:lnTo>
                  <a:pt x="176" y="194"/>
                </a:lnTo>
                <a:lnTo>
                  <a:pt x="174" y="200"/>
                </a:lnTo>
                <a:lnTo>
                  <a:pt x="172" y="206"/>
                </a:lnTo>
                <a:lnTo>
                  <a:pt x="170" y="213"/>
                </a:lnTo>
                <a:lnTo>
                  <a:pt x="169" y="221"/>
                </a:lnTo>
                <a:lnTo>
                  <a:pt x="167" y="231"/>
                </a:lnTo>
                <a:lnTo>
                  <a:pt x="165" y="240"/>
                </a:lnTo>
                <a:lnTo>
                  <a:pt x="163" y="250"/>
                </a:lnTo>
                <a:lnTo>
                  <a:pt x="161" y="261"/>
                </a:lnTo>
                <a:lnTo>
                  <a:pt x="159" y="273"/>
                </a:lnTo>
                <a:lnTo>
                  <a:pt x="157" y="286"/>
                </a:lnTo>
                <a:lnTo>
                  <a:pt x="157" y="298"/>
                </a:lnTo>
                <a:lnTo>
                  <a:pt x="155" y="313"/>
                </a:lnTo>
                <a:lnTo>
                  <a:pt x="153" y="327"/>
                </a:lnTo>
                <a:lnTo>
                  <a:pt x="153" y="342"/>
                </a:lnTo>
                <a:lnTo>
                  <a:pt x="151" y="357"/>
                </a:lnTo>
                <a:lnTo>
                  <a:pt x="149" y="375"/>
                </a:lnTo>
                <a:lnTo>
                  <a:pt x="149" y="392"/>
                </a:lnTo>
                <a:lnTo>
                  <a:pt x="147" y="409"/>
                </a:lnTo>
                <a:lnTo>
                  <a:pt x="147" y="428"/>
                </a:lnTo>
                <a:lnTo>
                  <a:pt x="146" y="448"/>
                </a:lnTo>
                <a:lnTo>
                  <a:pt x="146" y="467"/>
                </a:lnTo>
                <a:lnTo>
                  <a:pt x="144" y="488"/>
                </a:lnTo>
                <a:lnTo>
                  <a:pt x="144" y="509"/>
                </a:lnTo>
                <a:lnTo>
                  <a:pt x="144" y="530"/>
                </a:lnTo>
                <a:lnTo>
                  <a:pt x="142" y="553"/>
                </a:lnTo>
                <a:lnTo>
                  <a:pt x="142" y="576"/>
                </a:lnTo>
                <a:lnTo>
                  <a:pt x="142" y="599"/>
                </a:lnTo>
                <a:lnTo>
                  <a:pt x="142" y="624"/>
                </a:lnTo>
                <a:lnTo>
                  <a:pt x="142" y="649"/>
                </a:lnTo>
                <a:lnTo>
                  <a:pt x="142" y="674"/>
                </a:lnTo>
                <a:lnTo>
                  <a:pt x="142" y="701"/>
                </a:lnTo>
                <a:lnTo>
                  <a:pt x="142" y="728"/>
                </a:lnTo>
                <a:lnTo>
                  <a:pt x="142" y="755"/>
                </a:lnTo>
                <a:lnTo>
                  <a:pt x="140" y="781"/>
                </a:lnTo>
                <a:lnTo>
                  <a:pt x="140" y="806"/>
                </a:lnTo>
                <a:lnTo>
                  <a:pt x="140" y="829"/>
                </a:lnTo>
                <a:lnTo>
                  <a:pt x="140" y="852"/>
                </a:lnTo>
                <a:lnTo>
                  <a:pt x="140" y="876"/>
                </a:lnTo>
                <a:lnTo>
                  <a:pt x="140" y="899"/>
                </a:lnTo>
                <a:lnTo>
                  <a:pt x="138" y="918"/>
                </a:lnTo>
                <a:lnTo>
                  <a:pt x="138" y="939"/>
                </a:lnTo>
                <a:lnTo>
                  <a:pt x="138" y="958"/>
                </a:lnTo>
                <a:lnTo>
                  <a:pt x="136" y="975"/>
                </a:lnTo>
                <a:lnTo>
                  <a:pt x="136" y="993"/>
                </a:lnTo>
                <a:lnTo>
                  <a:pt x="134" y="1010"/>
                </a:lnTo>
                <a:lnTo>
                  <a:pt x="134" y="1025"/>
                </a:lnTo>
                <a:lnTo>
                  <a:pt x="132" y="1041"/>
                </a:lnTo>
                <a:lnTo>
                  <a:pt x="132" y="1054"/>
                </a:lnTo>
                <a:lnTo>
                  <a:pt x="130" y="1067"/>
                </a:lnTo>
                <a:lnTo>
                  <a:pt x="130" y="1081"/>
                </a:lnTo>
                <a:lnTo>
                  <a:pt x="128" y="1092"/>
                </a:lnTo>
                <a:lnTo>
                  <a:pt x="126" y="1102"/>
                </a:lnTo>
                <a:lnTo>
                  <a:pt x="124" y="1112"/>
                </a:lnTo>
                <a:lnTo>
                  <a:pt x="124" y="1121"/>
                </a:lnTo>
                <a:lnTo>
                  <a:pt x="122" y="1129"/>
                </a:lnTo>
                <a:lnTo>
                  <a:pt x="121" y="1137"/>
                </a:lnTo>
                <a:lnTo>
                  <a:pt x="119" y="1142"/>
                </a:lnTo>
                <a:lnTo>
                  <a:pt x="117" y="1148"/>
                </a:lnTo>
                <a:lnTo>
                  <a:pt x="115" y="1152"/>
                </a:lnTo>
                <a:lnTo>
                  <a:pt x="113" y="1156"/>
                </a:lnTo>
                <a:lnTo>
                  <a:pt x="111" y="1160"/>
                </a:lnTo>
                <a:lnTo>
                  <a:pt x="109" y="1161"/>
                </a:lnTo>
                <a:lnTo>
                  <a:pt x="107" y="1163"/>
                </a:lnTo>
                <a:lnTo>
                  <a:pt x="105" y="1163"/>
                </a:lnTo>
                <a:lnTo>
                  <a:pt x="101" y="1163"/>
                </a:lnTo>
                <a:lnTo>
                  <a:pt x="96" y="1161"/>
                </a:lnTo>
                <a:lnTo>
                  <a:pt x="92" y="1161"/>
                </a:lnTo>
                <a:lnTo>
                  <a:pt x="88" y="1160"/>
                </a:lnTo>
                <a:lnTo>
                  <a:pt x="82" y="1156"/>
                </a:lnTo>
                <a:lnTo>
                  <a:pt x="78" y="1154"/>
                </a:lnTo>
                <a:lnTo>
                  <a:pt x="73" y="1150"/>
                </a:lnTo>
                <a:lnTo>
                  <a:pt x="69" y="1146"/>
                </a:lnTo>
                <a:lnTo>
                  <a:pt x="63" y="1140"/>
                </a:lnTo>
                <a:lnTo>
                  <a:pt x="57" y="1135"/>
                </a:lnTo>
                <a:lnTo>
                  <a:pt x="51" y="1129"/>
                </a:lnTo>
                <a:lnTo>
                  <a:pt x="46" y="1123"/>
                </a:lnTo>
                <a:lnTo>
                  <a:pt x="40" y="1115"/>
                </a:lnTo>
                <a:lnTo>
                  <a:pt x="34" y="1108"/>
                </a:lnTo>
                <a:lnTo>
                  <a:pt x="28" y="1100"/>
                </a:lnTo>
                <a:lnTo>
                  <a:pt x="23" y="109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35"/>
          <p:cNvSpPr/>
          <p:nvPr/>
        </p:nvSpPr>
        <p:spPr>
          <a:xfrm>
            <a:off x="5425920" y="4014720"/>
            <a:ext cx="2346480" cy="352440"/>
          </a:xfrm>
          <a:custGeom>
            <a:avLst/>
            <a:gdLst/>
            <a:ahLst/>
            <a:rect l="l" t="t" r="r" b="b"/>
            <a:pathLst>
              <a:path w="2957" h="444">
                <a:moveTo>
                  <a:pt x="2657" y="6"/>
                </a:moveTo>
                <a:lnTo>
                  <a:pt x="2663" y="6"/>
                </a:lnTo>
                <a:lnTo>
                  <a:pt x="2671" y="6"/>
                </a:lnTo>
                <a:lnTo>
                  <a:pt x="2678" y="8"/>
                </a:lnTo>
                <a:lnTo>
                  <a:pt x="2688" y="8"/>
                </a:lnTo>
                <a:lnTo>
                  <a:pt x="2696" y="10"/>
                </a:lnTo>
                <a:lnTo>
                  <a:pt x="2705" y="12"/>
                </a:lnTo>
                <a:lnTo>
                  <a:pt x="2726" y="16"/>
                </a:lnTo>
                <a:lnTo>
                  <a:pt x="2747" y="24"/>
                </a:lnTo>
                <a:lnTo>
                  <a:pt x="2759" y="27"/>
                </a:lnTo>
                <a:lnTo>
                  <a:pt x="2770" y="31"/>
                </a:lnTo>
                <a:lnTo>
                  <a:pt x="2784" y="37"/>
                </a:lnTo>
                <a:lnTo>
                  <a:pt x="2795" y="41"/>
                </a:lnTo>
                <a:lnTo>
                  <a:pt x="2809" y="48"/>
                </a:lnTo>
                <a:lnTo>
                  <a:pt x="2822" y="54"/>
                </a:lnTo>
                <a:lnTo>
                  <a:pt x="2843" y="68"/>
                </a:lnTo>
                <a:lnTo>
                  <a:pt x="2864" y="79"/>
                </a:lnTo>
                <a:lnTo>
                  <a:pt x="2874" y="85"/>
                </a:lnTo>
                <a:lnTo>
                  <a:pt x="2884" y="91"/>
                </a:lnTo>
                <a:lnTo>
                  <a:pt x="2891" y="96"/>
                </a:lnTo>
                <a:lnTo>
                  <a:pt x="2899" y="102"/>
                </a:lnTo>
                <a:lnTo>
                  <a:pt x="2907" y="108"/>
                </a:lnTo>
                <a:lnTo>
                  <a:pt x="2914" y="112"/>
                </a:lnTo>
                <a:lnTo>
                  <a:pt x="2920" y="118"/>
                </a:lnTo>
                <a:lnTo>
                  <a:pt x="2926" y="121"/>
                </a:lnTo>
                <a:lnTo>
                  <a:pt x="2932" y="125"/>
                </a:lnTo>
                <a:lnTo>
                  <a:pt x="2935" y="131"/>
                </a:lnTo>
                <a:lnTo>
                  <a:pt x="2939" y="135"/>
                </a:lnTo>
                <a:lnTo>
                  <a:pt x="2941" y="141"/>
                </a:lnTo>
                <a:lnTo>
                  <a:pt x="2943" y="146"/>
                </a:lnTo>
                <a:lnTo>
                  <a:pt x="2945" y="152"/>
                </a:lnTo>
                <a:lnTo>
                  <a:pt x="2947" y="158"/>
                </a:lnTo>
                <a:lnTo>
                  <a:pt x="2949" y="164"/>
                </a:lnTo>
                <a:lnTo>
                  <a:pt x="2953" y="171"/>
                </a:lnTo>
                <a:lnTo>
                  <a:pt x="2957" y="179"/>
                </a:lnTo>
                <a:lnTo>
                  <a:pt x="2957" y="185"/>
                </a:lnTo>
                <a:lnTo>
                  <a:pt x="2957" y="190"/>
                </a:lnTo>
                <a:lnTo>
                  <a:pt x="2957" y="196"/>
                </a:lnTo>
                <a:lnTo>
                  <a:pt x="2955" y="198"/>
                </a:lnTo>
                <a:lnTo>
                  <a:pt x="2953" y="200"/>
                </a:lnTo>
                <a:lnTo>
                  <a:pt x="2951" y="202"/>
                </a:lnTo>
                <a:lnTo>
                  <a:pt x="2945" y="204"/>
                </a:lnTo>
                <a:lnTo>
                  <a:pt x="2939" y="206"/>
                </a:lnTo>
                <a:lnTo>
                  <a:pt x="2934" y="208"/>
                </a:lnTo>
                <a:lnTo>
                  <a:pt x="2924" y="208"/>
                </a:lnTo>
                <a:lnTo>
                  <a:pt x="2914" y="210"/>
                </a:lnTo>
                <a:lnTo>
                  <a:pt x="2903" y="210"/>
                </a:lnTo>
                <a:lnTo>
                  <a:pt x="2889" y="210"/>
                </a:lnTo>
                <a:lnTo>
                  <a:pt x="2874" y="210"/>
                </a:lnTo>
                <a:lnTo>
                  <a:pt x="2859" y="210"/>
                </a:lnTo>
                <a:lnTo>
                  <a:pt x="2839" y="208"/>
                </a:lnTo>
                <a:lnTo>
                  <a:pt x="2820" y="208"/>
                </a:lnTo>
                <a:lnTo>
                  <a:pt x="2799" y="206"/>
                </a:lnTo>
                <a:lnTo>
                  <a:pt x="2778" y="204"/>
                </a:lnTo>
                <a:lnTo>
                  <a:pt x="2753" y="202"/>
                </a:lnTo>
                <a:lnTo>
                  <a:pt x="2728" y="200"/>
                </a:lnTo>
                <a:lnTo>
                  <a:pt x="2669" y="196"/>
                </a:lnTo>
                <a:lnTo>
                  <a:pt x="2611" y="192"/>
                </a:lnTo>
                <a:lnTo>
                  <a:pt x="2553" y="190"/>
                </a:lnTo>
                <a:lnTo>
                  <a:pt x="2496" y="189"/>
                </a:lnTo>
                <a:lnTo>
                  <a:pt x="2438" y="189"/>
                </a:lnTo>
                <a:lnTo>
                  <a:pt x="2381" y="189"/>
                </a:lnTo>
                <a:lnTo>
                  <a:pt x="2265" y="189"/>
                </a:lnTo>
                <a:lnTo>
                  <a:pt x="2208" y="192"/>
                </a:lnTo>
                <a:lnTo>
                  <a:pt x="2152" y="194"/>
                </a:lnTo>
                <a:lnTo>
                  <a:pt x="2097" y="198"/>
                </a:lnTo>
                <a:lnTo>
                  <a:pt x="2043" y="200"/>
                </a:lnTo>
                <a:lnTo>
                  <a:pt x="1989" y="202"/>
                </a:lnTo>
                <a:lnTo>
                  <a:pt x="1937" y="206"/>
                </a:lnTo>
                <a:lnTo>
                  <a:pt x="1887" y="208"/>
                </a:lnTo>
                <a:lnTo>
                  <a:pt x="1839" y="213"/>
                </a:lnTo>
                <a:lnTo>
                  <a:pt x="1826" y="213"/>
                </a:lnTo>
                <a:lnTo>
                  <a:pt x="1812" y="215"/>
                </a:lnTo>
                <a:lnTo>
                  <a:pt x="1797" y="217"/>
                </a:lnTo>
                <a:lnTo>
                  <a:pt x="1782" y="219"/>
                </a:lnTo>
                <a:lnTo>
                  <a:pt x="1764" y="219"/>
                </a:lnTo>
                <a:lnTo>
                  <a:pt x="1747" y="221"/>
                </a:lnTo>
                <a:lnTo>
                  <a:pt x="1728" y="225"/>
                </a:lnTo>
                <a:lnTo>
                  <a:pt x="1709" y="227"/>
                </a:lnTo>
                <a:lnTo>
                  <a:pt x="1688" y="229"/>
                </a:lnTo>
                <a:lnTo>
                  <a:pt x="1667" y="231"/>
                </a:lnTo>
                <a:lnTo>
                  <a:pt x="1643" y="235"/>
                </a:lnTo>
                <a:lnTo>
                  <a:pt x="1620" y="237"/>
                </a:lnTo>
                <a:lnTo>
                  <a:pt x="1595" y="240"/>
                </a:lnTo>
                <a:lnTo>
                  <a:pt x="1571" y="242"/>
                </a:lnTo>
                <a:lnTo>
                  <a:pt x="1546" y="246"/>
                </a:lnTo>
                <a:lnTo>
                  <a:pt x="1517" y="250"/>
                </a:lnTo>
                <a:lnTo>
                  <a:pt x="1490" y="254"/>
                </a:lnTo>
                <a:lnTo>
                  <a:pt x="1459" y="258"/>
                </a:lnTo>
                <a:lnTo>
                  <a:pt x="1430" y="261"/>
                </a:lnTo>
                <a:lnTo>
                  <a:pt x="1398" y="265"/>
                </a:lnTo>
                <a:lnTo>
                  <a:pt x="1367" y="271"/>
                </a:lnTo>
                <a:lnTo>
                  <a:pt x="1332" y="275"/>
                </a:lnTo>
                <a:lnTo>
                  <a:pt x="1300" y="281"/>
                </a:lnTo>
                <a:lnTo>
                  <a:pt x="1263" y="285"/>
                </a:lnTo>
                <a:lnTo>
                  <a:pt x="1229" y="290"/>
                </a:lnTo>
                <a:lnTo>
                  <a:pt x="1190" y="296"/>
                </a:lnTo>
                <a:lnTo>
                  <a:pt x="1152" y="302"/>
                </a:lnTo>
                <a:lnTo>
                  <a:pt x="1114" y="308"/>
                </a:lnTo>
                <a:lnTo>
                  <a:pt x="1073" y="313"/>
                </a:lnTo>
                <a:lnTo>
                  <a:pt x="1033" y="321"/>
                </a:lnTo>
                <a:lnTo>
                  <a:pt x="991" y="327"/>
                </a:lnTo>
                <a:lnTo>
                  <a:pt x="948" y="334"/>
                </a:lnTo>
                <a:lnTo>
                  <a:pt x="906" y="340"/>
                </a:lnTo>
                <a:lnTo>
                  <a:pt x="864" y="348"/>
                </a:lnTo>
                <a:lnTo>
                  <a:pt x="824" y="354"/>
                </a:lnTo>
                <a:lnTo>
                  <a:pt x="785" y="359"/>
                </a:lnTo>
                <a:lnTo>
                  <a:pt x="747" y="365"/>
                </a:lnTo>
                <a:lnTo>
                  <a:pt x="710" y="371"/>
                </a:lnTo>
                <a:lnTo>
                  <a:pt x="674" y="377"/>
                </a:lnTo>
                <a:lnTo>
                  <a:pt x="639" y="382"/>
                </a:lnTo>
                <a:lnTo>
                  <a:pt x="607" y="386"/>
                </a:lnTo>
                <a:lnTo>
                  <a:pt x="574" y="392"/>
                </a:lnTo>
                <a:lnTo>
                  <a:pt x="543" y="396"/>
                </a:lnTo>
                <a:lnTo>
                  <a:pt x="515" y="400"/>
                </a:lnTo>
                <a:lnTo>
                  <a:pt x="486" y="405"/>
                </a:lnTo>
                <a:lnTo>
                  <a:pt x="459" y="409"/>
                </a:lnTo>
                <a:lnTo>
                  <a:pt x="434" y="413"/>
                </a:lnTo>
                <a:lnTo>
                  <a:pt x="409" y="415"/>
                </a:lnTo>
                <a:lnTo>
                  <a:pt x="386" y="419"/>
                </a:lnTo>
                <a:lnTo>
                  <a:pt x="363" y="423"/>
                </a:lnTo>
                <a:lnTo>
                  <a:pt x="342" y="425"/>
                </a:lnTo>
                <a:lnTo>
                  <a:pt x="323" y="428"/>
                </a:lnTo>
                <a:lnTo>
                  <a:pt x="305" y="430"/>
                </a:lnTo>
                <a:lnTo>
                  <a:pt x="288" y="432"/>
                </a:lnTo>
                <a:lnTo>
                  <a:pt x="273" y="434"/>
                </a:lnTo>
                <a:lnTo>
                  <a:pt x="257" y="436"/>
                </a:lnTo>
                <a:lnTo>
                  <a:pt x="244" y="438"/>
                </a:lnTo>
                <a:lnTo>
                  <a:pt x="232" y="440"/>
                </a:lnTo>
                <a:lnTo>
                  <a:pt x="223" y="440"/>
                </a:lnTo>
                <a:lnTo>
                  <a:pt x="213" y="442"/>
                </a:lnTo>
                <a:lnTo>
                  <a:pt x="206" y="442"/>
                </a:lnTo>
                <a:lnTo>
                  <a:pt x="198" y="442"/>
                </a:lnTo>
                <a:lnTo>
                  <a:pt x="194" y="442"/>
                </a:lnTo>
                <a:lnTo>
                  <a:pt x="190" y="444"/>
                </a:lnTo>
                <a:lnTo>
                  <a:pt x="183" y="442"/>
                </a:lnTo>
                <a:lnTo>
                  <a:pt x="175" y="442"/>
                </a:lnTo>
                <a:lnTo>
                  <a:pt x="169" y="440"/>
                </a:lnTo>
                <a:lnTo>
                  <a:pt x="161" y="438"/>
                </a:lnTo>
                <a:lnTo>
                  <a:pt x="154" y="436"/>
                </a:lnTo>
                <a:lnTo>
                  <a:pt x="146" y="434"/>
                </a:lnTo>
                <a:lnTo>
                  <a:pt x="131" y="427"/>
                </a:lnTo>
                <a:lnTo>
                  <a:pt x="113" y="417"/>
                </a:lnTo>
                <a:lnTo>
                  <a:pt x="98" y="407"/>
                </a:lnTo>
                <a:lnTo>
                  <a:pt x="85" y="396"/>
                </a:lnTo>
                <a:lnTo>
                  <a:pt x="71" y="382"/>
                </a:lnTo>
                <a:lnTo>
                  <a:pt x="62" y="375"/>
                </a:lnTo>
                <a:lnTo>
                  <a:pt x="54" y="369"/>
                </a:lnTo>
                <a:lnTo>
                  <a:pt x="46" y="363"/>
                </a:lnTo>
                <a:lnTo>
                  <a:pt x="39" y="357"/>
                </a:lnTo>
                <a:lnTo>
                  <a:pt x="33" y="352"/>
                </a:lnTo>
                <a:lnTo>
                  <a:pt x="27" y="346"/>
                </a:lnTo>
                <a:lnTo>
                  <a:pt x="21" y="340"/>
                </a:lnTo>
                <a:lnTo>
                  <a:pt x="17" y="336"/>
                </a:lnTo>
                <a:lnTo>
                  <a:pt x="14" y="332"/>
                </a:lnTo>
                <a:lnTo>
                  <a:pt x="10" y="329"/>
                </a:lnTo>
                <a:lnTo>
                  <a:pt x="6" y="325"/>
                </a:lnTo>
                <a:lnTo>
                  <a:pt x="4" y="321"/>
                </a:lnTo>
                <a:lnTo>
                  <a:pt x="2" y="317"/>
                </a:lnTo>
                <a:lnTo>
                  <a:pt x="0" y="315"/>
                </a:lnTo>
                <a:lnTo>
                  <a:pt x="0" y="311"/>
                </a:lnTo>
                <a:lnTo>
                  <a:pt x="0" y="309"/>
                </a:lnTo>
                <a:lnTo>
                  <a:pt x="19" y="309"/>
                </a:lnTo>
                <a:lnTo>
                  <a:pt x="42" y="309"/>
                </a:lnTo>
                <a:lnTo>
                  <a:pt x="65" y="308"/>
                </a:lnTo>
                <a:lnTo>
                  <a:pt x="90" y="308"/>
                </a:lnTo>
                <a:lnTo>
                  <a:pt x="117" y="306"/>
                </a:lnTo>
                <a:lnTo>
                  <a:pt x="146" y="304"/>
                </a:lnTo>
                <a:lnTo>
                  <a:pt x="175" y="302"/>
                </a:lnTo>
                <a:lnTo>
                  <a:pt x="207" y="300"/>
                </a:lnTo>
                <a:lnTo>
                  <a:pt x="240" y="296"/>
                </a:lnTo>
                <a:lnTo>
                  <a:pt x="275" y="292"/>
                </a:lnTo>
                <a:lnTo>
                  <a:pt x="311" y="288"/>
                </a:lnTo>
                <a:lnTo>
                  <a:pt x="350" y="285"/>
                </a:lnTo>
                <a:lnTo>
                  <a:pt x="390" y="279"/>
                </a:lnTo>
                <a:lnTo>
                  <a:pt x="432" y="273"/>
                </a:lnTo>
                <a:lnTo>
                  <a:pt x="476" y="267"/>
                </a:lnTo>
                <a:lnTo>
                  <a:pt x="522" y="261"/>
                </a:lnTo>
                <a:lnTo>
                  <a:pt x="568" y="254"/>
                </a:lnTo>
                <a:lnTo>
                  <a:pt x="618" y="246"/>
                </a:lnTo>
                <a:lnTo>
                  <a:pt x="668" y="240"/>
                </a:lnTo>
                <a:lnTo>
                  <a:pt x="722" y="233"/>
                </a:lnTo>
                <a:lnTo>
                  <a:pt x="776" y="227"/>
                </a:lnTo>
                <a:lnTo>
                  <a:pt x="831" y="219"/>
                </a:lnTo>
                <a:lnTo>
                  <a:pt x="889" y="212"/>
                </a:lnTo>
                <a:lnTo>
                  <a:pt x="950" y="204"/>
                </a:lnTo>
                <a:lnTo>
                  <a:pt x="1012" y="196"/>
                </a:lnTo>
                <a:lnTo>
                  <a:pt x="1075" y="187"/>
                </a:lnTo>
                <a:lnTo>
                  <a:pt x="1140" y="179"/>
                </a:lnTo>
                <a:lnTo>
                  <a:pt x="1206" y="169"/>
                </a:lnTo>
                <a:lnTo>
                  <a:pt x="1275" y="160"/>
                </a:lnTo>
                <a:lnTo>
                  <a:pt x="1346" y="150"/>
                </a:lnTo>
                <a:lnTo>
                  <a:pt x="1419" y="139"/>
                </a:lnTo>
                <a:lnTo>
                  <a:pt x="1455" y="133"/>
                </a:lnTo>
                <a:lnTo>
                  <a:pt x="1494" y="127"/>
                </a:lnTo>
                <a:lnTo>
                  <a:pt x="1532" y="123"/>
                </a:lnTo>
                <a:lnTo>
                  <a:pt x="1569" y="118"/>
                </a:lnTo>
                <a:lnTo>
                  <a:pt x="1603" y="114"/>
                </a:lnTo>
                <a:lnTo>
                  <a:pt x="1640" y="110"/>
                </a:lnTo>
                <a:lnTo>
                  <a:pt x="1674" y="106"/>
                </a:lnTo>
                <a:lnTo>
                  <a:pt x="1709" y="100"/>
                </a:lnTo>
                <a:lnTo>
                  <a:pt x="1741" y="96"/>
                </a:lnTo>
                <a:lnTo>
                  <a:pt x="1774" y="93"/>
                </a:lnTo>
                <a:lnTo>
                  <a:pt x="1807" y="89"/>
                </a:lnTo>
                <a:lnTo>
                  <a:pt x="1837" y="85"/>
                </a:lnTo>
                <a:lnTo>
                  <a:pt x="1868" y="81"/>
                </a:lnTo>
                <a:lnTo>
                  <a:pt x="1897" y="77"/>
                </a:lnTo>
                <a:lnTo>
                  <a:pt x="1926" y="73"/>
                </a:lnTo>
                <a:lnTo>
                  <a:pt x="1954" y="70"/>
                </a:lnTo>
                <a:lnTo>
                  <a:pt x="1983" y="68"/>
                </a:lnTo>
                <a:lnTo>
                  <a:pt x="2010" y="64"/>
                </a:lnTo>
                <a:lnTo>
                  <a:pt x="2037" y="60"/>
                </a:lnTo>
                <a:lnTo>
                  <a:pt x="2062" y="56"/>
                </a:lnTo>
                <a:lnTo>
                  <a:pt x="2087" y="54"/>
                </a:lnTo>
                <a:lnTo>
                  <a:pt x="2112" y="50"/>
                </a:lnTo>
                <a:lnTo>
                  <a:pt x="2135" y="47"/>
                </a:lnTo>
                <a:lnTo>
                  <a:pt x="2158" y="45"/>
                </a:lnTo>
                <a:lnTo>
                  <a:pt x="2179" y="41"/>
                </a:lnTo>
                <a:lnTo>
                  <a:pt x="2202" y="39"/>
                </a:lnTo>
                <a:lnTo>
                  <a:pt x="2221" y="35"/>
                </a:lnTo>
                <a:lnTo>
                  <a:pt x="2242" y="33"/>
                </a:lnTo>
                <a:lnTo>
                  <a:pt x="2262" y="31"/>
                </a:lnTo>
                <a:lnTo>
                  <a:pt x="2281" y="27"/>
                </a:lnTo>
                <a:lnTo>
                  <a:pt x="2298" y="25"/>
                </a:lnTo>
                <a:lnTo>
                  <a:pt x="2315" y="24"/>
                </a:lnTo>
                <a:lnTo>
                  <a:pt x="2333" y="20"/>
                </a:lnTo>
                <a:lnTo>
                  <a:pt x="2348" y="18"/>
                </a:lnTo>
                <a:lnTo>
                  <a:pt x="2379" y="16"/>
                </a:lnTo>
                <a:lnTo>
                  <a:pt x="2408" y="14"/>
                </a:lnTo>
                <a:lnTo>
                  <a:pt x="2434" y="12"/>
                </a:lnTo>
                <a:lnTo>
                  <a:pt x="2461" y="10"/>
                </a:lnTo>
                <a:lnTo>
                  <a:pt x="2486" y="8"/>
                </a:lnTo>
                <a:lnTo>
                  <a:pt x="2509" y="6"/>
                </a:lnTo>
                <a:lnTo>
                  <a:pt x="2530" y="4"/>
                </a:lnTo>
                <a:lnTo>
                  <a:pt x="2552" y="2"/>
                </a:lnTo>
                <a:lnTo>
                  <a:pt x="2569" y="2"/>
                </a:lnTo>
                <a:lnTo>
                  <a:pt x="2586" y="0"/>
                </a:lnTo>
                <a:lnTo>
                  <a:pt x="2603" y="0"/>
                </a:lnTo>
                <a:lnTo>
                  <a:pt x="2617" y="0"/>
                </a:lnTo>
                <a:lnTo>
                  <a:pt x="2628" y="2"/>
                </a:lnTo>
                <a:lnTo>
                  <a:pt x="2640" y="2"/>
                </a:lnTo>
                <a:lnTo>
                  <a:pt x="2649" y="4"/>
                </a:lnTo>
                <a:lnTo>
                  <a:pt x="2657" y="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36"/>
          <p:cNvSpPr/>
          <p:nvPr/>
        </p:nvSpPr>
        <p:spPr>
          <a:xfrm>
            <a:off x="5884920" y="4029120"/>
            <a:ext cx="1066680" cy="958680"/>
          </a:xfrm>
          <a:custGeom>
            <a:avLst/>
            <a:gdLst/>
            <a:ahLst/>
            <a:rect l="l" t="t" r="r" b="b"/>
            <a:pathLst>
              <a:path w="1344" h="1209">
                <a:moveTo>
                  <a:pt x="703" y="1030"/>
                </a:moveTo>
                <a:lnTo>
                  <a:pt x="653" y="1053"/>
                </a:lnTo>
                <a:lnTo>
                  <a:pt x="603" y="1074"/>
                </a:lnTo>
                <a:lnTo>
                  <a:pt x="551" y="1094"/>
                </a:lnTo>
                <a:lnTo>
                  <a:pt x="497" y="1113"/>
                </a:lnTo>
                <a:lnTo>
                  <a:pt x="442" y="1130"/>
                </a:lnTo>
                <a:lnTo>
                  <a:pt x="384" y="1145"/>
                </a:lnTo>
                <a:lnTo>
                  <a:pt x="355" y="1155"/>
                </a:lnTo>
                <a:lnTo>
                  <a:pt x="324" y="1161"/>
                </a:lnTo>
                <a:lnTo>
                  <a:pt x="296" y="1168"/>
                </a:lnTo>
                <a:lnTo>
                  <a:pt x="265" y="1176"/>
                </a:lnTo>
                <a:lnTo>
                  <a:pt x="248" y="1180"/>
                </a:lnTo>
                <a:lnTo>
                  <a:pt x="232" y="1182"/>
                </a:lnTo>
                <a:lnTo>
                  <a:pt x="217" y="1186"/>
                </a:lnTo>
                <a:lnTo>
                  <a:pt x="202" y="1188"/>
                </a:lnTo>
                <a:lnTo>
                  <a:pt x="188" y="1192"/>
                </a:lnTo>
                <a:lnTo>
                  <a:pt x="173" y="1193"/>
                </a:lnTo>
                <a:lnTo>
                  <a:pt x="161" y="1195"/>
                </a:lnTo>
                <a:lnTo>
                  <a:pt x="148" y="1197"/>
                </a:lnTo>
                <a:lnTo>
                  <a:pt x="136" y="1199"/>
                </a:lnTo>
                <a:lnTo>
                  <a:pt x="125" y="1201"/>
                </a:lnTo>
                <a:lnTo>
                  <a:pt x="113" y="1203"/>
                </a:lnTo>
                <a:lnTo>
                  <a:pt x="102" y="1203"/>
                </a:lnTo>
                <a:lnTo>
                  <a:pt x="92" y="1205"/>
                </a:lnTo>
                <a:lnTo>
                  <a:pt x="83" y="1205"/>
                </a:lnTo>
                <a:lnTo>
                  <a:pt x="75" y="1207"/>
                </a:lnTo>
                <a:lnTo>
                  <a:pt x="65" y="1207"/>
                </a:lnTo>
                <a:lnTo>
                  <a:pt x="58" y="1207"/>
                </a:lnTo>
                <a:lnTo>
                  <a:pt x="52" y="1207"/>
                </a:lnTo>
                <a:lnTo>
                  <a:pt x="44" y="1209"/>
                </a:lnTo>
                <a:lnTo>
                  <a:pt x="38" y="1209"/>
                </a:lnTo>
                <a:lnTo>
                  <a:pt x="33" y="1209"/>
                </a:lnTo>
                <a:lnTo>
                  <a:pt x="27" y="1207"/>
                </a:lnTo>
                <a:lnTo>
                  <a:pt x="21" y="1207"/>
                </a:lnTo>
                <a:lnTo>
                  <a:pt x="17" y="1207"/>
                </a:lnTo>
                <a:lnTo>
                  <a:pt x="13" y="1207"/>
                </a:lnTo>
                <a:lnTo>
                  <a:pt x="11" y="1205"/>
                </a:lnTo>
                <a:lnTo>
                  <a:pt x="8" y="1205"/>
                </a:lnTo>
                <a:lnTo>
                  <a:pt x="6" y="1205"/>
                </a:lnTo>
                <a:lnTo>
                  <a:pt x="4" y="1203"/>
                </a:lnTo>
                <a:lnTo>
                  <a:pt x="2" y="1201"/>
                </a:lnTo>
                <a:lnTo>
                  <a:pt x="0" y="1195"/>
                </a:lnTo>
                <a:lnTo>
                  <a:pt x="0" y="1192"/>
                </a:lnTo>
                <a:lnTo>
                  <a:pt x="4" y="1186"/>
                </a:lnTo>
                <a:lnTo>
                  <a:pt x="6" y="1182"/>
                </a:lnTo>
                <a:lnTo>
                  <a:pt x="11" y="1178"/>
                </a:lnTo>
                <a:lnTo>
                  <a:pt x="19" y="1172"/>
                </a:lnTo>
                <a:lnTo>
                  <a:pt x="27" y="1168"/>
                </a:lnTo>
                <a:lnTo>
                  <a:pt x="36" y="1163"/>
                </a:lnTo>
                <a:lnTo>
                  <a:pt x="48" y="1157"/>
                </a:lnTo>
                <a:lnTo>
                  <a:pt x="61" y="1151"/>
                </a:lnTo>
                <a:lnTo>
                  <a:pt x="75" y="1147"/>
                </a:lnTo>
                <a:lnTo>
                  <a:pt x="90" y="1142"/>
                </a:lnTo>
                <a:lnTo>
                  <a:pt x="107" y="1136"/>
                </a:lnTo>
                <a:lnTo>
                  <a:pt x="127" y="1128"/>
                </a:lnTo>
                <a:lnTo>
                  <a:pt x="146" y="1122"/>
                </a:lnTo>
                <a:lnTo>
                  <a:pt x="169" y="1117"/>
                </a:lnTo>
                <a:lnTo>
                  <a:pt x="190" y="1109"/>
                </a:lnTo>
                <a:lnTo>
                  <a:pt x="213" y="1101"/>
                </a:lnTo>
                <a:lnTo>
                  <a:pt x="238" y="1092"/>
                </a:lnTo>
                <a:lnTo>
                  <a:pt x="261" y="1084"/>
                </a:lnTo>
                <a:lnTo>
                  <a:pt x="286" y="1074"/>
                </a:lnTo>
                <a:lnTo>
                  <a:pt x="311" y="1065"/>
                </a:lnTo>
                <a:lnTo>
                  <a:pt x="363" y="1044"/>
                </a:lnTo>
                <a:lnTo>
                  <a:pt x="417" y="1023"/>
                </a:lnTo>
                <a:lnTo>
                  <a:pt x="470" y="998"/>
                </a:lnTo>
                <a:lnTo>
                  <a:pt x="526" y="973"/>
                </a:lnTo>
                <a:lnTo>
                  <a:pt x="584" y="946"/>
                </a:lnTo>
                <a:lnTo>
                  <a:pt x="612" y="929"/>
                </a:lnTo>
                <a:lnTo>
                  <a:pt x="639" y="913"/>
                </a:lnTo>
                <a:lnTo>
                  <a:pt x="668" y="896"/>
                </a:lnTo>
                <a:lnTo>
                  <a:pt x="695" y="877"/>
                </a:lnTo>
                <a:lnTo>
                  <a:pt x="722" y="858"/>
                </a:lnTo>
                <a:lnTo>
                  <a:pt x="747" y="838"/>
                </a:lnTo>
                <a:lnTo>
                  <a:pt x="772" y="819"/>
                </a:lnTo>
                <a:lnTo>
                  <a:pt x="797" y="798"/>
                </a:lnTo>
                <a:lnTo>
                  <a:pt x="822" y="777"/>
                </a:lnTo>
                <a:lnTo>
                  <a:pt x="845" y="756"/>
                </a:lnTo>
                <a:lnTo>
                  <a:pt x="868" y="733"/>
                </a:lnTo>
                <a:lnTo>
                  <a:pt x="891" y="710"/>
                </a:lnTo>
                <a:lnTo>
                  <a:pt x="914" y="685"/>
                </a:lnTo>
                <a:lnTo>
                  <a:pt x="935" y="660"/>
                </a:lnTo>
                <a:lnTo>
                  <a:pt x="956" y="633"/>
                </a:lnTo>
                <a:lnTo>
                  <a:pt x="975" y="606"/>
                </a:lnTo>
                <a:lnTo>
                  <a:pt x="993" y="581"/>
                </a:lnTo>
                <a:lnTo>
                  <a:pt x="1008" y="556"/>
                </a:lnTo>
                <a:lnTo>
                  <a:pt x="1023" y="529"/>
                </a:lnTo>
                <a:lnTo>
                  <a:pt x="1039" y="504"/>
                </a:lnTo>
                <a:lnTo>
                  <a:pt x="1052" y="478"/>
                </a:lnTo>
                <a:lnTo>
                  <a:pt x="1065" y="453"/>
                </a:lnTo>
                <a:lnTo>
                  <a:pt x="1077" y="426"/>
                </a:lnTo>
                <a:lnTo>
                  <a:pt x="1089" y="401"/>
                </a:lnTo>
                <a:lnTo>
                  <a:pt x="1100" y="374"/>
                </a:lnTo>
                <a:lnTo>
                  <a:pt x="1108" y="347"/>
                </a:lnTo>
                <a:lnTo>
                  <a:pt x="1117" y="322"/>
                </a:lnTo>
                <a:lnTo>
                  <a:pt x="1123" y="297"/>
                </a:lnTo>
                <a:lnTo>
                  <a:pt x="1129" y="270"/>
                </a:lnTo>
                <a:lnTo>
                  <a:pt x="1135" y="245"/>
                </a:lnTo>
                <a:lnTo>
                  <a:pt x="1138" y="220"/>
                </a:lnTo>
                <a:lnTo>
                  <a:pt x="1142" y="195"/>
                </a:lnTo>
                <a:lnTo>
                  <a:pt x="1144" y="171"/>
                </a:lnTo>
                <a:lnTo>
                  <a:pt x="1146" y="148"/>
                </a:lnTo>
                <a:lnTo>
                  <a:pt x="1150" y="126"/>
                </a:lnTo>
                <a:lnTo>
                  <a:pt x="1152" y="107"/>
                </a:lnTo>
                <a:lnTo>
                  <a:pt x="1156" y="90"/>
                </a:lnTo>
                <a:lnTo>
                  <a:pt x="1160" y="75"/>
                </a:lnTo>
                <a:lnTo>
                  <a:pt x="1163" y="59"/>
                </a:lnTo>
                <a:lnTo>
                  <a:pt x="1167" y="48"/>
                </a:lnTo>
                <a:lnTo>
                  <a:pt x="1171" y="36"/>
                </a:lnTo>
                <a:lnTo>
                  <a:pt x="1175" y="27"/>
                </a:lnTo>
                <a:lnTo>
                  <a:pt x="1179" y="19"/>
                </a:lnTo>
                <a:lnTo>
                  <a:pt x="1183" y="11"/>
                </a:lnTo>
                <a:lnTo>
                  <a:pt x="1188" y="6"/>
                </a:lnTo>
                <a:lnTo>
                  <a:pt x="1192" y="4"/>
                </a:lnTo>
                <a:lnTo>
                  <a:pt x="1196" y="0"/>
                </a:lnTo>
                <a:lnTo>
                  <a:pt x="1202" y="0"/>
                </a:lnTo>
                <a:lnTo>
                  <a:pt x="1204" y="0"/>
                </a:lnTo>
                <a:lnTo>
                  <a:pt x="1206" y="0"/>
                </a:lnTo>
                <a:lnTo>
                  <a:pt x="1209" y="2"/>
                </a:lnTo>
                <a:lnTo>
                  <a:pt x="1213" y="2"/>
                </a:lnTo>
                <a:lnTo>
                  <a:pt x="1223" y="6"/>
                </a:lnTo>
                <a:lnTo>
                  <a:pt x="1232" y="9"/>
                </a:lnTo>
                <a:lnTo>
                  <a:pt x="1244" y="15"/>
                </a:lnTo>
                <a:lnTo>
                  <a:pt x="1257" y="21"/>
                </a:lnTo>
                <a:lnTo>
                  <a:pt x="1271" y="29"/>
                </a:lnTo>
                <a:lnTo>
                  <a:pt x="1284" y="36"/>
                </a:lnTo>
                <a:lnTo>
                  <a:pt x="1296" y="50"/>
                </a:lnTo>
                <a:lnTo>
                  <a:pt x="1307" y="61"/>
                </a:lnTo>
                <a:lnTo>
                  <a:pt x="1317" y="73"/>
                </a:lnTo>
                <a:lnTo>
                  <a:pt x="1327" y="84"/>
                </a:lnTo>
                <a:lnTo>
                  <a:pt x="1334" y="94"/>
                </a:lnTo>
                <a:lnTo>
                  <a:pt x="1336" y="100"/>
                </a:lnTo>
                <a:lnTo>
                  <a:pt x="1338" y="103"/>
                </a:lnTo>
                <a:lnTo>
                  <a:pt x="1340" y="107"/>
                </a:lnTo>
                <a:lnTo>
                  <a:pt x="1342" y="113"/>
                </a:lnTo>
                <a:lnTo>
                  <a:pt x="1342" y="117"/>
                </a:lnTo>
                <a:lnTo>
                  <a:pt x="1344" y="123"/>
                </a:lnTo>
                <a:lnTo>
                  <a:pt x="1342" y="128"/>
                </a:lnTo>
                <a:lnTo>
                  <a:pt x="1342" y="138"/>
                </a:lnTo>
                <a:lnTo>
                  <a:pt x="1340" y="148"/>
                </a:lnTo>
                <a:lnTo>
                  <a:pt x="1338" y="159"/>
                </a:lnTo>
                <a:lnTo>
                  <a:pt x="1336" y="171"/>
                </a:lnTo>
                <a:lnTo>
                  <a:pt x="1332" y="184"/>
                </a:lnTo>
                <a:lnTo>
                  <a:pt x="1328" y="197"/>
                </a:lnTo>
                <a:lnTo>
                  <a:pt x="1325" y="215"/>
                </a:lnTo>
                <a:lnTo>
                  <a:pt x="1321" y="232"/>
                </a:lnTo>
                <a:lnTo>
                  <a:pt x="1315" y="249"/>
                </a:lnTo>
                <a:lnTo>
                  <a:pt x="1309" y="268"/>
                </a:lnTo>
                <a:lnTo>
                  <a:pt x="1302" y="290"/>
                </a:lnTo>
                <a:lnTo>
                  <a:pt x="1296" y="313"/>
                </a:lnTo>
                <a:lnTo>
                  <a:pt x="1288" y="338"/>
                </a:lnTo>
                <a:lnTo>
                  <a:pt x="1280" y="362"/>
                </a:lnTo>
                <a:lnTo>
                  <a:pt x="1273" y="389"/>
                </a:lnTo>
                <a:lnTo>
                  <a:pt x="1261" y="416"/>
                </a:lnTo>
                <a:lnTo>
                  <a:pt x="1250" y="441"/>
                </a:lnTo>
                <a:lnTo>
                  <a:pt x="1238" y="468"/>
                </a:lnTo>
                <a:lnTo>
                  <a:pt x="1225" y="493"/>
                </a:lnTo>
                <a:lnTo>
                  <a:pt x="1213" y="518"/>
                </a:lnTo>
                <a:lnTo>
                  <a:pt x="1200" y="543"/>
                </a:lnTo>
                <a:lnTo>
                  <a:pt x="1173" y="589"/>
                </a:lnTo>
                <a:lnTo>
                  <a:pt x="1144" y="635"/>
                </a:lnTo>
                <a:lnTo>
                  <a:pt x="1113" y="679"/>
                </a:lnTo>
                <a:lnTo>
                  <a:pt x="1081" y="723"/>
                </a:lnTo>
                <a:lnTo>
                  <a:pt x="1064" y="744"/>
                </a:lnTo>
                <a:lnTo>
                  <a:pt x="1046" y="765"/>
                </a:lnTo>
                <a:lnTo>
                  <a:pt x="1029" y="785"/>
                </a:lnTo>
                <a:lnTo>
                  <a:pt x="1010" y="806"/>
                </a:lnTo>
                <a:lnTo>
                  <a:pt x="991" y="825"/>
                </a:lnTo>
                <a:lnTo>
                  <a:pt x="971" y="844"/>
                </a:lnTo>
                <a:lnTo>
                  <a:pt x="950" y="861"/>
                </a:lnTo>
                <a:lnTo>
                  <a:pt x="931" y="881"/>
                </a:lnTo>
                <a:lnTo>
                  <a:pt x="910" y="898"/>
                </a:lnTo>
                <a:lnTo>
                  <a:pt x="887" y="915"/>
                </a:lnTo>
                <a:lnTo>
                  <a:pt x="866" y="932"/>
                </a:lnTo>
                <a:lnTo>
                  <a:pt x="843" y="948"/>
                </a:lnTo>
                <a:lnTo>
                  <a:pt x="822" y="963"/>
                </a:lnTo>
                <a:lnTo>
                  <a:pt x="799" y="978"/>
                </a:lnTo>
                <a:lnTo>
                  <a:pt x="774" y="992"/>
                </a:lnTo>
                <a:lnTo>
                  <a:pt x="751" y="1005"/>
                </a:lnTo>
                <a:lnTo>
                  <a:pt x="728" y="1019"/>
                </a:lnTo>
                <a:lnTo>
                  <a:pt x="703" y="103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0-31T15:33:35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